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4B7E-3779-44AD-A5A5-710BFC05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FF00-744E-4646-8DDF-964B360C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A250-2AC1-464E-A61F-4B68D0FC9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06BC-5552-44C9-B529-ACCB42437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DF94-FC92-4F25-A876-03726AAC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612E-E508-4260-9344-F1A8801B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5175-EF6A-48BB-973C-6F667C95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0B12-70E1-4A22-A44E-B39BECA9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ABB9-BF94-48FC-8500-11B1EE99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72A9-A36D-4A8A-A04F-F4190EE9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073C-F9D4-49F1-9EA8-A65B1FC8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EF6E-2223-4583-AAC6-E25DF1F3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EBA6-FB50-481A-8988-C79445D8D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inverse and determinants of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inverse and determinants of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the inverse of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x A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3203640" y="3284640"/>
            <a:ext cx="3096720" cy="1121400"/>
            <a:chOff x="3203640" y="3284640"/>
            <a:chExt cx="3096720" cy="1121400"/>
          </a:xfrm>
        </p:grpSpPr>
        <p:sp>
          <p:nvSpPr>
            <p:cNvPr id="362" name=""/>
            <p:cNvSpPr/>
            <p:nvPr/>
          </p:nvSpPr>
          <p:spPr>
            <a:xfrm>
              <a:off x="3203640" y="3340080"/>
              <a:ext cx="2257200" cy="1065960"/>
            </a:xfrm>
            <a:custGeom>
              <a:avLst/>
              <a:gdLst/>
              <a:ahLst/>
              <a:rect l="l" t="t" r="r" b="b"/>
              <a:pathLst>
                <a:path w="4069" h="1439">
                  <a:moveTo>
                    <a:pt x="16768" y="16644"/>
                  </a:moveTo>
                  <a:cubicBezTo>
                    <a:pt x="16775" y="16673"/>
                    <a:pt x="16785" y="16689"/>
                    <a:pt x="16793" y="16718"/>
                  </a:cubicBezTo>
                  <a:cubicBezTo>
                    <a:pt x="16825" y="16667"/>
                    <a:pt x="16821" y="16607"/>
                    <a:pt x="16842" y="16545"/>
                  </a:cubicBezTo>
                  <a:cubicBezTo>
                    <a:pt x="16876" y="16445"/>
                    <a:pt x="16917" y="16365"/>
                    <a:pt x="16966" y="16272"/>
                  </a:cubicBezTo>
                  <a:cubicBezTo>
                    <a:pt x="16994" y="16219"/>
                    <a:pt x="16977" y="16210"/>
                    <a:pt x="17016" y="16197"/>
                  </a:cubicBezTo>
                  <a:cubicBezTo>
                    <a:pt x="17062" y="16273"/>
                    <a:pt x="17049" y="16357"/>
                    <a:pt x="17066" y="16446"/>
                  </a:cubicBezTo>
                  <a:cubicBezTo>
                    <a:pt x="17080" y="16518"/>
                    <a:pt x="17090" y="16570"/>
                    <a:pt x="17090" y="16644"/>
                  </a:cubicBezTo>
                </a:path>
                <a:path w="4069" h="1439">
                  <a:moveTo>
                    <a:pt x="17090" y="16594"/>
                  </a:moveTo>
                  <a:cubicBezTo>
                    <a:pt x="17055" y="16514"/>
                    <a:pt x="17055" y="16503"/>
                    <a:pt x="16966" y="16495"/>
                  </a:cubicBezTo>
                  <a:cubicBezTo>
                    <a:pt x="16933" y="16495"/>
                    <a:pt x="16917" y="16495"/>
                    <a:pt x="16892" y="16495"/>
                  </a:cubicBezTo>
                </a:path>
                <a:path w="4069" h="1439">
                  <a:moveTo>
                    <a:pt x="17239" y="16272"/>
                  </a:moveTo>
                  <a:cubicBezTo>
                    <a:pt x="17231" y="16272"/>
                    <a:pt x="17222" y="16272"/>
                    <a:pt x="17214" y="16272"/>
                  </a:cubicBezTo>
                  <a:cubicBezTo>
                    <a:pt x="17260" y="16272"/>
                    <a:pt x="17273" y="16252"/>
                    <a:pt x="17314" y="16247"/>
                  </a:cubicBezTo>
                  <a:cubicBezTo>
                    <a:pt x="17322" y="16247"/>
                    <a:pt x="17330" y="16247"/>
                    <a:pt x="17338" y="16247"/>
                  </a:cubicBezTo>
                </a:path>
                <a:path w="4069" h="1439">
                  <a:moveTo>
                    <a:pt x="17462" y="16049"/>
                  </a:moveTo>
                  <a:cubicBezTo>
                    <a:pt x="17485" y="16026"/>
                    <a:pt x="17489" y="16018"/>
                    <a:pt x="17512" y="16024"/>
                  </a:cubicBezTo>
                  <a:cubicBezTo>
                    <a:pt x="17522" y="16103"/>
                    <a:pt x="17537" y="16163"/>
                    <a:pt x="17537" y="16247"/>
                  </a:cubicBezTo>
                </a:path>
                <a:path w="4069" h="1439">
                  <a:moveTo>
                    <a:pt x="17835" y="16396"/>
                  </a:moveTo>
                  <a:cubicBezTo>
                    <a:pt x="17843" y="16388"/>
                    <a:pt x="17851" y="16379"/>
                    <a:pt x="17859" y="16371"/>
                  </a:cubicBezTo>
                  <a:cubicBezTo>
                    <a:pt x="17805" y="16371"/>
                    <a:pt x="17780" y="16391"/>
                    <a:pt x="17735" y="16396"/>
                  </a:cubicBezTo>
                  <a:cubicBezTo>
                    <a:pt x="17711" y="16396"/>
                    <a:pt x="17702" y="16396"/>
                    <a:pt x="17686" y="16396"/>
                  </a:cubicBezTo>
                </a:path>
                <a:path w="4069" h="1439">
                  <a:moveTo>
                    <a:pt x="17835" y="16470"/>
                  </a:moveTo>
                  <a:cubicBezTo>
                    <a:pt x="17859" y="16495"/>
                    <a:pt x="17867" y="16504"/>
                    <a:pt x="17884" y="16520"/>
                  </a:cubicBezTo>
                  <a:cubicBezTo>
                    <a:pt x="17851" y="16520"/>
                    <a:pt x="17818" y="16520"/>
                    <a:pt x="17785" y="16520"/>
                  </a:cubicBezTo>
                </a:path>
                <a:path w="4069" h="1439">
                  <a:moveTo>
                    <a:pt x="18852" y="15776"/>
                  </a:moveTo>
                  <a:cubicBezTo>
                    <a:pt x="18852" y="15713"/>
                    <a:pt x="18875" y="15854"/>
                    <a:pt x="18876" y="15875"/>
                  </a:cubicBezTo>
                  <a:cubicBezTo>
                    <a:pt x="18878" y="15933"/>
                    <a:pt x="18876" y="15991"/>
                    <a:pt x="18876" y="16049"/>
                  </a:cubicBezTo>
                </a:path>
                <a:path w="4069" h="1439">
                  <a:moveTo>
                    <a:pt x="19546" y="16247"/>
                  </a:moveTo>
                  <a:cubicBezTo>
                    <a:pt x="19571" y="16247"/>
                    <a:pt x="19579" y="16247"/>
                    <a:pt x="19596" y="16247"/>
                  </a:cubicBezTo>
                  <a:cubicBezTo>
                    <a:pt x="19539" y="16247"/>
                    <a:pt x="19499" y="16263"/>
                    <a:pt x="19447" y="16272"/>
                  </a:cubicBezTo>
                  <a:cubicBezTo>
                    <a:pt x="19376" y="16284"/>
                    <a:pt x="19295" y="16294"/>
                    <a:pt x="19224" y="16297"/>
                  </a:cubicBezTo>
                  <a:cubicBezTo>
                    <a:pt x="19151" y="16300"/>
                    <a:pt x="19047" y="16302"/>
                    <a:pt x="18976" y="16321"/>
                  </a:cubicBezTo>
                  <a:cubicBezTo>
                    <a:pt x="18892" y="16343"/>
                    <a:pt x="18815" y="16383"/>
                    <a:pt x="18728" y="16396"/>
                  </a:cubicBezTo>
                  <a:cubicBezTo>
                    <a:pt x="18654" y="16407"/>
                    <a:pt x="18577" y="16417"/>
                    <a:pt x="18504" y="16421"/>
                  </a:cubicBezTo>
                  <a:cubicBezTo>
                    <a:pt x="18427" y="16425"/>
                    <a:pt x="18342" y="16400"/>
                    <a:pt x="18281" y="16446"/>
                  </a:cubicBezTo>
                </a:path>
                <a:path w="4069" h="1439">
                  <a:moveTo>
                    <a:pt x="18331" y="16818"/>
                  </a:moveTo>
                  <a:cubicBezTo>
                    <a:pt x="18375" y="16818"/>
                    <a:pt x="18306" y="16820"/>
                    <a:pt x="18281" y="16842"/>
                  </a:cubicBezTo>
                  <a:cubicBezTo>
                    <a:pt x="18233" y="16884"/>
                    <a:pt x="18231" y="16903"/>
                    <a:pt x="18231" y="16966"/>
                  </a:cubicBezTo>
                  <a:cubicBezTo>
                    <a:pt x="18283" y="16966"/>
                    <a:pt x="18294" y="16955"/>
                    <a:pt x="18331" y="16917"/>
                  </a:cubicBezTo>
                  <a:cubicBezTo>
                    <a:pt x="18355" y="16892"/>
                    <a:pt x="18363" y="16883"/>
                    <a:pt x="18380" y="16867"/>
                  </a:cubicBezTo>
                  <a:cubicBezTo>
                    <a:pt x="18390" y="16908"/>
                    <a:pt x="18398" y="16931"/>
                    <a:pt x="18430" y="16942"/>
                  </a:cubicBezTo>
                </a:path>
                <a:path w="4069" h="1439">
                  <a:moveTo>
                    <a:pt x="18554" y="16842"/>
                  </a:moveTo>
                  <a:cubicBezTo>
                    <a:pt x="18554" y="16803"/>
                    <a:pt x="18517" y="16863"/>
                    <a:pt x="18504" y="16892"/>
                  </a:cubicBezTo>
                  <a:cubicBezTo>
                    <a:pt x="18504" y="16917"/>
                    <a:pt x="18504" y="16925"/>
                    <a:pt x="18529" y="16917"/>
                  </a:cubicBezTo>
                  <a:cubicBezTo>
                    <a:pt x="18566" y="16868"/>
                    <a:pt x="18576" y="16808"/>
                    <a:pt x="18579" y="16743"/>
                  </a:cubicBezTo>
                  <a:cubicBezTo>
                    <a:pt x="18581" y="16685"/>
                    <a:pt x="18579" y="16611"/>
                    <a:pt x="18579" y="16669"/>
                  </a:cubicBezTo>
                  <a:cubicBezTo>
                    <a:pt x="18579" y="16745"/>
                    <a:pt x="18574" y="16798"/>
                    <a:pt x="18604" y="16867"/>
                  </a:cubicBezTo>
                  <a:cubicBezTo>
                    <a:pt x="18612" y="16884"/>
                    <a:pt x="18620" y="16900"/>
                    <a:pt x="18628" y="16917"/>
                  </a:cubicBezTo>
                </a:path>
                <a:path w="4069" h="1439">
                  <a:moveTo>
                    <a:pt x="18827" y="16818"/>
                  </a:moveTo>
                  <a:cubicBezTo>
                    <a:pt x="18872" y="16807"/>
                    <a:pt x="18897" y="16793"/>
                    <a:pt x="18951" y="16793"/>
                  </a:cubicBezTo>
                </a:path>
                <a:path w="4069" h="1439">
                  <a:moveTo>
                    <a:pt x="19124" y="16545"/>
                  </a:moveTo>
                  <a:cubicBezTo>
                    <a:pt x="19132" y="16520"/>
                    <a:pt x="19141" y="16495"/>
                    <a:pt x="19149" y="16470"/>
                  </a:cubicBezTo>
                  <a:cubicBezTo>
                    <a:pt x="19149" y="16557"/>
                    <a:pt x="19128" y="16632"/>
                    <a:pt x="19124" y="16718"/>
                  </a:cubicBezTo>
                  <a:cubicBezTo>
                    <a:pt x="19124" y="16770"/>
                    <a:pt x="19123" y="16788"/>
                    <a:pt x="19100" y="16818"/>
                  </a:cubicBezTo>
                  <a:cubicBezTo>
                    <a:pt x="19120" y="16798"/>
                    <a:pt x="19165" y="16728"/>
                    <a:pt x="19199" y="16743"/>
                  </a:cubicBezTo>
                  <a:cubicBezTo>
                    <a:pt x="19225" y="16754"/>
                    <a:pt x="19238" y="16817"/>
                    <a:pt x="19224" y="16842"/>
                  </a:cubicBezTo>
                  <a:cubicBezTo>
                    <a:pt x="19199" y="16886"/>
                    <a:pt x="19168" y="16892"/>
                    <a:pt x="19124" y="16892"/>
                  </a:cubicBezTo>
                </a:path>
                <a:path w="4069" h="1439">
                  <a:moveTo>
                    <a:pt x="19348" y="16718"/>
                  </a:moveTo>
                  <a:cubicBezTo>
                    <a:pt x="19348" y="16662"/>
                    <a:pt x="19325" y="16768"/>
                    <a:pt x="19323" y="16793"/>
                  </a:cubicBezTo>
                  <a:cubicBezTo>
                    <a:pt x="19317" y="16857"/>
                    <a:pt x="19337" y="16862"/>
                    <a:pt x="19397" y="16867"/>
                  </a:cubicBezTo>
                  <a:cubicBezTo>
                    <a:pt x="19430" y="16867"/>
                    <a:pt x="19447" y="16867"/>
                    <a:pt x="19472" y="16867"/>
                  </a:cubicBezTo>
                </a:path>
                <a:path w="4069" h="1439">
                  <a:moveTo>
                    <a:pt x="20613" y="15801"/>
                  </a:moveTo>
                  <a:cubicBezTo>
                    <a:pt x="20655" y="15821"/>
                    <a:pt x="20594" y="15823"/>
                    <a:pt x="20563" y="15850"/>
                  </a:cubicBezTo>
                  <a:cubicBezTo>
                    <a:pt x="20522" y="15886"/>
                    <a:pt x="20538" y="15948"/>
                    <a:pt x="20538" y="15999"/>
                  </a:cubicBezTo>
                  <a:cubicBezTo>
                    <a:pt x="20589" y="15973"/>
                    <a:pt x="20651" y="15895"/>
                    <a:pt x="20662" y="15825"/>
                  </a:cubicBezTo>
                  <a:cubicBezTo>
                    <a:pt x="20676" y="15738"/>
                    <a:pt x="20704" y="15640"/>
                    <a:pt x="20712" y="15553"/>
                  </a:cubicBezTo>
                  <a:cubicBezTo>
                    <a:pt x="20718" y="15486"/>
                    <a:pt x="20710" y="15689"/>
                    <a:pt x="20712" y="15701"/>
                  </a:cubicBezTo>
                  <a:cubicBezTo>
                    <a:pt x="20725" y="15781"/>
                    <a:pt x="20754" y="15852"/>
                    <a:pt x="20786" y="15925"/>
                  </a:cubicBezTo>
                </a:path>
                <a:path w="4069" h="1439">
                  <a:moveTo>
                    <a:pt x="20389" y="16694"/>
                  </a:moveTo>
                  <a:cubicBezTo>
                    <a:pt x="20397" y="16686"/>
                    <a:pt x="20406" y="16677"/>
                    <a:pt x="20414" y="16669"/>
                  </a:cubicBezTo>
                  <a:cubicBezTo>
                    <a:pt x="20367" y="16669"/>
                    <a:pt x="20335" y="16689"/>
                    <a:pt x="20290" y="16694"/>
                  </a:cubicBezTo>
                  <a:cubicBezTo>
                    <a:pt x="20265" y="16694"/>
                    <a:pt x="20257" y="16694"/>
                    <a:pt x="20241" y="16694"/>
                  </a:cubicBezTo>
                </a:path>
                <a:path w="4069" h="1439">
                  <a:moveTo>
                    <a:pt x="20662" y="16619"/>
                  </a:moveTo>
                  <a:cubicBezTo>
                    <a:pt x="20750" y="16580"/>
                    <a:pt x="20713" y="16586"/>
                    <a:pt x="20762" y="16570"/>
                  </a:cubicBezTo>
                  <a:cubicBezTo>
                    <a:pt x="20722" y="16609"/>
                    <a:pt x="20669" y="16648"/>
                    <a:pt x="20638" y="16694"/>
                  </a:cubicBezTo>
                  <a:cubicBezTo>
                    <a:pt x="20595" y="16758"/>
                    <a:pt x="20604" y="16823"/>
                    <a:pt x="20687" y="16842"/>
                  </a:cubicBezTo>
                  <a:cubicBezTo>
                    <a:pt x="20743" y="16855"/>
                    <a:pt x="20786" y="16836"/>
                    <a:pt x="20836" y="16818"/>
                  </a:cubicBezTo>
                </a:path>
                <a:path w="4069" h="1439">
                  <a:moveTo>
                    <a:pt x="20141" y="15553"/>
                  </a:moveTo>
                  <a:cubicBezTo>
                    <a:pt x="20151" y="15523"/>
                    <a:pt x="20173" y="15510"/>
                    <a:pt x="20166" y="15528"/>
                  </a:cubicBezTo>
                  <a:cubicBezTo>
                    <a:pt x="20151" y="15565"/>
                    <a:pt x="20137" y="15591"/>
                    <a:pt x="20117" y="15627"/>
                  </a:cubicBezTo>
                  <a:cubicBezTo>
                    <a:pt x="20086" y="15683"/>
                    <a:pt x="20081" y="15746"/>
                    <a:pt x="20042" y="15801"/>
                  </a:cubicBezTo>
                  <a:cubicBezTo>
                    <a:pt x="20008" y="15849"/>
                    <a:pt x="19996" y="15936"/>
                    <a:pt x="19993" y="15999"/>
                  </a:cubicBezTo>
                  <a:cubicBezTo>
                    <a:pt x="19989" y="16096"/>
                    <a:pt x="19957" y="16178"/>
                    <a:pt x="19943" y="16272"/>
                  </a:cubicBezTo>
                  <a:cubicBezTo>
                    <a:pt x="19931" y="16354"/>
                    <a:pt x="19921" y="16438"/>
                    <a:pt x="19918" y="16520"/>
                  </a:cubicBezTo>
                  <a:cubicBezTo>
                    <a:pt x="19915" y="16600"/>
                    <a:pt x="19902" y="16697"/>
                    <a:pt x="19943" y="16768"/>
                  </a:cubicBezTo>
                  <a:cubicBezTo>
                    <a:pt x="19971" y="16817"/>
                    <a:pt x="20004" y="16842"/>
                    <a:pt x="20042" y="16867"/>
                  </a:cubicBezTo>
                  <a:cubicBezTo>
                    <a:pt x="20065" y="16890"/>
                    <a:pt x="20069" y="16898"/>
                    <a:pt x="20092" y="16892"/>
                  </a:cubicBezTo>
                </a:path>
              </a:pathLst>
            </a:custGeom>
            <a:noFill/>
            <a:ln cap="rnd"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76920" y="3284640"/>
              <a:ext cx="523440" cy="974520"/>
            </a:xfrm>
            <a:custGeom>
              <a:avLst/>
              <a:gdLst/>
              <a:ahLst/>
              <a:rect l="l" t="t" r="r" b="b"/>
              <a:pathLst>
                <a:path w="944" h="1316">
                  <a:moveTo>
                    <a:pt x="21406" y="15825"/>
                  </a:moveTo>
                  <a:cubicBezTo>
                    <a:pt x="21406" y="15833"/>
                    <a:pt x="21406" y="15842"/>
                    <a:pt x="21406" y="15850"/>
                  </a:cubicBezTo>
                  <a:cubicBezTo>
                    <a:pt x="21452" y="15850"/>
                    <a:pt x="21465" y="15830"/>
                    <a:pt x="21506" y="15825"/>
                  </a:cubicBezTo>
                  <a:cubicBezTo>
                    <a:pt x="21556" y="15819"/>
                    <a:pt x="21617" y="15810"/>
                    <a:pt x="21630" y="15850"/>
                  </a:cubicBezTo>
                </a:path>
                <a:path w="944" h="1316">
                  <a:moveTo>
                    <a:pt x="21779" y="15627"/>
                  </a:moveTo>
                  <a:cubicBezTo>
                    <a:pt x="21786" y="15611"/>
                    <a:pt x="21803" y="15521"/>
                    <a:pt x="21803" y="15577"/>
                  </a:cubicBezTo>
                  <a:cubicBezTo>
                    <a:pt x="21791" y="15642"/>
                    <a:pt x="21762" y="15712"/>
                    <a:pt x="21754" y="15776"/>
                  </a:cubicBezTo>
                  <a:cubicBezTo>
                    <a:pt x="21748" y="15823"/>
                    <a:pt x="21754" y="15877"/>
                    <a:pt x="21754" y="15925"/>
                  </a:cubicBezTo>
                  <a:cubicBezTo>
                    <a:pt x="21795" y="15873"/>
                    <a:pt x="21805" y="15832"/>
                    <a:pt x="21878" y="15825"/>
                  </a:cubicBezTo>
                  <a:cubicBezTo>
                    <a:pt x="21925" y="15820"/>
                    <a:pt x="21967" y="15880"/>
                    <a:pt x="21952" y="15925"/>
                  </a:cubicBezTo>
                  <a:cubicBezTo>
                    <a:pt x="21934" y="15978"/>
                    <a:pt x="21884" y="16020"/>
                    <a:pt x="21828" y="16024"/>
                  </a:cubicBezTo>
                  <a:cubicBezTo>
                    <a:pt x="21777" y="16024"/>
                    <a:pt x="21758" y="16023"/>
                    <a:pt x="21729" y="15999"/>
                  </a:cubicBezTo>
                </a:path>
                <a:path w="944" h="1316">
                  <a:moveTo>
                    <a:pt x="21779" y="16594"/>
                  </a:moveTo>
                  <a:cubicBezTo>
                    <a:pt x="21779" y="16586"/>
                    <a:pt x="21779" y="16578"/>
                    <a:pt x="21779" y="16570"/>
                  </a:cubicBezTo>
                  <a:cubicBezTo>
                    <a:pt x="21718" y="16585"/>
                    <a:pt x="21716" y="16620"/>
                    <a:pt x="21679" y="16669"/>
                  </a:cubicBezTo>
                  <a:cubicBezTo>
                    <a:pt x="21641" y="16719"/>
                    <a:pt x="21634" y="16716"/>
                    <a:pt x="21654" y="16768"/>
                  </a:cubicBezTo>
                  <a:cubicBezTo>
                    <a:pt x="21709" y="16754"/>
                    <a:pt x="21716" y="16711"/>
                    <a:pt x="21754" y="16669"/>
                  </a:cubicBezTo>
                  <a:cubicBezTo>
                    <a:pt x="21807" y="16610"/>
                    <a:pt x="21848" y="16667"/>
                    <a:pt x="21878" y="16718"/>
                  </a:cubicBezTo>
                  <a:cubicBezTo>
                    <a:pt x="21886" y="16735"/>
                    <a:pt x="21895" y="16751"/>
                    <a:pt x="21903" y="16768"/>
                  </a:cubicBezTo>
                </a:path>
                <a:path w="944" h="1316">
                  <a:moveTo>
                    <a:pt x="22051" y="15453"/>
                  </a:moveTo>
                  <a:cubicBezTo>
                    <a:pt x="22097" y="15453"/>
                    <a:pt x="22116" y="15446"/>
                    <a:pt x="22151" y="15478"/>
                  </a:cubicBezTo>
                  <a:cubicBezTo>
                    <a:pt x="22200" y="15523"/>
                    <a:pt x="22245" y="15568"/>
                    <a:pt x="22275" y="15627"/>
                  </a:cubicBezTo>
                  <a:cubicBezTo>
                    <a:pt x="22315" y="15704"/>
                    <a:pt x="22341" y="15789"/>
                    <a:pt x="22349" y="15875"/>
                  </a:cubicBezTo>
                  <a:cubicBezTo>
                    <a:pt x="22361" y="15997"/>
                    <a:pt x="22356" y="16129"/>
                    <a:pt x="22324" y="16247"/>
                  </a:cubicBezTo>
                  <a:cubicBezTo>
                    <a:pt x="22299" y="16341"/>
                    <a:pt x="22257" y="16429"/>
                    <a:pt x="22225" y="16520"/>
                  </a:cubicBezTo>
                  <a:cubicBezTo>
                    <a:pt x="22200" y="16591"/>
                    <a:pt x="22152" y="16654"/>
                    <a:pt x="22126" y="16718"/>
                  </a:cubicBezTo>
                  <a:cubicBezTo>
                    <a:pt x="22126" y="16726"/>
                    <a:pt x="22126" y="16735"/>
                    <a:pt x="22126" y="16743"/>
                  </a:cubicBezTo>
                </a:path>
              </a:pathLst>
            </a:custGeom>
            <a:noFill/>
            <a:ln cap="rnd"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 flipV="1">
            <a:off x="2340000" y="4508640"/>
            <a:ext cx="1727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68360" y="5157720"/>
            <a:ext cx="3166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 – bc = determi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.e. tells us about the inve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284720" y="5157720"/>
            <a:ext cx="4248000" cy="1295640"/>
          </a:xfrm>
          <a:prstGeom prst="wedgeRectCallout">
            <a:avLst>
              <a:gd name="adj1" fmla="val -43759"/>
              <a:gd name="adj2" fmla="val 77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(A) = 0: 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oes not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(A) = 1: A is “singula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(A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1: A is “non-singula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inverse and determinants of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08040" y="1731960"/>
            <a:ext cx="312840" cy="206280"/>
          </a:xfrm>
          <a:custGeom>
            <a:avLst/>
            <a:gdLst/>
            <a:ahLst/>
            <a:rect l="l" t="t" r="r" b="b"/>
            <a:pathLst>
              <a:path w="869" h="572">
                <a:moveTo>
                  <a:pt x="1687" y="5060"/>
                </a:moveTo>
                <a:cubicBezTo>
                  <a:pt x="1740" y="5060"/>
                  <a:pt x="1798" y="5055"/>
                  <a:pt x="1836" y="5011"/>
                </a:cubicBezTo>
                <a:cubicBezTo>
                  <a:pt x="1853" y="4991"/>
                  <a:pt x="1894" y="4860"/>
                  <a:pt x="1885" y="4837"/>
                </a:cubicBezTo>
                <a:cubicBezTo>
                  <a:pt x="1877" y="4829"/>
                  <a:pt x="1868" y="4820"/>
                  <a:pt x="1860" y="4812"/>
                </a:cubicBezTo>
                <a:cubicBezTo>
                  <a:pt x="1804" y="4826"/>
                  <a:pt x="1783" y="4880"/>
                  <a:pt x="1761" y="4936"/>
                </a:cubicBezTo>
                <a:cubicBezTo>
                  <a:pt x="1738" y="4995"/>
                  <a:pt x="1704" y="5112"/>
                  <a:pt x="1761" y="5159"/>
                </a:cubicBezTo>
                <a:cubicBezTo>
                  <a:pt x="1809" y="5199"/>
                  <a:pt x="1878" y="5184"/>
                  <a:pt x="1935" y="5184"/>
                </a:cubicBezTo>
              </a:path>
              <a:path w="869" h="572">
                <a:moveTo>
                  <a:pt x="2133" y="5085"/>
                </a:moveTo>
                <a:cubicBezTo>
                  <a:pt x="2158" y="5085"/>
                  <a:pt x="2166" y="5085"/>
                  <a:pt x="2183" y="5085"/>
                </a:cubicBezTo>
              </a:path>
              <a:path w="869" h="572">
                <a:moveTo>
                  <a:pt x="2431" y="4936"/>
                </a:moveTo>
                <a:cubicBezTo>
                  <a:pt x="2451" y="4896"/>
                  <a:pt x="2460" y="4890"/>
                  <a:pt x="2456" y="4862"/>
                </a:cubicBezTo>
                <a:cubicBezTo>
                  <a:pt x="2401" y="4876"/>
                  <a:pt x="2383" y="4909"/>
                  <a:pt x="2356" y="4961"/>
                </a:cubicBezTo>
                <a:cubicBezTo>
                  <a:pt x="2325" y="5020"/>
                  <a:pt x="2323" y="5014"/>
                  <a:pt x="2356" y="5060"/>
                </a:cubicBezTo>
                <a:cubicBezTo>
                  <a:pt x="2378" y="5031"/>
                  <a:pt x="2392" y="4978"/>
                  <a:pt x="2431" y="4961"/>
                </a:cubicBezTo>
                <a:cubicBezTo>
                  <a:pt x="2456" y="4961"/>
                  <a:pt x="2464" y="4961"/>
                  <a:pt x="2480" y="4961"/>
                </a:cubicBezTo>
                <a:cubicBezTo>
                  <a:pt x="2516" y="5043"/>
                  <a:pt x="2572" y="5141"/>
                  <a:pt x="2555" y="5234"/>
                </a:cubicBezTo>
                <a:cubicBezTo>
                  <a:pt x="2542" y="5304"/>
                  <a:pt x="2494" y="5377"/>
                  <a:pt x="2431" y="5383"/>
                </a:cubicBezTo>
                <a:cubicBezTo>
                  <a:pt x="2338" y="5392"/>
                  <a:pt x="2289" y="5374"/>
                  <a:pt x="2208" y="53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017720" y="1812960"/>
            <a:ext cx="36360" cy="9360"/>
          </a:xfrm>
          <a:custGeom>
            <a:avLst/>
            <a:gdLst/>
            <a:ahLst/>
            <a:rect l="l" t="t" r="r" b="b"/>
            <a:pathLst>
              <a:path w="100" h="26">
                <a:moveTo>
                  <a:pt x="2828" y="5060"/>
                </a:moveTo>
                <a:cubicBezTo>
                  <a:pt x="2885" y="5041"/>
                  <a:pt x="2892" y="5032"/>
                  <a:pt x="2927" y="50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92080" y="2133720"/>
            <a:ext cx="196920" cy="260280"/>
          </a:xfrm>
          <a:custGeom>
            <a:avLst/>
            <a:gdLst/>
            <a:ahLst/>
            <a:rect l="l" t="t" r="r" b="b"/>
            <a:pathLst>
              <a:path w="547" h="721">
                <a:moveTo>
                  <a:pt x="2580" y="6176"/>
                </a:moveTo>
                <a:cubicBezTo>
                  <a:pt x="2609" y="6154"/>
                  <a:pt x="2686" y="6143"/>
                  <a:pt x="2654" y="6127"/>
                </a:cubicBezTo>
                <a:cubicBezTo>
                  <a:pt x="2622" y="6111"/>
                  <a:pt x="2547" y="6157"/>
                  <a:pt x="2530" y="6176"/>
                </a:cubicBezTo>
                <a:cubicBezTo>
                  <a:pt x="2480" y="6234"/>
                  <a:pt x="2461" y="6315"/>
                  <a:pt x="2505" y="6375"/>
                </a:cubicBezTo>
                <a:cubicBezTo>
                  <a:pt x="2513" y="6383"/>
                  <a:pt x="2522" y="6392"/>
                  <a:pt x="2530" y="6400"/>
                </a:cubicBezTo>
                <a:cubicBezTo>
                  <a:pt x="2563" y="6383"/>
                  <a:pt x="2612" y="6320"/>
                  <a:pt x="2629" y="6276"/>
                </a:cubicBezTo>
                <a:cubicBezTo>
                  <a:pt x="2653" y="6216"/>
                  <a:pt x="2707" y="6276"/>
                  <a:pt x="2753" y="6300"/>
                </a:cubicBezTo>
                <a:cubicBezTo>
                  <a:pt x="2802" y="6326"/>
                  <a:pt x="2814" y="6355"/>
                  <a:pt x="2853" y="6375"/>
                </a:cubicBezTo>
              </a:path>
              <a:path w="547" h="721">
                <a:moveTo>
                  <a:pt x="2654" y="5978"/>
                </a:moveTo>
                <a:cubicBezTo>
                  <a:pt x="2776" y="5929"/>
                  <a:pt x="2888" y="5886"/>
                  <a:pt x="2977" y="6028"/>
                </a:cubicBezTo>
                <a:cubicBezTo>
                  <a:pt x="3066" y="6170"/>
                  <a:pt x="3043" y="6380"/>
                  <a:pt x="2977" y="6524"/>
                </a:cubicBezTo>
                <a:cubicBezTo>
                  <a:pt x="2927" y="6598"/>
                  <a:pt x="2910" y="6623"/>
                  <a:pt x="2853" y="66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58920" y="2160720"/>
            <a:ext cx="509400" cy="206280"/>
          </a:xfrm>
          <a:custGeom>
            <a:avLst/>
            <a:gdLst/>
            <a:ahLst/>
            <a:rect l="l" t="t" r="r" b="b"/>
            <a:pathLst>
              <a:path w="1415" h="571">
                <a:moveTo>
                  <a:pt x="3497" y="6102"/>
                </a:moveTo>
                <a:cubicBezTo>
                  <a:pt x="3516" y="6045"/>
                  <a:pt x="3507" y="6020"/>
                  <a:pt x="3547" y="6028"/>
                </a:cubicBezTo>
                <a:cubicBezTo>
                  <a:pt x="3547" y="6132"/>
                  <a:pt x="3563" y="6224"/>
                  <a:pt x="3572" y="6325"/>
                </a:cubicBezTo>
                <a:cubicBezTo>
                  <a:pt x="3579" y="6410"/>
                  <a:pt x="3597" y="6488"/>
                  <a:pt x="3597" y="6573"/>
                </a:cubicBezTo>
              </a:path>
              <a:path w="1415" h="571">
                <a:moveTo>
                  <a:pt x="3820" y="6052"/>
                </a:moveTo>
                <a:cubicBezTo>
                  <a:pt x="3828" y="6044"/>
                  <a:pt x="3837" y="6036"/>
                  <a:pt x="3845" y="6028"/>
                </a:cubicBezTo>
                <a:cubicBezTo>
                  <a:pt x="3770" y="6028"/>
                  <a:pt x="3717" y="6046"/>
                  <a:pt x="3646" y="6077"/>
                </a:cubicBezTo>
                <a:cubicBezTo>
                  <a:pt x="3603" y="6095"/>
                  <a:pt x="3587" y="6117"/>
                  <a:pt x="3547" y="6127"/>
                </a:cubicBezTo>
              </a:path>
              <a:path w="1415" h="571">
                <a:moveTo>
                  <a:pt x="3721" y="6251"/>
                </a:moveTo>
                <a:cubicBezTo>
                  <a:pt x="3737" y="6251"/>
                  <a:pt x="3754" y="6251"/>
                  <a:pt x="3770" y="6251"/>
                </a:cubicBezTo>
                <a:cubicBezTo>
                  <a:pt x="3731" y="6281"/>
                  <a:pt x="3672" y="6289"/>
                  <a:pt x="3621" y="6300"/>
                </a:cubicBezTo>
                <a:cubicBezTo>
                  <a:pt x="3597" y="6300"/>
                  <a:pt x="3588" y="6300"/>
                  <a:pt x="3572" y="6300"/>
                </a:cubicBezTo>
              </a:path>
              <a:path w="1415" h="571">
                <a:moveTo>
                  <a:pt x="3919" y="6375"/>
                </a:moveTo>
                <a:cubicBezTo>
                  <a:pt x="3944" y="6375"/>
                  <a:pt x="3952" y="6375"/>
                  <a:pt x="3969" y="6375"/>
                </a:cubicBezTo>
                <a:cubicBezTo>
                  <a:pt x="3969" y="6408"/>
                  <a:pt x="3969" y="6441"/>
                  <a:pt x="3969" y="6474"/>
                </a:cubicBezTo>
              </a:path>
              <a:path w="1415" h="571">
                <a:moveTo>
                  <a:pt x="3944" y="6226"/>
                </a:moveTo>
                <a:cubicBezTo>
                  <a:pt x="3944" y="6158"/>
                  <a:pt x="3925" y="6142"/>
                  <a:pt x="3969" y="6127"/>
                </a:cubicBezTo>
              </a:path>
              <a:path w="1415" h="571">
                <a:moveTo>
                  <a:pt x="4118" y="6325"/>
                </a:moveTo>
                <a:cubicBezTo>
                  <a:pt x="4146" y="6383"/>
                  <a:pt x="4168" y="6450"/>
                  <a:pt x="4192" y="6499"/>
                </a:cubicBezTo>
                <a:cubicBezTo>
                  <a:pt x="4200" y="6507"/>
                  <a:pt x="4209" y="6516"/>
                  <a:pt x="4217" y="6524"/>
                </a:cubicBezTo>
                <a:cubicBezTo>
                  <a:pt x="4217" y="6460"/>
                  <a:pt x="4227" y="6428"/>
                  <a:pt x="4266" y="6375"/>
                </a:cubicBezTo>
                <a:cubicBezTo>
                  <a:pt x="4301" y="6328"/>
                  <a:pt x="4322" y="6310"/>
                  <a:pt x="4366" y="6350"/>
                </a:cubicBezTo>
                <a:cubicBezTo>
                  <a:pt x="4398" y="6379"/>
                  <a:pt x="4435" y="6408"/>
                  <a:pt x="4440" y="6449"/>
                </a:cubicBezTo>
                <a:cubicBezTo>
                  <a:pt x="4440" y="6457"/>
                  <a:pt x="4440" y="6466"/>
                  <a:pt x="4440" y="6474"/>
                </a:cubicBezTo>
              </a:path>
              <a:path w="1415" h="571">
                <a:moveTo>
                  <a:pt x="4589" y="6350"/>
                </a:moveTo>
                <a:cubicBezTo>
                  <a:pt x="4589" y="6333"/>
                  <a:pt x="4589" y="6317"/>
                  <a:pt x="4589" y="6300"/>
                </a:cubicBezTo>
                <a:cubicBezTo>
                  <a:pt x="4547" y="6314"/>
                  <a:pt x="4542" y="6370"/>
                  <a:pt x="4539" y="6424"/>
                </a:cubicBezTo>
                <a:cubicBezTo>
                  <a:pt x="4539" y="6474"/>
                  <a:pt x="4539" y="6491"/>
                  <a:pt x="4539" y="6524"/>
                </a:cubicBezTo>
                <a:cubicBezTo>
                  <a:pt x="4620" y="6563"/>
                  <a:pt x="4620" y="6419"/>
                  <a:pt x="4638" y="6350"/>
                </a:cubicBezTo>
                <a:cubicBezTo>
                  <a:pt x="4666" y="6241"/>
                  <a:pt x="4663" y="6140"/>
                  <a:pt x="4663" y="6028"/>
                </a:cubicBezTo>
                <a:cubicBezTo>
                  <a:pt x="4663" y="6020"/>
                  <a:pt x="4663" y="6011"/>
                  <a:pt x="4663" y="6003"/>
                </a:cubicBezTo>
                <a:cubicBezTo>
                  <a:pt x="4729" y="6085"/>
                  <a:pt x="4734" y="6184"/>
                  <a:pt x="4787" y="6276"/>
                </a:cubicBezTo>
                <a:cubicBezTo>
                  <a:pt x="4859" y="6371"/>
                  <a:pt x="4882" y="6400"/>
                  <a:pt x="4911" y="64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9080" y="1820880"/>
            <a:ext cx="455760" cy="768240"/>
          </a:xfrm>
          <a:custGeom>
            <a:avLst/>
            <a:gdLst/>
            <a:ahLst/>
            <a:rect l="l" t="t" r="r" b="b"/>
            <a:pathLst>
              <a:path w="1266" h="2134">
                <a:moveTo>
                  <a:pt x="6573" y="5556"/>
                </a:moveTo>
                <a:cubicBezTo>
                  <a:pt x="6565" y="5564"/>
                  <a:pt x="6556" y="5573"/>
                  <a:pt x="6548" y="5581"/>
                </a:cubicBezTo>
                <a:cubicBezTo>
                  <a:pt x="6534" y="5576"/>
                  <a:pt x="6484" y="5540"/>
                  <a:pt x="6499" y="5507"/>
                </a:cubicBezTo>
                <a:cubicBezTo>
                  <a:pt x="6525" y="5449"/>
                  <a:pt x="6583" y="5397"/>
                  <a:pt x="6648" y="5383"/>
                </a:cubicBezTo>
                <a:cubicBezTo>
                  <a:pt x="6721" y="5367"/>
                  <a:pt x="6776" y="5410"/>
                  <a:pt x="6796" y="5482"/>
                </a:cubicBezTo>
                <a:cubicBezTo>
                  <a:pt x="6816" y="5556"/>
                  <a:pt x="6789" y="5644"/>
                  <a:pt x="6747" y="5705"/>
                </a:cubicBezTo>
                <a:cubicBezTo>
                  <a:pt x="6728" y="5733"/>
                  <a:pt x="6672" y="5760"/>
                  <a:pt x="6697" y="5804"/>
                </a:cubicBezTo>
                <a:cubicBezTo>
                  <a:pt x="6730" y="5863"/>
                  <a:pt x="6798" y="5809"/>
                  <a:pt x="6846" y="5829"/>
                </a:cubicBezTo>
                <a:cubicBezTo>
                  <a:pt x="6878" y="5843"/>
                  <a:pt x="6911" y="5862"/>
                  <a:pt x="6896" y="5904"/>
                </a:cubicBezTo>
                <a:cubicBezTo>
                  <a:pt x="6869" y="5980"/>
                  <a:pt x="6843" y="5978"/>
                  <a:pt x="6772" y="5978"/>
                </a:cubicBezTo>
                <a:cubicBezTo>
                  <a:pt x="6764" y="5978"/>
                  <a:pt x="6755" y="5978"/>
                  <a:pt x="6747" y="5978"/>
                </a:cubicBezTo>
              </a:path>
              <a:path w="1266" h="2134">
                <a:moveTo>
                  <a:pt x="6325" y="6772"/>
                </a:moveTo>
                <a:cubicBezTo>
                  <a:pt x="6333" y="6772"/>
                  <a:pt x="6342" y="6772"/>
                  <a:pt x="6350" y="6772"/>
                </a:cubicBezTo>
                <a:cubicBezTo>
                  <a:pt x="6302" y="6772"/>
                  <a:pt x="6241" y="6772"/>
                  <a:pt x="6201" y="6796"/>
                </a:cubicBezTo>
                <a:cubicBezTo>
                  <a:pt x="6163" y="6819"/>
                  <a:pt x="6173" y="6821"/>
                  <a:pt x="6127" y="6821"/>
                </a:cubicBezTo>
              </a:path>
              <a:path w="1266" h="2134">
                <a:moveTo>
                  <a:pt x="6598" y="6697"/>
                </a:moveTo>
                <a:cubicBezTo>
                  <a:pt x="6598" y="6644"/>
                  <a:pt x="6611" y="6636"/>
                  <a:pt x="6648" y="6598"/>
                </a:cubicBezTo>
                <a:cubicBezTo>
                  <a:pt x="6688" y="6557"/>
                  <a:pt x="6732" y="6523"/>
                  <a:pt x="6796" y="6548"/>
                </a:cubicBezTo>
                <a:cubicBezTo>
                  <a:pt x="6878" y="6580"/>
                  <a:pt x="6830" y="6645"/>
                  <a:pt x="6821" y="6697"/>
                </a:cubicBezTo>
                <a:cubicBezTo>
                  <a:pt x="6808" y="6776"/>
                  <a:pt x="6754" y="6809"/>
                  <a:pt x="6747" y="6896"/>
                </a:cubicBezTo>
                <a:cubicBezTo>
                  <a:pt x="6747" y="6904"/>
                  <a:pt x="6747" y="6913"/>
                  <a:pt x="6747" y="6921"/>
                </a:cubicBezTo>
                <a:cubicBezTo>
                  <a:pt x="6804" y="6921"/>
                  <a:pt x="6843" y="6905"/>
                  <a:pt x="6896" y="6896"/>
                </a:cubicBezTo>
                <a:cubicBezTo>
                  <a:pt x="6951" y="6887"/>
                  <a:pt x="7013" y="6896"/>
                  <a:pt x="7069" y="6896"/>
                </a:cubicBezTo>
              </a:path>
              <a:path w="1266" h="2134">
                <a:moveTo>
                  <a:pt x="5804" y="5060"/>
                </a:moveTo>
                <a:cubicBezTo>
                  <a:pt x="5831" y="5087"/>
                  <a:pt x="5852" y="5106"/>
                  <a:pt x="5854" y="5159"/>
                </a:cubicBezTo>
                <a:cubicBezTo>
                  <a:pt x="5857" y="5223"/>
                  <a:pt x="5877" y="5271"/>
                  <a:pt x="5879" y="5333"/>
                </a:cubicBezTo>
                <a:cubicBezTo>
                  <a:pt x="5885" y="5486"/>
                  <a:pt x="5883" y="5630"/>
                  <a:pt x="5904" y="5779"/>
                </a:cubicBezTo>
                <a:cubicBezTo>
                  <a:pt x="5934" y="5990"/>
                  <a:pt x="5899" y="6213"/>
                  <a:pt x="5928" y="6424"/>
                </a:cubicBezTo>
                <a:cubicBezTo>
                  <a:pt x="5950" y="6586"/>
                  <a:pt x="5935" y="6760"/>
                  <a:pt x="5953" y="6921"/>
                </a:cubicBezTo>
                <a:cubicBezTo>
                  <a:pt x="5963" y="7009"/>
                  <a:pt x="5953" y="7104"/>
                  <a:pt x="5953" y="71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813040" y="1946160"/>
            <a:ext cx="276120" cy="500040"/>
          </a:xfrm>
          <a:custGeom>
            <a:avLst/>
            <a:gdLst/>
            <a:ahLst/>
            <a:rect l="l" t="t" r="r" b="b"/>
            <a:pathLst>
              <a:path w="770" h="1390">
                <a:moveTo>
                  <a:pt x="8186" y="5432"/>
                </a:moveTo>
                <a:cubicBezTo>
                  <a:pt x="8196" y="5463"/>
                  <a:pt x="8240" y="5471"/>
                  <a:pt x="8285" y="5457"/>
                </a:cubicBezTo>
                <a:cubicBezTo>
                  <a:pt x="8362" y="5434"/>
                  <a:pt x="8370" y="5407"/>
                  <a:pt x="8458" y="5407"/>
                </a:cubicBezTo>
                <a:cubicBezTo>
                  <a:pt x="8483" y="5407"/>
                  <a:pt x="8491" y="5407"/>
                  <a:pt x="8508" y="5407"/>
                </a:cubicBezTo>
                <a:cubicBezTo>
                  <a:pt x="8508" y="5489"/>
                  <a:pt x="8467" y="5515"/>
                  <a:pt x="8434" y="5581"/>
                </a:cubicBezTo>
                <a:cubicBezTo>
                  <a:pt x="8390" y="5669"/>
                  <a:pt x="8339" y="5754"/>
                  <a:pt x="8334" y="5854"/>
                </a:cubicBezTo>
                <a:cubicBezTo>
                  <a:pt x="8334" y="5895"/>
                  <a:pt x="8334" y="5903"/>
                  <a:pt x="8334" y="5928"/>
                </a:cubicBezTo>
              </a:path>
              <a:path w="770" h="1390">
                <a:moveTo>
                  <a:pt x="7838" y="6648"/>
                </a:moveTo>
                <a:cubicBezTo>
                  <a:pt x="7830" y="6648"/>
                  <a:pt x="7821" y="6648"/>
                  <a:pt x="7813" y="6648"/>
                </a:cubicBezTo>
                <a:cubicBezTo>
                  <a:pt x="7871" y="6648"/>
                  <a:pt x="7929" y="6648"/>
                  <a:pt x="7987" y="6648"/>
                </a:cubicBezTo>
              </a:path>
              <a:path w="770" h="1390">
                <a:moveTo>
                  <a:pt x="8285" y="6524"/>
                </a:moveTo>
                <a:cubicBezTo>
                  <a:pt x="8326" y="6482"/>
                  <a:pt x="8350" y="6457"/>
                  <a:pt x="8310" y="6499"/>
                </a:cubicBezTo>
                <a:cubicBezTo>
                  <a:pt x="8303" y="6525"/>
                  <a:pt x="8267" y="6566"/>
                  <a:pt x="8285" y="6598"/>
                </a:cubicBezTo>
                <a:cubicBezTo>
                  <a:pt x="8297" y="6620"/>
                  <a:pt x="8389" y="6645"/>
                  <a:pt x="8409" y="6648"/>
                </a:cubicBezTo>
                <a:cubicBezTo>
                  <a:pt x="8467" y="6656"/>
                  <a:pt x="8545" y="6629"/>
                  <a:pt x="8582" y="6697"/>
                </a:cubicBezTo>
                <a:cubicBezTo>
                  <a:pt x="8599" y="6728"/>
                  <a:pt x="8564" y="6788"/>
                  <a:pt x="8533" y="6796"/>
                </a:cubicBezTo>
                <a:cubicBezTo>
                  <a:pt x="8455" y="6818"/>
                  <a:pt x="8343" y="6796"/>
                  <a:pt x="8260" y="6796"/>
                </a:cubicBezTo>
              </a:path>
              <a:path w="770" h="1390">
                <a:moveTo>
                  <a:pt x="8508" y="6499"/>
                </a:moveTo>
                <a:cubicBezTo>
                  <a:pt x="8508" y="6474"/>
                  <a:pt x="8508" y="6449"/>
                  <a:pt x="8508" y="6424"/>
                </a:cubicBezTo>
                <a:cubicBezTo>
                  <a:pt x="8450" y="6424"/>
                  <a:pt x="8392" y="6424"/>
                  <a:pt x="8334" y="64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224160" y="1812960"/>
            <a:ext cx="81000" cy="679320"/>
          </a:xfrm>
          <a:custGeom>
            <a:avLst/>
            <a:gdLst/>
            <a:ahLst/>
            <a:rect l="l" t="t" r="r" b="b"/>
            <a:pathLst>
              <a:path w="225" h="1887">
                <a:moveTo>
                  <a:pt x="8954" y="5060"/>
                </a:moveTo>
                <a:cubicBezTo>
                  <a:pt x="8977" y="5037"/>
                  <a:pt x="8981" y="5029"/>
                  <a:pt x="9004" y="5035"/>
                </a:cubicBezTo>
                <a:cubicBezTo>
                  <a:pt x="9009" y="5092"/>
                  <a:pt x="9021" y="5132"/>
                  <a:pt x="9029" y="5184"/>
                </a:cubicBezTo>
                <a:cubicBezTo>
                  <a:pt x="9062" y="5392"/>
                  <a:pt x="9031" y="5621"/>
                  <a:pt x="9054" y="5829"/>
                </a:cubicBezTo>
                <a:cubicBezTo>
                  <a:pt x="9063" y="5914"/>
                  <a:pt x="9059" y="5994"/>
                  <a:pt x="9079" y="6077"/>
                </a:cubicBezTo>
                <a:cubicBezTo>
                  <a:pt x="9099" y="6160"/>
                  <a:pt x="9084" y="6245"/>
                  <a:pt x="9103" y="6325"/>
                </a:cubicBezTo>
                <a:cubicBezTo>
                  <a:pt x="9121" y="6399"/>
                  <a:pt x="9112" y="6473"/>
                  <a:pt x="9128" y="6548"/>
                </a:cubicBezTo>
                <a:cubicBezTo>
                  <a:pt x="9142" y="6617"/>
                  <a:pt x="9135" y="6706"/>
                  <a:pt x="9153" y="6772"/>
                </a:cubicBezTo>
                <a:cubicBezTo>
                  <a:pt x="9168" y="6825"/>
                  <a:pt x="9174" y="6842"/>
                  <a:pt x="9178" y="6896"/>
                </a:cubicBezTo>
                <a:cubicBezTo>
                  <a:pt x="9178" y="6904"/>
                  <a:pt x="9178" y="6913"/>
                  <a:pt x="9178" y="69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46680" y="2044800"/>
            <a:ext cx="125280" cy="241200"/>
          </a:xfrm>
          <a:custGeom>
            <a:avLst/>
            <a:gdLst/>
            <a:ahLst/>
            <a:rect l="l" t="t" r="r" b="b"/>
            <a:pathLst>
              <a:path w="348" h="671">
                <a:moveTo>
                  <a:pt x="11212" y="6325"/>
                </a:moveTo>
                <a:cubicBezTo>
                  <a:pt x="11164" y="6278"/>
                  <a:pt x="11129" y="6225"/>
                  <a:pt x="11088" y="6176"/>
                </a:cubicBezTo>
                <a:cubicBezTo>
                  <a:pt x="11032" y="6109"/>
                  <a:pt x="10993" y="6068"/>
                  <a:pt x="10988" y="5978"/>
                </a:cubicBezTo>
                <a:cubicBezTo>
                  <a:pt x="10984" y="5904"/>
                  <a:pt x="10990" y="5823"/>
                  <a:pt x="11013" y="5755"/>
                </a:cubicBezTo>
                <a:cubicBezTo>
                  <a:pt x="11035" y="5689"/>
                  <a:pt x="11076" y="5680"/>
                  <a:pt x="11137" y="5680"/>
                </a:cubicBezTo>
                <a:cubicBezTo>
                  <a:pt x="11137" y="5739"/>
                  <a:pt x="11131" y="5773"/>
                  <a:pt x="11112" y="5829"/>
                </a:cubicBezTo>
                <a:cubicBezTo>
                  <a:pt x="11080" y="5925"/>
                  <a:pt x="11027" y="6005"/>
                  <a:pt x="10988" y="6102"/>
                </a:cubicBezTo>
                <a:cubicBezTo>
                  <a:pt x="10958" y="6177"/>
                  <a:pt x="10955" y="6225"/>
                  <a:pt x="10988" y="6300"/>
                </a:cubicBezTo>
                <a:cubicBezTo>
                  <a:pt x="11022" y="6377"/>
                  <a:pt x="11068" y="6356"/>
                  <a:pt x="11137" y="6325"/>
                </a:cubicBezTo>
                <a:cubicBezTo>
                  <a:pt x="11208" y="6293"/>
                  <a:pt x="11242" y="6220"/>
                  <a:pt x="11311" y="6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321080" y="2062080"/>
            <a:ext cx="723960" cy="268200"/>
          </a:xfrm>
          <a:custGeom>
            <a:avLst/>
            <a:gdLst/>
            <a:ahLst/>
            <a:rect l="l" t="t" r="r" b="b"/>
            <a:pathLst>
              <a:path w="2011" h="745">
                <a:moveTo>
                  <a:pt x="12005" y="6201"/>
                </a:moveTo>
                <a:cubicBezTo>
                  <a:pt x="12018" y="6239"/>
                  <a:pt x="12035" y="6226"/>
                  <a:pt x="12080" y="6226"/>
                </a:cubicBezTo>
                <a:cubicBezTo>
                  <a:pt x="12124" y="6226"/>
                  <a:pt x="12169" y="6169"/>
                  <a:pt x="12179" y="6127"/>
                </a:cubicBezTo>
                <a:cubicBezTo>
                  <a:pt x="12192" y="6074"/>
                  <a:pt x="12182" y="6034"/>
                  <a:pt x="12129" y="6028"/>
                </a:cubicBezTo>
                <a:cubicBezTo>
                  <a:pt x="12063" y="6021"/>
                  <a:pt x="12058" y="6107"/>
                  <a:pt x="12055" y="6152"/>
                </a:cubicBezTo>
                <a:cubicBezTo>
                  <a:pt x="12051" y="6231"/>
                  <a:pt x="12081" y="6292"/>
                  <a:pt x="12154" y="6300"/>
                </a:cubicBezTo>
                <a:cubicBezTo>
                  <a:pt x="12220" y="6308"/>
                  <a:pt x="12253" y="6291"/>
                  <a:pt x="12303" y="6251"/>
                </a:cubicBezTo>
              </a:path>
              <a:path w="2011" h="745">
                <a:moveTo>
                  <a:pt x="12551" y="6003"/>
                </a:moveTo>
                <a:cubicBezTo>
                  <a:pt x="12559" y="5995"/>
                  <a:pt x="12568" y="5986"/>
                  <a:pt x="12576" y="5978"/>
                </a:cubicBezTo>
                <a:cubicBezTo>
                  <a:pt x="12566" y="6030"/>
                  <a:pt x="12534" y="6083"/>
                  <a:pt x="12502" y="6127"/>
                </a:cubicBezTo>
                <a:cubicBezTo>
                  <a:pt x="12469" y="6172"/>
                  <a:pt x="12452" y="6195"/>
                  <a:pt x="12452" y="6251"/>
                </a:cubicBezTo>
              </a:path>
              <a:path w="2011" h="745">
                <a:moveTo>
                  <a:pt x="12576" y="6251"/>
                </a:moveTo>
                <a:cubicBezTo>
                  <a:pt x="12576" y="6226"/>
                  <a:pt x="12576" y="6218"/>
                  <a:pt x="12576" y="6201"/>
                </a:cubicBezTo>
                <a:cubicBezTo>
                  <a:pt x="12532" y="6190"/>
                  <a:pt x="12493" y="6138"/>
                  <a:pt x="12452" y="6127"/>
                </a:cubicBezTo>
                <a:cubicBezTo>
                  <a:pt x="12407" y="6127"/>
                  <a:pt x="12394" y="6131"/>
                  <a:pt x="12378" y="6102"/>
                </a:cubicBezTo>
              </a:path>
              <a:path w="2011" h="745">
                <a:moveTo>
                  <a:pt x="12774" y="6052"/>
                </a:moveTo>
                <a:cubicBezTo>
                  <a:pt x="12774" y="6028"/>
                  <a:pt x="12774" y="6020"/>
                  <a:pt x="12799" y="6028"/>
                </a:cubicBezTo>
                <a:cubicBezTo>
                  <a:pt x="12799" y="6150"/>
                  <a:pt x="12753" y="6379"/>
                  <a:pt x="12824" y="6474"/>
                </a:cubicBezTo>
              </a:path>
              <a:path w="2011" h="745">
                <a:moveTo>
                  <a:pt x="12799" y="6226"/>
                </a:moveTo>
                <a:cubicBezTo>
                  <a:pt x="12799" y="6166"/>
                  <a:pt x="12783" y="6097"/>
                  <a:pt x="12824" y="6052"/>
                </a:cubicBezTo>
                <a:cubicBezTo>
                  <a:pt x="12847" y="6030"/>
                  <a:pt x="12852" y="6022"/>
                  <a:pt x="12874" y="6028"/>
                </a:cubicBezTo>
                <a:cubicBezTo>
                  <a:pt x="12906" y="6082"/>
                  <a:pt x="12898" y="6134"/>
                  <a:pt x="12898" y="6201"/>
                </a:cubicBezTo>
                <a:cubicBezTo>
                  <a:pt x="12898" y="6251"/>
                  <a:pt x="12849" y="6288"/>
                  <a:pt x="12799" y="6276"/>
                </a:cubicBezTo>
                <a:cubicBezTo>
                  <a:pt x="12783" y="6268"/>
                  <a:pt x="12766" y="6259"/>
                  <a:pt x="12750" y="6251"/>
                </a:cubicBezTo>
              </a:path>
              <a:path w="2011" h="745">
                <a:moveTo>
                  <a:pt x="13047" y="5779"/>
                </a:moveTo>
                <a:cubicBezTo>
                  <a:pt x="13055" y="5763"/>
                  <a:pt x="13064" y="5746"/>
                  <a:pt x="13072" y="5730"/>
                </a:cubicBezTo>
                <a:cubicBezTo>
                  <a:pt x="13111" y="5795"/>
                  <a:pt x="13097" y="5873"/>
                  <a:pt x="13097" y="5953"/>
                </a:cubicBezTo>
                <a:cubicBezTo>
                  <a:pt x="13097" y="6069"/>
                  <a:pt x="13097" y="6184"/>
                  <a:pt x="13097" y="6300"/>
                </a:cubicBezTo>
              </a:path>
              <a:path w="2011" h="745">
                <a:moveTo>
                  <a:pt x="13295" y="6152"/>
                </a:moveTo>
                <a:cubicBezTo>
                  <a:pt x="13295" y="6107"/>
                  <a:pt x="13292" y="6094"/>
                  <a:pt x="13320" y="6077"/>
                </a:cubicBezTo>
                <a:cubicBezTo>
                  <a:pt x="13292" y="6091"/>
                  <a:pt x="13232" y="6160"/>
                  <a:pt x="13221" y="6201"/>
                </a:cubicBezTo>
                <a:cubicBezTo>
                  <a:pt x="13212" y="6233"/>
                  <a:pt x="13257" y="6319"/>
                  <a:pt x="13295" y="6276"/>
                </a:cubicBezTo>
                <a:cubicBezTo>
                  <a:pt x="13317" y="6251"/>
                  <a:pt x="13338" y="6168"/>
                  <a:pt x="13395" y="6201"/>
                </a:cubicBezTo>
                <a:cubicBezTo>
                  <a:pt x="13443" y="6228"/>
                  <a:pt x="13434" y="6251"/>
                  <a:pt x="13494" y="6251"/>
                </a:cubicBezTo>
                <a:cubicBezTo>
                  <a:pt x="13502" y="6251"/>
                  <a:pt x="13511" y="6251"/>
                  <a:pt x="13519" y="6251"/>
                </a:cubicBezTo>
              </a:path>
              <a:path w="2011" h="745">
                <a:moveTo>
                  <a:pt x="13568" y="6152"/>
                </a:moveTo>
                <a:cubicBezTo>
                  <a:pt x="13588" y="6111"/>
                  <a:pt x="13597" y="6105"/>
                  <a:pt x="13593" y="6077"/>
                </a:cubicBezTo>
                <a:cubicBezTo>
                  <a:pt x="13613" y="6124"/>
                  <a:pt x="13623" y="6155"/>
                  <a:pt x="13643" y="6201"/>
                </a:cubicBezTo>
              </a:path>
              <a:path w="2011" h="745">
                <a:moveTo>
                  <a:pt x="13618" y="5953"/>
                </a:moveTo>
                <a:cubicBezTo>
                  <a:pt x="13600" y="5892"/>
                  <a:pt x="13593" y="5882"/>
                  <a:pt x="13593" y="5829"/>
                </a:cubicBezTo>
              </a:path>
              <a:path w="2011" h="745">
                <a:moveTo>
                  <a:pt x="13667" y="6003"/>
                </a:moveTo>
                <a:cubicBezTo>
                  <a:pt x="13694" y="6066"/>
                  <a:pt x="13713" y="6174"/>
                  <a:pt x="13767" y="6201"/>
                </a:cubicBezTo>
                <a:cubicBezTo>
                  <a:pt x="13793" y="6165"/>
                  <a:pt x="13798" y="6101"/>
                  <a:pt x="13841" y="6077"/>
                </a:cubicBezTo>
                <a:cubicBezTo>
                  <a:pt x="13911" y="6038"/>
                  <a:pt x="13975" y="6137"/>
                  <a:pt x="14015" y="6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70320" y="2071800"/>
            <a:ext cx="241560" cy="196560"/>
          </a:xfrm>
          <a:custGeom>
            <a:avLst/>
            <a:gdLst/>
            <a:ahLst/>
            <a:rect l="l" t="t" r="r" b="b"/>
            <a:pathLst>
              <a:path w="671" h="546">
                <a:moveTo>
                  <a:pt x="14362" y="6102"/>
                </a:moveTo>
                <a:cubicBezTo>
                  <a:pt x="14362" y="6085"/>
                  <a:pt x="14362" y="6069"/>
                  <a:pt x="14362" y="6052"/>
                </a:cubicBezTo>
                <a:cubicBezTo>
                  <a:pt x="14406" y="6067"/>
                  <a:pt x="14405" y="6122"/>
                  <a:pt x="14412" y="6176"/>
                </a:cubicBezTo>
              </a:path>
              <a:path w="671" h="546">
                <a:moveTo>
                  <a:pt x="14387" y="5829"/>
                </a:moveTo>
                <a:cubicBezTo>
                  <a:pt x="14387" y="5768"/>
                  <a:pt x="14378" y="5734"/>
                  <a:pt x="14412" y="5779"/>
                </a:cubicBezTo>
              </a:path>
              <a:path w="671" h="546">
                <a:moveTo>
                  <a:pt x="14560" y="5904"/>
                </a:moveTo>
                <a:cubicBezTo>
                  <a:pt x="14560" y="5837"/>
                  <a:pt x="14560" y="5942"/>
                  <a:pt x="14560" y="5953"/>
                </a:cubicBezTo>
                <a:cubicBezTo>
                  <a:pt x="14560" y="6029"/>
                  <a:pt x="14549" y="6105"/>
                  <a:pt x="14585" y="6176"/>
                </a:cubicBezTo>
                <a:cubicBezTo>
                  <a:pt x="14623" y="6251"/>
                  <a:pt x="14644" y="6264"/>
                  <a:pt x="14709" y="6300"/>
                </a:cubicBezTo>
              </a:path>
              <a:path w="671" h="546">
                <a:moveTo>
                  <a:pt x="14784" y="6127"/>
                </a:moveTo>
                <a:cubicBezTo>
                  <a:pt x="14746" y="6032"/>
                  <a:pt x="14756" y="6028"/>
                  <a:pt x="14660" y="6028"/>
                </a:cubicBezTo>
                <a:cubicBezTo>
                  <a:pt x="14632" y="6028"/>
                  <a:pt x="14621" y="6030"/>
                  <a:pt x="14610" y="6052"/>
                </a:cubicBezTo>
              </a:path>
              <a:path w="671" h="546">
                <a:moveTo>
                  <a:pt x="14957" y="5953"/>
                </a:moveTo>
                <a:cubicBezTo>
                  <a:pt x="14957" y="5945"/>
                  <a:pt x="14957" y="5936"/>
                  <a:pt x="14957" y="5928"/>
                </a:cubicBezTo>
                <a:cubicBezTo>
                  <a:pt x="14928" y="5938"/>
                  <a:pt x="14912" y="5962"/>
                  <a:pt x="14908" y="6003"/>
                </a:cubicBezTo>
                <a:cubicBezTo>
                  <a:pt x="14904" y="6044"/>
                  <a:pt x="14955" y="6075"/>
                  <a:pt x="14982" y="6102"/>
                </a:cubicBezTo>
                <a:cubicBezTo>
                  <a:pt x="15005" y="6125"/>
                  <a:pt x="15009" y="6133"/>
                  <a:pt x="15032" y="6127"/>
                </a:cubicBezTo>
                <a:cubicBezTo>
                  <a:pt x="15021" y="6170"/>
                  <a:pt x="14991" y="6192"/>
                  <a:pt x="14957" y="62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653080" y="2071800"/>
            <a:ext cx="1214280" cy="374400"/>
          </a:xfrm>
          <a:custGeom>
            <a:avLst/>
            <a:gdLst/>
            <a:ahLst/>
            <a:rect l="l" t="t" r="r" b="b"/>
            <a:pathLst>
              <a:path w="3375" h="1042">
                <a:moveTo>
                  <a:pt x="15776" y="6028"/>
                </a:moveTo>
                <a:cubicBezTo>
                  <a:pt x="15799" y="6005"/>
                  <a:pt x="15807" y="6001"/>
                  <a:pt x="15801" y="5978"/>
                </a:cubicBezTo>
                <a:cubicBezTo>
                  <a:pt x="15775" y="5978"/>
                  <a:pt x="15713" y="5985"/>
                  <a:pt x="15701" y="6003"/>
                </a:cubicBezTo>
                <a:cubicBezTo>
                  <a:pt x="15687" y="6024"/>
                  <a:pt x="15700" y="6094"/>
                  <a:pt x="15726" y="6102"/>
                </a:cubicBezTo>
                <a:cubicBezTo>
                  <a:pt x="15755" y="6111"/>
                  <a:pt x="15832" y="6125"/>
                  <a:pt x="15850" y="6152"/>
                </a:cubicBezTo>
                <a:cubicBezTo>
                  <a:pt x="15875" y="6189"/>
                  <a:pt x="15821" y="6230"/>
                  <a:pt x="15801" y="6251"/>
                </a:cubicBezTo>
                <a:cubicBezTo>
                  <a:pt x="15762" y="6291"/>
                  <a:pt x="15740" y="6281"/>
                  <a:pt x="15701" y="6251"/>
                </a:cubicBezTo>
              </a:path>
              <a:path w="3375" h="1042">
                <a:moveTo>
                  <a:pt x="15949" y="6102"/>
                </a:moveTo>
                <a:cubicBezTo>
                  <a:pt x="16026" y="6124"/>
                  <a:pt x="16029" y="6167"/>
                  <a:pt x="16049" y="6251"/>
                </a:cubicBezTo>
                <a:cubicBezTo>
                  <a:pt x="16049" y="6259"/>
                  <a:pt x="16049" y="6268"/>
                  <a:pt x="16049" y="6276"/>
                </a:cubicBezTo>
              </a:path>
              <a:path w="3375" h="1042">
                <a:moveTo>
                  <a:pt x="15949" y="5978"/>
                </a:moveTo>
                <a:cubicBezTo>
                  <a:pt x="15985" y="5898"/>
                  <a:pt x="15963" y="5884"/>
                  <a:pt x="16024" y="5928"/>
                </a:cubicBezTo>
              </a:path>
              <a:path w="3375" h="1042">
                <a:moveTo>
                  <a:pt x="16222" y="6176"/>
                </a:moveTo>
                <a:cubicBezTo>
                  <a:pt x="16183" y="6157"/>
                  <a:pt x="16152" y="6167"/>
                  <a:pt x="16148" y="6226"/>
                </a:cubicBezTo>
                <a:cubicBezTo>
                  <a:pt x="16144" y="6283"/>
                  <a:pt x="16143" y="6285"/>
                  <a:pt x="16173" y="6325"/>
                </a:cubicBezTo>
                <a:cubicBezTo>
                  <a:pt x="16209" y="6288"/>
                  <a:pt x="16235" y="6245"/>
                  <a:pt x="16272" y="6226"/>
                </a:cubicBezTo>
                <a:cubicBezTo>
                  <a:pt x="16345" y="6332"/>
                  <a:pt x="16382" y="6464"/>
                  <a:pt x="16396" y="6598"/>
                </a:cubicBezTo>
                <a:cubicBezTo>
                  <a:pt x="16405" y="6689"/>
                  <a:pt x="16420" y="6784"/>
                  <a:pt x="16321" y="6796"/>
                </a:cubicBezTo>
                <a:cubicBezTo>
                  <a:pt x="16236" y="6806"/>
                  <a:pt x="16157" y="6724"/>
                  <a:pt x="16098" y="6672"/>
                </a:cubicBezTo>
              </a:path>
              <a:path w="3375" h="1042">
                <a:moveTo>
                  <a:pt x="16470" y="6102"/>
                </a:moveTo>
                <a:cubicBezTo>
                  <a:pt x="16470" y="6155"/>
                  <a:pt x="16486" y="6175"/>
                  <a:pt x="16495" y="6226"/>
                </a:cubicBezTo>
                <a:cubicBezTo>
                  <a:pt x="16495" y="6276"/>
                  <a:pt x="16495" y="6292"/>
                  <a:pt x="16495" y="6325"/>
                </a:cubicBezTo>
                <a:cubicBezTo>
                  <a:pt x="16526" y="6305"/>
                  <a:pt x="16535" y="6248"/>
                  <a:pt x="16570" y="6201"/>
                </a:cubicBezTo>
                <a:cubicBezTo>
                  <a:pt x="16604" y="6155"/>
                  <a:pt x="16625" y="6138"/>
                  <a:pt x="16669" y="6176"/>
                </a:cubicBezTo>
                <a:cubicBezTo>
                  <a:pt x="16727" y="6227"/>
                  <a:pt x="16687" y="6282"/>
                  <a:pt x="16718" y="6325"/>
                </a:cubicBezTo>
                <a:cubicBezTo>
                  <a:pt x="16726" y="6325"/>
                  <a:pt x="16735" y="6325"/>
                  <a:pt x="16743" y="6325"/>
                </a:cubicBezTo>
              </a:path>
              <a:path w="3375" h="1042">
                <a:moveTo>
                  <a:pt x="16768" y="6152"/>
                </a:moveTo>
                <a:cubicBezTo>
                  <a:pt x="16842" y="6173"/>
                  <a:pt x="16856" y="6196"/>
                  <a:pt x="16867" y="6276"/>
                </a:cubicBezTo>
              </a:path>
              <a:path w="3375" h="1042">
                <a:moveTo>
                  <a:pt x="16818" y="6052"/>
                </a:moveTo>
                <a:cubicBezTo>
                  <a:pt x="16818" y="6011"/>
                  <a:pt x="16810" y="5995"/>
                  <a:pt x="16842" y="6003"/>
                </a:cubicBezTo>
              </a:path>
              <a:path w="3375" h="1042">
                <a:moveTo>
                  <a:pt x="17165" y="5978"/>
                </a:moveTo>
                <a:cubicBezTo>
                  <a:pt x="17224" y="5972"/>
                  <a:pt x="17284" y="5979"/>
                  <a:pt x="17289" y="5904"/>
                </a:cubicBezTo>
                <a:cubicBezTo>
                  <a:pt x="17294" y="5831"/>
                  <a:pt x="17260" y="5778"/>
                  <a:pt x="17190" y="5755"/>
                </a:cubicBezTo>
                <a:cubicBezTo>
                  <a:pt x="17125" y="5734"/>
                  <a:pt x="17062" y="5914"/>
                  <a:pt x="17041" y="5953"/>
                </a:cubicBezTo>
                <a:cubicBezTo>
                  <a:pt x="17000" y="6028"/>
                  <a:pt x="17016" y="6117"/>
                  <a:pt x="17016" y="6201"/>
                </a:cubicBezTo>
                <a:cubicBezTo>
                  <a:pt x="17016" y="6234"/>
                  <a:pt x="17016" y="6251"/>
                  <a:pt x="17016" y="6276"/>
                </a:cubicBezTo>
              </a:path>
              <a:path w="3375" h="1042">
                <a:moveTo>
                  <a:pt x="17190" y="6176"/>
                </a:moveTo>
                <a:cubicBezTo>
                  <a:pt x="17190" y="6168"/>
                  <a:pt x="17190" y="6160"/>
                  <a:pt x="17190" y="6152"/>
                </a:cubicBezTo>
                <a:cubicBezTo>
                  <a:pt x="17124" y="6152"/>
                  <a:pt x="17057" y="6152"/>
                  <a:pt x="16991" y="6152"/>
                </a:cubicBezTo>
              </a:path>
              <a:path w="3375" h="1042">
                <a:moveTo>
                  <a:pt x="17289" y="6226"/>
                </a:moveTo>
                <a:cubicBezTo>
                  <a:pt x="17335" y="6226"/>
                  <a:pt x="17357" y="6225"/>
                  <a:pt x="17363" y="6276"/>
                </a:cubicBezTo>
                <a:cubicBezTo>
                  <a:pt x="17363" y="6284"/>
                  <a:pt x="17363" y="6292"/>
                  <a:pt x="17363" y="6300"/>
                </a:cubicBezTo>
              </a:path>
              <a:path w="3375" h="1042">
                <a:moveTo>
                  <a:pt x="17363" y="6102"/>
                </a:moveTo>
                <a:cubicBezTo>
                  <a:pt x="17363" y="6037"/>
                  <a:pt x="17361" y="6052"/>
                  <a:pt x="17413" y="6052"/>
                </a:cubicBezTo>
              </a:path>
              <a:path w="3375" h="1042">
                <a:moveTo>
                  <a:pt x="17512" y="6127"/>
                </a:moveTo>
                <a:cubicBezTo>
                  <a:pt x="17512" y="6102"/>
                  <a:pt x="17512" y="6094"/>
                  <a:pt x="17487" y="6102"/>
                </a:cubicBezTo>
                <a:cubicBezTo>
                  <a:pt x="17487" y="6156"/>
                  <a:pt x="17450" y="6197"/>
                  <a:pt x="17462" y="6251"/>
                </a:cubicBezTo>
                <a:cubicBezTo>
                  <a:pt x="17474" y="6305"/>
                  <a:pt x="17537" y="6358"/>
                  <a:pt x="17587" y="6375"/>
                </a:cubicBezTo>
                <a:cubicBezTo>
                  <a:pt x="17622" y="6375"/>
                  <a:pt x="17639" y="6370"/>
                  <a:pt x="17661" y="6350"/>
                </a:cubicBezTo>
              </a:path>
              <a:path w="3375" h="1042">
                <a:moveTo>
                  <a:pt x="17859" y="6201"/>
                </a:moveTo>
                <a:cubicBezTo>
                  <a:pt x="17859" y="6176"/>
                  <a:pt x="17859" y="6168"/>
                  <a:pt x="17859" y="6152"/>
                </a:cubicBezTo>
                <a:cubicBezTo>
                  <a:pt x="17812" y="6152"/>
                  <a:pt x="17773" y="6177"/>
                  <a:pt x="17760" y="6226"/>
                </a:cubicBezTo>
                <a:cubicBezTo>
                  <a:pt x="17745" y="6280"/>
                  <a:pt x="17750" y="6343"/>
                  <a:pt x="17810" y="6350"/>
                </a:cubicBezTo>
                <a:cubicBezTo>
                  <a:pt x="17873" y="6357"/>
                  <a:pt x="17842" y="6297"/>
                  <a:pt x="17884" y="6276"/>
                </a:cubicBezTo>
                <a:cubicBezTo>
                  <a:pt x="17918" y="6260"/>
                  <a:pt x="17964" y="6330"/>
                  <a:pt x="17983" y="6350"/>
                </a:cubicBezTo>
                <a:cubicBezTo>
                  <a:pt x="17991" y="6358"/>
                  <a:pt x="18000" y="6367"/>
                  <a:pt x="18008" y="6375"/>
                </a:cubicBezTo>
              </a:path>
              <a:path w="3375" h="1042">
                <a:moveTo>
                  <a:pt x="18083" y="6325"/>
                </a:moveTo>
                <a:cubicBezTo>
                  <a:pt x="18083" y="6271"/>
                  <a:pt x="18094" y="6253"/>
                  <a:pt x="18107" y="6201"/>
                </a:cubicBezTo>
                <a:cubicBezTo>
                  <a:pt x="18113" y="6177"/>
                  <a:pt x="18093" y="6073"/>
                  <a:pt x="18157" y="6102"/>
                </a:cubicBezTo>
                <a:cubicBezTo>
                  <a:pt x="18203" y="6122"/>
                  <a:pt x="18243" y="6208"/>
                  <a:pt x="18256" y="6251"/>
                </a:cubicBezTo>
                <a:cubicBezTo>
                  <a:pt x="18256" y="6286"/>
                  <a:pt x="18261" y="6303"/>
                  <a:pt x="18281" y="6325"/>
                </a:cubicBezTo>
              </a:path>
              <a:path w="3375" h="1042">
                <a:moveTo>
                  <a:pt x="18479" y="6152"/>
                </a:moveTo>
                <a:cubicBezTo>
                  <a:pt x="18479" y="6073"/>
                  <a:pt x="18471" y="6061"/>
                  <a:pt x="18455" y="6152"/>
                </a:cubicBezTo>
                <a:cubicBezTo>
                  <a:pt x="18448" y="6195"/>
                  <a:pt x="18438" y="6299"/>
                  <a:pt x="18479" y="6325"/>
                </a:cubicBezTo>
                <a:cubicBezTo>
                  <a:pt x="18491" y="6332"/>
                  <a:pt x="18539" y="6325"/>
                  <a:pt x="18554" y="6325"/>
                </a:cubicBezTo>
              </a:path>
              <a:path w="3375" h="1042">
                <a:moveTo>
                  <a:pt x="18604" y="6226"/>
                </a:moveTo>
                <a:cubicBezTo>
                  <a:pt x="18633" y="6234"/>
                  <a:pt x="18649" y="6244"/>
                  <a:pt x="18678" y="6251"/>
                </a:cubicBezTo>
                <a:cubicBezTo>
                  <a:pt x="18717" y="6203"/>
                  <a:pt x="18730" y="6156"/>
                  <a:pt x="18752" y="6102"/>
                </a:cubicBezTo>
                <a:cubicBezTo>
                  <a:pt x="18772" y="6051"/>
                  <a:pt x="18777" y="6052"/>
                  <a:pt x="18777" y="6003"/>
                </a:cubicBezTo>
                <a:cubicBezTo>
                  <a:pt x="18728" y="6013"/>
                  <a:pt x="18664" y="6047"/>
                  <a:pt x="18653" y="6102"/>
                </a:cubicBezTo>
                <a:cubicBezTo>
                  <a:pt x="18635" y="6190"/>
                  <a:pt x="18656" y="6270"/>
                  <a:pt x="18728" y="6325"/>
                </a:cubicBezTo>
                <a:cubicBezTo>
                  <a:pt x="18794" y="6375"/>
                  <a:pt x="18890" y="6345"/>
                  <a:pt x="18951" y="6300"/>
                </a:cubicBezTo>
                <a:cubicBezTo>
                  <a:pt x="18996" y="6267"/>
                  <a:pt x="19035" y="6216"/>
                  <a:pt x="19075" y="6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58880" y="3687840"/>
            <a:ext cx="152280" cy="304560"/>
          </a:xfrm>
          <a:custGeom>
            <a:avLst/>
            <a:gdLst/>
            <a:ahLst/>
            <a:rect l="l" t="t" r="r" b="b"/>
            <a:pathLst>
              <a:path w="423" h="845">
                <a:moveTo>
                  <a:pt x="2108" y="10468"/>
                </a:moveTo>
                <a:cubicBezTo>
                  <a:pt x="2108" y="10426"/>
                  <a:pt x="2100" y="10410"/>
                  <a:pt x="2133" y="10418"/>
                </a:cubicBezTo>
                <a:cubicBezTo>
                  <a:pt x="2133" y="10522"/>
                  <a:pt x="2146" y="10619"/>
                  <a:pt x="2158" y="10716"/>
                </a:cubicBezTo>
                <a:cubicBezTo>
                  <a:pt x="2164" y="10763"/>
                  <a:pt x="2158" y="10816"/>
                  <a:pt x="2158" y="10864"/>
                </a:cubicBezTo>
                <a:cubicBezTo>
                  <a:pt x="2158" y="10784"/>
                  <a:pt x="2139" y="10686"/>
                  <a:pt x="2183" y="10616"/>
                </a:cubicBezTo>
                <a:cubicBezTo>
                  <a:pt x="2191" y="10608"/>
                  <a:pt x="2200" y="10600"/>
                  <a:pt x="2208" y="10592"/>
                </a:cubicBezTo>
                <a:cubicBezTo>
                  <a:pt x="2253" y="10603"/>
                  <a:pt x="2295" y="10639"/>
                  <a:pt x="2307" y="10691"/>
                </a:cubicBezTo>
                <a:cubicBezTo>
                  <a:pt x="2323" y="10760"/>
                  <a:pt x="2303" y="10795"/>
                  <a:pt x="2257" y="10840"/>
                </a:cubicBezTo>
                <a:cubicBezTo>
                  <a:pt x="2227" y="10869"/>
                  <a:pt x="2222" y="10864"/>
                  <a:pt x="2183" y="10864"/>
                </a:cubicBezTo>
              </a:path>
              <a:path w="423" h="845">
                <a:moveTo>
                  <a:pt x="2183" y="10244"/>
                </a:moveTo>
                <a:cubicBezTo>
                  <a:pt x="2347" y="10293"/>
                  <a:pt x="2395" y="10336"/>
                  <a:pt x="2480" y="10492"/>
                </a:cubicBezTo>
                <a:cubicBezTo>
                  <a:pt x="2569" y="10656"/>
                  <a:pt x="2533" y="10799"/>
                  <a:pt x="2480" y="10964"/>
                </a:cubicBezTo>
                <a:cubicBezTo>
                  <a:pt x="2457" y="11036"/>
                  <a:pt x="2450" y="11059"/>
                  <a:pt x="2406" y="110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071720" y="3705120"/>
            <a:ext cx="428400" cy="179640"/>
          </a:xfrm>
          <a:custGeom>
            <a:avLst/>
            <a:gdLst/>
            <a:ahLst/>
            <a:rect l="l" t="t" r="r" b="b"/>
            <a:pathLst>
              <a:path w="1191" h="497">
                <a:moveTo>
                  <a:pt x="3001" y="10344"/>
                </a:moveTo>
                <a:cubicBezTo>
                  <a:pt x="3001" y="10319"/>
                  <a:pt x="3001" y="10311"/>
                  <a:pt x="3001" y="10294"/>
                </a:cubicBezTo>
                <a:cubicBezTo>
                  <a:pt x="2987" y="10368"/>
                  <a:pt x="2965" y="10436"/>
                  <a:pt x="2977" y="10517"/>
                </a:cubicBezTo>
                <a:cubicBezTo>
                  <a:pt x="2991" y="10608"/>
                  <a:pt x="3020" y="10707"/>
                  <a:pt x="3051" y="10790"/>
                </a:cubicBezTo>
              </a:path>
              <a:path w="1191" h="497">
                <a:moveTo>
                  <a:pt x="3225" y="10344"/>
                </a:moveTo>
                <a:cubicBezTo>
                  <a:pt x="3233" y="10327"/>
                  <a:pt x="3241" y="10311"/>
                  <a:pt x="3249" y="10294"/>
                </a:cubicBezTo>
                <a:cubicBezTo>
                  <a:pt x="3184" y="10294"/>
                  <a:pt x="3139" y="10315"/>
                  <a:pt x="3076" y="10319"/>
                </a:cubicBezTo>
                <a:cubicBezTo>
                  <a:pt x="3034" y="10319"/>
                  <a:pt x="3026" y="10319"/>
                  <a:pt x="3001" y="10319"/>
                </a:cubicBezTo>
              </a:path>
              <a:path w="1191" h="497">
                <a:moveTo>
                  <a:pt x="3125" y="10517"/>
                </a:moveTo>
                <a:cubicBezTo>
                  <a:pt x="3167" y="10517"/>
                  <a:pt x="3183" y="10509"/>
                  <a:pt x="3175" y="10542"/>
                </a:cubicBezTo>
                <a:cubicBezTo>
                  <a:pt x="3157" y="10596"/>
                  <a:pt x="3125" y="10554"/>
                  <a:pt x="3076" y="10542"/>
                </a:cubicBezTo>
                <a:cubicBezTo>
                  <a:pt x="3051" y="10542"/>
                  <a:pt x="3043" y="10542"/>
                  <a:pt x="3026" y="10542"/>
                </a:cubicBezTo>
              </a:path>
              <a:path w="1191" h="497">
                <a:moveTo>
                  <a:pt x="3324" y="10716"/>
                </a:moveTo>
                <a:cubicBezTo>
                  <a:pt x="3363" y="10716"/>
                  <a:pt x="3349" y="10732"/>
                  <a:pt x="3349" y="10765"/>
                </a:cubicBezTo>
              </a:path>
              <a:path w="1191" h="497">
                <a:moveTo>
                  <a:pt x="3373" y="10567"/>
                </a:moveTo>
                <a:cubicBezTo>
                  <a:pt x="3373" y="10550"/>
                  <a:pt x="3373" y="10534"/>
                  <a:pt x="3373" y="10517"/>
                </a:cubicBezTo>
              </a:path>
              <a:path w="1191" h="497">
                <a:moveTo>
                  <a:pt x="3522" y="10592"/>
                </a:moveTo>
                <a:cubicBezTo>
                  <a:pt x="3522" y="10650"/>
                  <a:pt x="3522" y="10707"/>
                  <a:pt x="3522" y="10765"/>
                </a:cubicBezTo>
                <a:cubicBezTo>
                  <a:pt x="3522" y="10708"/>
                  <a:pt x="3553" y="10688"/>
                  <a:pt x="3572" y="10641"/>
                </a:cubicBezTo>
                <a:cubicBezTo>
                  <a:pt x="3583" y="10614"/>
                  <a:pt x="3600" y="10567"/>
                  <a:pt x="3646" y="10592"/>
                </a:cubicBezTo>
                <a:cubicBezTo>
                  <a:pt x="3698" y="10620"/>
                  <a:pt x="3717" y="10665"/>
                  <a:pt x="3721" y="10716"/>
                </a:cubicBezTo>
                <a:cubicBezTo>
                  <a:pt x="3721" y="10740"/>
                  <a:pt x="3721" y="10749"/>
                  <a:pt x="3721" y="10765"/>
                </a:cubicBezTo>
              </a:path>
              <a:path w="1191" h="497">
                <a:moveTo>
                  <a:pt x="3870" y="10666"/>
                </a:moveTo>
                <a:cubicBezTo>
                  <a:pt x="3889" y="10625"/>
                  <a:pt x="3897" y="10619"/>
                  <a:pt x="3894" y="10592"/>
                </a:cubicBezTo>
                <a:cubicBezTo>
                  <a:pt x="3894" y="10670"/>
                  <a:pt x="3865" y="10726"/>
                  <a:pt x="3944" y="10740"/>
                </a:cubicBezTo>
                <a:cubicBezTo>
                  <a:pt x="4003" y="10751"/>
                  <a:pt x="4039" y="10574"/>
                  <a:pt x="4043" y="10542"/>
                </a:cubicBezTo>
                <a:cubicBezTo>
                  <a:pt x="4053" y="10471"/>
                  <a:pt x="4043" y="10391"/>
                  <a:pt x="4043" y="10319"/>
                </a:cubicBezTo>
                <a:cubicBezTo>
                  <a:pt x="4043" y="10391"/>
                  <a:pt x="4047" y="10446"/>
                  <a:pt x="4068" y="10517"/>
                </a:cubicBezTo>
                <a:cubicBezTo>
                  <a:pt x="4095" y="10609"/>
                  <a:pt x="4122" y="10681"/>
                  <a:pt x="4167" y="107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866960" y="3456000"/>
            <a:ext cx="365040" cy="561960"/>
          </a:xfrm>
          <a:custGeom>
            <a:avLst/>
            <a:gdLst/>
            <a:ahLst/>
            <a:rect l="l" t="t" r="r" b="b"/>
            <a:pathLst>
              <a:path w="1018" h="1564">
                <a:moveTo>
                  <a:pt x="5730" y="9872"/>
                </a:moveTo>
                <a:cubicBezTo>
                  <a:pt x="5677" y="9872"/>
                  <a:pt x="5638" y="9885"/>
                  <a:pt x="5631" y="9823"/>
                </a:cubicBezTo>
                <a:cubicBezTo>
                  <a:pt x="5625" y="9766"/>
                  <a:pt x="5714" y="9758"/>
                  <a:pt x="5755" y="9748"/>
                </a:cubicBezTo>
                <a:cubicBezTo>
                  <a:pt x="5801" y="9737"/>
                  <a:pt x="5858" y="9750"/>
                  <a:pt x="5879" y="9798"/>
                </a:cubicBezTo>
                <a:cubicBezTo>
                  <a:pt x="5902" y="9851"/>
                  <a:pt x="5862" y="9901"/>
                  <a:pt x="5854" y="9947"/>
                </a:cubicBezTo>
                <a:cubicBezTo>
                  <a:pt x="5845" y="9995"/>
                  <a:pt x="5849" y="10037"/>
                  <a:pt x="5879" y="10071"/>
                </a:cubicBezTo>
                <a:cubicBezTo>
                  <a:pt x="5915" y="10112"/>
                  <a:pt x="5942" y="10155"/>
                  <a:pt x="5978" y="10195"/>
                </a:cubicBezTo>
                <a:cubicBezTo>
                  <a:pt x="6010" y="10230"/>
                  <a:pt x="6012" y="10298"/>
                  <a:pt x="5953" y="10319"/>
                </a:cubicBezTo>
                <a:cubicBezTo>
                  <a:pt x="5914" y="10333"/>
                  <a:pt x="5847" y="10319"/>
                  <a:pt x="5804" y="10319"/>
                </a:cubicBezTo>
              </a:path>
              <a:path w="1018" h="1564">
                <a:moveTo>
                  <a:pt x="5531" y="11013"/>
                </a:moveTo>
                <a:cubicBezTo>
                  <a:pt x="5539" y="11013"/>
                  <a:pt x="5548" y="11013"/>
                  <a:pt x="5556" y="11013"/>
                </a:cubicBezTo>
                <a:cubicBezTo>
                  <a:pt x="5501" y="11013"/>
                  <a:pt x="5485" y="11025"/>
                  <a:pt x="5432" y="11038"/>
                </a:cubicBezTo>
                <a:cubicBezTo>
                  <a:pt x="5407" y="11038"/>
                  <a:pt x="5399" y="11038"/>
                  <a:pt x="5383" y="11038"/>
                </a:cubicBezTo>
              </a:path>
              <a:path w="1018" h="1564">
                <a:moveTo>
                  <a:pt x="5804" y="10939"/>
                </a:moveTo>
                <a:cubicBezTo>
                  <a:pt x="5804" y="10890"/>
                  <a:pt x="5799" y="10839"/>
                  <a:pt x="5854" y="10815"/>
                </a:cubicBezTo>
                <a:cubicBezTo>
                  <a:pt x="5903" y="10793"/>
                  <a:pt x="6002" y="10732"/>
                  <a:pt x="6052" y="10790"/>
                </a:cubicBezTo>
                <a:cubicBezTo>
                  <a:pt x="6077" y="10819"/>
                  <a:pt x="6047" y="10938"/>
                  <a:pt x="6028" y="10964"/>
                </a:cubicBezTo>
                <a:cubicBezTo>
                  <a:pt x="5995" y="11010"/>
                  <a:pt x="5914" y="11067"/>
                  <a:pt x="5904" y="11112"/>
                </a:cubicBezTo>
                <a:cubicBezTo>
                  <a:pt x="5904" y="11137"/>
                  <a:pt x="5904" y="11145"/>
                  <a:pt x="5904" y="11162"/>
                </a:cubicBezTo>
                <a:cubicBezTo>
                  <a:pt x="5962" y="11162"/>
                  <a:pt x="5998" y="11161"/>
                  <a:pt x="6052" y="11137"/>
                </a:cubicBezTo>
                <a:cubicBezTo>
                  <a:pt x="6109" y="11111"/>
                  <a:pt x="6139" y="11112"/>
                  <a:pt x="6201" y="11112"/>
                </a:cubicBezTo>
              </a:path>
              <a:path w="1018" h="1564">
                <a:moveTo>
                  <a:pt x="5283" y="9624"/>
                </a:moveTo>
                <a:cubicBezTo>
                  <a:pt x="5251" y="9658"/>
                  <a:pt x="5252" y="9656"/>
                  <a:pt x="5234" y="9699"/>
                </a:cubicBezTo>
                <a:cubicBezTo>
                  <a:pt x="5179" y="9832"/>
                  <a:pt x="5184" y="9955"/>
                  <a:pt x="5184" y="10096"/>
                </a:cubicBezTo>
                <a:cubicBezTo>
                  <a:pt x="5184" y="10284"/>
                  <a:pt x="5200" y="10455"/>
                  <a:pt x="5234" y="10641"/>
                </a:cubicBezTo>
                <a:cubicBezTo>
                  <a:pt x="5257" y="10767"/>
                  <a:pt x="5285" y="10888"/>
                  <a:pt x="5308" y="11013"/>
                </a:cubicBezTo>
                <a:cubicBezTo>
                  <a:pt x="5319" y="11072"/>
                  <a:pt x="5319" y="11089"/>
                  <a:pt x="5358" y="111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28920" y="3394080"/>
            <a:ext cx="687240" cy="588960"/>
          </a:xfrm>
          <a:custGeom>
            <a:avLst/>
            <a:gdLst/>
            <a:ahLst/>
            <a:rect l="l" t="t" r="r" b="b"/>
            <a:pathLst>
              <a:path w="1911" h="1638">
                <a:moveTo>
                  <a:pt x="6921" y="9823"/>
                </a:moveTo>
                <a:cubicBezTo>
                  <a:pt x="6864" y="9795"/>
                  <a:pt x="6961" y="9798"/>
                  <a:pt x="6995" y="9798"/>
                </a:cubicBezTo>
                <a:cubicBezTo>
                  <a:pt x="7058" y="9798"/>
                  <a:pt x="7128" y="9748"/>
                  <a:pt x="7193" y="9773"/>
                </a:cubicBezTo>
                <a:cubicBezTo>
                  <a:pt x="7267" y="9802"/>
                  <a:pt x="7176" y="9906"/>
                  <a:pt x="7169" y="9947"/>
                </a:cubicBezTo>
                <a:cubicBezTo>
                  <a:pt x="7157" y="10021"/>
                  <a:pt x="7126" y="10095"/>
                  <a:pt x="7119" y="10170"/>
                </a:cubicBezTo>
                <a:cubicBezTo>
                  <a:pt x="7119" y="10178"/>
                  <a:pt x="7119" y="10187"/>
                  <a:pt x="7119" y="10195"/>
                </a:cubicBezTo>
              </a:path>
              <a:path w="1911" h="1638">
                <a:moveTo>
                  <a:pt x="6747" y="10964"/>
                </a:moveTo>
                <a:cubicBezTo>
                  <a:pt x="6747" y="10956"/>
                  <a:pt x="6747" y="10947"/>
                  <a:pt x="6747" y="10939"/>
                </a:cubicBezTo>
                <a:cubicBezTo>
                  <a:pt x="6791" y="10928"/>
                  <a:pt x="6822" y="10901"/>
                  <a:pt x="6871" y="10889"/>
                </a:cubicBezTo>
                <a:cubicBezTo>
                  <a:pt x="6914" y="10878"/>
                  <a:pt x="6976" y="10889"/>
                  <a:pt x="7020" y="10889"/>
                </a:cubicBezTo>
              </a:path>
              <a:path w="1911" h="1638">
                <a:moveTo>
                  <a:pt x="7218" y="10716"/>
                </a:moveTo>
                <a:cubicBezTo>
                  <a:pt x="7238" y="10675"/>
                  <a:pt x="7247" y="10648"/>
                  <a:pt x="7243" y="10691"/>
                </a:cubicBezTo>
                <a:cubicBezTo>
                  <a:pt x="7232" y="10735"/>
                  <a:pt x="7205" y="10766"/>
                  <a:pt x="7193" y="10815"/>
                </a:cubicBezTo>
                <a:cubicBezTo>
                  <a:pt x="7180" y="10866"/>
                  <a:pt x="7227" y="10898"/>
                  <a:pt x="7268" y="10914"/>
                </a:cubicBezTo>
                <a:cubicBezTo>
                  <a:pt x="7319" y="10934"/>
                  <a:pt x="7347" y="10899"/>
                  <a:pt x="7392" y="10939"/>
                </a:cubicBezTo>
                <a:cubicBezTo>
                  <a:pt x="7425" y="10969"/>
                  <a:pt x="7438" y="11034"/>
                  <a:pt x="7392" y="11063"/>
                </a:cubicBezTo>
                <a:cubicBezTo>
                  <a:pt x="7354" y="11087"/>
                  <a:pt x="7217" y="11063"/>
                  <a:pt x="7169" y="11063"/>
                </a:cubicBezTo>
              </a:path>
              <a:path w="1911" h="1638">
                <a:moveTo>
                  <a:pt x="7367" y="10864"/>
                </a:moveTo>
                <a:cubicBezTo>
                  <a:pt x="7367" y="10779"/>
                  <a:pt x="7345" y="10827"/>
                  <a:pt x="7293" y="10840"/>
                </a:cubicBezTo>
              </a:path>
              <a:path w="1911" h="1638">
                <a:moveTo>
                  <a:pt x="7441" y="10567"/>
                </a:moveTo>
                <a:cubicBezTo>
                  <a:pt x="7469" y="10567"/>
                  <a:pt x="7480" y="10569"/>
                  <a:pt x="7491" y="10592"/>
                </a:cubicBezTo>
                <a:cubicBezTo>
                  <a:pt x="7458" y="10600"/>
                  <a:pt x="7396" y="10627"/>
                  <a:pt x="7367" y="10641"/>
                </a:cubicBezTo>
                <a:cubicBezTo>
                  <a:pt x="7329" y="10660"/>
                  <a:pt x="7309" y="10666"/>
                  <a:pt x="7293" y="10691"/>
                </a:cubicBezTo>
              </a:path>
              <a:path w="1911" h="1638">
                <a:moveTo>
                  <a:pt x="7640" y="9649"/>
                </a:moveTo>
                <a:cubicBezTo>
                  <a:pt x="7693" y="9657"/>
                  <a:pt x="7698" y="9658"/>
                  <a:pt x="7739" y="9699"/>
                </a:cubicBezTo>
                <a:cubicBezTo>
                  <a:pt x="7773" y="9733"/>
                  <a:pt x="7824" y="9779"/>
                  <a:pt x="7863" y="9823"/>
                </a:cubicBezTo>
                <a:cubicBezTo>
                  <a:pt x="7932" y="9900"/>
                  <a:pt x="7997" y="10014"/>
                  <a:pt x="8012" y="10120"/>
                </a:cubicBezTo>
                <a:cubicBezTo>
                  <a:pt x="8033" y="10268"/>
                  <a:pt x="8019" y="10448"/>
                  <a:pt x="7987" y="10592"/>
                </a:cubicBezTo>
                <a:cubicBezTo>
                  <a:pt x="7961" y="10708"/>
                  <a:pt x="7929" y="10863"/>
                  <a:pt x="7863" y="10964"/>
                </a:cubicBezTo>
                <a:cubicBezTo>
                  <a:pt x="7838" y="10988"/>
                  <a:pt x="7829" y="10996"/>
                  <a:pt x="7813" y="11013"/>
                </a:cubicBezTo>
              </a:path>
              <a:path w="1911" h="1638">
                <a:moveTo>
                  <a:pt x="8086" y="9649"/>
                </a:moveTo>
                <a:cubicBezTo>
                  <a:pt x="8129" y="9638"/>
                  <a:pt x="8169" y="9586"/>
                  <a:pt x="8210" y="9575"/>
                </a:cubicBezTo>
                <a:cubicBezTo>
                  <a:pt x="8257" y="9563"/>
                  <a:pt x="8309" y="9550"/>
                  <a:pt x="8359" y="9550"/>
                </a:cubicBezTo>
                <a:cubicBezTo>
                  <a:pt x="8384" y="9550"/>
                  <a:pt x="8392" y="9550"/>
                  <a:pt x="8384" y="9575"/>
                </a:cubicBezTo>
              </a:path>
              <a:path w="1911" h="1638">
                <a:moveTo>
                  <a:pt x="8558" y="9475"/>
                </a:moveTo>
                <a:cubicBezTo>
                  <a:pt x="8582" y="9451"/>
                  <a:pt x="8591" y="9442"/>
                  <a:pt x="8607" y="9426"/>
                </a:cubicBezTo>
                <a:cubicBezTo>
                  <a:pt x="8607" y="9497"/>
                  <a:pt x="8623" y="9556"/>
                  <a:pt x="8632" y="9624"/>
                </a:cubicBezTo>
                <a:cubicBezTo>
                  <a:pt x="8632" y="9676"/>
                  <a:pt x="8633" y="9694"/>
                  <a:pt x="8657" y="97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inverse and determinants of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the inverse of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x A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6160" y="3027240"/>
            <a:ext cx="358920" cy="268560"/>
          </a:xfrm>
          <a:custGeom>
            <a:avLst/>
            <a:gdLst/>
            <a:ahLst/>
            <a:rect l="l" t="t" r="r" b="b"/>
            <a:pathLst>
              <a:path w="993" h="745">
                <a:moveTo>
                  <a:pt x="2158" y="8632"/>
                </a:moveTo>
                <a:cubicBezTo>
                  <a:pt x="2158" y="8657"/>
                  <a:pt x="2158" y="8681"/>
                  <a:pt x="2158" y="8706"/>
                </a:cubicBezTo>
                <a:cubicBezTo>
                  <a:pt x="2196" y="8706"/>
                  <a:pt x="2232" y="8717"/>
                  <a:pt x="2257" y="8682"/>
                </a:cubicBezTo>
                <a:cubicBezTo>
                  <a:pt x="2296" y="8627"/>
                  <a:pt x="2347" y="8526"/>
                  <a:pt x="2332" y="8458"/>
                </a:cubicBezTo>
                <a:cubicBezTo>
                  <a:pt x="2324" y="8442"/>
                  <a:pt x="2315" y="8425"/>
                  <a:pt x="2307" y="8409"/>
                </a:cubicBezTo>
                <a:cubicBezTo>
                  <a:pt x="2238" y="8409"/>
                  <a:pt x="2211" y="8444"/>
                  <a:pt x="2183" y="8508"/>
                </a:cubicBezTo>
                <a:cubicBezTo>
                  <a:pt x="2145" y="8594"/>
                  <a:pt x="2133" y="8745"/>
                  <a:pt x="2183" y="8830"/>
                </a:cubicBezTo>
                <a:cubicBezTo>
                  <a:pt x="2225" y="8902"/>
                  <a:pt x="2277" y="8888"/>
                  <a:pt x="2332" y="8855"/>
                </a:cubicBezTo>
              </a:path>
              <a:path w="993" h="745">
                <a:moveTo>
                  <a:pt x="2456" y="8706"/>
                </a:moveTo>
                <a:cubicBezTo>
                  <a:pt x="2489" y="8678"/>
                  <a:pt x="2542" y="8628"/>
                  <a:pt x="2580" y="8682"/>
                </a:cubicBezTo>
                <a:cubicBezTo>
                  <a:pt x="2580" y="8690"/>
                  <a:pt x="2580" y="8698"/>
                  <a:pt x="2580" y="8706"/>
                </a:cubicBezTo>
              </a:path>
              <a:path w="993" h="745">
                <a:moveTo>
                  <a:pt x="2704" y="8582"/>
                </a:moveTo>
                <a:cubicBezTo>
                  <a:pt x="2712" y="8525"/>
                  <a:pt x="2730" y="8521"/>
                  <a:pt x="2704" y="8508"/>
                </a:cubicBezTo>
                <a:cubicBezTo>
                  <a:pt x="2679" y="8575"/>
                  <a:pt x="2663" y="8635"/>
                  <a:pt x="2654" y="8706"/>
                </a:cubicBezTo>
                <a:cubicBezTo>
                  <a:pt x="2701" y="8691"/>
                  <a:pt x="2685" y="8622"/>
                  <a:pt x="2729" y="8582"/>
                </a:cubicBezTo>
                <a:cubicBezTo>
                  <a:pt x="2831" y="8487"/>
                  <a:pt x="2891" y="8639"/>
                  <a:pt x="2927" y="8706"/>
                </a:cubicBezTo>
                <a:cubicBezTo>
                  <a:pt x="2984" y="8813"/>
                  <a:pt x="3031" y="8955"/>
                  <a:pt x="3001" y="9079"/>
                </a:cubicBezTo>
                <a:cubicBezTo>
                  <a:pt x="2976" y="9182"/>
                  <a:pt x="2856" y="9153"/>
                  <a:pt x="2778" y="9153"/>
                </a:cubicBezTo>
                <a:cubicBezTo>
                  <a:pt x="2681" y="9153"/>
                  <a:pt x="2662" y="9146"/>
                  <a:pt x="2604" y="9079"/>
                </a:cubicBezTo>
              </a:path>
              <a:path w="993" h="745">
                <a:moveTo>
                  <a:pt x="3026" y="8756"/>
                </a:moveTo>
                <a:cubicBezTo>
                  <a:pt x="3091" y="8734"/>
                  <a:pt x="3106" y="8726"/>
                  <a:pt x="3150" y="8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08120" y="2963880"/>
            <a:ext cx="115920" cy="233280"/>
          </a:xfrm>
          <a:custGeom>
            <a:avLst/>
            <a:gdLst/>
            <a:ahLst/>
            <a:rect l="l" t="t" r="r" b="b"/>
            <a:pathLst>
              <a:path w="323" h="646">
                <a:moveTo>
                  <a:pt x="4465" y="8781"/>
                </a:moveTo>
                <a:cubicBezTo>
                  <a:pt x="4465" y="8840"/>
                  <a:pt x="4458" y="8837"/>
                  <a:pt x="4490" y="8880"/>
                </a:cubicBezTo>
                <a:cubicBezTo>
                  <a:pt x="4490" y="8817"/>
                  <a:pt x="4507" y="8768"/>
                  <a:pt x="4514" y="8706"/>
                </a:cubicBezTo>
                <a:cubicBezTo>
                  <a:pt x="4526" y="8601"/>
                  <a:pt x="4542" y="8487"/>
                  <a:pt x="4564" y="8384"/>
                </a:cubicBezTo>
                <a:cubicBezTo>
                  <a:pt x="4577" y="8323"/>
                  <a:pt x="4601" y="8286"/>
                  <a:pt x="4614" y="8235"/>
                </a:cubicBezTo>
                <a:cubicBezTo>
                  <a:pt x="4668" y="8290"/>
                  <a:pt x="4668" y="8331"/>
                  <a:pt x="4688" y="8409"/>
                </a:cubicBezTo>
                <a:cubicBezTo>
                  <a:pt x="4715" y="8514"/>
                  <a:pt x="4734" y="8630"/>
                  <a:pt x="4762" y="8731"/>
                </a:cubicBezTo>
                <a:cubicBezTo>
                  <a:pt x="4770" y="8748"/>
                  <a:pt x="4779" y="8764"/>
                  <a:pt x="4787" y="8781"/>
                </a:cubicBezTo>
              </a:path>
              <a:path w="323" h="646">
                <a:moveTo>
                  <a:pt x="4787" y="8607"/>
                </a:moveTo>
                <a:cubicBezTo>
                  <a:pt x="4769" y="8580"/>
                  <a:pt x="4722" y="8475"/>
                  <a:pt x="4663" y="8508"/>
                </a:cubicBezTo>
                <a:cubicBezTo>
                  <a:pt x="4626" y="8529"/>
                  <a:pt x="4601" y="8536"/>
                  <a:pt x="4564" y="85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12960" y="3017880"/>
            <a:ext cx="88920" cy="71280"/>
          </a:xfrm>
          <a:custGeom>
            <a:avLst/>
            <a:gdLst/>
            <a:ahLst/>
            <a:rect l="l" t="t" r="r" b="b"/>
            <a:pathLst>
              <a:path w="249" h="199">
                <a:moveTo>
                  <a:pt x="5259" y="8434"/>
                </a:moveTo>
                <a:cubicBezTo>
                  <a:pt x="5259" y="8409"/>
                  <a:pt x="5259" y="8401"/>
                  <a:pt x="5259" y="8384"/>
                </a:cubicBezTo>
                <a:cubicBezTo>
                  <a:pt x="5215" y="8395"/>
                  <a:pt x="5184" y="8422"/>
                  <a:pt x="5135" y="8434"/>
                </a:cubicBezTo>
                <a:cubicBezTo>
                  <a:pt x="5102" y="8442"/>
                  <a:pt x="5069" y="8452"/>
                  <a:pt x="5035" y="8458"/>
                </a:cubicBezTo>
              </a:path>
              <a:path w="249" h="199">
                <a:moveTo>
                  <a:pt x="5259" y="8558"/>
                </a:moveTo>
                <a:cubicBezTo>
                  <a:pt x="5267" y="8558"/>
                  <a:pt x="5275" y="8558"/>
                  <a:pt x="5283" y="8558"/>
                </a:cubicBezTo>
                <a:cubicBezTo>
                  <a:pt x="5271" y="8594"/>
                  <a:pt x="5253" y="8582"/>
                  <a:pt x="5209" y="85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59000" y="2803680"/>
            <a:ext cx="277920" cy="455400"/>
          </a:xfrm>
          <a:custGeom>
            <a:avLst/>
            <a:gdLst/>
            <a:ahLst/>
            <a:rect l="l" t="t" r="r" b="b"/>
            <a:pathLst>
              <a:path w="770" h="1266">
                <a:moveTo>
                  <a:pt x="6821" y="8086"/>
                </a:moveTo>
                <a:cubicBezTo>
                  <a:pt x="6846" y="8086"/>
                  <a:pt x="6854" y="8086"/>
                  <a:pt x="6871" y="8086"/>
                </a:cubicBezTo>
                <a:cubicBezTo>
                  <a:pt x="6871" y="8045"/>
                  <a:pt x="6888" y="7992"/>
                  <a:pt x="6846" y="7987"/>
                </a:cubicBezTo>
                <a:cubicBezTo>
                  <a:pt x="6828" y="7985"/>
                  <a:pt x="6728" y="8049"/>
                  <a:pt x="6722" y="8062"/>
                </a:cubicBezTo>
                <a:cubicBezTo>
                  <a:pt x="6702" y="8101"/>
                  <a:pt x="6725" y="8183"/>
                  <a:pt x="6747" y="8210"/>
                </a:cubicBezTo>
                <a:cubicBezTo>
                  <a:pt x="6783" y="8255"/>
                  <a:pt x="6819" y="8228"/>
                  <a:pt x="6846" y="8186"/>
                </a:cubicBezTo>
                <a:cubicBezTo>
                  <a:pt x="6877" y="8138"/>
                  <a:pt x="6896" y="8093"/>
                  <a:pt x="6896" y="8037"/>
                </a:cubicBezTo>
                <a:cubicBezTo>
                  <a:pt x="6937" y="8078"/>
                  <a:pt x="6975" y="8102"/>
                  <a:pt x="7020" y="8136"/>
                </a:cubicBezTo>
                <a:cubicBezTo>
                  <a:pt x="7028" y="8144"/>
                  <a:pt x="7037" y="8153"/>
                  <a:pt x="7045" y="8161"/>
                </a:cubicBezTo>
              </a:path>
              <a:path w="770" h="1266">
                <a:moveTo>
                  <a:pt x="6821" y="8905"/>
                </a:moveTo>
                <a:cubicBezTo>
                  <a:pt x="6871" y="8872"/>
                  <a:pt x="6881" y="8863"/>
                  <a:pt x="6896" y="8806"/>
                </a:cubicBezTo>
                <a:cubicBezTo>
                  <a:pt x="6826" y="8823"/>
                  <a:pt x="6842" y="8847"/>
                  <a:pt x="6821" y="8905"/>
                </a:cubicBezTo>
                <a:cubicBezTo>
                  <a:pt x="6802" y="8959"/>
                  <a:pt x="6774" y="9014"/>
                  <a:pt x="6846" y="9054"/>
                </a:cubicBezTo>
                <a:cubicBezTo>
                  <a:pt x="6892" y="9080"/>
                  <a:pt x="6979" y="9044"/>
                  <a:pt x="7020" y="9029"/>
                </a:cubicBezTo>
              </a:path>
              <a:path w="770" h="1266">
                <a:moveTo>
                  <a:pt x="6400" y="7938"/>
                </a:moveTo>
                <a:cubicBezTo>
                  <a:pt x="6407" y="7887"/>
                  <a:pt x="6424" y="7864"/>
                  <a:pt x="6424" y="7813"/>
                </a:cubicBezTo>
                <a:cubicBezTo>
                  <a:pt x="6424" y="7805"/>
                  <a:pt x="6424" y="7797"/>
                  <a:pt x="6424" y="7789"/>
                </a:cubicBezTo>
                <a:cubicBezTo>
                  <a:pt x="6383" y="7859"/>
                  <a:pt x="6351" y="7925"/>
                  <a:pt x="6325" y="8012"/>
                </a:cubicBezTo>
                <a:cubicBezTo>
                  <a:pt x="6278" y="8171"/>
                  <a:pt x="6256" y="8319"/>
                  <a:pt x="6300" y="8483"/>
                </a:cubicBezTo>
                <a:cubicBezTo>
                  <a:pt x="6343" y="8641"/>
                  <a:pt x="6380" y="8804"/>
                  <a:pt x="6449" y="8954"/>
                </a:cubicBezTo>
                <a:cubicBezTo>
                  <a:pt x="6472" y="9004"/>
                  <a:pt x="6483" y="9034"/>
                  <a:pt x="6524" y="9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03680" y="2741760"/>
            <a:ext cx="206280" cy="465120"/>
          </a:xfrm>
          <a:custGeom>
            <a:avLst/>
            <a:gdLst/>
            <a:ahLst/>
            <a:rect l="l" t="t" r="r" b="b"/>
            <a:pathLst>
              <a:path w="571" h="1291">
                <a:moveTo>
                  <a:pt x="7789" y="7665"/>
                </a:moveTo>
                <a:cubicBezTo>
                  <a:pt x="7789" y="7657"/>
                  <a:pt x="7789" y="7573"/>
                  <a:pt x="7789" y="7640"/>
                </a:cubicBezTo>
                <a:cubicBezTo>
                  <a:pt x="7789" y="7744"/>
                  <a:pt x="7802" y="7838"/>
                  <a:pt x="7813" y="7938"/>
                </a:cubicBezTo>
                <a:cubicBezTo>
                  <a:pt x="7821" y="8010"/>
                  <a:pt x="7804" y="8030"/>
                  <a:pt x="7838" y="8086"/>
                </a:cubicBezTo>
                <a:cubicBezTo>
                  <a:pt x="7838" y="8127"/>
                  <a:pt x="7838" y="8053"/>
                  <a:pt x="7838" y="8012"/>
                </a:cubicBezTo>
                <a:cubicBezTo>
                  <a:pt x="7838" y="7953"/>
                  <a:pt x="7858" y="7940"/>
                  <a:pt x="7888" y="7888"/>
                </a:cubicBezTo>
                <a:cubicBezTo>
                  <a:pt x="7934" y="7888"/>
                  <a:pt x="7959" y="7895"/>
                  <a:pt x="7987" y="7938"/>
                </a:cubicBezTo>
                <a:cubicBezTo>
                  <a:pt x="8023" y="7993"/>
                  <a:pt x="8024" y="8056"/>
                  <a:pt x="7987" y="8111"/>
                </a:cubicBezTo>
                <a:cubicBezTo>
                  <a:pt x="7951" y="8164"/>
                  <a:pt x="7883" y="8131"/>
                  <a:pt x="7838" y="8111"/>
                </a:cubicBezTo>
                <a:cubicBezTo>
                  <a:pt x="7822" y="8103"/>
                  <a:pt x="7805" y="8094"/>
                  <a:pt x="7789" y="8086"/>
                </a:cubicBezTo>
              </a:path>
              <a:path w="571" h="1291">
                <a:moveTo>
                  <a:pt x="7813" y="8682"/>
                </a:moveTo>
                <a:cubicBezTo>
                  <a:pt x="7880" y="8703"/>
                  <a:pt x="7800" y="8715"/>
                  <a:pt x="7789" y="8756"/>
                </a:cubicBezTo>
                <a:cubicBezTo>
                  <a:pt x="7780" y="8789"/>
                  <a:pt x="7789" y="8845"/>
                  <a:pt x="7789" y="8880"/>
                </a:cubicBezTo>
                <a:cubicBezTo>
                  <a:pt x="7864" y="8861"/>
                  <a:pt x="7860" y="8803"/>
                  <a:pt x="7863" y="8731"/>
                </a:cubicBezTo>
                <a:cubicBezTo>
                  <a:pt x="7866" y="8645"/>
                  <a:pt x="7888" y="8570"/>
                  <a:pt x="7888" y="8483"/>
                </a:cubicBezTo>
                <a:cubicBezTo>
                  <a:pt x="7888" y="8467"/>
                  <a:pt x="7888" y="8450"/>
                  <a:pt x="7888" y="8434"/>
                </a:cubicBezTo>
                <a:cubicBezTo>
                  <a:pt x="7888" y="8524"/>
                  <a:pt x="7891" y="8595"/>
                  <a:pt x="7913" y="8682"/>
                </a:cubicBezTo>
                <a:cubicBezTo>
                  <a:pt x="7935" y="8770"/>
                  <a:pt x="7956" y="8835"/>
                  <a:pt x="8012" y="8905"/>
                </a:cubicBezTo>
              </a:path>
              <a:path w="571" h="1291">
                <a:moveTo>
                  <a:pt x="7938" y="7838"/>
                </a:moveTo>
                <a:cubicBezTo>
                  <a:pt x="7969" y="7814"/>
                  <a:pt x="7983" y="7791"/>
                  <a:pt x="8012" y="7789"/>
                </a:cubicBezTo>
                <a:cubicBezTo>
                  <a:pt x="8084" y="7784"/>
                  <a:pt x="8099" y="7805"/>
                  <a:pt x="8161" y="7838"/>
                </a:cubicBezTo>
                <a:cubicBezTo>
                  <a:pt x="8244" y="7882"/>
                  <a:pt x="8265" y="7959"/>
                  <a:pt x="8310" y="8037"/>
                </a:cubicBezTo>
                <a:cubicBezTo>
                  <a:pt x="8375" y="8150"/>
                  <a:pt x="8376" y="8301"/>
                  <a:pt x="8359" y="8434"/>
                </a:cubicBezTo>
                <a:cubicBezTo>
                  <a:pt x="8344" y="8552"/>
                  <a:pt x="8301" y="8694"/>
                  <a:pt x="8260" y="8806"/>
                </a:cubicBezTo>
                <a:cubicBezTo>
                  <a:pt x="8233" y="8859"/>
                  <a:pt x="8221" y="8879"/>
                  <a:pt x="8186" y="8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16200" y="2919240"/>
            <a:ext cx="268560" cy="233640"/>
          </a:xfrm>
          <a:custGeom>
            <a:avLst/>
            <a:gdLst/>
            <a:ahLst/>
            <a:rect l="l" t="t" r="r" b="b"/>
            <a:pathLst>
              <a:path w="745" h="646">
                <a:moveTo>
                  <a:pt x="10046" y="8607"/>
                </a:moveTo>
                <a:cubicBezTo>
                  <a:pt x="10046" y="8629"/>
                  <a:pt x="10046" y="8789"/>
                  <a:pt x="10046" y="8731"/>
                </a:cubicBezTo>
                <a:cubicBezTo>
                  <a:pt x="10046" y="8658"/>
                  <a:pt x="10068" y="8606"/>
                  <a:pt x="10071" y="8533"/>
                </a:cubicBezTo>
                <a:cubicBezTo>
                  <a:pt x="10074" y="8446"/>
                  <a:pt x="10094" y="8342"/>
                  <a:pt x="10120" y="8260"/>
                </a:cubicBezTo>
                <a:cubicBezTo>
                  <a:pt x="10142" y="8216"/>
                  <a:pt x="10145" y="8205"/>
                  <a:pt x="10170" y="8186"/>
                </a:cubicBezTo>
                <a:cubicBezTo>
                  <a:pt x="10228" y="8257"/>
                  <a:pt x="10227" y="8298"/>
                  <a:pt x="10244" y="8384"/>
                </a:cubicBezTo>
                <a:cubicBezTo>
                  <a:pt x="10266" y="8495"/>
                  <a:pt x="10318" y="8596"/>
                  <a:pt x="10344" y="8706"/>
                </a:cubicBezTo>
                <a:cubicBezTo>
                  <a:pt x="10344" y="8714"/>
                  <a:pt x="10344" y="8723"/>
                  <a:pt x="10344" y="8731"/>
                </a:cubicBezTo>
              </a:path>
              <a:path w="745" h="646">
                <a:moveTo>
                  <a:pt x="10344" y="8508"/>
                </a:moveTo>
                <a:cubicBezTo>
                  <a:pt x="10263" y="8438"/>
                  <a:pt x="10294" y="8458"/>
                  <a:pt x="10220" y="8483"/>
                </a:cubicBezTo>
                <a:cubicBezTo>
                  <a:pt x="10192" y="8493"/>
                  <a:pt x="10150" y="8483"/>
                  <a:pt x="10120" y="8483"/>
                </a:cubicBezTo>
              </a:path>
              <a:path w="745" h="646">
                <a:moveTo>
                  <a:pt x="10492" y="8235"/>
                </a:moveTo>
                <a:cubicBezTo>
                  <a:pt x="10484" y="8235"/>
                  <a:pt x="10476" y="8235"/>
                  <a:pt x="10468" y="8235"/>
                </a:cubicBezTo>
                <a:cubicBezTo>
                  <a:pt x="10513" y="8235"/>
                  <a:pt x="10527" y="8214"/>
                  <a:pt x="10567" y="8210"/>
                </a:cubicBezTo>
                <a:cubicBezTo>
                  <a:pt x="10599" y="8206"/>
                  <a:pt x="10611" y="8193"/>
                  <a:pt x="10641" y="8186"/>
                </a:cubicBezTo>
              </a:path>
              <a:path w="745" h="646">
                <a:moveTo>
                  <a:pt x="10740" y="8111"/>
                </a:moveTo>
                <a:cubicBezTo>
                  <a:pt x="10800" y="8126"/>
                  <a:pt x="10790" y="8149"/>
                  <a:pt x="10790" y="8210"/>
                </a:cubicBezTo>
                <a:cubicBezTo>
                  <a:pt x="10790" y="8251"/>
                  <a:pt x="10790" y="8293"/>
                  <a:pt x="10790" y="8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17960" y="3009960"/>
            <a:ext cx="73080" cy="61920"/>
          </a:xfrm>
          <a:custGeom>
            <a:avLst/>
            <a:gdLst/>
            <a:ahLst/>
            <a:rect l="l" t="t" r="r" b="b"/>
            <a:pathLst>
              <a:path w="200" h="175">
                <a:moveTo>
                  <a:pt x="11311" y="8359"/>
                </a:moveTo>
                <a:cubicBezTo>
                  <a:pt x="11319" y="8359"/>
                  <a:pt x="11328" y="8359"/>
                  <a:pt x="11336" y="8359"/>
                </a:cubicBezTo>
                <a:cubicBezTo>
                  <a:pt x="11323" y="8397"/>
                  <a:pt x="11306" y="8384"/>
                  <a:pt x="11261" y="8384"/>
                </a:cubicBezTo>
                <a:cubicBezTo>
                  <a:pt x="11209" y="8384"/>
                  <a:pt x="11205" y="8398"/>
                  <a:pt x="11162" y="8409"/>
                </a:cubicBezTo>
              </a:path>
              <a:path w="200" h="175">
                <a:moveTo>
                  <a:pt x="11336" y="8483"/>
                </a:moveTo>
                <a:cubicBezTo>
                  <a:pt x="11344" y="8491"/>
                  <a:pt x="11353" y="8500"/>
                  <a:pt x="11361" y="8508"/>
                </a:cubicBezTo>
                <a:cubicBezTo>
                  <a:pt x="11311" y="8538"/>
                  <a:pt x="11274" y="8533"/>
                  <a:pt x="11212" y="8533"/>
                </a:cubicBezTo>
                <a:cubicBezTo>
                  <a:pt x="11204" y="8533"/>
                  <a:pt x="11195" y="8533"/>
                  <a:pt x="11187" y="85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05160" y="2751120"/>
            <a:ext cx="196920" cy="473040"/>
          </a:xfrm>
          <a:custGeom>
            <a:avLst/>
            <a:gdLst/>
            <a:ahLst/>
            <a:rect l="l" t="t" r="r" b="b"/>
            <a:pathLst>
              <a:path w="547" h="1315">
                <a:moveTo>
                  <a:pt x="12030" y="7962"/>
                </a:moveTo>
                <a:cubicBezTo>
                  <a:pt x="12030" y="7938"/>
                  <a:pt x="12030" y="7930"/>
                  <a:pt x="12055" y="7938"/>
                </a:cubicBezTo>
                <a:cubicBezTo>
                  <a:pt x="12055" y="8043"/>
                  <a:pt x="12064" y="8137"/>
                  <a:pt x="12080" y="8235"/>
                </a:cubicBezTo>
                <a:cubicBezTo>
                  <a:pt x="12089" y="8293"/>
                  <a:pt x="12075" y="8310"/>
                  <a:pt x="12105" y="8359"/>
                </a:cubicBezTo>
              </a:path>
              <a:path w="547" h="1315">
                <a:moveTo>
                  <a:pt x="12055" y="8037"/>
                </a:moveTo>
                <a:cubicBezTo>
                  <a:pt x="12018" y="7988"/>
                  <a:pt x="12027" y="7986"/>
                  <a:pt x="12055" y="7938"/>
                </a:cubicBezTo>
                <a:cubicBezTo>
                  <a:pt x="12095" y="7869"/>
                  <a:pt x="12066" y="7845"/>
                  <a:pt x="12154" y="7838"/>
                </a:cubicBezTo>
                <a:cubicBezTo>
                  <a:pt x="12220" y="7832"/>
                  <a:pt x="12226" y="7915"/>
                  <a:pt x="12229" y="7962"/>
                </a:cubicBezTo>
                <a:cubicBezTo>
                  <a:pt x="12233" y="8033"/>
                  <a:pt x="12225" y="8050"/>
                  <a:pt x="12179" y="8086"/>
                </a:cubicBezTo>
                <a:cubicBezTo>
                  <a:pt x="12141" y="8115"/>
                  <a:pt x="12128" y="8111"/>
                  <a:pt x="12080" y="8111"/>
                </a:cubicBezTo>
              </a:path>
              <a:path w="547" h="1315">
                <a:moveTo>
                  <a:pt x="11981" y="8855"/>
                </a:moveTo>
                <a:cubicBezTo>
                  <a:pt x="11981" y="8888"/>
                  <a:pt x="11981" y="8921"/>
                  <a:pt x="11981" y="8954"/>
                </a:cubicBezTo>
                <a:cubicBezTo>
                  <a:pt x="11948" y="8943"/>
                  <a:pt x="11941" y="8900"/>
                  <a:pt x="11956" y="8855"/>
                </a:cubicBezTo>
                <a:cubicBezTo>
                  <a:pt x="11975" y="8800"/>
                  <a:pt x="11998" y="8754"/>
                  <a:pt x="12055" y="8731"/>
                </a:cubicBezTo>
                <a:cubicBezTo>
                  <a:pt x="12087" y="8718"/>
                  <a:pt x="12143" y="8731"/>
                  <a:pt x="12179" y="8731"/>
                </a:cubicBezTo>
              </a:path>
              <a:path w="547" h="1315">
                <a:moveTo>
                  <a:pt x="11832" y="7665"/>
                </a:moveTo>
                <a:cubicBezTo>
                  <a:pt x="11857" y="7665"/>
                  <a:pt x="11865" y="7665"/>
                  <a:pt x="11857" y="7640"/>
                </a:cubicBezTo>
                <a:cubicBezTo>
                  <a:pt x="11857" y="7676"/>
                  <a:pt x="11850" y="7712"/>
                  <a:pt x="11832" y="7739"/>
                </a:cubicBezTo>
                <a:cubicBezTo>
                  <a:pt x="11802" y="7783"/>
                  <a:pt x="11745" y="7834"/>
                  <a:pt x="11733" y="7888"/>
                </a:cubicBezTo>
                <a:cubicBezTo>
                  <a:pt x="11721" y="7942"/>
                  <a:pt x="11725" y="8011"/>
                  <a:pt x="11708" y="8062"/>
                </a:cubicBezTo>
                <a:cubicBezTo>
                  <a:pt x="11682" y="8139"/>
                  <a:pt x="11683" y="8201"/>
                  <a:pt x="11683" y="8285"/>
                </a:cubicBezTo>
                <a:cubicBezTo>
                  <a:pt x="11683" y="8462"/>
                  <a:pt x="11681" y="8637"/>
                  <a:pt x="11708" y="8806"/>
                </a:cubicBezTo>
                <a:cubicBezTo>
                  <a:pt x="11708" y="8857"/>
                  <a:pt x="11709" y="8876"/>
                  <a:pt x="11733" y="8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16280" y="2795760"/>
            <a:ext cx="268560" cy="446040"/>
          </a:xfrm>
          <a:custGeom>
            <a:avLst/>
            <a:gdLst/>
            <a:ahLst/>
            <a:rect l="l" t="t" r="r" b="b"/>
            <a:pathLst>
              <a:path w="745" h="1241">
                <a:moveTo>
                  <a:pt x="12973" y="7938"/>
                </a:moveTo>
                <a:cubicBezTo>
                  <a:pt x="12964" y="7911"/>
                  <a:pt x="12955" y="7892"/>
                  <a:pt x="12923" y="7888"/>
                </a:cubicBezTo>
                <a:cubicBezTo>
                  <a:pt x="12864" y="7881"/>
                  <a:pt x="12831" y="7943"/>
                  <a:pt x="12824" y="7987"/>
                </a:cubicBezTo>
                <a:cubicBezTo>
                  <a:pt x="12816" y="8034"/>
                  <a:pt x="12828" y="8051"/>
                  <a:pt x="12849" y="8086"/>
                </a:cubicBezTo>
                <a:cubicBezTo>
                  <a:pt x="12903" y="8073"/>
                  <a:pt x="12930" y="8018"/>
                  <a:pt x="12948" y="7962"/>
                </a:cubicBezTo>
                <a:cubicBezTo>
                  <a:pt x="12954" y="7942"/>
                  <a:pt x="12973" y="7858"/>
                  <a:pt x="12973" y="7913"/>
                </a:cubicBezTo>
                <a:cubicBezTo>
                  <a:pt x="12973" y="7987"/>
                  <a:pt x="12971" y="8042"/>
                  <a:pt x="12948" y="8111"/>
                </a:cubicBezTo>
                <a:cubicBezTo>
                  <a:pt x="12924" y="8184"/>
                  <a:pt x="12923" y="8235"/>
                  <a:pt x="12923" y="8310"/>
                </a:cubicBezTo>
                <a:cubicBezTo>
                  <a:pt x="12982" y="8310"/>
                  <a:pt x="13001" y="8311"/>
                  <a:pt x="13047" y="8285"/>
                </a:cubicBezTo>
                <a:cubicBezTo>
                  <a:pt x="13088" y="8261"/>
                  <a:pt x="13150" y="8240"/>
                  <a:pt x="13196" y="8235"/>
                </a:cubicBezTo>
                <a:cubicBezTo>
                  <a:pt x="13204" y="8235"/>
                  <a:pt x="13213" y="8235"/>
                  <a:pt x="13221" y="8235"/>
                </a:cubicBezTo>
              </a:path>
              <a:path w="745" h="1241">
                <a:moveTo>
                  <a:pt x="12923" y="8632"/>
                </a:moveTo>
                <a:cubicBezTo>
                  <a:pt x="12946" y="8609"/>
                  <a:pt x="12954" y="8605"/>
                  <a:pt x="12948" y="8582"/>
                </a:cubicBezTo>
                <a:cubicBezTo>
                  <a:pt x="12922" y="8588"/>
                  <a:pt x="12863" y="8603"/>
                  <a:pt x="12849" y="8632"/>
                </a:cubicBezTo>
                <a:cubicBezTo>
                  <a:pt x="12819" y="8692"/>
                  <a:pt x="12890" y="8693"/>
                  <a:pt x="12923" y="8706"/>
                </a:cubicBezTo>
                <a:cubicBezTo>
                  <a:pt x="12978" y="8728"/>
                  <a:pt x="13028" y="8772"/>
                  <a:pt x="13047" y="8830"/>
                </a:cubicBezTo>
                <a:cubicBezTo>
                  <a:pt x="13066" y="8887"/>
                  <a:pt x="12979" y="8903"/>
                  <a:pt x="12948" y="8905"/>
                </a:cubicBezTo>
                <a:cubicBezTo>
                  <a:pt x="12931" y="8905"/>
                  <a:pt x="12915" y="8905"/>
                  <a:pt x="12898" y="8905"/>
                </a:cubicBezTo>
              </a:path>
              <a:path w="745" h="1241">
                <a:moveTo>
                  <a:pt x="13295" y="7789"/>
                </a:moveTo>
                <a:cubicBezTo>
                  <a:pt x="13310" y="7744"/>
                  <a:pt x="13355" y="7757"/>
                  <a:pt x="13395" y="7789"/>
                </a:cubicBezTo>
                <a:cubicBezTo>
                  <a:pt x="13455" y="7837"/>
                  <a:pt x="13496" y="7888"/>
                  <a:pt x="13519" y="7962"/>
                </a:cubicBezTo>
                <a:cubicBezTo>
                  <a:pt x="13565" y="8106"/>
                  <a:pt x="13568" y="8235"/>
                  <a:pt x="13568" y="8384"/>
                </a:cubicBezTo>
                <a:cubicBezTo>
                  <a:pt x="13568" y="8537"/>
                  <a:pt x="13554" y="8736"/>
                  <a:pt x="13494" y="8880"/>
                </a:cubicBezTo>
                <a:cubicBezTo>
                  <a:pt x="13450" y="8945"/>
                  <a:pt x="13439" y="8959"/>
                  <a:pt x="13419" y="90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1800" y="3732120"/>
            <a:ext cx="206280" cy="196920"/>
          </a:xfrm>
          <a:custGeom>
            <a:avLst/>
            <a:gdLst/>
            <a:ahLst/>
            <a:rect l="l" t="t" r="r" b="b"/>
            <a:pathLst>
              <a:path w="572" h="547">
                <a:moveTo>
                  <a:pt x="2604" y="10393"/>
                </a:moveTo>
                <a:cubicBezTo>
                  <a:pt x="2632" y="10393"/>
                  <a:pt x="2643" y="10391"/>
                  <a:pt x="2654" y="10368"/>
                </a:cubicBezTo>
                <a:cubicBezTo>
                  <a:pt x="2593" y="10383"/>
                  <a:pt x="2592" y="10419"/>
                  <a:pt x="2555" y="10468"/>
                </a:cubicBezTo>
                <a:cubicBezTo>
                  <a:pt x="2533" y="10496"/>
                  <a:pt x="2480" y="10549"/>
                  <a:pt x="2505" y="10592"/>
                </a:cubicBezTo>
                <a:cubicBezTo>
                  <a:pt x="2524" y="10625"/>
                  <a:pt x="2598" y="10642"/>
                  <a:pt x="2629" y="10666"/>
                </a:cubicBezTo>
                <a:cubicBezTo>
                  <a:pt x="2666" y="10694"/>
                  <a:pt x="2715" y="10768"/>
                  <a:pt x="2704" y="10815"/>
                </a:cubicBezTo>
                <a:cubicBezTo>
                  <a:pt x="2686" y="10891"/>
                  <a:pt x="2674" y="10889"/>
                  <a:pt x="2604" y="10889"/>
                </a:cubicBezTo>
                <a:cubicBezTo>
                  <a:pt x="2553" y="10889"/>
                  <a:pt x="2518" y="10904"/>
                  <a:pt x="2505" y="10864"/>
                </a:cubicBezTo>
              </a:path>
              <a:path w="572" h="547">
                <a:moveTo>
                  <a:pt x="2902" y="10815"/>
                </a:moveTo>
                <a:cubicBezTo>
                  <a:pt x="2902" y="10772"/>
                  <a:pt x="2888" y="10718"/>
                  <a:pt x="2927" y="10691"/>
                </a:cubicBezTo>
                <a:cubicBezTo>
                  <a:pt x="2978" y="10656"/>
                  <a:pt x="3051" y="10705"/>
                  <a:pt x="3076" y="10765"/>
                </a:cubicBezTo>
                <a:cubicBezTo>
                  <a:pt x="3089" y="10796"/>
                  <a:pt x="3088" y="10896"/>
                  <a:pt x="3051" y="10914"/>
                </a:cubicBezTo>
                <a:cubicBezTo>
                  <a:pt x="3013" y="10933"/>
                  <a:pt x="2970" y="10892"/>
                  <a:pt x="2952" y="10864"/>
                </a:cubicBezTo>
                <a:cubicBezTo>
                  <a:pt x="2944" y="10848"/>
                  <a:pt x="2935" y="10831"/>
                  <a:pt x="2927" y="10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25760" y="3562200"/>
            <a:ext cx="223560" cy="474840"/>
          </a:xfrm>
          <a:custGeom>
            <a:avLst/>
            <a:gdLst/>
            <a:ahLst/>
            <a:rect l="l" t="t" r="r" b="b"/>
            <a:pathLst>
              <a:path w="622" h="1316">
                <a:moveTo>
                  <a:pt x="4911" y="10120"/>
                </a:moveTo>
                <a:cubicBezTo>
                  <a:pt x="4939" y="10084"/>
                  <a:pt x="4950" y="10078"/>
                  <a:pt x="4961" y="10046"/>
                </a:cubicBezTo>
                <a:cubicBezTo>
                  <a:pt x="4924" y="10055"/>
                  <a:pt x="4885" y="10084"/>
                  <a:pt x="4862" y="10120"/>
                </a:cubicBezTo>
                <a:cubicBezTo>
                  <a:pt x="4812" y="10198"/>
                  <a:pt x="4806" y="10236"/>
                  <a:pt x="4837" y="10319"/>
                </a:cubicBezTo>
                <a:cubicBezTo>
                  <a:pt x="4899" y="10281"/>
                  <a:pt x="4902" y="10227"/>
                  <a:pt x="4936" y="10170"/>
                </a:cubicBezTo>
                <a:cubicBezTo>
                  <a:pt x="4972" y="10110"/>
                  <a:pt x="5032" y="10158"/>
                  <a:pt x="5060" y="10195"/>
                </a:cubicBezTo>
                <a:cubicBezTo>
                  <a:pt x="5085" y="10244"/>
                  <a:pt x="5094" y="10261"/>
                  <a:pt x="5135" y="10269"/>
                </a:cubicBezTo>
              </a:path>
              <a:path w="622" h="1316">
                <a:moveTo>
                  <a:pt x="4936" y="11013"/>
                </a:moveTo>
                <a:cubicBezTo>
                  <a:pt x="4958" y="10991"/>
                  <a:pt x="4967" y="10986"/>
                  <a:pt x="4961" y="10964"/>
                </a:cubicBezTo>
                <a:cubicBezTo>
                  <a:pt x="4922" y="10973"/>
                  <a:pt x="4864" y="11001"/>
                  <a:pt x="4837" y="11038"/>
                </a:cubicBezTo>
                <a:cubicBezTo>
                  <a:pt x="4786" y="11109"/>
                  <a:pt x="4810" y="11179"/>
                  <a:pt x="4887" y="11212"/>
                </a:cubicBezTo>
                <a:cubicBezTo>
                  <a:pt x="4953" y="11240"/>
                  <a:pt x="5013" y="11200"/>
                  <a:pt x="5060" y="11162"/>
                </a:cubicBezTo>
              </a:path>
              <a:path w="622" h="1316">
                <a:moveTo>
                  <a:pt x="4614" y="9996"/>
                </a:moveTo>
                <a:cubicBezTo>
                  <a:pt x="4635" y="9959"/>
                  <a:pt x="4654" y="9934"/>
                  <a:pt x="4663" y="9897"/>
                </a:cubicBezTo>
                <a:cubicBezTo>
                  <a:pt x="4614" y="9996"/>
                  <a:pt x="4569" y="10088"/>
                  <a:pt x="4539" y="10195"/>
                </a:cubicBezTo>
                <a:cubicBezTo>
                  <a:pt x="4491" y="10368"/>
                  <a:pt x="4514" y="10568"/>
                  <a:pt x="4564" y="10740"/>
                </a:cubicBezTo>
                <a:cubicBezTo>
                  <a:pt x="4599" y="10862"/>
                  <a:pt x="4627" y="11023"/>
                  <a:pt x="4688" y="11137"/>
                </a:cubicBezTo>
                <a:cubicBezTo>
                  <a:pt x="4713" y="11162"/>
                  <a:pt x="4721" y="11170"/>
                  <a:pt x="4738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43080" y="3483000"/>
            <a:ext cx="563760" cy="490680"/>
          </a:xfrm>
          <a:custGeom>
            <a:avLst/>
            <a:gdLst/>
            <a:ahLst/>
            <a:rect l="l" t="t" r="r" b="b"/>
            <a:pathLst>
              <a:path w="1564" h="1365">
                <a:moveTo>
                  <a:pt x="6176" y="9748"/>
                </a:moveTo>
                <a:cubicBezTo>
                  <a:pt x="6168" y="9740"/>
                  <a:pt x="6160" y="9731"/>
                  <a:pt x="6152" y="9723"/>
                </a:cubicBezTo>
                <a:cubicBezTo>
                  <a:pt x="6152" y="9889"/>
                  <a:pt x="6152" y="10054"/>
                  <a:pt x="6152" y="10220"/>
                </a:cubicBezTo>
                <a:cubicBezTo>
                  <a:pt x="6177" y="10150"/>
                  <a:pt x="6177" y="10089"/>
                  <a:pt x="6251" y="10046"/>
                </a:cubicBezTo>
                <a:cubicBezTo>
                  <a:pt x="6276" y="10046"/>
                  <a:pt x="6284" y="10046"/>
                  <a:pt x="6300" y="10046"/>
                </a:cubicBezTo>
                <a:cubicBezTo>
                  <a:pt x="6315" y="10073"/>
                  <a:pt x="6385" y="10160"/>
                  <a:pt x="6350" y="10195"/>
                </a:cubicBezTo>
                <a:cubicBezTo>
                  <a:pt x="6299" y="10246"/>
                  <a:pt x="6242" y="10244"/>
                  <a:pt x="6176" y="10244"/>
                </a:cubicBezTo>
                <a:cubicBezTo>
                  <a:pt x="6160" y="10244"/>
                  <a:pt x="6143" y="10244"/>
                  <a:pt x="6127" y="10244"/>
                </a:cubicBezTo>
              </a:path>
              <a:path w="1564" h="1365">
                <a:moveTo>
                  <a:pt x="6028" y="10939"/>
                </a:moveTo>
                <a:cubicBezTo>
                  <a:pt x="6013" y="10895"/>
                  <a:pt x="5973" y="10921"/>
                  <a:pt x="5953" y="10964"/>
                </a:cubicBezTo>
                <a:cubicBezTo>
                  <a:pt x="5934" y="11005"/>
                  <a:pt x="5957" y="11024"/>
                  <a:pt x="5978" y="11038"/>
                </a:cubicBezTo>
                <a:cubicBezTo>
                  <a:pt x="6083" y="11008"/>
                  <a:pt x="6054" y="10943"/>
                  <a:pt x="6077" y="10840"/>
                </a:cubicBezTo>
                <a:cubicBezTo>
                  <a:pt x="6094" y="10765"/>
                  <a:pt x="6091" y="10676"/>
                  <a:pt x="6127" y="10616"/>
                </a:cubicBezTo>
                <a:cubicBezTo>
                  <a:pt x="6142" y="10690"/>
                  <a:pt x="6154" y="10765"/>
                  <a:pt x="6176" y="10840"/>
                </a:cubicBezTo>
                <a:cubicBezTo>
                  <a:pt x="6194" y="10902"/>
                  <a:pt x="6212" y="10940"/>
                  <a:pt x="6251" y="10988"/>
                </a:cubicBezTo>
              </a:path>
              <a:path w="1564" h="1365">
                <a:moveTo>
                  <a:pt x="6424" y="9674"/>
                </a:moveTo>
                <a:cubicBezTo>
                  <a:pt x="6474" y="9674"/>
                  <a:pt x="6506" y="9691"/>
                  <a:pt x="6548" y="9723"/>
                </a:cubicBezTo>
                <a:cubicBezTo>
                  <a:pt x="6621" y="9777"/>
                  <a:pt x="6652" y="9887"/>
                  <a:pt x="6672" y="9971"/>
                </a:cubicBezTo>
                <a:cubicBezTo>
                  <a:pt x="6710" y="10130"/>
                  <a:pt x="6704" y="10284"/>
                  <a:pt x="6672" y="10443"/>
                </a:cubicBezTo>
                <a:cubicBezTo>
                  <a:pt x="6645" y="10579"/>
                  <a:pt x="6600" y="10692"/>
                  <a:pt x="6548" y="10815"/>
                </a:cubicBezTo>
                <a:cubicBezTo>
                  <a:pt x="6540" y="10840"/>
                  <a:pt x="6532" y="10864"/>
                  <a:pt x="6524" y="10889"/>
                </a:cubicBezTo>
              </a:path>
              <a:path w="1564" h="1365">
                <a:moveTo>
                  <a:pt x="7193" y="9971"/>
                </a:moveTo>
                <a:cubicBezTo>
                  <a:pt x="7193" y="9947"/>
                  <a:pt x="7193" y="9938"/>
                  <a:pt x="7193" y="9922"/>
                </a:cubicBezTo>
                <a:cubicBezTo>
                  <a:pt x="7237" y="9937"/>
                  <a:pt x="7218" y="9993"/>
                  <a:pt x="7218" y="10046"/>
                </a:cubicBezTo>
                <a:cubicBezTo>
                  <a:pt x="7218" y="10173"/>
                  <a:pt x="7251" y="10272"/>
                  <a:pt x="7268" y="10393"/>
                </a:cubicBezTo>
                <a:cubicBezTo>
                  <a:pt x="7276" y="10450"/>
                  <a:pt x="7282" y="10489"/>
                  <a:pt x="7293" y="10542"/>
                </a:cubicBezTo>
              </a:path>
              <a:path w="1564" h="1365">
                <a:moveTo>
                  <a:pt x="7218" y="10120"/>
                </a:moveTo>
                <a:cubicBezTo>
                  <a:pt x="7218" y="10072"/>
                  <a:pt x="7223" y="10010"/>
                  <a:pt x="7243" y="9971"/>
                </a:cubicBezTo>
                <a:cubicBezTo>
                  <a:pt x="7276" y="9907"/>
                  <a:pt x="7259" y="9879"/>
                  <a:pt x="7342" y="9872"/>
                </a:cubicBezTo>
                <a:cubicBezTo>
                  <a:pt x="7401" y="9867"/>
                  <a:pt x="7415" y="9978"/>
                  <a:pt x="7417" y="10021"/>
                </a:cubicBezTo>
                <a:cubicBezTo>
                  <a:pt x="7422" y="10105"/>
                  <a:pt x="7430" y="10138"/>
                  <a:pt x="7342" y="10145"/>
                </a:cubicBezTo>
                <a:cubicBezTo>
                  <a:pt x="7334" y="10145"/>
                  <a:pt x="7325" y="10145"/>
                  <a:pt x="7317" y="10145"/>
                </a:cubicBezTo>
              </a:path>
              <a:path w="1564" h="1365">
                <a:moveTo>
                  <a:pt x="7342" y="11013"/>
                </a:moveTo>
                <a:cubicBezTo>
                  <a:pt x="7334" y="11013"/>
                  <a:pt x="7325" y="11013"/>
                  <a:pt x="7317" y="11013"/>
                </a:cubicBezTo>
                <a:cubicBezTo>
                  <a:pt x="7317" y="10978"/>
                  <a:pt x="7298" y="10877"/>
                  <a:pt x="7342" y="10864"/>
                </a:cubicBezTo>
                <a:cubicBezTo>
                  <a:pt x="7390" y="10849"/>
                  <a:pt x="7465" y="10864"/>
                  <a:pt x="7516" y="10864"/>
                </a:cubicBezTo>
              </a:path>
              <a:path w="1564" h="1365">
                <a:moveTo>
                  <a:pt x="6995" y="9723"/>
                </a:moveTo>
                <a:cubicBezTo>
                  <a:pt x="7023" y="9723"/>
                  <a:pt x="7034" y="9721"/>
                  <a:pt x="7045" y="9699"/>
                </a:cubicBezTo>
                <a:cubicBezTo>
                  <a:pt x="7045" y="9754"/>
                  <a:pt x="7040" y="9770"/>
                  <a:pt x="7020" y="9823"/>
                </a:cubicBezTo>
                <a:cubicBezTo>
                  <a:pt x="6977" y="9941"/>
                  <a:pt x="6932" y="10069"/>
                  <a:pt x="6921" y="10195"/>
                </a:cubicBezTo>
                <a:cubicBezTo>
                  <a:pt x="6907" y="10353"/>
                  <a:pt x="6959" y="10522"/>
                  <a:pt x="7020" y="10666"/>
                </a:cubicBezTo>
                <a:cubicBezTo>
                  <a:pt x="7054" y="10745"/>
                  <a:pt x="7125" y="10884"/>
                  <a:pt x="7193" y="10939"/>
                </a:cubicBezTo>
                <a:cubicBezTo>
                  <a:pt x="7201" y="10939"/>
                  <a:pt x="7210" y="10939"/>
                  <a:pt x="7218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84320" y="3554280"/>
            <a:ext cx="277920" cy="366840"/>
          </a:xfrm>
          <a:custGeom>
            <a:avLst/>
            <a:gdLst/>
            <a:ahLst/>
            <a:rect l="l" t="t" r="r" b="b"/>
            <a:pathLst>
              <a:path w="770" h="1018">
                <a:moveTo>
                  <a:pt x="8086" y="9947"/>
                </a:moveTo>
                <a:cubicBezTo>
                  <a:pt x="8114" y="9910"/>
                  <a:pt x="8125" y="9904"/>
                  <a:pt x="8136" y="9872"/>
                </a:cubicBezTo>
                <a:cubicBezTo>
                  <a:pt x="8092" y="9916"/>
                  <a:pt x="8029" y="9958"/>
                  <a:pt x="8012" y="10021"/>
                </a:cubicBezTo>
                <a:cubicBezTo>
                  <a:pt x="8012" y="10063"/>
                  <a:pt x="8012" y="10071"/>
                  <a:pt x="8012" y="10096"/>
                </a:cubicBezTo>
                <a:cubicBezTo>
                  <a:pt x="8058" y="10096"/>
                  <a:pt x="8084" y="10089"/>
                  <a:pt x="8111" y="10046"/>
                </a:cubicBezTo>
                <a:cubicBezTo>
                  <a:pt x="8146" y="9991"/>
                  <a:pt x="8118" y="9985"/>
                  <a:pt x="8161" y="9971"/>
                </a:cubicBezTo>
                <a:cubicBezTo>
                  <a:pt x="8185" y="9979"/>
                  <a:pt x="8207" y="10022"/>
                  <a:pt x="8210" y="10046"/>
                </a:cubicBezTo>
                <a:cubicBezTo>
                  <a:pt x="8221" y="10134"/>
                  <a:pt x="8199" y="10213"/>
                  <a:pt x="8186" y="10294"/>
                </a:cubicBezTo>
                <a:cubicBezTo>
                  <a:pt x="8181" y="10323"/>
                  <a:pt x="8186" y="10362"/>
                  <a:pt x="8186" y="10393"/>
                </a:cubicBezTo>
                <a:cubicBezTo>
                  <a:pt x="8230" y="10382"/>
                  <a:pt x="8265" y="10343"/>
                  <a:pt x="8310" y="10319"/>
                </a:cubicBezTo>
                <a:cubicBezTo>
                  <a:pt x="8365" y="10289"/>
                  <a:pt x="8410" y="10273"/>
                  <a:pt x="8458" y="10244"/>
                </a:cubicBezTo>
              </a:path>
              <a:path w="770" h="1018">
                <a:moveTo>
                  <a:pt x="8235" y="10691"/>
                </a:moveTo>
                <a:cubicBezTo>
                  <a:pt x="8255" y="10650"/>
                  <a:pt x="8264" y="10644"/>
                  <a:pt x="8260" y="10616"/>
                </a:cubicBezTo>
                <a:cubicBezTo>
                  <a:pt x="8212" y="10628"/>
                  <a:pt x="8204" y="10672"/>
                  <a:pt x="8161" y="10691"/>
                </a:cubicBezTo>
                <a:cubicBezTo>
                  <a:pt x="8136" y="10691"/>
                  <a:pt x="8128" y="10691"/>
                  <a:pt x="8136" y="10716"/>
                </a:cubicBezTo>
                <a:cubicBezTo>
                  <a:pt x="8175" y="10744"/>
                  <a:pt x="8223" y="10740"/>
                  <a:pt x="8260" y="10765"/>
                </a:cubicBezTo>
                <a:cubicBezTo>
                  <a:pt x="8283" y="10780"/>
                  <a:pt x="8301" y="10836"/>
                  <a:pt x="8285" y="10864"/>
                </a:cubicBezTo>
                <a:cubicBezTo>
                  <a:pt x="8262" y="10887"/>
                  <a:pt x="8258" y="10895"/>
                  <a:pt x="8235" y="10889"/>
                </a:cubicBezTo>
              </a:path>
              <a:path w="770" h="1018">
                <a:moveTo>
                  <a:pt x="8607" y="9872"/>
                </a:moveTo>
                <a:cubicBezTo>
                  <a:pt x="8648" y="9913"/>
                  <a:pt x="8678" y="9944"/>
                  <a:pt x="8706" y="9996"/>
                </a:cubicBezTo>
                <a:cubicBezTo>
                  <a:pt x="8763" y="10105"/>
                  <a:pt x="8778" y="10197"/>
                  <a:pt x="8781" y="10319"/>
                </a:cubicBezTo>
                <a:cubicBezTo>
                  <a:pt x="8784" y="10446"/>
                  <a:pt x="8784" y="10594"/>
                  <a:pt x="8756" y="10716"/>
                </a:cubicBezTo>
                <a:cubicBezTo>
                  <a:pt x="8739" y="10787"/>
                  <a:pt x="8706" y="10822"/>
                  <a:pt x="8657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02000" y="3687840"/>
            <a:ext cx="71280" cy="81000"/>
          </a:xfrm>
          <a:custGeom>
            <a:avLst/>
            <a:gdLst/>
            <a:ahLst/>
            <a:rect l="l" t="t" r="r" b="b"/>
            <a:pathLst>
              <a:path w="199" h="225">
                <a:moveTo>
                  <a:pt x="9525" y="10244"/>
                </a:moveTo>
                <a:cubicBezTo>
                  <a:pt x="9578" y="10244"/>
                  <a:pt x="9562" y="10256"/>
                  <a:pt x="9599" y="10269"/>
                </a:cubicBezTo>
                <a:cubicBezTo>
                  <a:pt x="9575" y="10275"/>
                  <a:pt x="9521" y="10282"/>
                  <a:pt x="9500" y="10294"/>
                </a:cubicBezTo>
                <a:cubicBezTo>
                  <a:pt x="9478" y="10316"/>
                  <a:pt x="9473" y="10325"/>
                  <a:pt x="9451" y="10319"/>
                </a:cubicBezTo>
              </a:path>
              <a:path w="199" h="225">
                <a:moveTo>
                  <a:pt x="9575" y="10418"/>
                </a:moveTo>
                <a:cubicBezTo>
                  <a:pt x="9600" y="10422"/>
                  <a:pt x="9675" y="10443"/>
                  <a:pt x="9624" y="10443"/>
                </a:cubicBezTo>
                <a:cubicBezTo>
                  <a:pt x="9580" y="10443"/>
                  <a:pt x="9585" y="10441"/>
                  <a:pt x="9550" y="10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43200" y="3456000"/>
            <a:ext cx="241560" cy="608040"/>
          </a:xfrm>
          <a:custGeom>
            <a:avLst/>
            <a:gdLst/>
            <a:ahLst/>
            <a:rect l="l" t="t" r="r" b="b"/>
            <a:pathLst>
              <a:path w="671" h="1688">
                <a:moveTo>
                  <a:pt x="10666" y="9847"/>
                </a:moveTo>
                <a:cubicBezTo>
                  <a:pt x="10637" y="9810"/>
                  <a:pt x="10641" y="9796"/>
                  <a:pt x="10641" y="9748"/>
                </a:cubicBezTo>
                <a:cubicBezTo>
                  <a:pt x="10641" y="9740"/>
                  <a:pt x="10641" y="9731"/>
                  <a:pt x="10641" y="9723"/>
                </a:cubicBezTo>
                <a:cubicBezTo>
                  <a:pt x="10591" y="9757"/>
                  <a:pt x="10632" y="9828"/>
                  <a:pt x="10616" y="9897"/>
                </a:cubicBezTo>
                <a:cubicBezTo>
                  <a:pt x="10603" y="9955"/>
                  <a:pt x="10592" y="9983"/>
                  <a:pt x="10592" y="10046"/>
                </a:cubicBezTo>
              </a:path>
              <a:path w="671" h="1688">
                <a:moveTo>
                  <a:pt x="10716" y="10468"/>
                </a:moveTo>
                <a:cubicBezTo>
                  <a:pt x="10678" y="10495"/>
                  <a:pt x="10664" y="10492"/>
                  <a:pt x="10616" y="10492"/>
                </a:cubicBezTo>
                <a:cubicBezTo>
                  <a:pt x="10616" y="10431"/>
                  <a:pt x="10603" y="10366"/>
                  <a:pt x="10641" y="10319"/>
                </a:cubicBezTo>
                <a:cubicBezTo>
                  <a:pt x="10671" y="10281"/>
                  <a:pt x="10736" y="10278"/>
                  <a:pt x="10765" y="10319"/>
                </a:cubicBezTo>
                <a:cubicBezTo>
                  <a:pt x="10797" y="10364"/>
                  <a:pt x="10805" y="10463"/>
                  <a:pt x="10790" y="10517"/>
                </a:cubicBezTo>
                <a:cubicBezTo>
                  <a:pt x="10776" y="10567"/>
                  <a:pt x="10755" y="10624"/>
                  <a:pt x="10691" y="10592"/>
                </a:cubicBezTo>
                <a:cubicBezTo>
                  <a:pt x="10657" y="10575"/>
                  <a:pt x="10648" y="10500"/>
                  <a:pt x="10641" y="10468"/>
                </a:cubicBezTo>
              </a:path>
              <a:path w="671" h="1688">
                <a:moveTo>
                  <a:pt x="10319" y="9649"/>
                </a:moveTo>
                <a:cubicBezTo>
                  <a:pt x="10350" y="9628"/>
                  <a:pt x="10347" y="9631"/>
                  <a:pt x="10368" y="9599"/>
                </a:cubicBezTo>
                <a:cubicBezTo>
                  <a:pt x="10336" y="9632"/>
                  <a:pt x="10329" y="9661"/>
                  <a:pt x="10294" y="9723"/>
                </a:cubicBezTo>
                <a:cubicBezTo>
                  <a:pt x="10215" y="9864"/>
                  <a:pt x="10195" y="10009"/>
                  <a:pt x="10170" y="10170"/>
                </a:cubicBezTo>
                <a:cubicBezTo>
                  <a:pt x="10133" y="10405"/>
                  <a:pt x="10120" y="10627"/>
                  <a:pt x="10120" y="10864"/>
                </a:cubicBezTo>
                <a:cubicBezTo>
                  <a:pt x="10120" y="11005"/>
                  <a:pt x="10160" y="11126"/>
                  <a:pt x="10170" y="11261"/>
                </a:cubicBezTo>
                <a:cubicBezTo>
                  <a:pt x="10170" y="11269"/>
                  <a:pt x="10170" y="11278"/>
                  <a:pt x="10170" y="11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90960" y="3483000"/>
            <a:ext cx="196920" cy="339840"/>
          </a:xfrm>
          <a:custGeom>
            <a:avLst/>
            <a:gdLst/>
            <a:ahLst/>
            <a:rect l="l" t="t" r="r" b="b"/>
            <a:pathLst>
              <a:path w="546" h="943">
                <a:moveTo>
                  <a:pt x="11162" y="10170"/>
                </a:moveTo>
                <a:cubicBezTo>
                  <a:pt x="11139" y="10193"/>
                  <a:pt x="11135" y="10201"/>
                  <a:pt x="11112" y="10195"/>
                </a:cubicBezTo>
                <a:cubicBezTo>
                  <a:pt x="11112" y="10149"/>
                  <a:pt x="11110" y="10126"/>
                  <a:pt x="11162" y="10120"/>
                </a:cubicBezTo>
                <a:cubicBezTo>
                  <a:pt x="11225" y="10113"/>
                  <a:pt x="11253" y="10225"/>
                  <a:pt x="11261" y="10269"/>
                </a:cubicBezTo>
                <a:cubicBezTo>
                  <a:pt x="11276" y="10349"/>
                  <a:pt x="11260" y="10408"/>
                  <a:pt x="11212" y="10468"/>
                </a:cubicBezTo>
                <a:cubicBezTo>
                  <a:pt x="11161" y="10455"/>
                  <a:pt x="11101" y="10403"/>
                  <a:pt x="11088" y="10344"/>
                </a:cubicBezTo>
                <a:cubicBezTo>
                  <a:pt x="11088" y="10269"/>
                  <a:pt x="11088" y="10245"/>
                  <a:pt x="11088" y="10195"/>
                </a:cubicBezTo>
              </a:path>
              <a:path w="546" h="943">
                <a:moveTo>
                  <a:pt x="11137" y="10220"/>
                </a:moveTo>
                <a:cubicBezTo>
                  <a:pt x="11137" y="10288"/>
                  <a:pt x="11133" y="10176"/>
                  <a:pt x="11137" y="10170"/>
                </a:cubicBezTo>
                <a:cubicBezTo>
                  <a:pt x="11187" y="10080"/>
                  <a:pt x="11187" y="10251"/>
                  <a:pt x="11187" y="10269"/>
                </a:cubicBezTo>
                <a:cubicBezTo>
                  <a:pt x="11187" y="10351"/>
                  <a:pt x="11168" y="10415"/>
                  <a:pt x="11162" y="10492"/>
                </a:cubicBezTo>
                <a:cubicBezTo>
                  <a:pt x="11162" y="10500"/>
                  <a:pt x="11162" y="10509"/>
                  <a:pt x="11162" y="10517"/>
                </a:cubicBezTo>
                <a:cubicBezTo>
                  <a:pt x="11162" y="10407"/>
                  <a:pt x="11148" y="10296"/>
                  <a:pt x="11187" y="10195"/>
                </a:cubicBezTo>
                <a:cubicBezTo>
                  <a:pt x="11187" y="10127"/>
                  <a:pt x="11187" y="10302"/>
                  <a:pt x="11187" y="10319"/>
                </a:cubicBezTo>
                <a:cubicBezTo>
                  <a:pt x="11187" y="10341"/>
                  <a:pt x="11187" y="10501"/>
                  <a:pt x="11187" y="10443"/>
                </a:cubicBezTo>
                <a:cubicBezTo>
                  <a:pt x="11187" y="10372"/>
                  <a:pt x="11165" y="10314"/>
                  <a:pt x="11162" y="10244"/>
                </a:cubicBezTo>
                <a:cubicBezTo>
                  <a:pt x="11160" y="10203"/>
                  <a:pt x="11162" y="10161"/>
                  <a:pt x="11162" y="10120"/>
                </a:cubicBezTo>
                <a:cubicBezTo>
                  <a:pt x="11198" y="10144"/>
                  <a:pt x="11187" y="10187"/>
                  <a:pt x="11187" y="10244"/>
                </a:cubicBezTo>
                <a:cubicBezTo>
                  <a:pt x="11187" y="10294"/>
                  <a:pt x="11187" y="10343"/>
                  <a:pt x="11187" y="10393"/>
                </a:cubicBezTo>
                <a:cubicBezTo>
                  <a:pt x="11152" y="10346"/>
                  <a:pt x="11162" y="10306"/>
                  <a:pt x="11162" y="10244"/>
                </a:cubicBezTo>
                <a:cubicBezTo>
                  <a:pt x="11162" y="10221"/>
                  <a:pt x="11181" y="10116"/>
                  <a:pt x="11187" y="10195"/>
                </a:cubicBezTo>
                <a:cubicBezTo>
                  <a:pt x="11193" y="10277"/>
                  <a:pt x="11187" y="10361"/>
                  <a:pt x="11187" y="10443"/>
                </a:cubicBezTo>
              </a:path>
              <a:path w="546" h="943">
                <a:moveTo>
                  <a:pt x="11162" y="9872"/>
                </a:moveTo>
                <a:cubicBezTo>
                  <a:pt x="11120" y="9817"/>
                  <a:pt x="11144" y="9827"/>
                  <a:pt x="11162" y="9773"/>
                </a:cubicBezTo>
                <a:cubicBezTo>
                  <a:pt x="11174" y="9736"/>
                  <a:pt x="11196" y="9712"/>
                  <a:pt x="11237" y="9699"/>
                </a:cubicBezTo>
                <a:cubicBezTo>
                  <a:pt x="11295" y="9680"/>
                  <a:pt x="11314" y="9732"/>
                  <a:pt x="11336" y="9773"/>
                </a:cubicBezTo>
                <a:cubicBezTo>
                  <a:pt x="11379" y="9854"/>
                  <a:pt x="11362" y="9923"/>
                  <a:pt x="11311" y="9996"/>
                </a:cubicBezTo>
                <a:cubicBezTo>
                  <a:pt x="11264" y="10063"/>
                  <a:pt x="11218" y="10005"/>
                  <a:pt x="11187" y="9971"/>
                </a:cubicBezTo>
                <a:cubicBezTo>
                  <a:pt x="11158" y="9943"/>
                  <a:pt x="11150" y="9930"/>
                  <a:pt x="11162" y="9897"/>
                </a:cubicBezTo>
              </a:path>
              <a:path w="546" h="943">
                <a:moveTo>
                  <a:pt x="11485" y="9674"/>
                </a:moveTo>
                <a:cubicBezTo>
                  <a:pt x="11531" y="9674"/>
                  <a:pt x="11548" y="9668"/>
                  <a:pt x="11584" y="9699"/>
                </a:cubicBezTo>
                <a:cubicBezTo>
                  <a:pt x="11630" y="9739"/>
                  <a:pt x="11631" y="9813"/>
                  <a:pt x="11633" y="9872"/>
                </a:cubicBezTo>
                <a:cubicBezTo>
                  <a:pt x="11638" y="10034"/>
                  <a:pt x="11597" y="10196"/>
                  <a:pt x="11534" y="10344"/>
                </a:cubicBezTo>
                <a:cubicBezTo>
                  <a:pt x="11495" y="10435"/>
                  <a:pt x="11444" y="10516"/>
                  <a:pt x="11385" y="10592"/>
                </a:cubicBezTo>
                <a:cubicBezTo>
                  <a:pt x="11377" y="10600"/>
                  <a:pt x="11369" y="10608"/>
                  <a:pt x="11361" y="106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inverse and determinants of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the inverse of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x A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76160" y="3027240"/>
            <a:ext cx="358920" cy="268560"/>
          </a:xfrm>
          <a:custGeom>
            <a:avLst/>
            <a:gdLst/>
            <a:ahLst/>
            <a:rect l="l" t="t" r="r" b="b"/>
            <a:pathLst>
              <a:path w="993" h="745">
                <a:moveTo>
                  <a:pt x="2158" y="8632"/>
                </a:moveTo>
                <a:cubicBezTo>
                  <a:pt x="2158" y="8657"/>
                  <a:pt x="2158" y="8681"/>
                  <a:pt x="2158" y="8706"/>
                </a:cubicBezTo>
                <a:cubicBezTo>
                  <a:pt x="2196" y="8706"/>
                  <a:pt x="2232" y="8717"/>
                  <a:pt x="2257" y="8682"/>
                </a:cubicBezTo>
                <a:cubicBezTo>
                  <a:pt x="2296" y="8627"/>
                  <a:pt x="2347" y="8526"/>
                  <a:pt x="2332" y="8458"/>
                </a:cubicBezTo>
                <a:cubicBezTo>
                  <a:pt x="2324" y="8442"/>
                  <a:pt x="2315" y="8425"/>
                  <a:pt x="2307" y="8409"/>
                </a:cubicBezTo>
                <a:cubicBezTo>
                  <a:pt x="2238" y="8409"/>
                  <a:pt x="2211" y="8444"/>
                  <a:pt x="2183" y="8508"/>
                </a:cubicBezTo>
                <a:cubicBezTo>
                  <a:pt x="2145" y="8594"/>
                  <a:pt x="2133" y="8745"/>
                  <a:pt x="2183" y="8830"/>
                </a:cubicBezTo>
                <a:cubicBezTo>
                  <a:pt x="2225" y="8902"/>
                  <a:pt x="2277" y="8888"/>
                  <a:pt x="2332" y="8855"/>
                </a:cubicBezTo>
              </a:path>
              <a:path w="993" h="745">
                <a:moveTo>
                  <a:pt x="2456" y="8706"/>
                </a:moveTo>
                <a:cubicBezTo>
                  <a:pt x="2489" y="8678"/>
                  <a:pt x="2542" y="8628"/>
                  <a:pt x="2580" y="8682"/>
                </a:cubicBezTo>
                <a:cubicBezTo>
                  <a:pt x="2580" y="8690"/>
                  <a:pt x="2580" y="8698"/>
                  <a:pt x="2580" y="8706"/>
                </a:cubicBezTo>
              </a:path>
              <a:path w="993" h="745">
                <a:moveTo>
                  <a:pt x="2704" y="8582"/>
                </a:moveTo>
                <a:cubicBezTo>
                  <a:pt x="2712" y="8525"/>
                  <a:pt x="2730" y="8521"/>
                  <a:pt x="2704" y="8508"/>
                </a:cubicBezTo>
                <a:cubicBezTo>
                  <a:pt x="2679" y="8575"/>
                  <a:pt x="2663" y="8635"/>
                  <a:pt x="2654" y="8706"/>
                </a:cubicBezTo>
                <a:cubicBezTo>
                  <a:pt x="2701" y="8691"/>
                  <a:pt x="2685" y="8622"/>
                  <a:pt x="2729" y="8582"/>
                </a:cubicBezTo>
                <a:cubicBezTo>
                  <a:pt x="2831" y="8487"/>
                  <a:pt x="2891" y="8639"/>
                  <a:pt x="2927" y="8706"/>
                </a:cubicBezTo>
                <a:cubicBezTo>
                  <a:pt x="2984" y="8813"/>
                  <a:pt x="3031" y="8955"/>
                  <a:pt x="3001" y="9079"/>
                </a:cubicBezTo>
                <a:cubicBezTo>
                  <a:pt x="2976" y="9182"/>
                  <a:pt x="2856" y="9153"/>
                  <a:pt x="2778" y="9153"/>
                </a:cubicBezTo>
                <a:cubicBezTo>
                  <a:pt x="2681" y="9153"/>
                  <a:pt x="2662" y="9146"/>
                  <a:pt x="2604" y="9079"/>
                </a:cubicBezTo>
              </a:path>
              <a:path w="993" h="745">
                <a:moveTo>
                  <a:pt x="3026" y="8756"/>
                </a:moveTo>
                <a:cubicBezTo>
                  <a:pt x="3091" y="8734"/>
                  <a:pt x="3106" y="8726"/>
                  <a:pt x="3150" y="8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08120" y="2963880"/>
            <a:ext cx="115920" cy="233280"/>
          </a:xfrm>
          <a:custGeom>
            <a:avLst/>
            <a:gdLst/>
            <a:ahLst/>
            <a:rect l="l" t="t" r="r" b="b"/>
            <a:pathLst>
              <a:path w="323" h="646">
                <a:moveTo>
                  <a:pt x="4465" y="8781"/>
                </a:moveTo>
                <a:cubicBezTo>
                  <a:pt x="4465" y="8840"/>
                  <a:pt x="4458" y="8837"/>
                  <a:pt x="4490" y="8880"/>
                </a:cubicBezTo>
                <a:cubicBezTo>
                  <a:pt x="4490" y="8817"/>
                  <a:pt x="4507" y="8768"/>
                  <a:pt x="4514" y="8706"/>
                </a:cubicBezTo>
                <a:cubicBezTo>
                  <a:pt x="4526" y="8601"/>
                  <a:pt x="4542" y="8487"/>
                  <a:pt x="4564" y="8384"/>
                </a:cubicBezTo>
                <a:cubicBezTo>
                  <a:pt x="4577" y="8323"/>
                  <a:pt x="4601" y="8286"/>
                  <a:pt x="4614" y="8235"/>
                </a:cubicBezTo>
                <a:cubicBezTo>
                  <a:pt x="4668" y="8290"/>
                  <a:pt x="4668" y="8331"/>
                  <a:pt x="4688" y="8409"/>
                </a:cubicBezTo>
                <a:cubicBezTo>
                  <a:pt x="4715" y="8514"/>
                  <a:pt x="4734" y="8630"/>
                  <a:pt x="4762" y="8731"/>
                </a:cubicBezTo>
                <a:cubicBezTo>
                  <a:pt x="4770" y="8748"/>
                  <a:pt x="4779" y="8764"/>
                  <a:pt x="4787" y="8781"/>
                </a:cubicBezTo>
              </a:path>
              <a:path w="323" h="646">
                <a:moveTo>
                  <a:pt x="4787" y="8607"/>
                </a:moveTo>
                <a:cubicBezTo>
                  <a:pt x="4769" y="8580"/>
                  <a:pt x="4722" y="8475"/>
                  <a:pt x="4663" y="8508"/>
                </a:cubicBezTo>
                <a:cubicBezTo>
                  <a:pt x="4626" y="8529"/>
                  <a:pt x="4601" y="8536"/>
                  <a:pt x="4564" y="85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12960" y="3017880"/>
            <a:ext cx="88920" cy="71280"/>
          </a:xfrm>
          <a:custGeom>
            <a:avLst/>
            <a:gdLst/>
            <a:ahLst/>
            <a:rect l="l" t="t" r="r" b="b"/>
            <a:pathLst>
              <a:path w="249" h="199">
                <a:moveTo>
                  <a:pt x="5259" y="8434"/>
                </a:moveTo>
                <a:cubicBezTo>
                  <a:pt x="5259" y="8409"/>
                  <a:pt x="5259" y="8401"/>
                  <a:pt x="5259" y="8384"/>
                </a:cubicBezTo>
                <a:cubicBezTo>
                  <a:pt x="5215" y="8395"/>
                  <a:pt x="5184" y="8422"/>
                  <a:pt x="5135" y="8434"/>
                </a:cubicBezTo>
                <a:cubicBezTo>
                  <a:pt x="5102" y="8442"/>
                  <a:pt x="5069" y="8452"/>
                  <a:pt x="5035" y="8458"/>
                </a:cubicBezTo>
              </a:path>
              <a:path w="249" h="199">
                <a:moveTo>
                  <a:pt x="5259" y="8558"/>
                </a:moveTo>
                <a:cubicBezTo>
                  <a:pt x="5267" y="8558"/>
                  <a:pt x="5275" y="8558"/>
                  <a:pt x="5283" y="8558"/>
                </a:cubicBezTo>
                <a:cubicBezTo>
                  <a:pt x="5271" y="8594"/>
                  <a:pt x="5253" y="8582"/>
                  <a:pt x="5209" y="85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59000" y="2803680"/>
            <a:ext cx="277920" cy="455400"/>
          </a:xfrm>
          <a:custGeom>
            <a:avLst/>
            <a:gdLst/>
            <a:ahLst/>
            <a:rect l="l" t="t" r="r" b="b"/>
            <a:pathLst>
              <a:path w="770" h="1266">
                <a:moveTo>
                  <a:pt x="6821" y="8086"/>
                </a:moveTo>
                <a:cubicBezTo>
                  <a:pt x="6846" y="8086"/>
                  <a:pt x="6854" y="8086"/>
                  <a:pt x="6871" y="8086"/>
                </a:cubicBezTo>
                <a:cubicBezTo>
                  <a:pt x="6871" y="8045"/>
                  <a:pt x="6888" y="7992"/>
                  <a:pt x="6846" y="7987"/>
                </a:cubicBezTo>
                <a:cubicBezTo>
                  <a:pt x="6828" y="7985"/>
                  <a:pt x="6728" y="8049"/>
                  <a:pt x="6722" y="8062"/>
                </a:cubicBezTo>
                <a:cubicBezTo>
                  <a:pt x="6702" y="8101"/>
                  <a:pt x="6725" y="8183"/>
                  <a:pt x="6747" y="8210"/>
                </a:cubicBezTo>
                <a:cubicBezTo>
                  <a:pt x="6783" y="8255"/>
                  <a:pt x="6819" y="8228"/>
                  <a:pt x="6846" y="8186"/>
                </a:cubicBezTo>
                <a:cubicBezTo>
                  <a:pt x="6877" y="8138"/>
                  <a:pt x="6896" y="8093"/>
                  <a:pt x="6896" y="8037"/>
                </a:cubicBezTo>
                <a:cubicBezTo>
                  <a:pt x="6937" y="8078"/>
                  <a:pt x="6975" y="8102"/>
                  <a:pt x="7020" y="8136"/>
                </a:cubicBezTo>
                <a:cubicBezTo>
                  <a:pt x="7028" y="8144"/>
                  <a:pt x="7037" y="8153"/>
                  <a:pt x="7045" y="8161"/>
                </a:cubicBezTo>
              </a:path>
              <a:path w="770" h="1266">
                <a:moveTo>
                  <a:pt x="6821" y="8905"/>
                </a:moveTo>
                <a:cubicBezTo>
                  <a:pt x="6871" y="8872"/>
                  <a:pt x="6881" y="8863"/>
                  <a:pt x="6896" y="8806"/>
                </a:cubicBezTo>
                <a:cubicBezTo>
                  <a:pt x="6826" y="8823"/>
                  <a:pt x="6842" y="8847"/>
                  <a:pt x="6821" y="8905"/>
                </a:cubicBezTo>
                <a:cubicBezTo>
                  <a:pt x="6802" y="8959"/>
                  <a:pt x="6774" y="9014"/>
                  <a:pt x="6846" y="9054"/>
                </a:cubicBezTo>
                <a:cubicBezTo>
                  <a:pt x="6892" y="9080"/>
                  <a:pt x="6979" y="9044"/>
                  <a:pt x="7020" y="9029"/>
                </a:cubicBezTo>
              </a:path>
              <a:path w="770" h="1266">
                <a:moveTo>
                  <a:pt x="6400" y="7938"/>
                </a:moveTo>
                <a:cubicBezTo>
                  <a:pt x="6407" y="7887"/>
                  <a:pt x="6424" y="7864"/>
                  <a:pt x="6424" y="7813"/>
                </a:cubicBezTo>
                <a:cubicBezTo>
                  <a:pt x="6424" y="7805"/>
                  <a:pt x="6424" y="7797"/>
                  <a:pt x="6424" y="7789"/>
                </a:cubicBezTo>
                <a:cubicBezTo>
                  <a:pt x="6383" y="7859"/>
                  <a:pt x="6351" y="7925"/>
                  <a:pt x="6325" y="8012"/>
                </a:cubicBezTo>
                <a:cubicBezTo>
                  <a:pt x="6278" y="8171"/>
                  <a:pt x="6256" y="8319"/>
                  <a:pt x="6300" y="8483"/>
                </a:cubicBezTo>
                <a:cubicBezTo>
                  <a:pt x="6343" y="8641"/>
                  <a:pt x="6380" y="8804"/>
                  <a:pt x="6449" y="8954"/>
                </a:cubicBezTo>
                <a:cubicBezTo>
                  <a:pt x="6472" y="9004"/>
                  <a:pt x="6483" y="9034"/>
                  <a:pt x="6524" y="9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03680" y="2741760"/>
            <a:ext cx="206280" cy="465120"/>
          </a:xfrm>
          <a:custGeom>
            <a:avLst/>
            <a:gdLst/>
            <a:ahLst/>
            <a:rect l="l" t="t" r="r" b="b"/>
            <a:pathLst>
              <a:path w="571" h="1291">
                <a:moveTo>
                  <a:pt x="7789" y="7665"/>
                </a:moveTo>
                <a:cubicBezTo>
                  <a:pt x="7789" y="7657"/>
                  <a:pt x="7789" y="7573"/>
                  <a:pt x="7789" y="7640"/>
                </a:cubicBezTo>
                <a:cubicBezTo>
                  <a:pt x="7789" y="7744"/>
                  <a:pt x="7802" y="7838"/>
                  <a:pt x="7813" y="7938"/>
                </a:cubicBezTo>
                <a:cubicBezTo>
                  <a:pt x="7821" y="8010"/>
                  <a:pt x="7804" y="8030"/>
                  <a:pt x="7838" y="8086"/>
                </a:cubicBezTo>
                <a:cubicBezTo>
                  <a:pt x="7838" y="8127"/>
                  <a:pt x="7838" y="8053"/>
                  <a:pt x="7838" y="8012"/>
                </a:cubicBezTo>
                <a:cubicBezTo>
                  <a:pt x="7838" y="7953"/>
                  <a:pt x="7858" y="7940"/>
                  <a:pt x="7888" y="7888"/>
                </a:cubicBezTo>
                <a:cubicBezTo>
                  <a:pt x="7934" y="7888"/>
                  <a:pt x="7959" y="7895"/>
                  <a:pt x="7987" y="7938"/>
                </a:cubicBezTo>
                <a:cubicBezTo>
                  <a:pt x="8023" y="7993"/>
                  <a:pt x="8024" y="8056"/>
                  <a:pt x="7987" y="8111"/>
                </a:cubicBezTo>
                <a:cubicBezTo>
                  <a:pt x="7951" y="8164"/>
                  <a:pt x="7883" y="8131"/>
                  <a:pt x="7838" y="8111"/>
                </a:cubicBezTo>
                <a:cubicBezTo>
                  <a:pt x="7822" y="8103"/>
                  <a:pt x="7805" y="8094"/>
                  <a:pt x="7789" y="8086"/>
                </a:cubicBezTo>
              </a:path>
              <a:path w="571" h="1291">
                <a:moveTo>
                  <a:pt x="7813" y="8682"/>
                </a:moveTo>
                <a:cubicBezTo>
                  <a:pt x="7880" y="8703"/>
                  <a:pt x="7800" y="8715"/>
                  <a:pt x="7789" y="8756"/>
                </a:cubicBezTo>
                <a:cubicBezTo>
                  <a:pt x="7780" y="8789"/>
                  <a:pt x="7789" y="8845"/>
                  <a:pt x="7789" y="8880"/>
                </a:cubicBezTo>
                <a:cubicBezTo>
                  <a:pt x="7864" y="8861"/>
                  <a:pt x="7860" y="8803"/>
                  <a:pt x="7863" y="8731"/>
                </a:cubicBezTo>
                <a:cubicBezTo>
                  <a:pt x="7866" y="8645"/>
                  <a:pt x="7888" y="8570"/>
                  <a:pt x="7888" y="8483"/>
                </a:cubicBezTo>
                <a:cubicBezTo>
                  <a:pt x="7888" y="8467"/>
                  <a:pt x="7888" y="8450"/>
                  <a:pt x="7888" y="8434"/>
                </a:cubicBezTo>
                <a:cubicBezTo>
                  <a:pt x="7888" y="8524"/>
                  <a:pt x="7891" y="8595"/>
                  <a:pt x="7913" y="8682"/>
                </a:cubicBezTo>
                <a:cubicBezTo>
                  <a:pt x="7935" y="8770"/>
                  <a:pt x="7956" y="8835"/>
                  <a:pt x="8012" y="8905"/>
                </a:cubicBezTo>
              </a:path>
              <a:path w="571" h="1291">
                <a:moveTo>
                  <a:pt x="7938" y="7838"/>
                </a:moveTo>
                <a:cubicBezTo>
                  <a:pt x="7969" y="7814"/>
                  <a:pt x="7983" y="7791"/>
                  <a:pt x="8012" y="7789"/>
                </a:cubicBezTo>
                <a:cubicBezTo>
                  <a:pt x="8084" y="7784"/>
                  <a:pt x="8099" y="7805"/>
                  <a:pt x="8161" y="7838"/>
                </a:cubicBezTo>
                <a:cubicBezTo>
                  <a:pt x="8244" y="7882"/>
                  <a:pt x="8265" y="7959"/>
                  <a:pt x="8310" y="8037"/>
                </a:cubicBezTo>
                <a:cubicBezTo>
                  <a:pt x="8375" y="8150"/>
                  <a:pt x="8376" y="8301"/>
                  <a:pt x="8359" y="8434"/>
                </a:cubicBezTo>
                <a:cubicBezTo>
                  <a:pt x="8344" y="8552"/>
                  <a:pt x="8301" y="8694"/>
                  <a:pt x="8260" y="8806"/>
                </a:cubicBezTo>
                <a:cubicBezTo>
                  <a:pt x="8233" y="8859"/>
                  <a:pt x="8221" y="8879"/>
                  <a:pt x="8186" y="8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16200" y="2919240"/>
            <a:ext cx="268560" cy="233640"/>
          </a:xfrm>
          <a:custGeom>
            <a:avLst/>
            <a:gdLst/>
            <a:ahLst/>
            <a:rect l="l" t="t" r="r" b="b"/>
            <a:pathLst>
              <a:path w="745" h="646">
                <a:moveTo>
                  <a:pt x="10046" y="8607"/>
                </a:moveTo>
                <a:cubicBezTo>
                  <a:pt x="10046" y="8629"/>
                  <a:pt x="10046" y="8789"/>
                  <a:pt x="10046" y="8731"/>
                </a:cubicBezTo>
                <a:cubicBezTo>
                  <a:pt x="10046" y="8658"/>
                  <a:pt x="10068" y="8606"/>
                  <a:pt x="10071" y="8533"/>
                </a:cubicBezTo>
                <a:cubicBezTo>
                  <a:pt x="10074" y="8446"/>
                  <a:pt x="10094" y="8342"/>
                  <a:pt x="10120" y="8260"/>
                </a:cubicBezTo>
                <a:cubicBezTo>
                  <a:pt x="10142" y="8216"/>
                  <a:pt x="10145" y="8205"/>
                  <a:pt x="10170" y="8186"/>
                </a:cubicBezTo>
                <a:cubicBezTo>
                  <a:pt x="10228" y="8257"/>
                  <a:pt x="10227" y="8298"/>
                  <a:pt x="10244" y="8384"/>
                </a:cubicBezTo>
                <a:cubicBezTo>
                  <a:pt x="10266" y="8495"/>
                  <a:pt x="10318" y="8596"/>
                  <a:pt x="10344" y="8706"/>
                </a:cubicBezTo>
                <a:cubicBezTo>
                  <a:pt x="10344" y="8714"/>
                  <a:pt x="10344" y="8723"/>
                  <a:pt x="10344" y="8731"/>
                </a:cubicBezTo>
              </a:path>
              <a:path w="745" h="646">
                <a:moveTo>
                  <a:pt x="10344" y="8508"/>
                </a:moveTo>
                <a:cubicBezTo>
                  <a:pt x="10263" y="8438"/>
                  <a:pt x="10294" y="8458"/>
                  <a:pt x="10220" y="8483"/>
                </a:cubicBezTo>
                <a:cubicBezTo>
                  <a:pt x="10192" y="8493"/>
                  <a:pt x="10150" y="8483"/>
                  <a:pt x="10120" y="8483"/>
                </a:cubicBezTo>
              </a:path>
              <a:path w="745" h="646">
                <a:moveTo>
                  <a:pt x="10492" y="8235"/>
                </a:moveTo>
                <a:cubicBezTo>
                  <a:pt x="10484" y="8235"/>
                  <a:pt x="10476" y="8235"/>
                  <a:pt x="10468" y="8235"/>
                </a:cubicBezTo>
                <a:cubicBezTo>
                  <a:pt x="10513" y="8235"/>
                  <a:pt x="10527" y="8214"/>
                  <a:pt x="10567" y="8210"/>
                </a:cubicBezTo>
                <a:cubicBezTo>
                  <a:pt x="10599" y="8206"/>
                  <a:pt x="10611" y="8193"/>
                  <a:pt x="10641" y="8186"/>
                </a:cubicBezTo>
              </a:path>
              <a:path w="745" h="646">
                <a:moveTo>
                  <a:pt x="10740" y="8111"/>
                </a:moveTo>
                <a:cubicBezTo>
                  <a:pt x="10800" y="8126"/>
                  <a:pt x="10790" y="8149"/>
                  <a:pt x="10790" y="8210"/>
                </a:cubicBezTo>
                <a:cubicBezTo>
                  <a:pt x="10790" y="8251"/>
                  <a:pt x="10790" y="8293"/>
                  <a:pt x="10790" y="8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17960" y="3009960"/>
            <a:ext cx="73080" cy="61920"/>
          </a:xfrm>
          <a:custGeom>
            <a:avLst/>
            <a:gdLst/>
            <a:ahLst/>
            <a:rect l="l" t="t" r="r" b="b"/>
            <a:pathLst>
              <a:path w="200" h="175">
                <a:moveTo>
                  <a:pt x="11311" y="8359"/>
                </a:moveTo>
                <a:cubicBezTo>
                  <a:pt x="11319" y="8359"/>
                  <a:pt x="11328" y="8359"/>
                  <a:pt x="11336" y="8359"/>
                </a:cubicBezTo>
                <a:cubicBezTo>
                  <a:pt x="11323" y="8397"/>
                  <a:pt x="11306" y="8384"/>
                  <a:pt x="11261" y="8384"/>
                </a:cubicBezTo>
                <a:cubicBezTo>
                  <a:pt x="11209" y="8384"/>
                  <a:pt x="11205" y="8398"/>
                  <a:pt x="11162" y="8409"/>
                </a:cubicBezTo>
              </a:path>
              <a:path w="200" h="175">
                <a:moveTo>
                  <a:pt x="11336" y="8483"/>
                </a:moveTo>
                <a:cubicBezTo>
                  <a:pt x="11344" y="8491"/>
                  <a:pt x="11353" y="8500"/>
                  <a:pt x="11361" y="8508"/>
                </a:cubicBezTo>
                <a:cubicBezTo>
                  <a:pt x="11311" y="8538"/>
                  <a:pt x="11274" y="8533"/>
                  <a:pt x="11212" y="8533"/>
                </a:cubicBezTo>
                <a:cubicBezTo>
                  <a:pt x="11204" y="8533"/>
                  <a:pt x="11195" y="8533"/>
                  <a:pt x="11187" y="85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05160" y="2751120"/>
            <a:ext cx="196920" cy="473040"/>
          </a:xfrm>
          <a:custGeom>
            <a:avLst/>
            <a:gdLst/>
            <a:ahLst/>
            <a:rect l="l" t="t" r="r" b="b"/>
            <a:pathLst>
              <a:path w="547" h="1315">
                <a:moveTo>
                  <a:pt x="12030" y="7962"/>
                </a:moveTo>
                <a:cubicBezTo>
                  <a:pt x="12030" y="7938"/>
                  <a:pt x="12030" y="7930"/>
                  <a:pt x="12055" y="7938"/>
                </a:cubicBezTo>
                <a:cubicBezTo>
                  <a:pt x="12055" y="8043"/>
                  <a:pt x="12064" y="8137"/>
                  <a:pt x="12080" y="8235"/>
                </a:cubicBezTo>
                <a:cubicBezTo>
                  <a:pt x="12089" y="8293"/>
                  <a:pt x="12075" y="8310"/>
                  <a:pt x="12105" y="8359"/>
                </a:cubicBezTo>
              </a:path>
              <a:path w="547" h="1315">
                <a:moveTo>
                  <a:pt x="12055" y="8037"/>
                </a:moveTo>
                <a:cubicBezTo>
                  <a:pt x="12018" y="7988"/>
                  <a:pt x="12027" y="7986"/>
                  <a:pt x="12055" y="7938"/>
                </a:cubicBezTo>
                <a:cubicBezTo>
                  <a:pt x="12095" y="7869"/>
                  <a:pt x="12066" y="7845"/>
                  <a:pt x="12154" y="7838"/>
                </a:cubicBezTo>
                <a:cubicBezTo>
                  <a:pt x="12220" y="7832"/>
                  <a:pt x="12226" y="7915"/>
                  <a:pt x="12229" y="7962"/>
                </a:cubicBezTo>
                <a:cubicBezTo>
                  <a:pt x="12233" y="8033"/>
                  <a:pt x="12225" y="8050"/>
                  <a:pt x="12179" y="8086"/>
                </a:cubicBezTo>
                <a:cubicBezTo>
                  <a:pt x="12141" y="8115"/>
                  <a:pt x="12128" y="8111"/>
                  <a:pt x="12080" y="8111"/>
                </a:cubicBezTo>
              </a:path>
              <a:path w="547" h="1315">
                <a:moveTo>
                  <a:pt x="11981" y="8855"/>
                </a:moveTo>
                <a:cubicBezTo>
                  <a:pt x="11981" y="8888"/>
                  <a:pt x="11981" y="8921"/>
                  <a:pt x="11981" y="8954"/>
                </a:cubicBezTo>
                <a:cubicBezTo>
                  <a:pt x="11948" y="8943"/>
                  <a:pt x="11941" y="8900"/>
                  <a:pt x="11956" y="8855"/>
                </a:cubicBezTo>
                <a:cubicBezTo>
                  <a:pt x="11975" y="8800"/>
                  <a:pt x="11998" y="8754"/>
                  <a:pt x="12055" y="8731"/>
                </a:cubicBezTo>
                <a:cubicBezTo>
                  <a:pt x="12087" y="8718"/>
                  <a:pt x="12143" y="8731"/>
                  <a:pt x="12179" y="8731"/>
                </a:cubicBezTo>
              </a:path>
              <a:path w="547" h="1315">
                <a:moveTo>
                  <a:pt x="11832" y="7665"/>
                </a:moveTo>
                <a:cubicBezTo>
                  <a:pt x="11857" y="7665"/>
                  <a:pt x="11865" y="7665"/>
                  <a:pt x="11857" y="7640"/>
                </a:cubicBezTo>
                <a:cubicBezTo>
                  <a:pt x="11857" y="7676"/>
                  <a:pt x="11850" y="7712"/>
                  <a:pt x="11832" y="7739"/>
                </a:cubicBezTo>
                <a:cubicBezTo>
                  <a:pt x="11802" y="7783"/>
                  <a:pt x="11745" y="7834"/>
                  <a:pt x="11733" y="7888"/>
                </a:cubicBezTo>
                <a:cubicBezTo>
                  <a:pt x="11721" y="7942"/>
                  <a:pt x="11725" y="8011"/>
                  <a:pt x="11708" y="8062"/>
                </a:cubicBezTo>
                <a:cubicBezTo>
                  <a:pt x="11682" y="8139"/>
                  <a:pt x="11683" y="8201"/>
                  <a:pt x="11683" y="8285"/>
                </a:cubicBezTo>
                <a:cubicBezTo>
                  <a:pt x="11683" y="8462"/>
                  <a:pt x="11681" y="8637"/>
                  <a:pt x="11708" y="8806"/>
                </a:cubicBezTo>
                <a:cubicBezTo>
                  <a:pt x="11708" y="8857"/>
                  <a:pt x="11709" y="8876"/>
                  <a:pt x="11733" y="8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16280" y="2795760"/>
            <a:ext cx="268560" cy="446040"/>
          </a:xfrm>
          <a:custGeom>
            <a:avLst/>
            <a:gdLst/>
            <a:ahLst/>
            <a:rect l="l" t="t" r="r" b="b"/>
            <a:pathLst>
              <a:path w="745" h="1241">
                <a:moveTo>
                  <a:pt x="12973" y="7938"/>
                </a:moveTo>
                <a:cubicBezTo>
                  <a:pt x="12964" y="7911"/>
                  <a:pt x="12955" y="7892"/>
                  <a:pt x="12923" y="7888"/>
                </a:cubicBezTo>
                <a:cubicBezTo>
                  <a:pt x="12864" y="7881"/>
                  <a:pt x="12831" y="7943"/>
                  <a:pt x="12824" y="7987"/>
                </a:cubicBezTo>
                <a:cubicBezTo>
                  <a:pt x="12816" y="8034"/>
                  <a:pt x="12828" y="8051"/>
                  <a:pt x="12849" y="8086"/>
                </a:cubicBezTo>
                <a:cubicBezTo>
                  <a:pt x="12903" y="8073"/>
                  <a:pt x="12930" y="8018"/>
                  <a:pt x="12948" y="7962"/>
                </a:cubicBezTo>
                <a:cubicBezTo>
                  <a:pt x="12954" y="7942"/>
                  <a:pt x="12973" y="7858"/>
                  <a:pt x="12973" y="7913"/>
                </a:cubicBezTo>
                <a:cubicBezTo>
                  <a:pt x="12973" y="7987"/>
                  <a:pt x="12971" y="8042"/>
                  <a:pt x="12948" y="8111"/>
                </a:cubicBezTo>
                <a:cubicBezTo>
                  <a:pt x="12924" y="8184"/>
                  <a:pt x="12923" y="8235"/>
                  <a:pt x="12923" y="8310"/>
                </a:cubicBezTo>
                <a:cubicBezTo>
                  <a:pt x="12982" y="8310"/>
                  <a:pt x="13001" y="8311"/>
                  <a:pt x="13047" y="8285"/>
                </a:cubicBezTo>
                <a:cubicBezTo>
                  <a:pt x="13088" y="8261"/>
                  <a:pt x="13150" y="8240"/>
                  <a:pt x="13196" y="8235"/>
                </a:cubicBezTo>
                <a:cubicBezTo>
                  <a:pt x="13204" y="8235"/>
                  <a:pt x="13213" y="8235"/>
                  <a:pt x="13221" y="8235"/>
                </a:cubicBezTo>
              </a:path>
              <a:path w="745" h="1241">
                <a:moveTo>
                  <a:pt x="12923" y="8632"/>
                </a:moveTo>
                <a:cubicBezTo>
                  <a:pt x="12946" y="8609"/>
                  <a:pt x="12954" y="8605"/>
                  <a:pt x="12948" y="8582"/>
                </a:cubicBezTo>
                <a:cubicBezTo>
                  <a:pt x="12922" y="8588"/>
                  <a:pt x="12863" y="8603"/>
                  <a:pt x="12849" y="8632"/>
                </a:cubicBezTo>
                <a:cubicBezTo>
                  <a:pt x="12819" y="8692"/>
                  <a:pt x="12890" y="8693"/>
                  <a:pt x="12923" y="8706"/>
                </a:cubicBezTo>
                <a:cubicBezTo>
                  <a:pt x="12978" y="8728"/>
                  <a:pt x="13028" y="8772"/>
                  <a:pt x="13047" y="8830"/>
                </a:cubicBezTo>
                <a:cubicBezTo>
                  <a:pt x="13066" y="8887"/>
                  <a:pt x="12979" y="8903"/>
                  <a:pt x="12948" y="8905"/>
                </a:cubicBezTo>
                <a:cubicBezTo>
                  <a:pt x="12931" y="8905"/>
                  <a:pt x="12915" y="8905"/>
                  <a:pt x="12898" y="8905"/>
                </a:cubicBezTo>
              </a:path>
              <a:path w="745" h="1241">
                <a:moveTo>
                  <a:pt x="13295" y="7789"/>
                </a:moveTo>
                <a:cubicBezTo>
                  <a:pt x="13310" y="7744"/>
                  <a:pt x="13355" y="7757"/>
                  <a:pt x="13395" y="7789"/>
                </a:cubicBezTo>
                <a:cubicBezTo>
                  <a:pt x="13455" y="7837"/>
                  <a:pt x="13496" y="7888"/>
                  <a:pt x="13519" y="7962"/>
                </a:cubicBezTo>
                <a:cubicBezTo>
                  <a:pt x="13565" y="8106"/>
                  <a:pt x="13568" y="8235"/>
                  <a:pt x="13568" y="8384"/>
                </a:cubicBezTo>
                <a:cubicBezTo>
                  <a:pt x="13568" y="8537"/>
                  <a:pt x="13554" y="8736"/>
                  <a:pt x="13494" y="8880"/>
                </a:cubicBezTo>
                <a:cubicBezTo>
                  <a:pt x="13450" y="8945"/>
                  <a:pt x="13439" y="8959"/>
                  <a:pt x="13419" y="90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01800" y="3732120"/>
            <a:ext cx="206280" cy="196920"/>
          </a:xfrm>
          <a:custGeom>
            <a:avLst/>
            <a:gdLst/>
            <a:ahLst/>
            <a:rect l="l" t="t" r="r" b="b"/>
            <a:pathLst>
              <a:path w="572" h="547">
                <a:moveTo>
                  <a:pt x="2604" y="10393"/>
                </a:moveTo>
                <a:cubicBezTo>
                  <a:pt x="2632" y="10393"/>
                  <a:pt x="2643" y="10391"/>
                  <a:pt x="2654" y="10368"/>
                </a:cubicBezTo>
                <a:cubicBezTo>
                  <a:pt x="2593" y="10383"/>
                  <a:pt x="2592" y="10419"/>
                  <a:pt x="2555" y="10468"/>
                </a:cubicBezTo>
                <a:cubicBezTo>
                  <a:pt x="2533" y="10496"/>
                  <a:pt x="2480" y="10549"/>
                  <a:pt x="2505" y="10592"/>
                </a:cubicBezTo>
                <a:cubicBezTo>
                  <a:pt x="2524" y="10625"/>
                  <a:pt x="2598" y="10642"/>
                  <a:pt x="2629" y="10666"/>
                </a:cubicBezTo>
                <a:cubicBezTo>
                  <a:pt x="2666" y="10694"/>
                  <a:pt x="2715" y="10768"/>
                  <a:pt x="2704" y="10815"/>
                </a:cubicBezTo>
                <a:cubicBezTo>
                  <a:pt x="2686" y="10891"/>
                  <a:pt x="2674" y="10889"/>
                  <a:pt x="2604" y="10889"/>
                </a:cubicBezTo>
                <a:cubicBezTo>
                  <a:pt x="2553" y="10889"/>
                  <a:pt x="2518" y="10904"/>
                  <a:pt x="2505" y="10864"/>
                </a:cubicBezTo>
              </a:path>
              <a:path w="572" h="547">
                <a:moveTo>
                  <a:pt x="2902" y="10815"/>
                </a:moveTo>
                <a:cubicBezTo>
                  <a:pt x="2902" y="10772"/>
                  <a:pt x="2888" y="10718"/>
                  <a:pt x="2927" y="10691"/>
                </a:cubicBezTo>
                <a:cubicBezTo>
                  <a:pt x="2978" y="10656"/>
                  <a:pt x="3051" y="10705"/>
                  <a:pt x="3076" y="10765"/>
                </a:cubicBezTo>
                <a:cubicBezTo>
                  <a:pt x="3089" y="10796"/>
                  <a:pt x="3088" y="10896"/>
                  <a:pt x="3051" y="10914"/>
                </a:cubicBezTo>
                <a:cubicBezTo>
                  <a:pt x="3013" y="10933"/>
                  <a:pt x="2970" y="10892"/>
                  <a:pt x="2952" y="10864"/>
                </a:cubicBezTo>
                <a:cubicBezTo>
                  <a:pt x="2944" y="10848"/>
                  <a:pt x="2935" y="10831"/>
                  <a:pt x="2927" y="10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25760" y="3562200"/>
            <a:ext cx="223560" cy="474840"/>
          </a:xfrm>
          <a:custGeom>
            <a:avLst/>
            <a:gdLst/>
            <a:ahLst/>
            <a:rect l="l" t="t" r="r" b="b"/>
            <a:pathLst>
              <a:path w="622" h="1316">
                <a:moveTo>
                  <a:pt x="4911" y="10120"/>
                </a:moveTo>
                <a:cubicBezTo>
                  <a:pt x="4939" y="10084"/>
                  <a:pt x="4950" y="10078"/>
                  <a:pt x="4961" y="10046"/>
                </a:cubicBezTo>
                <a:cubicBezTo>
                  <a:pt x="4924" y="10055"/>
                  <a:pt x="4885" y="10084"/>
                  <a:pt x="4862" y="10120"/>
                </a:cubicBezTo>
                <a:cubicBezTo>
                  <a:pt x="4812" y="10198"/>
                  <a:pt x="4806" y="10236"/>
                  <a:pt x="4837" y="10319"/>
                </a:cubicBezTo>
                <a:cubicBezTo>
                  <a:pt x="4899" y="10281"/>
                  <a:pt x="4902" y="10227"/>
                  <a:pt x="4936" y="10170"/>
                </a:cubicBezTo>
                <a:cubicBezTo>
                  <a:pt x="4972" y="10110"/>
                  <a:pt x="5032" y="10158"/>
                  <a:pt x="5060" y="10195"/>
                </a:cubicBezTo>
                <a:cubicBezTo>
                  <a:pt x="5085" y="10244"/>
                  <a:pt x="5094" y="10261"/>
                  <a:pt x="5135" y="10269"/>
                </a:cubicBezTo>
              </a:path>
              <a:path w="622" h="1316">
                <a:moveTo>
                  <a:pt x="4936" y="11013"/>
                </a:moveTo>
                <a:cubicBezTo>
                  <a:pt x="4958" y="10991"/>
                  <a:pt x="4967" y="10986"/>
                  <a:pt x="4961" y="10964"/>
                </a:cubicBezTo>
                <a:cubicBezTo>
                  <a:pt x="4922" y="10973"/>
                  <a:pt x="4864" y="11001"/>
                  <a:pt x="4837" y="11038"/>
                </a:cubicBezTo>
                <a:cubicBezTo>
                  <a:pt x="4786" y="11109"/>
                  <a:pt x="4810" y="11179"/>
                  <a:pt x="4887" y="11212"/>
                </a:cubicBezTo>
                <a:cubicBezTo>
                  <a:pt x="4953" y="11240"/>
                  <a:pt x="5013" y="11200"/>
                  <a:pt x="5060" y="11162"/>
                </a:cubicBezTo>
              </a:path>
              <a:path w="622" h="1316">
                <a:moveTo>
                  <a:pt x="4614" y="9996"/>
                </a:moveTo>
                <a:cubicBezTo>
                  <a:pt x="4635" y="9959"/>
                  <a:pt x="4654" y="9934"/>
                  <a:pt x="4663" y="9897"/>
                </a:cubicBezTo>
                <a:cubicBezTo>
                  <a:pt x="4614" y="9996"/>
                  <a:pt x="4569" y="10088"/>
                  <a:pt x="4539" y="10195"/>
                </a:cubicBezTo>
                <a:cubicBezTo>
                  <a:pt x="4491" y="10368"/>
                  <a:pt x="4514" y="10568"/>
                  <a:pt x="4564" y="10740"/>
                </a:cubicBezTo>
                <a:cubicBezTo>
                  <a:pt x="4599" y="10862"/>
                  <a:pt x="4627" y="11023"/>
                  <a:pt x="4688" y="11137"/>
                </a:cubicBezTo>
                <a:cubicBezTo>
                  <a:pt x="4713" y="11162"/>
                  <a:pt x="4721" y="11170"/>
                  <a:pt x="4738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43080" y="3483000"/>
            <a:ext cx="563760" cy="490680"/>
          </a:xfrm>
          <a:custGeom>
            <a:avLst/>
            <a:gdLst/>
            <a:ahLst/>
            <a:rect l="l" t="t" r="r" b="b"/>
            <a:pathLst>
              <a:path w="1564" h="1365">
                <a:moveTo>
                  <a:pt x="6176" y="9748"/>
                </a:moveTo>
                <a:cubicBezTo>
                  <a:pt x="6168" y="9740"/>
                  <a:pt x="6160" y="9731"/>
                  <a:pt x="6152" y="9723"/>
                </a:cubicBezTo>
                <a:cubicBezTo>
                  <a:pt x="6152" y="9889"/>
                  <a:pt x="6152" y="10054"/>
                  <a:pt x="6152" y="10220"/>
                </a:cubicBezTo>
                <a:cubicBezTo>
                  <a:pt x="6177" y="10150"/>
                  <a:pt x="6177" y="10089"/>
                  <a:pt x="6251" y="10046"/>
                </a:cubicBezTo>
                <a:cubicBezTo>
                  <a:pt x="6276" y="10046"/>
                  <a:pt x="6284" y="10046"/>
                  <a:pt x="6300" y="10046"/>
                </a:cubicBezTo>
                <a:cubicBezTo>
                  <a:pt x="6315" y="10073"/>
                  <a:pt x="6385" y="10160"/>
                  <a:pt x="6350" y="10195"/>
                </a:cubicBezTo>
                <a:cubicBezTo>
                  <a:pt x="6299" y="10246"/>
                  <a:pt x="6242" y="10244"/>
                  <a:pt x="6176" y="10244"/>
                </a:cubicBezTo>
                <a:cubicBezTo>
                  <a:pt x="6160" y="10244"/>
                  <a:pt x="6143" y="10244"/>
                  <a:pt x="6127" y="10244"/>
                </a:cubicBezTo>
              </a:path>
              <a:path w="1564" h="1365">
                <a:moveTo>
                  <a:pt x="6028" y="10939"/>
                </a:moveTo>
                <a:cubicBezTo>
                  <a:pt x="6013" y="10895"/>
                  <a:pt x="5973" y="10921"/>
                  <a:pt x="5953" y="10964"/>
                </a:cubicBezTo>
                <a:cubicBezTo>
                  <a:pt x="5934" y="11005"/>
                  <a:pt x="5957" y="11024"/>
                  <a:pt x="5978" y="11038"/>
                </a:cubicBezTo>
                <a:cubicBezTo>
                  <a:pt x="6083" y="11008"/>
                  <a:pt x="6054" y="10943"/>
                  <a:pt x="6077" y="10840"/>
                </a:cubicBezTo>
                <a:cubicBezTo>
                  <a:pt x="6094" y="10765"/>
                  <a:pt x="6091" y="10676"/>
                  <a:pt x="6127" y="10616"/>
                </a:cubicBezTo>
                <a:cubicBezTo>
                  <a:pt x="6142" y="10690"/>
                  <a:pt x="6154" y="10765"/>
                  <a:pt x="6176" y="10840"/>
                </a:cubicBezTo>
                <a:cubicBezTo>
                  <a:pt x="6194" y="10902"/>
                  <a:pt x="6212" y="10940"/>
                  <a:pt x="6251" y="10988"/>
                </a:cubicBezTo>
              </a:path>
              <a:path w="1564" h="1365">
                <a:moveTo>
                  <a:pt x="6424" y="9674"/>
                </a:moveTo>
                <a:cubicBezTo>
                  <a:pt x="6474" y="9674"/>
                  <a:pt x="6506" y="9691"/>
                  <a:pt x="6548" y="9723"/>
                </a:cubicBezTo>
                <a:cubicBezTo>
                  <a:pt x="6621" y="9777"/>
                  <a:pt x="6652" y="9887"/>
                  <a:pt x="6672" y="9971"/>
                </a:cubicBezTo>
                <a:cubicBezTo>
                  <a:pt x="6710" y="10130"/>
                  <a:pt x="6704" y="10284"/>
                  <a:pt x="6672" y="10443"/>
                </a:cubicBezTo>
                <a:cubicBezTo>
                  <a:pt x="6645" y="10579"/>
                  <a:pt x="6600" y="10692"/>
                  <a:pt x="6548" y="10815"/>
                </a:cubicBezTo>
                <a:cubicBezTo>
                  <a:pt x="6540" y="10840"/>
                  <a:pt x="6532" y="10864"/>
                  <a:pt x="6524" y="10889"/>
                </a:cubicBezTo>
              </a:path>
              <a:path w="1564" h="1365">
                <a:moveTo>
                  <a:pt x="7193" y="9971"/>
                </a:moveTo>
                <a:cubicBezTo>
                  <a:pt x="7193" y="9947"/>
                  <a:pt x="7193" y="9938"/>
                  <a:pt x="7193" y="9922"/>
                </a:cubicBezTo>
                <a:cubicBezTo>
                  <a:pt x="7237" y="9937"/>
                  <a:pt x="7218" y="9993"/>
                  <a:pt x="7218" y="10046"/>
                </a:cubicBezTo>
                <a:cubicBezTo>
                  <a:pt x="7218" y="10173"/>
                  <a:pt x="7251" y="10272"/>
                  <a:pt x="7268" y="10393"/>
                </a:cubicBezTo>
                <a:cubicBezTo>
                  <a:pt x="7276" y="10450"/>
                  <a:pt x="7282" y="10489"/>
                  <a:pt x="7293" y="10542"/>
                </a:cubicBezTo>
              </a:path>
              <a:path w="1564" h="1365">
                <a:moveTo>
                  <a:pt x="7218" y="10120"/>
                </a:moveTo>
                <a:cubicBezTo>
                  <a:pt x="7218" y="10072"/>
                  <a:pt x="7223" y="10010"/>
                  <a:pt x="7243" y="9971"/>
                </a:cubicBezTo>
                <a:cubicBezTo>
                  <a:pt x="7276" y="9907"/>
                  <a:pt x="7259" y="9879"/>
                  <a:pt x="7342" y="9872"/>
                </a:cubicBezTo>
                <a:cubicBezTo>
                  <a:pt x="7401" y="9867"/>
                  <a:pt x="7415" y="9978"/>
                  <a:pt x="7417" y="10021"/>
                </a:cubicBezTo>
                <a:cubicBezTo>
                  <a:pt x="7422" y="10105"/>
                  <a:pt x="7430" y="10138"/>
                  <a:pt x="7342" y="10145"/>
                </a:cubicBezTo>
                <a:cubicBezTo>
                  <a:pt x="7334" y="10145"/>
                  <a:pt x="7325" y="10145"/>
                  <a:pt x="7317" y="10145"/>
                </a:cubicBezTo>
              </a:path>
              <a:path w="1564" h="1365">
                <a:moveTo>
                  <a:pt x="7342" y="11013"/>
                </a:moveTo>
                <a:cubicBezTo>
                  <a:pt x="7334" y="11013"/>
                  <a:pt x="7325" y="11013"/>
                  <a:pt x="7317" y="11013"/>
                </a:cubicBezTo>
                <a:cubicBezTo>
                  <a:pt x="7317" y="10978"/>
                  <a:pt x="7298" y="10877"/>
                  <a:pt x="7342" y="10864"/>
                </a:cubicBezTo>
                <a:cubicBezTo>
                  <a:pt x="7390" y="10849"/>
                  <a:pt x="7465" y="10864"/>
                  <a:pt x="7516" y="10864"/>
                </a:cubicBezTo>
              </a:path>
              <a:path w="1564" h="1365">
                <a:moveTo>
                  <a:pt x="6995" y="9723"/>
                </a:moveTo>
                <a:cubicBezTo>
                  <a:pt x="7023" y="9723"/>
                  <a:pt x="7034" y="9721"/>
                  <a:pt x="7045" y="9699"/>
                </a:cubicBezTo>
                <a:cubicBezTo>
                  <a:pt x="7045" y="9754"/>
                  <a:pt x="7040" y="9770"/>
                  <a:pt x="7020" y="9823"/>
                </a:cubicBezTo>
                <a:cubicBezTo>
                  <a:pt x="6977" y="9941"/>
                  <a:pt x="6932" y="10069"/>
                  <a:pt x="6921" y="10195"/>
                </a:cubicBezTo>
                <a:cubicBezTo>
                  <a:pt x="6907" y="10353"/>
                  <a:pt x="6959" y="10522"/>
                  <a:pt x="7020" y="10666"/>
                </a:cubicBezTo>
                <a:cubicBezTo>
                  <a:pt x="7054" y="10745"/>
                  <a:pt x="7125" y="10884"/>
                  <a:pt x="7193" y="10939"/>
                </a:cubicBezTo>
                <a:cubicBezTo>
                  <a:pt x="7201" y="10939"/>
                  <a:pt x="7210" y="10939"/>
                  <a:pt x="7218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84320" y="3554280"/>
            <a:ext cx="277920" cy="366840"/>
          </a:xfrm>
          <a:custGeom>
            <a:avLst/>
            <a:gdLst/>
            <a:ahLst/>
            <a:rect l="l" t="t" r="r" b="b"/>
            <a:pathLst>
              <a:path w="770" h="1018">
                <a:moveTo>
                  <a:pt x="8086" y="9947"/>
                </a:moveTo>
                <a:cubicBezTo>
                  <a:pt x="8114" y="9910"/>
                  <a:pt x="8125" y="9904"/>
                  <a:pt x="8136" y="9872"/>
                </a:cubicBezTo>
                <a:cubicBezTo>
                  <a:pt x="8092" y="9916"/>
                  <a:pt x="8029" y="9958"/>
                  <a:pt x="8012" y="10021"/>
                </a:cubicBezTo>
                <a:cubicBezTo>
                  <a:pt x="8012" y="10063"/>
                  <a:pt x="8012" y="10071"/>
                  <a:pt x="8012" y="10096"/>
                </a:cubicBezTo>
                <a:cubicBezTo>
                  <a:pt x="8058" y="10096"/>
                  <a:pt x="8084" y="10089"/>
                  <a:pt x="8111" y="10046"/>
                </a:cubicBezTo>
                <a:cubicBezTo>
                  <a:pt x="8146" y="9991"/>
                  <a:pt x="8118" y="9985"/>
                  <a:pt x="8161" y="9971"/>
                </a:cubicBezTo>
                <a:cubicBezTo>
                  <a:pt x="8185" y="9979"/>
                  <a:pt x="8207" y="10022"/>
                  <a:pt x="8210" y="10046"/>
                </a:cubicBezTo>
                <a:cubicBezTo>
                  <a:pt x="8221" y="10134"/>
                  <a:pt x="8199" y="10213"/>
                  <a:pt x="8186" y="10294"/>
                </a:cubicBezTo>
                <a:cubicBezTo>
                  <a:pt x="8181" y="10323"/>
                  <a:pt x="8186" y="10362"/>
                  <a:pt x="8186" y="10393"/>
                </a:cubicBezTo>
                <a:cubicBezTo>
                  <a:pt x="8230" y="10382"/>
                  <a:pt x="8265" y="10343"/>
                  <a:pt x="8310" y="10319"/>
                </a:cubicBezTo>
                <a:cubicBezTo>
                  <a:pt x="8365" y="10289"/>
                  <a:pt x="8410" y="10273"/>
                  <a:pt x="8458" y="10244"/>
                </a:cubicBezTo>
              </a:path>
              <a:path w="770" h="1018">
                <a:moveTo>
                  <a:pt x="8235" y="10691"/>
                </a:moveTo>
                <a:cubicBezTo>
                  <a:pt x="8255" y="10650"/>
                  <a:pt x="8264" y="10644"/>
                  <a:pt x="8260" y="10616"/>
                </a:cubicBezTo>
                <a:cubicBezTo>
                  <a:pt x="8212" y="10628"/>
                  <a:pt x="8204" y="10672"/>
                  <a:pt x="8161" y="10691"/>
                </a:cubicBezTo>
                <a:cubicBezTo>
                  <a:pt x="8136" y="10691"/>
                  <a:pt x="8128" y="10691"/>
                  <a:pt x="8136" y="10716"/>
                </a:cubicBezTo>
                <a:cubicBezTo>
                  <a:pt x="8175" y="10744"/>
                  <a:pt x="8223" y="10740"/>
                  <a:pt x="8260" y="10765"/>
                </a:cubicBezTo>
                <a:cubicBezTo>
                  <a:pt x="8283" y="10780"/>
                  <a:pt x="8301" y="10836"/>
                  <a:pt x="8285" y="10864"/>
                </a:cubicBezTo>
                <a:cubicBezTo>
                  <a:pt x="8262" y="10887"/>
                  <a:pt x="8258" y="10895"/>
                  <a:pt x="8235" y="10889"/>
                </a:cubicBezTo>
              </a:path>
              <a:path w="770" h="1018">
                <a:moveTo>
                  <a:pt x="8607" y="9872"/>
                </a:moveTo>
                <a:cubicBezTo>
                  <a:pt x="8648" y="9913"/>
                  <a:pt x="8678" y="9944"/>
                  <a:pt x="8706" y="9996"/>
                </a:cubicBezTo>
                <a:cubicBezTo>
                  <a:pt x="8763" y="10105"/>
                  <a:pt x="8778" y="10197"/>
                  <a:pt x="8781" y="10319"/>
                </a:cubicBezTo>
                <a:cubicBezTo>
                  <a:pt x="8784" y="10446"/>
                  <a:pt x="8784" y="10594"/>
                  <a:pt x="8756" y="10716"/>
                </a:cubicBezTo>
                <a:cubicBezTo>
                  <a:pt x="8739" y="10787"/>
                  <a:pt x="8706" y="10822"/>
                  <a:pt x="8657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02000" y="3687840"/>
            <a:ext cx="71280" cy="81000"/>
          </a:xfrm>
          <a:custGeom>
            <a:avLst/>
            <a:gdLst/>
            <a:ahLst/>
            <a:rect l="l" t="t" r="r" b="b"/>
            <a:pathLst>
              <a:path w="199" h="225">
                <a:moveTo>
                  <a:pt x="9525" y="10244"/>
                </a:moveTo>
                <a:cubicBezTo>
                  <a:pt x="9578" y="10244"/>
                  <a:pt x="9562" y="10256"/>
                  <a:pt x="9599" y="10269"/>
                </a:cubicBezTo>
                <a:cubicBezTo>
                  <a:pt x="9575" y="10275"/>
                  <a:pt x="9521" y="10282"/>
                  <a:pt x="9500" y="10294"/>
                </a:cubicBezTo>
                <a:cubicBezTo>
                  <a:pt x="9478" y="10316"/>
                  <a:pt x="9473" y="10325"/>
                  <a:pt x="9451" y="10319"/>
                </a:cubicBezTo>
              </a:path>
              <a:path w="199" h="225">
                <a:moveTo>
                  <a:pt x="9575" y="10418"/>
                </a:moveTo>
                <a:cubicBezTo>
                  <a:pt x="9600" y="10422"/>
                  <a:pt x="9675" y="10443"/>
                  <a:pt x="9624" y="10443"/>
                </a:cubicBezTo>
                <a:cubicBezTo>
                  <a:pt x="9580" y="10443"/>
                  <a:pt x="9585" y="10441"/>
                  <a:pt x="9550" y="10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43200" y="3456000"/>
            <a:ext cx="241560" cy="608040"/>
          </a:xfrm>
          <a:custGeom>
            <a:avLst/>
            <a:gdLst/>
            <a:ahLst/>
            <a:rect l="l" t="t" r="r" b="b"/>
            <a:pathLst>
              <a:path w="671" h="1688">
                <a:moveTo>
                  <a:pt x="10666" y="9847"/>
                </a:moveTo>
                <a:cubicBezTo>
                  <a:pt x="10637" y="9810"/>
                  <a:pt x="10641" y="9796"/>
                  <a:pt x="10641" y="9748"/>
                </a:cubicBezTo>
                <a:cubicBezTo>
                  <a:pt x="10641" y="9740"/>
                  <a:pt x="10641" y="9731"/>
                  <a:pt x="10641" y="9723"/>
                </a:cubicBezTo>
                <a:cubicBezTo>
                  <a:pt x="10591" y="9757"/>
                  <a:pt x="10632" y="9828"/>
                  <a:pt x="10616" y="9897"/>
                </a:cubicBezTo>
                <a:cubicBezTo>
                  <a:pt x="10603" y="9955"/>
                  <a:pt x="10592" y="9983"/>
                  <a:pt x="10592" y="10046"/>
                </a:cubicBezTo>
              </a:path>
              <a:path w="671" h="1688">
                <a:moveTo>
                  <a:pt x="10716" y="10468"/>
                </a:moveTo>
                <a:cubicBezTo>
                  <a:pt x="10678" y="10495"/>
                  <a:pt x="10664" y="10492"/>
                  <a:pt x="10616" y="10492"/>
                </a:cubicBezTo>
                <a:cubicBezTo>
                  <a:pt x="10616" y="10431"/>
                  <a:pt x="10603" y="10366"/>
                  <a:pt x="10641" y="10319"/>
                </a:cubicBezTo>
                <a:cubicBezTo>
                  <a:pt x="10671" y="10281"/>
                  <a:pt x="10736" y="10278"/>
                  <a:pt x="10765" y="10319"/>
                </a:cubicBezTo>
                <a:cubicBezTo>
                  <a:pt x="10797" y="10364"/>
                  <a:pt x="10805" y="10463"/>
                  <a:pt x="10790" y="10517"/>
                </a:cubicBezTo>
                <a:cubicBezTo>
                  <a:pt x="10776" y="10567"/>
                  <a:pt x="10755" y="10624"/>
                  <a:pt x="10691" y="10592"/>
                </a:cubicBezTo>
                <a:cubicBezTo>
                  <a:pt x="10657" y="10575"/>
                  <a:pt x="10648" y="10500"/>
                  <a:pt x="10641" y="10468"/>
                </a:cubicBezTo>
              </a:path>
              <a:path w="671" h="1688">
                <a:moveTo>
                  <a:pt x="10319" y="9649"/>
                </a:moveTo>
                <a:cubicBezTo>
                  <a:pt x="10350" y="9628"/>
                  <a:pt x="10347" y="9631"/>
                  <a:pt x="10368" y="9599"/>
                </a:cubicBezTo>
                <a:cubicBezTo>
                  <a:pt x="10336" y="9632"/>
                  <a:pt x="10329" y="9661"/>
                  <a:pt x="10294" y="9723"/>
                </a:cubicBezTo>
                <a:cubicBezTo>
                  <a:pt x="10215" y="9864"/>
                  <a:pt x="10195" y="10009"/>
                  <a:pt x="10170" y="10170"/>
                </a:cubicBezTo>
                <a:cubicBezTo>
                  <a:pt x="10133" y="10405"/>
                  <a:pt x="10120" y="10627"/>
                  <a:pt x="10120" y="10864"/>
                </a:cubicBezTo>
                <a:cubicBezTo>
                  <a:pt x="10120" y="11005"/>
                  <a:pt x="10160" y="11126"/>
                  <a:pt x="10170" y="11261"/>
                </a:cubicBezTo>
                <a:cubicBezTo>
                  <a:pt x="10170" y="11269"/>
                  <a:pt x="10170" y="11278"/>
                  <a:pt x="10170" y="11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90960" y="3483000"/>
            <a:ext cx="196920" cy="339840"/>
          </a:xfrm>
          <a:custGeom>
            <a:avLst/>
            <a:gdLst/>
            <a:ahLst/>
            <a:rect l="l" t="t" r="r" b="b"/>
            <a:pathLst>
              <a:path w="546" h="943">
                <a:moveTo>
                  <a:pt x="11162" y="10170"/>
                </a:moveTo>
                <a:cubicBezTo>
                  <a:pt x="11139" y="10193"/>
                  <a:pt x="11135" y="10201"/>
                  <a:pt x="11112" y="10195"/>
                </a:cubicBezTo>
                <a:cubicBezTo>
                  <a:pt x="11112" y="10149"/>
                  <a:pt x="11110" y="10126"/>
                  <a:pt x="11162" y="10120"/>
                </a:cubicBezTo>
                <a:cubicBezTo>
                  <a:pt x="11225" y="10113"/>
                  <a:pt x="11253" y="10225"/>
                  <a:pt x="11261" y="10269"/>
                </a:cubicBezTo>
                <a:cubicBezTo>
                  <a:pt x="11276" y="10349"/>
                  <a:pt x="11260" y="10408"/>
                  <a:pt x="11212" y="10468"/>
                </a:cubicBezTo>
                <a:cubicBezTo>
                  <a:pt x="11161" y="10455"/>
                  <a:pt x="11101" y="10403"/>
                  <a:pt x="11088" y="10344"/>
                </a:cubicBezTo>
                <a:cubicBezTo>
                  <a:pt x="11088" y="10269"/>
                  <a:pt x="11088" y="10245"/>
                  <a:pt x="11088" y="10195"/>
                </a:cubicBezTo>
              </a:path>
              <a:path w="546" h="943">
                <a:moveTo>
                  <a:pt x="11137" y="10220"/>
                </a:moveTo>
                <a:cubicBezTo>
                  <a:pt x="11137" y="10288"/>
                  <a:pt x="11133" y="10176"/>
                  <a:pt x="11137" y="10170"/>
                </a:cubicBezTo>
                <a:cubicBezTo>
                  <a:pt x="11187" y="10080"/>
                  <a:pt x="11187" y="10251"/>
                  <a:pt x="11187" y="10269"/>
                </a:cubicBezTo>
                <a:cubicBezTo>
                  <a:pt x="11187" y="10351"/>
                  <a:pt x="11168" y="10415"/>
                  <a:pt x="11162" y="10492"/>
                </a:cubicBezTo>
                <a:cubicBezTo>
                  <a:pt x="11162" y="10500"/>
                  <a:pt x="11162" y="10509"/>
                  <a:pt x="11162" y="10517"/>
                </a:cubicBezTo>
                <a:cubicBezTo>
                  <a:pt x="11162" y="10407"/>
                  <a:pt x="11148" y="10296"/>
                  <a:pt x="11187" y="10195"/>
                </a:cubicBezTo>
                <a:cubicBezTo>
                  <a:pt x="11187" y="10127"/>
                  <a:pt x="11187" y="10302"/>
                  <a:pt x="11187" y="10319"/>
                </a:cubicBezTo>
                <a:cubicBezTo>
                  <a:pt x="11187" y="10341"/>
                  <a:pt x="11187" y="10501"/>
                  <a:pt x="11187" y="10443"/>
                </a:cubicBezTo>
                <a:cubicBezTo>
                  <a:pt x="11187" y="10372"/>
                  <a:pt x="11165" y="10314"/>
                  <a:pt x="11162" y="10244"/>
                </a:cubicBezTo>
                <a:cubicBezTo>
                  <a:pt x="11160" y="10203"/>
                  <a:pt x="11162" y="10161"/>
                  <a:pt x="11162" y="10120"/>
                </a:cubicBezTo>
                <a:cubicBezTo>
                  <a:pt x="11198" y="10144"/>
                  <a:pt x="11187" y="10187"/>
                  <a:pt x="11187" y="10244"/>
                </a:cubicBezTo>
                <a:cubicBezTo>
                  <a:pt x="11187" y="10294"/>
                  <a:pt x="11187" y="10343"/>
                  <a:pt x="11187" y="10393"/>
                </a:cubicBezTo>
                <a:cubicBezTo>
                  <a:pt x="11152" y="10346"/>
                  <a:pt x="11162" y="10306"/>
                  <a:pt x="11162" y="10244"/>
                </a:cubicBezTo>
                <a:cubicBezTo>
                  <a:pt x="11162" y="10221"/>
                  <a:pt x="11181" y="10116"/>
                  <a:pt x="11187" y="10195"/>
                </a:cubicBezTo>
                <a:cubicBezTo>
                  <a:pt x="11193" y="10277"/>
                  <a:pt x="11187" y="10361"/>
                  <a:pt x="11187" y="10443"/>
                </a:cubicBezTo>
              </a:path>
              <a:path w="546" h="943">
                <a:moveTo>
                  <a:pt x="11162" y="9872"/>
                </a:moveTo>
                <a:cubicBezTo>
                  <a:pt x="11120" y="9817"/>
                  <a:pt x="11144" y="9827"/>
                  <a:pt x="11162" y="9773"/>
                </a:cubicBezTo>
                <a:cubicBezTo>
                  <a:pt x="11174" y="9736"/>
                  <a:pt x="11196" y="9712"/>
                  <a:pt x="11237" y="9699"/>
                </a:cubicBezTo>
                <a:cubicBezTo>
                  <a:pt x="11295" y="9680"/>
                  <a:pt x="11314" y="9732"/>
                  <a:pt x="11336" y="9773"/>
                </a:cubicBezTo>
                <a:cubicBezTo>
                  <a:pt x="11379" y="9854"/>
                  <a:pt x="11362" y="9923"/>
                  <a:pt x="11311" y="9996"/>
                </a:cubicBezTo>
                <a:cubicBezTo>
                  <a:pt x="11264" y="10063"/>
                  <a:pt x="11218" y="10005"/>
                  <a:pt x="11187" y="9971"/>
                </a:cubicBezTo>
                <a:cubicBezTo>
                  <a:pt x="11158" y="9943"/>
                  <a:pt x="11150" y="9930"/>
                  <a:pt x="11162" y="9897"/>
                </a:cubicBezTo>
              </a:path>
              <a:path w="546" h="943">
                <a:moveTo>
                  <a:pt x="11485" y="9674"/>
                </a:moveTo>
                <a:cubicBezTo>
                  <a:pt x="11531" y="9674"/>
                  <a:pt x="11548" y="9668"/>
                  <a:pt x="11584" y="9699"/>
                </a:cubicBezTo>
                <a:cubicBezTo>
                  <a:pt x="11630" y="9739"/>
                  <a:pt x="11631" y="9813"/>
                  <a:pt x="11633" y="9872"/>
                </a:cubicBezTo>
                <a:cubicBezTo>
                  <a:pt x="11638" y="10034"/>
                  <a:pt x="11597" y="10196"/>
                  <a:pt x="11534" y="10344"/>
                </a:cubicBezTo>
                <a:cubicBezTo>
                  <a:pt x="11495" y="10435"/>
                  <a:pt x="11444" y="10516"/>
                  <a:pt x="11385" y="10592"/>
                </a:cubicBezTo>
                <a:cubicBezTo>
                  <a:pt x="11377" y="10600"/>
                  <a:pt x="11369" y="10608"/>
                  <a:pt x="11361" y="106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35000" y="4473720"/>
            <a:ext cx="206280" cy="447480"/>
          </a:xfrm>
          <a:custGeom>
            <a:avLst/>
            <a:gdLst/>
            <a:ahLst/>
            <a:rect l="l" t="t" r="r" b="b"/>
            <a:pathLst>
              <a:path w="572" h="1241">
                <a:moveTo>
                  <a:pt x="3225" y="12675"/>
                </a:moveTo>
                <a:cubicBezTo>
                  <a:pt x="3215" y="12636"/>
                  <a:pt x="3200" y="12621"/>
                  <a:pt x="3200" y="12576"/>
                </a:cubicBezTo>
                <a:cubicBezTo>
                  <a:pt x="3200" y="12641"/>
                  <a:pt x="3217" y="12687"/>
                  <a:pt x="3225" y="12750"/>
                </a:cubicBezTo>
              </a:path>
              <a:path w="572" h="1241">
                <a:moveTo>
                  <a:pt x="3175" y="13320"/>
                </a:moveTo>
                <a:cubicBezTo>
                  <a:pt x="3175" y="13312"/>
                  <a:pt x="3175" y="13303"/>
                  <a:pt x="3175" y="13295"/>
                </a:cubicBezTo>
                <a:cubicBezTo>
                  <a:pt x="3137" y="13308"/>
                  <a:pt x="3150" y="13325"/>
                  <a:pt x="3150" y="13370"/>
                </a:cubicBezTo>
                <a:cubicBezTo>
                  <a:pt x="3150" y="13414"/>
                  <a:pt x="3147" y="13428"/>
                  <a:pt x="3175" y="13444"/>
                </a:cubicBezTo>
              </a:path>
              <a:path w="572" h="1241">
                <a:moveTo>
                  <a:pt x="3274" y="13345"/>
                </a:moveTo>
                <a:cubicBezTo>
                  <a:pt x="3293" y="13288"/>
                  <a:pt x="3284" y="13263"/>
                  <a:pt x="3324" y="13271"/>
                </a:cubicBezTo>
                <a:cubicBezTo>
                  <a:pt x="3356" y="13313"/>
                  <a:pt x="3347" y="13349"/>
                  <a:pt x="3373" y="13395"/>
                </a:cubicBezTo>
              </a:path>
              <a:path w="572" h="1241">
                <a:moveTo>
                  <a:pt x="3101" y="13593"/>
                </a:moveTo>
                <a:cubicBezTo>
                  <a:pt x="3148" y="13609"/>
                  <a:pt x="3119" y="13638"/>
                  <a:pt x="3076" y="13643"/>
                </a:cubicBezTo>
                <a:cubicBezTo>
                  <a:pt x="3023" y="13649"/>
                  <a:pt x="3026" y="13687"/>
                  <a:pt x="2977" y="13643"/>
                </a:cubicBezTo>
                <a:cubicBezTo>
                  <a:pt x="2938" y="13609"/>
                  <a:pt x="2894" y="13569"/>
                  <a:pt x="2877" y="13519"/>
                </a:cubicBezTo>
                <a:cubicBezTo>
                  <a:pt x="2855" y="13453"/>
                  <a:pt x="2876" y="13329"/>
                  <a:pt x="2902" y="13271"/>
                </a:cubicBezTo>
                <a:cubicBezTo>
                  <a:pt x="2947" y="13171"/>
                  <a:pt x="2970" y="13139"/>
                  <a:pt x="3051" y="13072"/>
                </a:cubicBezTo>
                <a:cubicBezTo>
                  <a:pt x="3112" y="13021"/>
                  <a:pt x="3166" y="13001"/>
                  <a:pt x="3249" y="12998"/>
                </a:cubicBezTo>
                <a:cubicBezTo>
                  <a:pt x="3356" y="12993"/>
                  <a:pt x="3385" y="13026"/>
                  <a:pt x="3423" y="13122"/>
                </a:cubicBezTo>
                <a:cubicBezTo>
                  <a:pt x="3464" y="13225"/>
                  <a:pt x="3459" y="13340"/>
                  <a:pt x="3423" y="13444"/>
                </a:cubicBezTo>
                <a:cubicBezTo>
                  <a:pt x="3395" y="13523"/>
                  <a:pt x="3342" y="13577"/>
                  <a:pt x="3274" y="13618"/>
                </a:cubicBezTo>
                <a:cubicBezTo>
                  <a:pt x="3258" y="13626"/>
                  <a:pt x="3241" y="13635"/>
                  <a:pt x="3225" y="13643"/>
                </a:cubicBezTo>
              </a:path>
              <a:path w="572" h="1241">
                <a:moveTo>
                  <a:pt x="3175" y="12799"/>
                </a:moveTo>
                <a:cubicBezTo>
                  <a:pt x="3194" y="12855"/>
                  <a:pt x="3194" y="12810"/>
                  <a:pt x="3175" y="12849"/>
                </a:cubicBezTo>
                <a:cubicBezTo>
                  <a:pt x="3149" y="12902"/>
                  <a:pt x="3144" y="12898"/>
                  <a:pt x="3076" y="12898"/>
                </a:cubicBezTo>
                <a:cubicBezTo>
                  <a:pt x="3028" y="12898"/>
                  <a:pt x="2983" y="12893"/>
                  <a:pt x="2952" y="12849"/>
                </a:cubicBezTo>
                <a:cubicBezTo>
                  <a:pt x="2919" y="12803"/>
                  <a:pt x="2905" y="12729"/>
                  <a:pt x="2902" y="12675"/>
                </a:cubicBezTo>
                <a:cubicBezTo>
                  <a:pt x="2898" y="12605"/>
                  <a:pt x="2954" y="12552"/>
                  <a:pt x="3001" y="12502"/>
                </a:cubicBezTo>
                <a:cubicBezTo>
                  <a:pt x="3057" y="12442"/>
                  <a:pt x="3115" y="12408"/>
                  <a:pt x="3200" y="12427"/>
                </a:cubicBezTo>
                <a:cubicBezTo>
                  <a:pt x="3303" y="12450"/>
                  <a:pt x="3354" y="12526"/>
                  <a:pt x="3373" y="12626"/>
                </a:cubicBezTo>
                <a:cubicBezTo>
                  <a:pt x="3390" y="12715"/>
                  <a:pt x="3330" y="12790"/>
                  <a:pt x="3274" y="12849"/>
                </a:cubicBezTo>
                <a:cubicBezTo>
                  <a:pt x="3258" y="12865"/>
                  <a:pt x="3241" y="12882"/>
                  <a:pt x="3225" y="12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24040" y="4483080"/>
            <a:ext cx="222120" cy="231840"/>
          </a:xfrm>
          <a:custGeom>
            <a:avLst/>
            <a:gdLst/>
            <a:ahLst/>
            <a:rect l="l" t="t" r="r" b="b"/>
            <a:pathLst>
              <a:path w="621" h="646">
                <a:moveTo>
                  <a:pt x="4911" y="12551"/>
                </a:moveTo>
                <a:cubicBezTo>
                  <a:pt x="4940" y="12513"/>
                  <a:pt x="4936" y="12500"/>
                  <a:pt x="4936" y="12452"/>
                </a:cubicBezTo>
                <a:cubicBezTo>
                  <a:pt x="4875" y="12467"/>
                  <a:pt x="4843" y="12520"/>
                  <a:pt x="4812" y="12576"/>
                </a:cubicBezTo>
                <a:cubicBezTo>
                  <a:pt x="4791" y="12614"/>
                  <a:pt x="4750" y="12751"/>
                  <a:pt x="4812" y="12774"/>
                </a:cubicBezTo>
                <a:cubicBezTo>
                  <a:pt x="4880" y="12800"/>
                  <a:pt x="4925" y="12700"/>
                  <a:pt x="4936" y="12650"/>
                </a:cubicBezTo>
                <a:cubicBezTo>
                  <a:pt x="4936" y="12609"/>
                  <a:pt x="4928" y="12593"/>
                  <a:pt x="4961" y="12601"/>
                </a:cubicBezTo>
                <a:cubicBezTo>
                  <a:pt x="5022" y="12616"/>
                  <a:pt x="5032" y="12669"/>
                  <a:pt x="5060" y="12725"/>
                </a:cubicBezTo>
                <a:cubicBezTo>
                  <a:pt x="5080" y="12765"/>
                  <a:pt x="5089" y="12771"/>
                  <a:pt x="5085" y="12799"/>
                </a:cubicBezTo>
              </a:path>
              <a:path w="621" h="646">
                <a:moveTo>
                  <a:pt x="5159" y="12675"/>
                </a:moveTo>
                <a:cubicBezTo>
                  <a:pt x="5179" y="12615"/>
                  <a:pt x="5178" y="12600"/>
                  <a:pt x="5209" y="12576"/>
                </a:cubicBezTo>
                <a:cubicBezTo>
                  <a:pt x="5224" y="12648"/>
                  <a:pt x="5252" y="12722"/>
                  <a:pt x="5259" y="12799"/>
                </a:cubicBezTo>
                <a:cubicBezTo>
                  <a:pt x="5268" y="12904"/>
                  <a:pt x="5275" y="12999"/>
                  <a:pt x="5308" y="13097"/>
                </a:cubicBezTo>
              </a:path>
              <a:path w="621" h="646">
                <a:moveTo>
                  <a:pt x="5283" y="12700"/>
                </a:moveTo>
                <a:cubicBezTo>
                  <a:pt x="5249" y="12618"/>
                  <a:pt x="5263" y="12632"/>
                  <a:pt x="5283" y="12551"/>
                </a:cubicBezTo>
                <a:cubicBezTo>
                  <a:pt x="5291" y="12517"/>
                  <a:pt x="5303" y="12446"/>
                  <a:pt x="5358" y="12477"/>
                </a:cubicBezTo>
                <a:cubicBezTo>
                  <a:pt x="5414" y="12508"/>
                  <a:pt x="5423" y="12622"/>
                  <a:pt x="5407" y="12675"/>
                </a:cubicBezTo>
                <a:cubicBezTo>
                  <a:pt x="5387" y="12742"/>
                  <a:pt x="5345" y="12750"/>
                  <a:pt x="5283" y="12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08160" y="4340160"/>
            <a:ext cx="741240" cy="214200"/>
          </a:xfrm>
          <a:custGeom>
            <a:avLst/>
            <a:gdLst/>
            <a:ahLst/>
            <a:rect l="l" t="t" r="r" b="b"/>
            <a:pathLst>
              <a:path w="2060" h="596">
                <a:moveTo>
                  <a:pt x="6003" y="12502"/>
                </a:moveTo>
                <a:cubicBezTo>
                  <a:pt x="6052" y="12480"/>
                  <a:pt x="6054" y="12477"/>
                  <a:pt x="6102" y="12477"/>
                </a:cubicBezTo>
                <a:cubicBezTo>
                  <a:pt x="6062" y="12501"/>
                  <a:pt x="6003" y="12514"/>
                  <a:pt x="5953" y="12526"/>
                </a:cubicBezTo>
                <a:cubicBezTo>
                  <a:pt x="5923" y="12533"/>
                  <a:pt x="5885" y="12526"/>
                  <a:pt x="5854" y="12526"/>
                </a:cubicBezTo>
              </a:path>
              <a:path w="2060" h="596">
                <a:moveTo>
                  <a:pt x="5928" y="12402"/>
                </a:moveTo>
                <a:cubicBezTo>
                  <a:pt x="5928" y="12346"/>
                  <a:pt x="5952" y="12502"/>
                  <a:pt x="5953" y="12526"/>
                </a:cubicBezTo>
                <a:cubicBezTo>
                  <a:pt x="5953" y="12543"/>
                  <a:pt x="5953" y="12559"/>
                  <a:pt x="5953" y="12576"/>
                </a:cubicBezTo>
              </a:path>
              <a:path w="2060" h="596">
                <a:moveTo>
                  <a:pt x="6449" y="12303"/>
                </a:moveTo>
                <a:cubicBezTo>
                  <a:pt x="6449" y="12225"/>
                  <a:pt x="6436" y="12143"/>
                  <a:pt x="6474" y="12080"/>
                </a:cubicBezTo>
                <a:cubicBezTo>
                  <a:pt x="6474" y="12006"/>
                  <a:pt x="6474" y="12204"/>
                  <a:pt x="6474" y="12204"/>
                </a:cubicBezTo>
                <a:cubicBezTo>
                  <a:pt x="6490" y="12317"/>
                  <a:pt x="6499" y="12412"/>
                  <a:pt x="6499" y="12526"/>
                </a:cubicBezTo>
                <a:cubicBezTo>
                  <a:pt x="6499" y="12534"/>
                  <a:pt x="6499" y="12543"/>
                  <a:pt x="6499" y="12551"/>
                </a:cubicBezTo>
                <a:cubicBezTo>
                  <a:pt x="6532" y="12507"/>
                  <a:pt x="6533" y="12474"/>
                  <a:pt x="6598" y="12452"/>
                </a:cubicBezTo>
                <a:cubicBezTo>
                  <a:pt x="6662" y="12431"/>
                  <a:pt x="6691" y="12473"/>
                  <a:pt x="6697" y="12526"/>
                </a:cubicBezTo>
                <a:cubicBezTo>
                  <a:pt x="6705" y="12594"/>
                  <a:pt x="6693" y="12627"/>
                  <a:pt x="6623" y="12650"/>
                </a:cubicBezTo>
                <a:cubicBezTo>
                  <a:pt x="6582" y="12663"/>
                  <a:pt x="6551" y="12623"/>
                  <a:pt x="6524" y="12601"/>
                </a:cubicBezTo>
              </a:path>
              <a:path w="2060" h="596">
                <a:moveTo>
                  <a:pt x="6896" y="12551"/>
                </a:moveTo>
                <a:cubicBezTo>
                  <a:pt x="6904" y="12559"/>
                  <a:pt x="6913" y="12568"/>
                  <a:pt x="6921" y="12576"/>
                </a:cubicBezTo>
                <a:cubicBezTo>
                  <a:pt x="6921" y="12482"/>
                  <a:pt x="6902" y="12433"/>
                  <a:pt x="6970" y="12378"/>
                </a:cubicBezTo>
                <a:cubicBezTo>
                  <a:pt x="7016" y="12341"/>
                  <a:pt x="7061" y="12353"/>
                  <a:pt x="7119" y="12353"/>
                </a:cubicBezTo>
              </a:path>
              <a:path w="2060" h="596">
                <a:moveTo>
                  <a:pt x="7466" y="12328"/>
                </a:moveTo>
                <a:cubicBezTo>
                  <a:pt x="7508" y="12328"/>
                  <a:pt x="7516" y="12328"/>
                  <a:pt x="7541" y="12328"/>
                </a:cubicBezTo>
                <a:cubicBezTo>
                  <a:pt x="7491" y="12298"/>
                  <a:pt x="7454" y="12303"/>
                  <a:pt x="7392" y="12303"/>
                </a:cubicBezTo>
                <a:cubicBezTo>
                  <a:pt x="7367" y="12303"/>
                  <a:pt x="7359" y="12303"/>
                  <a:pt x="7342" y="12303"/>
                </a:cubicBezTo>
              </a:path>
              <a:path w="2060" h="596">
                <a:moveTo>
                  <a:pt x="7541" y="12452"/>
                </a:moveTo>
                <a:cubicBezTo>
                  <a:pt x="7565" y="12452"/>
                  <a:pt x="7574" y="12452"/>
                  <a:pt x="7590" y="12452"/>
                </a:cubicBezTo>
                <a:cubicBezTo>
                  <a:pt x="7551" y="12442"/>
                  <a:pt x="7515" y="12411"/>
                  <a:pt x="7466" y="12427"/>
                </a:cubicBezTo>
                <a:cubicBezTo>
                  <a:pt x="7426" y="12447"/>
                  <a:pt x="7420" y="12456"/>
                  <a:pt x="7392" y="12452"/>
                </a:cubicBezTo>
              </a:path>
              <a:path w="2060" h="596">
                <a:moveTo>
                  <a:pt x="7838" y="12204"/>
                </a:moveTo>
                <a:cubicBezTo>
                  <a:pt x="7838" y="12179"/>
                  <a:pt x="7838" y="12154"/>
                  <a:pt x="7838" y="12129"/>
                </a:cubicBezTo>
                <a:cubicBezTo>
                  <a:pt x="7915" y="12168"/>
                  <a:pt x="7873" y="12224"/>
                  <a:pt x="7888" y="12303"/>
                </a:cubicBezTo>
                <a:cubicBezTo>
                  <a:pt x="7902" y="12375"/>
                  <a:pt x="7913" y="12427"/>
                  <a:pt x="7913" y="125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16160" y="4303800"/>
            <a:ext cx="563760" cy="144360"/>
          </a:xfrm>
          <a:custGeom>
            <a:avLst/>
            <a:gdLst/>
            <a:ahLst/>
            <a:rect l="l" t="t" r="r" b="b"/>
            <a:pathLst>
              <a:path w="1564" h="398">
                <a:moveTo>
                  <a:pt x="8682" y="12353"/>
                </a:moveTo>
                <a:cubicBezTo>
                  <a:pt x="8700" y="12317"/>
                  <a:pt x="8701" y="12330"/>
                  <a:pt x="8731" y="12303"/>
                </a:cubicBezTo>
                <a:cubicBezTo>
                  <a:pt x="8757" y="12279"/>
                  <a:pt x="8785" y="12287"/>
                  <a:pt x="8830" y="12254"/>
                </a:cubicBezTo>
                <a:cubicBezTo>
                  <a:pt x="8866" y="12227"/>
                  <a:pt x="8955" y="12190"/>
                  <a:pt x="9004" y="12179"/>
                </a:cubicBezTo>
                <a:cubicBezTo>
                  <a:pt x="9067" y="12165"/>
                  <a:pt x="9141" y="12171"/>
                  <a:pt x="9203" y="12154"/>
                </a:cubicBezTo>
                <a:cubicBezTo>
                  <a:pt x="9269" y="12136"/>
                  <a:pt x="9336" y="12146"/>
                  <a:pt x="9401" y="12129"/>
                </a:cubicBezTo>
                <a:cubicBezTo>
                  <a:pt x="9489" y="12106"/>
                  <a:pt x="9584" y="12085"/>
                  <a:pt x="9674" y="12080"/>
                </a:cubicBezTo>
                <a:cubicBezTo>
                  <a:pt x="9794" y="12073"/>
                  <a:pt x="9914" y="12076"/>
                  <a:pt x="10021" y="12055"/>
                </a:cubicBezTo>
                <a:cubicBezTo>
                  <a:pt x="10075" y="12044"/>
                  <a:pt x="10155" y="12048"/>
                  <a:pt x="10195" y="12080"/>
                </a:cubicBezTo>
                <a:cubicBezTo>
                  <a:pt x="10216" y="12097"/>
                  <a:pt x="10231" y="12106"/>
                  <a:pt x="10220" y="12154"/>
                </a:cubicBezTo>
                <a:cubicBezTo>
                  <a:pt x="10212" y="12188"/>
                  <a:pt x="10161" y="12276"/>
                  <a:pt x="10145" y="12303"/>
                </a:cubicBezTo>
                <a:cubicBezTo>
                  <a:pt x="10129" y="12330"/>
                  <a:pt x="10095" y="12333"/>
                  <a:pt x="10071" y="12353"/>
                </a:cubicBezTo>
                <a:cubicBezTo>
                  <a:pt x="10078" y="12294"/>
                  <a:pt x="10098" y="12261"/>
                  <a:pt x="10120" y="12204"/>
                </a:cubicBezTo>
                <a:cubicBezTo>
                  <a:pt x="10135" y="12164"/>
                  <a:pt x="10188" y="12121"/>
                  <a:pt x="10195" y="12105"/>
                </a:cubicBezTo>
                <a:cubicBezTo>
                  <a:pt x="10213" y="12066"/>
                  <a:pt x="10174" y="12024"/>
                  <a:pt x="10145" y="12005"/>
                </a:cubicBezTo>
                <a:cubicBezTo>
                  <a:pt x="10093" y="11972"/>
                  <a:pt x="10053" y="11963"/>
                  <a:pt x="9996" y="119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71720" y="5089680"/>
            <a:ext cx="142560" cy="80640"/>
          </a:xfrm>
          <a:custGeom>
            <a:avLst/>
            <a:gdLst/>
            <a:ahLst/>
            <a:rect l="l" t="t" r="r" b="b"/>
            <a:pathLst>
              <a:path w="397" h="224">
                <a:moveTo>
                  <a:pt x="2977" y="14163"/>
                </a:moveTo>
                <a:cubicBezTo>
                  <a:pt x="2977" y="14155"/>
                  <a:pt x="2977" y="14147"/>
                  <a:pt x="2977" y="14139"/>
                </a:cubicBezTo>
                <a:cubicBezTo>
                  <a:pt x="3024" y="14155"/>
                  <a:pt x="2985" y="14169"/>
                  <a:pt x="3001" y="14213"/>
                </a:cubicBezTo>
                <a:cubicBezTo>
                  <a:pt x="3021" y="14268"/>
                  <a:pt x="3018" y="14318"/>
                  <a:pt x="3051" y="14362"/>
                </a:cubicBezTo>
              </a:path>
              <a:path w="397" h="224">
                <a:moveTo>
                  <a:pt x="3125" y="14188"/>
                </a:moveTo>
                <a:cubicBezTo>
                  <a:pt x="3125" y="14180"/>
                  <a:pt x="3125" y="14171"/>
                  <a:pt x="3125" y="14163"/>
                </a:cubicBezTo>
                <a:cubicBezTo>
                  <a:pt x="3175" y="14176"/>
                  <a:pt x="3186" y="14217"/>
                  <a:pt x="3200" y="14263"/>
                </a:cubicBezTo>
                <a:cubicBezTo>
                  <a:pt x="3200" y="14288"/>
                  <a:pt x="3200" y="14296"/>
                  <a:pt x="3200" y="14312"/>
                </a:cubicBezTo>
              </a:path>
              <a:path w="397" h="224">
                <a:moveTo>
                  <a:pt x="3249" y="14163"/>
                </a:moveTo>
                <a:cubicBezTo>
                  <a:pt x="3282" y="14139"/>
                  <a:pt x="3332" y="14128"/>
                  <a:pt x="3349" y="14188"/>
                </a:cubicBezTo>
                <a:cubicBezTo>
                  <a:pt x="3364" y="14241"/>
                  <a:pt x="3353" y="14282"/>
                  <a:pt x="3373" y="143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24040" y="4616280"/>
            <a:ext cx="1892160" cy="393840"/>
          </a:xfrm>
          <a:custGeom>
            <a:avLst/>
            <a:gdLst/>
            <a:ahLst/>
            <a:rect l="l" t="t" r="r" b="b"/>
            <a:pathLst>
              <a:path w="5260" h="1092">
                <a:moveTo>
                  <a:pt x="4911" y="13419"/>
                </a:moveTo>
                <a:cubicBezTo>
                  <a:pt x="4911" y="13375"/>
                  <a:pt x="4926" y="13359"/>
                  <a:pt x="4936" y="13320"/>
                </a:cubicBezTo>
                <a:cubicBezTo>
                  <a:pt x="4879" y="13334"/>
                  <a:pt x="4843" y="13366"/>
                  <a:pt x="4812" y="13419"/>
                </a:cubicBezTo>
                <a:cubicBezTo>
                  <a:pt x="4785" y="13464"/>
                  <a:pt x="4767" y="13504"/>
                  <a:pt x="4812" y="13519"/>
                </a:cubicBezTo>
                <a:cubicBezTo>
                  <a:pt x="4846" y="13496"/>
                  <a:pt x="4840" y="13432"/>
                  <a:pt x="4887" y="13395"/>
                </a:cubicBezTo>
                <a:cubicBezTo>
                  <a:pt x="4930" y="13361"/>
                  <a:pt x="4987" y="13445"/>
                  <a:pt x="5011" y="13469"/>
                </a:cubicBezTo>
                <a:cubicBezTo>
                  <a:pt x="5035" y="13494"/>
                  <a:pt x="5043" y="13503"/>
                  <a:pt x="5060" y="13519"/>
                </a:cubicBezTo>
              </a:path>
              <a:path w="5260" h="1092">
                <a:moveTo>
                  <a:pt x="5333" y="13345"/>
                </a:moveTo>
                <a:cubicBezTo>
                  <a:pt x="5355" y="13295"/>
                  <a:pt x="5358" y="13294"/>
                  <a:pt x="5358" y="13246"/>
                </a:cubicBezTo>
                <a:cubicBezTo>
                  <a:pt x="5310" y="13246"/>
                  <a:pt x="5272" y="13269"/>
                  <a:pt x="5259" y="13320"/>
                </a:cubicBezTo>
                <a:cubicBezTo>
                  <a:pt x="5250" y="13356"/>
                  <a:pt x="5259" y="13407"/>
                  <a:pt x="5259" y="13444"/>
                </a:cubicBezTo>
                <a:cubicBezTo>
                  <a:pt x="5302" y="13433"/>
                  <a:pt x="5325" y="13403"/>
                  <a:pt x="5358" y="13370"/>
                </a:cubicBezTo>
                <a:cubicBezTo>
                  <a:pt x="5397" y="13435"/>
                  <a:pt x="5383" y="13513"/>
                  <a:pt x="5383" y="13593"/>
                </a:cubicBezTo>
                <a:cubicBezTo>
                  <a:pt x="5383" y="13641"/>
                  <a:pt x="5351" y="13813"/>
                  <a:pt x="5407" y="13841"/>
                </a:cubicBezTo>
                <a:cubicBezTo>
                  <a:pt x="5471" y="13873"/>
                  <a:pt x="5519" y="13804"/>
                  <a:pt x="5556" y="13767"/>
                </a:cubicBezTo>
                <a:cubicBezTo>
                  <a:pt x="5604" y="13719"/>
                  <a:pt x="5641" y="13717"/>
                  <a:pt x="5705" y="13717"/>
                </a:cubicBezTo>
              </a:path>
              <a:path w="5260" h="1092">
                <a:moveTo>
                  <a:pt x="6176" y="13271"/>
                </a:moveTo>
                <a:cubicBezTo>
                  <a:pt x="6184" y="13271"/>
                  <a:pt x="6193" y="13271"/>
                  <a:pt x="6201" y="13271"/>
                </a:cubicBezTo>
                <a:cubicBezTo>
                  <a:pt x="6160" y="13281"/>
                  <a:pt x="6115" y="13312"/>
                  <a:pt x="6077" y="13320"/>
                </a:cubicBezTo>
                <a:cubicBezTo>
                  <a:pt x="6041" y="13327"/>
                  <a:pt x="5991" y="13320"/>
                  <a:pt x="5953" y="13320"/>
                </a:cubicBezTo>
              </a:path>
              <a:path w="5260" h="1092">
                <a:moveTo>
                  <a:pt x="6052" y="13221"/>
                </a:moveTo>
                <a:cubicBezTo>
                  <a:pt x="6072" y="13180"/>
                  <a:pt x="6070" y="13164"/>
                  <a:pt x="6102" y="13171"/>
                </a:cubicBezTo>
                <a:cubicBezTo>
                  <a:pt x="6102" y="13254"/>
                  <a:pt x="6102" y="13336"/>
                  <a:pt x="6102" y="13419"/>
                </a:cubicBezTo>
              </a:path>
              <a:path w="5260" h="1092">
                <a:moveTo>
                  <a:pt x="6449" y="12948"/>
                </a:moveTo>
                <a:cubicBezTo>
                  <a:pt x="6449" y="12931"/>
                  <a:pt x="6449" y="12915"/>
                  <a:pt x="6449" y="12898"/>
                </a:cubicBezTo>
                <a:cubicBezTo>
                  <a:pt x="6449" y="13022"/>
                  <a:pt x="6449" y="13147"/>
                  <a:pt x="6449" y="13271"/>
                </a:cubicBezTo>
                <a:cubicBezTo>
                  <a:pt x="6476" y="13238"/>
                  <a:pt x="6497" y="13204"/>
                  <a:pt x="6524" y="13171"/>
                </a:cubicBezTo>
                <a:cubicBezTo>
                  <a:pt x="6588" y="13187"/>
                  <a:pt x="6593" y="13231"/>
                  <a:pt x="6598" y="13295"/>
                </a:cubicBezTo>
                <a:cubicBezTo>
                  <a:pt x="6603" y="13355"/>
                  <a:pt x="6543" y="13366"/>
                  <a:pt x="6499" y="13370"/>
                </a:cubicBezTo>
                <a:cubicBezTo>
                  <a:pt x="6474" y="13370"/>
                  <a:pt x="6466" y="13370"/>
                  <a:pt x="6449" y="13370"/>
                </a:cubicBezTo>
              </a:path>
              <a:path w="5260" h="1092">
                <a:moveTo>
                  <a:pt x="6772" y="13072"/>
                </a:moveTo>
                <a:cubicBezTo>
                  <a:pt x="6832" y="13020"/>
                  <a:pt x="6808" y="13022"/>
                  <a:pt x="6871" y="13022"/>
                </a:cubicBezTo>
                <a:cubicBezTo>
                  <a:pt x="6843" y="13050"/>
                  <a:pt x="6804" y="13076"/>
                  <a:pt x="6821" y="13122"/>
                </a:cubicBezTo>
                <a:cubicBezTo>
                  <a:pt x="6847" y="13193"/>
                  <a:pt x="6891" y="13205"/>
                  <a:pt x="6945" y="13246"/>
                </a:cubicBezTo>
                <a:cubicBezTo>
                  <a:pt x="6991" y="13281"/>
                  <a:pt x="6969" y="13315"/>
                  <a:pt x="6921" y="13320"/>
                </a:cubicBezTo>
                <a:cubicBezTo>
                  <a:pt x="6896" y="13320"/>
                  <a:pt x="6888" y="13320"/>
                  <a:pt x="6871" y="13320"/>
                </a:cubicBezTo>
              </a:path>
              <a:path w="5260" h="1092">
                <a:moveTo>
                  <a:pt x="7590" y="13022"/>
                </a:moveTo>
                <a:cubicBezTo>
                  <a:pt x="7647" y="13013"/>
                  <a:pt x="7666" y="13016"/>
                  <a:pt x="7615" y="13022"/>
                </a:cubicBezTo>
                <a:cubicBezTo>
                  <a:pt x="7576" y="13027"/>
                  <a:pt x="7547" y="13048"/>
                  <a:pt x="7516" y="13072"/>
                </a:cubicBezTo>
              </a:path>
              <a:path w="5260" h="1092">
                <a:moveTo>
                  <a:pt x="7640" y="13122"/>
                </a:moveTo>
                <a:cubicBezTo>
                  <a:pt x="7665" y="13122"/>
                  <a:pt x="7673" y="13122"/>
                  <a:pt x="7689" y="13122"/>
                </a:cubicBezTo>
                <a:cubicBezTo>
                  <a:pt x="7677" y="13157"/>
                  <a:pt x="7653" y="13155"/>
                  <a:pt x="7615" y="13171"/>
                </a:cubicBezTo>
                <a:cubicBezTo>
                  <a:pt x="7598" y="13179"/>
                  <a:pt x="7582" y="13188"/>
                  <a:pt x="7565" y="13196"/>
                </a:cubicBezTo>
              </a:path>
              <a:path w="5260" h="1092">
                <a:moveTo>
                  <a:pt x="7938" y="13097"/>
                </a:moveTo>
                <a:cubicBezTo>
                  <a:pt x="7938" y="13031"/>
                  <a:pt x="7923" y="12956"/>
                  <a:pt x="7962" y="12898"/>
                </a:cubicBezTo>
                <a:cubicBezTo>
                  <a:pt x="7995" y="12848"/>
                  <a:pt x="8015" y="12803"/>
                  <a:pt x="8086" y="12824"/>
                </a:cubicBezTo>
                <a:cubicBezTo>
                  <a:pt x="8191" y="12855"/>
                  <a:pt x="8183" y="12986"/>
                  <a:pt x="8186" y="13072"/>
                </a:cubicBezTo>
                <a:cubicBezTo>
                  <a:pt x="8188" y="13139"/>
                  <a:pt x="8158" y="13271"/>
                  <a:pt x="8062" y="13271"/>
                </a:cubicBezTo>
                <a:cubicBezTo>
                  <a:pt x="7956" y="13271"/>
                  <a:pt x="7945" y="13171"/>
                  <a:pt x="7938" y="13097"/>
                </a:cubicBezTo>
              </a:path>
              <a:path w="5260" h="1092">
                <a:moveTo>
                  <a:pt x="8706" y="13146"/>
                </a:moveTo>
                <a:cubicBezTo>
                  <a:pt x="8804" y="13146"/>
                  <a:pt x="8893" y="13138"/>
                  <a:pt x="8979" y="13122"/>
                </a:cubicBezTo>
                <a:cubicBezTo>
                  <a:pt x="9043" y="13110"/>
                  <a:pt x="9116" y="13107"/>
                  <a:pt x="9178" y="13097"/>
                </a:cubicBezTo>
                <a:cubicBezTo>
                  <a:pt x="9238" y="13087"/>
                  <a:pt x="9288" y="13075"/>
                  <a:pt x="9351" y="13072"/>
                </a:cubicBezTo>
                <a:cubicBezTo>
                  <a:pt x="9425" y="13068"/>
                  <a:pt x="9482" y="13059"/>
                  <a:pt x="9550" y="13047"/>
                </a:cubicBezTo>
                <a:cubicBezTo>
                  <a:pt x="9645" y="13031"/>
                  <a:pt x="9763" y="13035"/>
                  <a:pt x="9847" y="13022"/>
                </a:cubicBezTo>
                <a:cubicBezTo>
                  <a:pt x="9910" y="13013"/>
                  <a:pt x="9982" y="13022"/>
                  <a:pt x="10046" y="13022"/>
                </a:cubicBezTo>
                <a:cubicBezTo>
                  <a:pt x="10039" y="13073"/>
                  <a:pt x="10008" y="13080"/>
                  <a:pt x="9996" y="13122"/>
                </a:cubicBezTo>
                <a:cubicBezTo>
                  <a:pt x="9979" y="13181"/>
                  <a:pt x="9969" y="13219"/>
                  <a:pt x="9922" y="13271"/>
                </a:cubicBezTo>
                <a:cubicBezTo>
                  <a:pt x="9884" y="13313"/>
                  <a:pt x="9874" y="13313"/>
                  <a:pt x="9823" y="13320"/>
                </a:cubicBezTo>
                <a:cubicBezTo>
                  <a:pt x="9830" y="13268"/>
                  <a:pt x="9831" y="13262"/>
                  <a:pt x="9872" y="13221"/>
                </a:cubicBezTo>
                <a:cubicBezTo>
                  <a:pt x="9911" y="13182"/>
                  <a:pt x="10024" y="13103"/>
                  <a:pt x="10021" y="13047"/>
                </a:cubicBezTo>
                <a:cubicBezTo>
                  <a:pt x="10020" y="13022"/>
                  <a:pt x="9977" y="12954"/>
                  <a:pt x="9947" y="12948"/>
                </a:cubicBezTo>
                <a:cubicBezTo>
                  <a:pt x="9896" y="12937"/>
                  <a:pt x="9848" y="12937"/>
                  <a:pt x="9798" y="12923"/>
                </a:cubicBezTo>
              </a:path>
              <a:path w="5260" h="1092">
                <a:moveTo>
                  <a:pt x="8582" y="13915"/>
                </a:moveTo>
                <a:cubicBezTo>
                  <a:pt x="8632" y="13915"/>
                  <a:pt x="8668" y="13924"/>
                  <a:pt x="8706" y="13891"/>
                </a:cubicBezTo>
                <a:cubicBezTo>
                  <a:pt x="8742" y="13859"/>
                  <a:pt x="8786" y="13859"/>
                  <a:pt x="8830" y="13841"/>
                </a:cubicBezTo>
                <a:cubicBezTo>
                  <a:pt x="8910" y="13809"/>
                  <a:pt x="8972" y="13836"/>
                  <a:pt x="9054" y="13816"/>
                </a:cubicBezTo>
                <a:cubicBezTo>
                  <a:pt x="9116" y="13801"/>
                  <a:pt x="9193" y="13787"/>
                  <a:pt x="9252" y="13767"/>
                </a:cubicBezTo>
                <a:cubicBezTo>
                  <a:pt x="9327" y="13742"/>
                  <a:pt x="9401" y="13738"/>
                  <a:pt x="9475" y="13717"/>
                </a:cubicBezTo>
                <a:cubicBezTo>
                  <a:pt x="9547" y="13696"/>
                  <a:pt x="9595" y="13692"/>
                  <a:pt x="9674" y="13692"/>
                </a:cubicBezTo>
                <a:cubicBezTo>
                  <a:pt x="9732" y="13692"/>
                  <a:pt x="9760" y="13667"/>
                  <a:pt x="9823" y="13667"/>
                </a:cubicBezTo>
                <a:cubicBezTo>
                  <a:pt x="9848" y="13667"/>
                  <a:pt x="9872" y="13667"/>
                  <a:pt x="9897" y="13667"/>
                </a:cubicBezTo>
                <a:cubicBezTo>
                  <a:pt x="9897" y="13718"/>
                  <a:pt x="9906" y="13753"/>
                  <a:pt x="9872" y="13791"/>
                </a:cubicBezTo>
                <a:cubicBezTo>
                  <a:pt x="9833" y="13834"/>
                  <a:pt x="9790" y="13874"/>
                  <a:pt x="9748" y="13915"/>
                </a:cubicBezTo>
                <a:cubicBezTo>
                  <a:pt x="9790" y="13874"/>
                  <a:pt x="9813" y="13837"/>
                  <a:pt x="9847" y="13791"/>
                </a:cubicBezTo>
                <a:cubicBezTo>
                  <a:pt x="9873" y="13757"/>
                  <a:pt x="9915" y="13717"/>
                  <a:pt x="9897" y="13667"/>
                </a:cubicBezTo>
                <a:cubicBezTo>
                  <a:pt x="9875" y="13605"/>
                  <a:pt x="9806" y="13597"/>
                  <a:pt x="9748" y="135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82800" y="5045040"/>
            <a:ext cx="276120" cy="241200"/>
          </a:xfrm>
          <a:custGeom>
            <a:avLst/>
            <a:gdLst/>
            <a:ahLst/>
            <a:rect l="l" t="t" r="r" b="b"/>
            <a:pathLst>
              <a:path w="769" h="670">
                <a:moveTo>
                  <a:pt x="3200" y="14610"/>
                </a:moveTo>
                <a:cubicBezTo>
                  <a:pt x="3200" y="14635"/>
                  <a:pt x="3200" y="14643"/>
                  <a:pt x="3200" y="14660"/>
                </a:cubicBezTo>
                <a:cubicBezTo>
                  <a:pt x="3144" y="14660"/>
                  <a:pt x="3122" y="14669"/>
                  <a:pt x="3076" y="14684"/>
                </a:cubicBezTo>
                <a:cubicBezTo>
                  <a:pt x="3034" y="14697"/>
                  <a:pt x="2983" y="14684"/>
                  <a:pt x="2952" y="14660"/>
                </a:cubicBezTo>
                <a:cubicBezTo>
                  <a:pt x="2913" y="14629"/>
                  <a:pt x="2870" y="14587"/>
                  <a:pt x="2828" y="14560"/>
                </a:cubicBezTo>
                <a:cubicBezTo>
                  <a:pt x="2777" y="14528"/>
                  <a:pt x="2758" y="14506"/>
                  <a:pt x="2753" y="14436"/>
                </a:cubicBezTo>
                <a:cubicBezTo>
                  <a:pt x="2749" y="14378"/>
                  <a:pt x="2729" y="14350"/>
                  <a:pt x="2729" y="14288"/>
                </a:cubicBezTo>
                <a:cubicBezTo>
                  <a:pt x="2729" y="14234"/>
                  <a:pt x="2740" y="14204"/>
                  <a:pt x="2778" y="14163"/>
                </a:cubicBezTo>
                <a:cubicBezTo>
                  <a:pt x="2819" y="14118"/>
                  <a:pt x="2869" y="14058"/>
                  <a:pt x="2927" y="14039"/>
                </a:cubicBezTo>
                <a:cubicBezTo>
                  <a:pt x="2969" y="14025"/>
                  <a:pt x="3032" y="14017"/>
                  <a:pt x="3076" y="14015"/>
                </a:cubicBezTo>
                <a:cubicBezTo>
                  <a:pt x="3132" y="14012"/>
                  <a:pt x="3197" y="14041"/>
                  <a:pt x="3249" y="14064"/>
                </a:cubicBezTo>
                <a:cubicBezTo>
                  <a:pt x="3323" y="14097"/>
                  <a:pt x="3366" y="14131"/>
                  <a:pt x="3423" y="14188"/>
                </a:cubicBezTo>
                <a:cubicBezTo>
                  <a:pt x="3467" y="14232"/>
                  <a:pt x="3494" y="14278"/>
                  <a:pt x="3497" y="14337"/>
                </a:cubicBezTo>
                <a:cubicBezTo>
                  <a:pt x="3501" y="14401"/>
                  <a:pt x="3450" y="14471"/>
                  <a:pt x="3398" y="14511"/>
                </a:cubicBezTo>
                <a:cubicBezTo>
                  <a:pt x="3358" y="14531"/>
                  <a:pt x="3352" y="14540"/>
                  <a:pt x="3324" y="145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24040" y="5045040"/>
            <a:ext cx="231840" cy="196920"/>
          </a:xfrm>
          <a:custGeom>
            <a:avLst/>
            <a:gdLst/>
            <a:ahLst/>
            <a:rect l="l" t="t" r="r" b="b"/>
            <a:pathLst>
              <a:path w="646" h="546">
                <a:moveTo>
                  <a:pt x="4862" y="14064"/>
                </a:moveTo>
                <a:cubicBezTo>
                  <a:pt x="4870" y="14056"/>
                  <a:pt x="4879" y="14047"/>
                  <a:pt x="4887" y="14039"/>
                </a:cubicBezTo>
                <a:cubicBezTo>
                  <a:pt x="4847" y="14071"/>
                  <a:pt x="4791" y="14085"/>
                  <a:pt x="4787" y="14139"/>
                </a:cubicBezTo>
                <a:cubicBezTo>
                  <a:pt x="4784" y="14185"/>
                  <a:pt x="4776" y="14270"/>
                  <a:pt x="4837" y="14288"/>
                </a:cubicBezTo>
                <a:cubicBezTo>
                  <a:pt x="4889" y="14288"/>
                  <a:pt x="4907" y="14287"/>
                  <a:pt x="4936" y="14263"/>
                </a:cubicBezTo>
              </a:path>
              <a:path w="646" h="546">
                <a:moveTo>
                  <a:pt x="5159" y="14163"/>
                </a:moveTo>
                <a:cubicBezTo>
                  <a:pt x="5159" y="14122"/>
                  <a:pt x="5151" y="14106"/>
                  <a:pt x="5184" y="14114"/>
                </a:cubicBezTo>
                <a:cubicBezTo>
                  <a:pt x="5224" y="14127"/>
                  <a:pt x="5209" y="14162"/>
                  <a:pt x="5209" y="14213"/>
                </a:cubicBezTo>
                <a:cubicBezTo>
                  <a:pt x="5209" y="14301"/>
                  <a:pt x="5229" y="14376"/>
                  <a:pt x="5234" y="14461"/>
                </a:cubicBezTo>
                <a:cubicBezTo>
                  <a:pt x="5237" y="14523"/>
                  <a:pt x="5225" y="14516"/>
                  <a:pt x="5259" y="14560"/>
                </a:cubicBezTo>
              </a:path>
              <a:path w="646" h="546">
                <a:moveTo>
                  <a:pt x="5259" y="14188"/>
                </a:moveTo>
                <a:cubicBezTo>
                  <a:pt x="5274" y="14135"/>
                  <a:pt x="5286" y="13983"/>
                  <a:pt x="5383" y="14015"/>
                </a:cubicBezTo>
                <a:cubicBezTo>
                  <a:pt x="5437" y="14033"/>
                  <a:pt x="5444" y="14145"/>
                  <a:pt x="5432" y="14188"/>
                </a:cubicBezTo>
                <a:cubicBezTo>
                  <a:pt x="5410" y="14232"/>
                  <a:pt x="5407" y="14243"/>
                  <a:pt x="5383" y="142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43080" y="4946760"/>
            <a:ext cx="384120" cy="152280"/>
          </a:xfrm>
          <a:custGeom>
            <a:avLst/>
            <a:gdLst/>
            <a:ahLst/>
            <a:rect l="l" t="t" r="r" b="b"/>
            <a:pathLst>
              <a:path w="1068" h="422">
                <a:moveTo>
                  <a:pt x="6176" y="13990"/>
                </a:moveTo>
                <a:cubicBezTo>
                  <a:pt x="6176" y="14015"/>
                  <a:pt x="6176" y="14023"/>
                  <a:pt x="6201" y="14015"/>
                </a:cubicBezTo>
                <a:cubicBezTo>
                  <a:pt x="6144" y="14015"/>
                  <a:pt x="6098" y="14030"/>
                  <a:pt x="6052" y="14039"/>
                </a:cubicBezTo>
                <a:cubicBezTo>
                  <a:pt x="6024" y="14044"/>
                  <a:pt x="5983" y="14039"/>
                  <a:pt x="5953" y="14039"/>
                </a:cubicBezTo>
              </a:path>
              <a:path w="1068" h="422">
                <a:moveTo>
                  <a:pt x="6003" y="13965"/>
                </a:moveTo>
                <a:cubicBezTo>
                  <a:pt x="6011" y="13948"/>
                  <a:pt x="6020" y="13932"/>
                  <a:pt x="6028" y="13915"/>
                </a:cubicBezTo>
                <a:cubicBezTo>
                  <a:pt x="6060" y="13960"/>
                  <a:pt x="6074" y="14005"/>
                  <a:pt x="6077" y="14064"/>
                </a:cubicBezTo>
                <a:cubicBezTo>
                  <a:pt x="6077" y="14116"/>
                  <a:pt x="6078" y="14134"/>
                  <a:pt x="6102" y="14163"/>
                </a:cubicBezTo>
              </a:path>
              <a:path w="1068" h="422">
                <a:moveTo>
                  <a:pt x="6524" y="13990"/>
                </a:moveTo>
                <a:cubicBezTo>
                  <a:pt x="6499" y="13939"/>
                  <a:pt x="6477" y="14028"/>
                  <a:pt x="6474" y="14064"/>
                </a:cubicBezTo>
                <a:cubicBezTo>
                  <a:pt x="6469" y="14126"/>
                  <a:pt x="6497" y="14139"/>
                  <a:pt x="6548" y="14139"/>
                </a:cubicBezTo>
                <a:cubicBezTo>
                  <a:pt x="6578" y="14048"/>
                  <a:pt x="6573" y="13964"/>
                  <a:pt x="6573" y="13866"/>
                </a:cubicBezTo>
                <a:cubicBezTo>
                  <a:pt x="6573" y="13816"/>
                  <a:pt x="6573" y="13800"/>
                  <a:pt x="6573" y="13767"/>
                </a:cubicBezTo>
                <a:cubicBezTo>
                  <a:pt x="6573" y="13716"/>
                  <a:pt x="6590" y="13816"/>
                  <a:pt x="6598" y="13866"/>
                </a:cubicBezTo>
                <a:cubicBezTo>
                  <a:pt x="6610" y="13944"/>
                  <a:pt x="6625" y="14021"/>
                  <a:pt x="6672" y="14089"/>
                </a:cubicBezTo>
                <a:cubicBezTo>
                  <a:pt x="6694" y="14121"/>
                  <a:pt x="6715" y="14131"/>
                  <a:pt x="6747" y="14139"/>
                </a:cubicBezTo>
              </a:path>
              <a:path w="1068" h="422">
                <a:moveTo>
                  <a:pt x="6896" y="14015"/>
                </a:moveTo>
                <a:cubicBezTo>
                  <a:pt x="6896" y="14039"/>
                  <a:pt x="6896" y="14048"/>
                  <a:pt x="6896" y="14064"/>
                </a:cubicBezTo>
                <a:cubicBezTo>
                  <a:pt x="6885" y="14008"/>
                  <a:pt x="6871" y="13974"/>
                  <a:pt x="6871" y="13915"/>
                </a:cubicBezTo>
                <a:cubicBezTo>
                  <a:pt x="6871" y="13875"/>
                  <a:pt x="6935" y="13825"/>
                  <a:pt x="6970" y="13816"/>
                </a:cubicBezTo>
                <a:cubicBezTo>
                  <a:pt x="6987" y="13816"/>
                  <a:pt x="7003" y="13816"/>
                  <a:pt x="7020" y="138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52840" y="4973760"/>
            <a:ext cx="79200" cy="63360"/>
          </a:xfrm>
          <a:custGeom>
            <a:avLst/>
            <a:gdLst/>
            <a:ahLst/>
            <a:rect l="l" t="t" r="r" b="b"/>
            <a:pathLst>
              <a:path w="224" h="175">
                <a:moveTo>
                  <a:pt x="7516" y="13841"/>
                </a:moveTo>
                <a:cubicBezTo>
                  <a:pt x="7560" y="13808"/>
                  <a:pt x="7567" y="13784"/>
                  <a:pt x="7491" y="13816"/>
                </a:cubicBezTo>
                <a:cubicBezTo>
                  <a:pt x="7444" y="13835"/>
                  <a:pt x="7427" y="13841"/>
                  <a:pt x="7367" y="13841"/>
                </a:cubicBezTo>
              </a:path>
              <a:path w="224" h="175">
                <a:moveTo>
                  <a:pt x="7541" y="13965"/>
                </a:moveTo>
                <a:cubicBezTo>
                  <a:pt x="7565" y="13965"/>
                  <a:pt x="7574" y="13965"/>
                  <a:pt x="7590" y="13965"/>
                </a:cubicBezTo>
                <a:cubicBezTo>
                  <a:pt x="7542" y="13965"/>
                  <a:pt x="7529" y="13961"/>
                  <a:pt x="7491" y="139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67040" y="4875120"/>
            <a:ext cx="98280" cy="142920"/>
          </a:xfrm>
          <a:custGeom>
            <a:avLst/>
            <a:gdLst/>
            <a:ahLst/>
            <a:rect l="l" t="t" r="r" b="b"/>
            <a:pathLst>
              <a:path w="274" h="398">
                <a:moveTo>
                  <a:pt x="7987" y="13742"/>
                </a:moveTo>
                <a:cubicBezTo>
                  <a:pt x="7987" y="13696"/>
                  <a:pt x="7967" y="13683"/>
                  <a:pt x="7962" y="13643"/>
                </a:cubicBezTo>
                <a:cubicBezTo>
                  <a:pt x="7955" y="13583"/>
                  <a:pt x="7976" y="13592"/>
                  <a:pt x="8012" y="13568"/>
                </a:cubicBezTo>
                <a:cubicBezTo>
                  <a:pt x="8049" y="13543"/>
                  <a:pt x="8092" y="13521"/>
                  <a:pt x="8136" y="13568"/>
                </a:cubicBezTo>
                <a:cubicBezTo>
                  <a:pt x="8199" y="13636"/>
                  <a:pt x="8231" y="13699"/>
                  <a:pt x="8235" y="13791"/>
                </a:cubicBezTo>
                <a:cubicBezTo>
                  <a:pt x="8239" y="13882"/>
                  <a:pt x="8258" y="13932"/>
                  <a:pt x="8161" y="13940"/>
                </a:cubicBezTo>
                <a:cubicBezTo>
                  <a:pt x="8113" y="13944"/>
                  <a:pt x="8026" y="13893"/>
                  <a:pt x="7987" y="13866"/>
                </a:cubicBezTo>
                <a:cubicBezTo>
                  <a:pt x="7954" y="13843"/>
                  <a:pt x="7962" y="13826"/>
                  <a:pt x="7962" y="137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5303880"/>
            <a:ext cx="162000" cy="162000"/>
          </a:xfrm>
          <a:custGeom>
            <a:avLst/>
            <a:gdLst/>
            <a:ahLst/>
            <a:rect l="l" t="t" r="r" b="b"/>
            <a:pathLst>
              <a:path w="447" h="447">
                <a:moveTo>
                  <a:pt x="3076" y="14982"/>
                </a:moveTo>
                <a:cubicBezTo>
                  <a:pt x="3076" y="14974"/>
                  <a:pt x="3076" y="14965"/>
                  <a:pt x="3076" y="14957"/>
                </a:cubicBezTo>
                <a:cubicBezTo>
                  <a:pt x="3076" y="15031"/>
                  <a:pt x="3076" y="15106"/>
                  <a:pt x="3076" y="15180"/>
                </a:cubicBezTo>
              </a:path>
              <a:path w="447" h="447">
                <a:moveTo>
                  <a:pt x="3125" y="14932"/>
                </a:moveTo>
                <a:cubicBezTo>
                  <a:pt x="3155" y="14984"/>
                  <a:pt x="3183" y="15014"/>
                  <a:pt x="3225" y="15056"/>
                </a:cubicBezTo>
                <a:cubicBezTo>
                  <a:pt x="3233" y="15064"/>
                  <a:pt x="3241" y="15073"/>
                  <a:pt x="3249" y="15081"/>
                </a:cubicBezTo>
                <a:cubicBezTo>
                  <a:pt x="3287" y="15018"/>
                  <a:pt x="3277" y="14979"/>
                  <a:pt x="3299" y="14908"/>
                </a:cubicBezTo>
                <a:cubicBezTo>
                  <a:pt x="3319" y="14867"/>
                  <a:pt x="3328" y="14861"/>
                  <a:pt x="3324" y="14833"/>
                </a:cubicBezTo>
              </a:path>
              <a:path w="447" h="447">
                <a:moveTo>
                  <a:pt x="3076" y="15081"/>
                </a:moveTo>
                <a:cubicBezTo>
                  <a:pt x="3029" y="15081"/>
                  <a:pt x="3012" y="15087"/>
                  <a:pt x="2977" y="15056"/>
                </a:cubicBezTo>
                <a:cubicBezTo>
                  <a:pt x="2943" y="15026"/>
                  <a:pt x="2952" y="15000"/>
                  <a:pt x="2952" y="14957"/>
                </a:cubicBezTo>
                <a:cubicBezTo>
                  <a:pt x="2952" y="14921"/>
                  <a:pt x="2959" y="14885"/>
                  <a:pt x="2977" y="14858"/>
                </a:cubicBezTo>
                <a:cubicBezTo>
                  <a:pt x="3016" y="14798"/>
                  <a:pt x="3085" y="14739"/>
                  <a:pt x="3150" y="14734"/>
                </a:cubicBezTo>
                <a:cubicBezTo>
                  <a:pt x="3213" y="14729"/>
                  <a:pt x="3248" y="14747"/>
                  <a:pt x="3299" y="14784"/>
                </a:cubicBezTo>
                <a:cubicBezTo>
                  <a:pt x="3343" y="14816"/>
                  <a:pt x="3386" y="14880"/>
                  <a:pt x="3398" y="14932"/>
                </a:cubicBezTo>
                <a:cubicBezTo>
                  <a:pt x="3413" y="15000"/>
                  <a:pt x="3387" y="15075"/>
                  <a:pt x="3349" y="15131"/>
                </a:cubicBezTo>
                <a:cubicBezTo>
                  <a:pt x="3308" y="15191"/>
                  <a:pt x="3237" y="15180"/>
                  <a:pt x="3175" y="15180"/>
                </a:cubicBezTo>
                <a:cubicBezTo>
                  <a:pt x="3111" y="15180"/>
                  <a:pt x="3023" y="15190"/>
                  <a:pt x="2977" y="15131"/>
                </a:cubicBezTo>
                <a:cubicBezTo>
                  <a:pt x="2977" y="15123"/>
                  <a:pt x="2977" y="15114"/>
                  <a:pt x="2977" y="151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70040" y="5313240"/>
            <a:ext cx="312840" cy="169920"/>
          </a:xfrm>
          <a:custGeom>
            <a:avLst/>
            <a:gdLst/>
            <a:ahLst/>
            <a:rect l="l" t="t" r="r" b="b"/>
            <a:pathLst>
              <a:path w="870" h="472">
                <a:moveTo>
                  <a:pt x="4738" y="14784"/>
                </a:moveTo>
                <a:cubicBezTo>
                  <a:pt x="4723" y="14754"/>
                  <a:pt x="4681" y="14785"/>
                  <a:pt x="4663" y="14833"/>
                </a:cubicBezTo>
                <a:cubicBezTo>
                  <a:pt x="4650" y="14867"/>
                  <a:pt x="4621" y="14941"/>
                  <a:pt x="4638" y="14982"/>
                </a:cubicBezTo>
                <a:cubicBezTo>
                  <a:pt x="4657" y="15027"/>
                  <a:pt x="4719" y="15047"/>
                  <a:pt x="4762" y="15032"/>
                </a:cubicBezTo>
                <a:cubicBezTo>
                  <a:pt x="4779" y="15024"/>
                  <a:pt x="4795" y="15015"/>
                  <a:pt x="4812" y="15007"/>
                </a:cubicBezTo>
              </a:path>
              <a:path w="870" h="472">
                <a:moveTo>
                  <a:pt x="5135" y="14883"/>
                </a:moveTo>
                <a:cubicBezTo>
                  <a:pt x="5162" y="14845"/>
                  <a:pt x="5159" y="14831"/>
                  <a:pt x="5159" y="14784"/>
                </a:cubicBezTo>
                <a:cubicBezTo>
                  <a:pt x="5104" y="14784"/>
                  <a:pt x="5104" y="14788"/>
                  <a:pt x="5085" y="14833"/>
                </a:cubicBezTo>
                <a:cubicBezTo>
                  <a:pt x="5066" y="14877"/>
                  <a:pt x="5040" y="14969"/>
                  <a:pt x="5085" y="15007"/>
                </a:cubicBezTo>
                <a:cubicBezTo>
                  <a:pt x="5093" y="15007"/>
                  <a:pt x="5102" y="15007"/>
                  <a:pt x="5110" y="15007"/>
                </a:cubicBezTo>
                <a:cubicBezTo>
                  <a:pt x="5136" y="14974"/>
                  <a:pt x="5157" y="14941"/>
                  <a:pt x="5184" y="14908"/>
                </a:cubicBezTo>
                <a:cubicBezTo>
                  <a:pt x="5210" y="14925"/>
                  <a:pt x="5227" y="15029"/>
                  <a:pt x="5234" y="15081"/>
                </a:cubicBezTo>
                <a:cubicBezTo>
                  <a:pt x="5241" y="15129"/>
                  <a:pt x="5234" y="15182"/>
                  <a:pt x="5234" y="15230"/>
                </a:cubicBezTo>
                <a:cubicBezTo>
                  <a:pt x="5293" y="15230"/>
                  <a:pt x="5330" y="15206"/>
                  <a:pt x="5383" y="15180"/>
                </a:cubicBezTo>
                <a:cubicBezTo>
                  <a:pt x="5443" y="15150"/>
                  <a:pt x="5443" y="15140"/>
                  <a:pt x="5507" y="151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98800" y="5322960"/>
            <a:ext cx="81000" cy="7920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6003" y="14858"/>
                </a:moveTo>
                <a:cubicBezTo>
                  <a:pt x="6057" y="14858"/>
                  <a:pt x="6057" y="14858"/>
                  <a:pt x="6003" y="14858"/>
                </a:cubicBezTo>
                <a:cubicBezTo>
                  <a:pt x="5935" y="14858"/>
                  <a:pt x="5884" y="14850"/>
                  <a:pt x="5829" y="14883"/>
                </a:cubicBezTo>
              </a:path>
              <a:path w="224" h="224">
                <a:moveTo>
                  <a:pt x="5904" y="14784"/>
                </a:moveTo>
                <a:cubicBezTo>
                  <a:pt x="5935" y="14826"/>
                  <a:pt x="5950" y="14852"/>
                  <a:pt x="5953" y="14908"/>
                </a:cubicBezTo>
                <a:cubicBezTo>
                  <a:pt x="5953" y="14959"/>
                  <a:pt x="5954" y="14978"/>
                  <a:pt x="5978" y="15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03640" y="5214960"/>
            <a:ext cx="80640" cy="179280"/>
          </a:xfrm>
          <a:custGeom>
            <a:avLst/>
            <a:gdLst/>
            <a:ahLst/>
            <a:rect l="l" t="t" r="r" b="b"/>
            <a:pathLst>
              <a:path w="224" h="497">
                <a:moveTo>
                  <a:pt x="6424" y="14833"/>
                </a:moveTo>
                <a:cubicBezTo>
                  <a:pt x="6446" y="14811"/>
                  <a:pt x="6455" y="14806"/>
                  <a:pt x="6449" y="14784"/>
                </a:cubicBezTo>
                <a:cubicBezTo>
                  <a:pt x="6423" y="14792"/>
                  <a:pt x="6388" y="14838"/>
                  <a:pt x="6400" y="14883"/>
                </a:cubicBezTo>
                <a:cubicBezTo>
                  <a:pt x="6408" y="14899"/>
                  <a:pt x="6416" y="14916"/>
                  <a:pt x="6424" y="14932"/>
                </a:cubicBezTo>
                <a:cubicBezTo>
                  <a:pt x="6498" y="14914"/>
                  <a:pt x="6474" y="14854"/>
                  <a:pt x="6474" y="14784"/>
                </a:cubicBezTo>
                <a:cubicBezTo>
                  <a:pt x="6474" y="14693"/>
                  <a:pt x="6474" y="14602"/>
                  <a:pt x="6474" y="14511"/>
                </a:cubicBezTo>
                <a:cubicBezTo>
                  <a:pt x="6474" y="14456"/>
                  <a:pt x="6493" y="14655"/>
                  <a:pt x="6499" y="14684"/>
                </a:cubicBezTo>
                <a:cubicBezTo>
                  <a:pt x="6516" y="14772"/>
                  <a:pt x="6541" y="14888"/>
                  <a:pt x="6598" y="14957"/>
                </a:cubicBezTo>
                <a:cubicBezTo>
                  <a:pt x="6606" y="14965"/>
                  <a:pt x="6615" y="14974"/>
                  <a:pt x="6623" y="149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90840" y="5276880"/>
            <a:ext cx="54000" cy="98280"/>
          </a:xfrm>
          <a:custGeom>
            <a:avLst/>
            <a:gdLst/>
            <a:ahLst/>
            <a:rect l="l" t="t" r="r" b="b"/>
            <a:pathLst>
              <a:path w="149" h="273">
                <a:moveTo>
                  <a:pt x="6970" y="14709"/>
                </a:moveTo>
                <a:cubicBezTo>
                  <a:pt x="6970" y="14693"/>
                  <a:pt x="6970" y="14676"/>
                  <a:pt x="6970" y="14660"/>
                </a:cubicBezTo>
                <a:cubicBezTo>
                  <a:pt x="6935" y="14703"/>
                  <a:pt x="6921" y="14729"/>
                  <a:pt x="6921" y="14784"/>
                </a:cubicBezTo>
                <a:cubicBezTo>
                  <a:pt x="6921" y="14832"/>
                  <a:pt x="6979" y="14848"/>
                  <a:pt x="7020" y="14858"/>
                </a:cubicBezTo>
                <a:cubicBezTo>
                  <a:pt x="7045" y="14858"/>
                  <a:pt x="7053" y="14858"/>
                  <a:pt x="7069" y="14858"/>
                </a:cubicBezTo>
                <a:cubicBezTo>
                  <a:pt x="7069" y="14939"/>
                  <a:pt x="7058" y="14883"/>
                  <a:pt x="6995" y="14908"/>
                </a:cubicBezTo>
                <a:cubicBezTo>
                  <a:pt x="6987" y="14916"/>
                  <a:pt x="6978" y="14924"/>
                  <a:pt x="6970" y="149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78040" y="5268960"/>
            <a:ext cx="73080" cy="61920"/>
          </a:xfrm>
          <a:custGeom>
            <a:avLst/>
            <a:gdLst/>
            <a:ahLst/>
            <a:rect l="l" t="t" r="r" b="b"/>
            <a:pathLst>
              <a:path w="200" h="174">
                <a:moveTo>
                  <a:pt x="7590" y="14684"/>
                </a:moveTo>
                <a:cubicBezTo>
                  <a:pt x="7590" y="14643"/>
                  <a:pt x="7582" y="14627"/>
                  <a:pt x="7615" y="14635"/>
                </a:cubicBezTo>
                <a:cubicBezTo>
                  <a:pt x="7555" y="14635"/>
                  <a:pt x="7516" y="14645"/>
                  <a:pt x="7466" y="14660"/>
                </a:cubicBezTo>
                <a:cubicBezTo>
                  <a:pt x="7458" y="14660"/>
                  <a:pt x="7449" y="14660"/>
                  <a:pt x="7441" y="14660"/>
                </a:cubicBezTo>
              </a:path>
              <a:path w="200" h="174">
                <a:moveTo>
                  <a:pt x="7615" y="14784"/>
                </a:moveTo>
                <a:cubicBezTo>
                  <a:pt x="7623" y="14792"/>
                  <a:pt x="7632" y="14800"/>
                  <a:pt x="7640" y="14808"/>
                </a:cubicBezTo>
                <a:cubicBezTo>
                  <a:pt x="7627" y="14772"/>
                  <a:pt x="7609" y="14784"/>
                  <a:pt x="7565" y="14784"/>
                </a:cubicBezTo>
                <a:cubicBezTo>
                  <a:pt x="7557" y="14784"/>
                  <a:pt x="7549" y="14784"/>
                  <a:pt x="7541" y="147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94040" y="5180040"/>
            <a:ext cx="44280" cy="123840"/>
          </a:xfrm>
          <a:custGeom>
            <a:avLst/>
            <a:gdLst/>
            <a:ahLst/>
            <a:rect l="l" t="t" r="r" b="b"/>
            <a:pathLst>
              <a:path w="125" h="348">
                <a:moveTo>
                  <a:pt x="8037" y="14412"/>
                </a:moveTo>
                <a:cubicBezTo>
                  <a:pt x="8059" y="14390"/>
                  <a:pt x="8064" y="14381"/>
                  <a:pt x="8086" y="14387"/>
                </a:cubicBezTo>
                <a:cubicBezTo>
                  <a:pt x="8086" y="14474"/>
                  <a:pt x="8123" y="14530"/>
                  <a:pt x="8136" y="14610"/>
                </a:cubicBezTo>
                <a:cubicBezTo>
                  <a:pt x="8136" y="14678"/>
                  <a:pt x="8133" y="14697"/>
                  <a:pt x="8161" y="147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inverse and determinants of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the inverse of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x A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76160" y="3027240"/>
            <a:ext cx="358920" cy="268560"/>
          </a:xfrm>
          <a:custGeom>
            <a:avLst/>
            <a:gdLst/>
            <a:ahLst/>
            <a:rect l="l" t="t" r="r" b="b"/>
            <a:pathLst>
              <a:path w="993" h="745">
                <a:moveTo>
                  <a:pt x="2158" y="8632"/>
                </a:moveTo>
                <a:cubicBezTo>
                  <a:pt x="2158" y="8657"/>
                  <a:pt x="2158" y="8681"/>
                  <a:pt x="2158" y="8706"/>
                </a:cubicBezTo>
                <a:cubicBezTo>
                  <a:pt x="2196" y="8706"/>
                  <a:pt x="2232" y="8717"/>
                  <a:pt x="2257" y="8682"/>
                </a:cubicBezTo>
                <a:cubicBezTo>
                  <a:pt x="2296" y="8627"/>
                  <a:pt x="2347" y="8526"/>
                  <a:pt x="2332" y="8458"/>
                </a:cubicBezTo>
                <a:cubicBezTo>
                  <a:pt x="2324" y="8442"/>
                  <a:pt x="2315" y="8425"/>
                  <a:pt x="2307" y="8409"/>
                </a:cubicBezTo>
                <a:cubicBezTo>
                  <a:pt x="2238" y="8409"/>
                  <a:pt x="2211" y="8444"/>
                  <a:pt x="2183" y="8508"/>
                </a:cubicBezTo>
                <a:cubicBezTo>
                  <a:pt x="2145" y="8594"/>
                  <a:pt x="2133" y="8745"/>
                  <a:pt x="2183" y="8830"/>
                </a:cubicBezTo>
                <a:cubicBezTo>
                  <a:pt x="2225" y="8902"/>
                  <a:pt x="2277" y="8888"/>
                  <a:pt x="2332" y="8855"/>
                </a:cubicBezTo>
              </a:path>
              <a:path w="993" h="745">
                <a:moveTo>
                  <a:pt x="2456" y="8706"/>
                </a:moveTo>
                <a:cubicBezTo>
                  <a:pt x="2489" y="8678"/>
                  <a:pt x="2542" y="8628"/>
                  <a:pt x="2580" y="8682"/>
                </a:cubicBezTo>
                <a:cubicBezTo>
                  <a:pt x="2580" y="8690"/>
                  <a:pt x="2580" y="8698"/>
                  <a:pt x="2580" y="8706"/>
                </a:cubicBezTo>
              </a:path>
              <a:path w="993" h="745">
                <a:moveTo>
                  <a:pt x="2704" y="8582"/>
                </a:moveTo>
                <a:cubicBezTo>
                  <a:pt x="2712" y="8525"/>
                  <a:pt x="2730" y="8521"/>
                  <a:pt x="2704" y="8508"/>
                </a:cubicBezTo>
                <a:cubicBezTo>
                  <a:pt x="2679" y="8575"/>
                  <a:pt x="2663" y="8635"/>
                  <a:pt x="2654" y="8706"/>
                </a:cubicBezTo>
                <a:cubicBezTo>
                  <a:pt x="2701" y="8691"/>
                  <a:pt x="2685" y="8622"/>
                  <a:pt x="2729" y="8582"/>
                </a:cubicBezTo>
                <a:cubicBezTo>
                  <a:pt x="2831" y="8487"/>
                  <a:pt x="2891" y="8639"/>
                  <a:pt x="2927" y="8706"/>
                </a:cubicBezTo>
                <a:cubicBezTo>
                  <a:pt x="2984" y="8813"/>
                  <a:pt x="3031" y="8955"/>
                  <a:pt x="3001" y="9079"/>
                </a:cubicBezTo>
                <a:cubicBezTo>
                  <a:pt x="2976" y="9182"/>
                  <a:pt x="2856" y="9153"/>
                  <a:pt x="2778" y="9153"/>
                </a:cubicBezTo>
                <a:cubicBezTo>
                  <a:pt x="2681" y="9153"/>
                  <a:pt x="2662" y="9146"/>
                  <a:pt x="2604" y="9079"/>
                </a:cubicBezTo>
              </a:path>
              <a:path w="993" h="745">
                <a:moveTo>
                  <a:pt x="3026" y="8756"/>
                </a:moveTo>
                <a:cubicBezTo>
                  <a:pt x="3091" y="8734"/>
                  <a:pt x="3106" y="8726"/>
                  <a:pt x="3150" y="8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8120" y="2963880"/>
            <a:ext cx="115920" cy="233280"/>
          </a:xfrm>
          <a:custGeom>
            <a:avLst/>
            <a:gdLst/>
            <a:ahLst/>
            <a:rect l="l" t="t" r="r" b="b"/>
            <a:pathLst>
              <a:path w="323" h="646">
                <a:moveTo>
                  <a:pt x="4465" y="8781"/>
                </a:moveTo>
                <a:cubicBezTo>
                  <a:pt x="4465" y="8840"/>
                  <a:pt x="4458" y="8837"/>
                  <a:pt x="4490" y="8880"/>
                </a:cubicBezTo>
                <a:cubicBezTo>
                  <a:pt x="4490" y="8817"/>
                  <a:pt x="4507" y="8768"/>
                  <a:pt x="4514" y="8706"/>
                </a:cubicBezTo>
                <a:cubicBezTo>
                  <a:pt x="4526" y="8601"/>
                  <a:pt x="4542" y="8487"/>
                  <a:pt x="4564" y="8384"/>
                </a:cubicBezTo>
                <a:cubicBezTo>
                  <a:pt x="4577" y="8323"/>
                  <a:pt x="4601" y="8286"/>
                  <a:pt x="4614" y="8235"/>
                </a:cubicBezTo>
                <a:cubicBezTo>
                  <a:pt x="4668" y="8290"/>
                  <a:pt x="4668" y="8331"/>
                  <a:pt x="4688" y="8409"/>
                </a:cubicBezTo>
                <a:cubicBezTo>
                  <a:pt x="4715" y="8514"/>
                  <a:pt x="4734" y="8630"/>
                  <a:pt x="4762" y="8731"/>
                </a:cubicBezTo>
                <a:cubicBezTo>
                  <a:pt x="4770" y="8748"/>
                  <a:pt x="4779" y="8764"/>
                  <a:pt x="4787" y="8781"/>
                </a:cubicBezTo>
              </a:path>
              <a:path w="323" h="646">
                <a:moveTo>
                  <a:pt x="4787" y="8607"/>
                </a:moveTo>
                <a:cubicBezTo>
                  <a:pt x="4769" y="8580"/>
                  <a:pt x="4722" y="8475"/>
                  <a:pt x="4663" y="8508"/>
                </a:cubicBezTo>
                <a:cubicBezTo>
                  <a:pt x="4626" y="8529"/>
                  <a:pt x="4601" y="8536"/>
                  <a:pt x="4564" y="85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12960" y="3017880"/>
            <a:ext cx="88920" cy="71280"/>
          </a:xfrm>
          <a:custGeom>
            <a:avLst/>
            <a:gdLst/>
            <a:ahLst/>
            <a:rect l="l" t="t" r="r" b="b"/>
            <a:pathLst>
              <a:path w="249" h="199">
                <a:moveTo>
                  <a:pt x="5259" y="8434"/>
                </a:moveTo>
                <a:cubicBezTo>
                  <a:pt x="5259" y="8409"/>
                  <a:pt x="5259" y="8401"/>
                  <a:pt x="5259" y="8384"/>
                </a:cubicBezTo>
                <a:cubicBezTo>
                  <a:pt x="5215" y="8395"/>
                  <a:pt x="5184" y="8422"/>
                  <a:pt x="5135" y="8434"/>
                </a:cubicBezTo>
                <a:cubicBezTo>
                  <a:pt x="5102" y="8442"/>
                  <a:pt x="5069" y="8452"/>
                  <a:pt x="5035" y="8458"/>
                </a:cubicBezTo>
              </a:path>
              <a:path w="249" h="199">
                <a:moveTo>
                  <a:pt x="5259" y="8558"/>
                </a:moveTo>
                <a:cubicBezTo>
                  <a:pt x="5267" y="8558"/>
                  <a:pt x="5275" y="8558"/>
                  <a:pt x="5283" y="8558"/>
                </a:cubicBezTo>
                <a:cubicBezTo>
                  <a:pt x="5271" y="8594"/>
                  <a:pt x="5253" y="8582"/>
                  <a:pt x="5209" y="85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59000" y="2803680"/>
            <a:ext cx="277920" cy="455400"/>
          </a:xfrm>
          <a:custGeom>
            <a:avLst/>
            <a:gdLst/>
            <a:ahLst/>
            <a:rect l="l" t="t" r="r" b="b"/>
            <a:pathLst>
              <a:path w="770" h="1266">
                <a:moveTo>
                  <a:pt x="6821" y="8086"/>
                </a:moveTo>
                <a:cubicBezTo>
                  <a:pt x="6846" y="8086"/>
                  <a:pt x="6854" y="8086"/>
                  <a:pt x="6871" y="8086"/>
                </a:cubicBezTo>
                <a:cubicBezTo>
                  <a:pt x="6871" y="8045"/>
                  <a:pt x="6888" y="7992"/>
                  <a:pt x="6846" y="7987"/>
                </a:cubicBezTo>
                <a:cubicBezTo>
                  <a:pt x="6828" y="7985"/>
                  <a:pt x="6728" y="8049"/>
                  <a:pt x="6722" y="8062"/>
                </a:cubicBezTo>
                <a:cubicBezTo>
                  <a:pt x="6702" y="8101"/>
                  <a:pt x="6725" y="8183"/>
                  <a:pt x="6747" y="8210"/>
                </a:cubicBezTo>
                <a:cubicBezTo>
                  <a:pt x="6783" y="8255"/>
                  <a:pt x="6819" y="8228"/>
                  <a:pt x="6846" y="8186"/>
                </a:cubicBezTo>
                <a:cubicBezTo>
                  <a:pt x="6877" y="8138"/>
                  <a:pt x="6896" y="8093"/>
                  <a:pt x="6896" y="8037"/>
                </a:cubicBezTo>
                <a:cubicBezTo>
                  <a:pt x="6937" y="8078"/>
                  <a:pt x="6975" y="8102"/>
                  <a:pt x="7020" y="8136"/>
                </a:cubicBezTo>
                <a:cubicBezTo>
                  <a:pt x="7028" y="8144"/>
                  <a:pt x="7037" y="8153"/>
                  <a:pt x="7045" y="8161"/>
                </a:cubicBezTo>
              </a:path>
              <a:path w="770" h="1266">
                <a:moveTo>
                  <a:pt x="6821" y="8905"/>
                </a:moveTo>
                <a:cubicBezTo>
                  <a:pt x="6871" y="8872"/>
                  <a:pt x="6881" y="8863"/>
                  <a:pt x="6896" y="8806"/>
                </a:cubicBezTo>
                <a:cubicBezTo>
                  <a:pt x="6826" y="8823"/>
                  <a:pt x="6842" y="8847"/>
                  <a:pt x="6821" y="8905"/>
                </a:cubicBezTo>
                <a:cubicBezTo>
                  <a:pt x="6802" y="8959"/>
                  <a:pt x="6774" y="9014"/>
                  <a:pt x="6846" y="9054"/>
                </a:cubicBezTo>
                <a:cubicBezTo>
                  <a:pt x="6892" y="9080"/>
                  <a:pt x="6979" y="9044"/>
                  <a:pt x="7020" y="9029"/>
                </a:cubicBezTo>
              </a:path>
              <a:path w="770" h="1266">
                <a:moveTo>
                  <a:pt x="6400" y="7938"/>
                </a:moveTo>
                <a:cubicBezTo>
                  <a:pt x="6407" y="7887"/>
                  <a:pt x="6424" y="7864"/>
                  <a:pt x="6424" y="7813"/>
                </a:cubicBezTo>
                <a:cubicBezTo>
                  <a:pt x="6424" y="7805"/>
                  <a:pt x="6424" y="7797"/>
                  <a:pt x="6424" y="7789"/>
                </a:cubicBezTo>
                <a:cubicBezTo>
                  <a:pt x="6383" y="7859"/>
                  <a:pt x="6351" y="7925"/>
                  <a:pt x="6325" y="8012"/>
                </a:cubicBezTo>
                <a:cubicBezTo>
                  <a:pt x="6278" y="8171"/>
                  <a:pt x="6256" y="8319"/>
                  <a:pt x="6300" y="8483"/>
                </a:cubicBezTo>
                <a:cubicBezTo>
                  <a:pt x="6343" y="8641"/>
                  <a:pt x="6380" y="8804"/>
                  <a:pt x="6449" y="8954"/>
                </a:cubicBezTo>
                <a:cubicBezTo>
                  <a:pt x="6472" y="9004"/>
                  <a:pt x="6483" y="9034"/>
                  <a:pt x="6524" y="9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03680" y="2741760"/>
            <a:ext cx="206280" cy="465120"/>
          </a:xfrm>
          <a:custGeom>
            <a:avLst/>
            <a:gdLst/>
            <a:ahLst/>
            <a:rect l="l" t="t" r="r" b="b"/>
            <a:pathLst>
              <a:path w="571" h="1291">
                <a:moveTo>
                  <a:pt x="7789" y="7665"/>
                </a:moveTo>
                <a:cubicBezTo>
                  <a:pt x="7789" y="7657"/>
                  <a:pt x="7789" y="7573"/>
                  <a:pt x="7789" y="7640"/>
                </a:cubicBezTo>
                <a:cubicBezTo>
                  <a:pt x="7789" y="7744"/>
                  <a:pt x="7802" y="7838"/>
                  <a:pt x="7813" y="7938"/>
                </a:cubicBezTo>
                <a:cubicBezTo>
                  <a:pt x="7821" y="8010"/>
                  <a:pt x="7804" y="8030"/>
                  <a:pt x="7838" y="8086"/>
                </a:cubicBezTo>
                <a:cubicBezTo>
                  <a:pt x="7838" y="8127"/>
                  <a:pt x="7838" y="8053"/>
                  <a:pt x="7838" y="8012"/>
                </a:cubicBezTo>
                <a:cubicBezTo>
                  <a:pt x="7838" y="7953"/>
                  <a:pt x="7858" y="7940"/>
                  <a:pt x="7888" y="7888"/>
                </a:cubicBezTo>
                <a:cubicBezTo>
                  <a:pt x="7934" y="7888"/>
                  <a:pt x="7959" y="7895"/>
                  <a:pt x="7987" y="7938"/>
                </a:cubicBezTo>
                <a:cubicBezTo>
                  <a:pt x="8023" y="7993"/>
                  <a:pt x="8024" y="8056"/>
                  <a:pt x="7987" y="8111"/>
                </a:cubicBezTo>
                <a:cubicBezTo>
                  <a:pt x="7951" y="8164"/>
                  <a:pt x="7883" y="8131"/>
                  <a:pt x="7838" y="8111"/>
                </a:cubicBezTo>
                <a:cubicBezTo>
                  <a:pt x="7822" y="8103"/>
                  <a:pt x="7805" y="8094"/>
                  <a:pt x="7789" y="8086"/>
                </a:cubicBezTo>
              </a:path>
              <a:path w="571" h="1291">
                <a:moveTo>
                  <a:pt x="7813" y="8682"/>
                </a:moveTo>
                <a:cubicBezTo>
                  <a:pt x="7880" y="8703"/>
                  <a:pt x="7800" y="8715"/>
                  <a:pt x="7789" y="8756"/>
                </a:cubicBezTo>
                <a:cubicBezTo>
                  <a:pt x="7780" y="8789"/>
                  <a:pt x="7789" y="8845"/>
                  <a:pt x="7789" y="8880"/>
                </a:cubicBezTo>
                <a:cubicBezTo>
                  <a:pt x="7864" y="8861"/>
                  <a:pt x="7860" y="8803"/>
                  <a:pt x="7863" y="8731"/>
                </a:cubicBezTo>
                <a:cubicBezTo>
                  <a:pt x="7866" y="8645"/>
                  <a:pt x="7888" y="8570"/>
                  <a:pt x="7888" y="8483"/>
                </a:cubicBezTo>
                <a:cubicBezTo>
                  <a:pt x="7888" y="8467"/>
                  <a:pt x="7888" y="8450"/>
                  <a:pt x="7888" y="8434"/>
                </a:cubicBezTo>
                <a:cubicBezTo>
                  <a:pt x="7888" y="8524"/>
                  <a:pt x="7891" y="8595"/>
                  <a:pt x="7913" y="8682"/>
                </a:cubicBezTo>
                <a:cubicBezTo>
                  <a:pt x="7935" y="8770"/>
                  <a:pt x="7956" y="8835"/>
                  <a:pt x="8012" y="8905"/>
                </a:cubicBezTo>
              </a:path>
              <a:path w="571" h="1291">
                <a:moveTo>
                  <a:pt x="7938" y="7838"/>
                </a:moveTo>
                <a:cubicBezTo>
                  <a:pt x="7969" y="7814"/>
                  <a:pt x="7983" y="7791"/>
                  <a:pt x="8012" y="7789"/>
                </a:cubicBezTo>
                <a:cubicBezTo>
                  <a:pt x="8084" y="7784"/>
                  <a:pt x="8099" y="7805"/>
                  <a:pt x="8161" y="7838"/>
                </a:cubicBezTo>
                <a:cubicBezTo>
                  <a:pt x="8244" y="7882"/>
                  <a:pt x="8265" y="7959"/>
                  <a:pt x="8310" y="8037"/>
                </a:cubicBezTo>
                <a:cubicBezTo>
                  <a:pt x="8375" y="8150"/>
                  <a:pt x="8376" y="8301"/>
                  <a:pt x="8359" y="8434"/>
                </a:cubicBezTo>
                <a:cubicBezTo>
                  <a:pt x="8344" y="8552"/>
                  <a:pt x="8301" y="8694"/>
                  <a:pt x="8260" y="8806"/>
                </a:cubicBezTo>
                <a:cubicBezTo>
                  <a:pt x="8233" y="8859"/>
                  <a:pt x="8221" y="8879"/>
                  <a:pt x="8186" y="8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16200" y="2919240"/>
            <a:ext cx="268560" cy="233640"/>
          </a:xfrm>
          <a:custGeom>
            <a:avLst/>
            <a:gdLst/>
            <a:ahLst/>
            <a:rect l="l" t="t" r="r" b="b"/>
            <a:pathLst>
              <a:path w="745" h="646">
                <a:moveTo>
                  <a:pt x="10046" y="8607"/>
                </a:moveTo>
                <a:cubicBezTo>
                  <a:pt x="10046" y="8629"/>
                  <a:pt x="10046" y="8789"/>
                  <a:pt x="10046" y="8731"/>
                </a:cubicBezTo>
                <a:cubicBezTo>
                  <a:pt x="10046" y="8658"/>
                  <a:pt x="10068" y="8606"/>
                  <a:pt x="10071" y="8533"/>
                </a:cubicBezTo>
                <a:cubicBezTo>
                  <a:pt x="10074" y="8446"/>
                  <a:pt x="10094" y="8342"/>
                  <a:pt x="10120" y="8260"/>
                </a:cubicBezTo>
                <a:cubicBezTo>
                  <a:pt x="10142" y="8216"/>
                  <a:pt x="10145" y="8205"/>
                  <a:pt x="10170" y="8186"/>
                </a:cubicBezTo>
                <a:cubicBezTo>
                  <a:pt x="10228" y="8257"/>
                  <a:pt x="10227" y="8298"/>
                  <a:pt x="10244" y="8384"/>
                </a:cubicBezTo>
                <a:cubicBezTo>
                  <a:pt x="10266" y="8495"/>
                  <a:pt x="10318" y="8596"/>
                  <a:pt x="10344" y="8706"/>
                </a:cubicBezTo>
                <a:cubicBezTo>
                  <a:pt x="10344" y="8714"/>
                  <a:pt x="10344" y="8723"/>
                  <a:pt x="10344" y="8731"/>
                </a:cubicBezTo>
              </a:path>
              <a:path w="745" h="646">
                <a:moveTo>
                  <a:pt x="10344" y="8508"/>
                </a:moveTo>
                <a:cubicBezTo>
                  <a:pt x="10263" y="8438"/>
                  <a:pt x="10294" y="8458"/>
                  <a:pt x="10220" y="8483"/>
                </a:cubicBezTo>
                <a:cubicBezTo>
                  <a:pt x="10192" y="8493"/>
                  <a:pt x="10150" y="8483"/>
                  <a:pt x="10120" y="8483"/>
                </a:cubicBezTo>
              </a:path>
              <a:path w="745" h="646">
                <a:moveTo>
                  <a:pt x="10492" y="8235"/>
                </a:moveTo>
                <a:cubicBezTo>
                  <a:pt x="10484" y="8235"/>
                  <a:pt x="10476" y="8235"/>
                  <a:pt x="10468" y="8235"/>
                </a:cubicBezTo>
                <a:cubicBezTo>
                  <a:pt x="10513" y="8235"/>
                  <a:pt x="10527" y="8214"/>
                  <a:pt x="10567" y="8210"/>
                </a:cubicBezTo>
                <a:cubicBezTo>
                  <a:pt x="10599" y="8206"/>
                  <a:pt x="10611" y="8193"/>
                  <a:pt x="10641" y="8186"/>
                </a:cubicBezTo>
              </a:path>
              <a:path w="745" h="646">
                <a:moveTo>
                  <a:pt x="10740" y="8111"/>
                </a:moveTo>
                <a:cubicBezTo>
                  <a:pt x="10800" y="8126"/>
                  <a:pt x="10790" y="8149"/>
                  <a:pt x="10790" y="8210"/>
                </a:cubicBezTo>
                <a:cubicBezTo>
                  <a:pt x="10790" y="8251"/>
                  <a:pt x="10790" y="8293"/>
                  <a:pt x="10790" y="8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17960" y="3009960"/>
            <a:ext cx="73080" cy="61920"/>
          </a:xfrm>
          <a:custGeom>
            <a:avLst/>
            <a:gdLst/>
            <a:ahLst/>
            <a:rect l="l" t="t" r="r" b="b"/>
            <a:pathLst>
              <a:path w="200" h="175">
                <a:moveTo>
                  <a:pt x="11311" y="8359"/>
                </a:moveTo>
                <a:cubicBezTo>
                  <a:pt x="11319" y="8359"/>
                  <a:pt x="11328" y="8359"/>
                  <a:pt x="11336" y="8359"/>
                </a:cubicBezTo>
                <a:cubicBezTo>
                  <a:pt x="11323" y="8397"/>
                  <a:pt x="11306" y="8384"/>
                  <a:pt x="11261" y="8384"/>
                </a:cubicBezTo>
                <a:cubicBezTo>
                  <a:pt x="11209" y="8384"/>
                  <a:pt x="11205" y="8398"/>
                  <a:pt x="11162" y="8409"/>
                </a:cubicBezTo>
              </a:path>
              <a:path w="200" h="175">
                <a:moveTo>
                  <a:pt x="11336" y="8483"/>
                </a:moveTo>
                <a:cubicBezTo>
                  <a:pt x="11344" y="8491"/>
                  <a:pt x="11353" y="8500"/>
                  <a:pt x="11361" y="8508"/>
                </a:cubicBezTo>
                <a:cubicBezTo>
                  <a:pt x="11311" y="8538"/>
                  <a:pt x="11274" y="8533"/>
                  <a:pt x="11212" y="8533"/>
                </a:cubicBezTo>
                <a:cubicBezTo>
                  <a:pt x="11204" y="8533"/>
                  <a:pt x="11195" y="8533"/>
                  <a:pt x="11187" y="85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05160" y="2751120"/>
            <a:ext cx="196920" cy="473040"/>
          </a:xfrm>
          <a:custGeom>
            <a:avLst/>
            <a:gdLst/>
            <a:ahLst/>
            <a:rect l="l" t="t" r="r" b="b"/>
            <a:pathLst>
              <a:path w="547" h="1315">
                <a:moveTo>
                  <a:pt x="12030" y="7962"/>
                </a:moveTo>
                <a:cubicBezTo>
                  <a:pt x="12030" y="7938"/>
                  <a:pt x="12030" y="7930"/>
                  <a:pt x="12055" y="7938"/>
                </a:cubicBezTo>
                <a:cubicBezTo>
                  <a:pt x="12055" y="8043"/>
                  <a:pt x="12064" y="8137"/>
                  <a:pt x="12080" y="8235"/>
                </a:cubicBezTo>
                <a:cubicBezTo>
                  <a:pt x="12089" y="8293"/>
                  <a:pt x="12075" y="8310"/>
                  <a:pt x="12105" y="8359"/>
                </a:cubicBezTo>
              </a:path>
              <a:path w="547" h="1315">
                <a:moveTo>
                  <a:pt x="12055" y="8037"/>
                </a:moveTo>
                <a:cubicBezTo>
                  <a:pt x="12018" y="7988"/>
                  <a:pt x="12027" y="7986"/>
                  <a:pt x="12055" y="7938"/>
                </a:cubicBezTo>
                <a:cubicBezTo>
                  <a:pt x="12095" y="7869"/>
                  <a:pt x="12066" y="7845"/>
                  <a:pt x="12154" y="7838"/>
                </a:cubicBezTo>
                <a:cubicBezTo>
                  <a:pt x="12220" y="7832"/>
                  <a:pt x="12226" y="7915"/>
                  <a:pt x="12229" y="7962"/>
                </a:cubicBezTo>
                <a:cubicBezTo>
                  <a:pt x="12233" y="8033"/>
                  <a:pt x="12225" y="8050"/>
                  <a:pt x="12179" y="8086"/>
                </a:cubicBezTo>
                <a:cubicBezTo>
                  <a:pt x="12141" y="8115"/>
                  <a:pt x="12128" y="8111"/>
                  <a:pt x="12080" y="8111"/>
                </a:cubicBezTo>
              </a:path>
              <a:path w="547" h="1315">
                <a:moveTo>
                  <a:pt x="11981" y="8855"/>
                </a:moveTo>
                <a:cubicBezTo>
                  <a:pt x="11981" y="8888"/>
                  <a:pt x="11981" y="8921"/>
                  <a:pt x="11981" y="8954"/>
                </a:cubicBezTo>
                <a:cubicBezTo>
                  <a:pt x="11948" y="8943"/>
                  <a:pt x="11941" y="8900"/>
                  <a:pt x="11956" y="8855"/>
                </a:cubicBezTo>
                <a:cubicBezTo>
                  <a:pt x="11975" y="8800"/>
                  <a:pt x="11998" y="8754"/>
                  <a:pt x="12055" y="8731"/>
                </a:cubicBezTo>
                <a:cubicBezTo>
                  <a:pt x="12087" y="8718"/>
                  <a:pt x="12143" y="8731"/>
                  <a:pt x="12179" y="8731"/>
                </a:cubicBezTo>
              </a:path>
              <a:path w="547" h="1315">
                <a:moveTo>
                  <a:pt x="11832" y="7665"/>
                </a:moveTo>
                <a:cubicBezTo>
                  <a:pt x="11857" y="7665"/>
                  <a:pt x="11865" y="7665"/>
                  <a:pt x="11857" y="7640"/>
                </a:cubicBezTo>
                <a:cubicBezTo>
                  <a:pt x="11857" y="7676"/>
                  <a:pt x="11850" y="7712"/>
                  <a:pt x="11832" y="7739"/>
                </a:cubicBezTo>
                <a:cubicBezTo>
                  <a:pt x="11802" y="7783"/>
                  <a:pt x="11745" y="7834"/>
                  <a:pt x="11733" y="7888"/>
                </a:cubicBezTo>
                <a:cubicBezTo>
                  <a:pt x="11721" y="7942"/>
                  <a:pt x="11725" y="8011"/>
                  <a:pt x="11708" y="8062"/>
                </a:cubicBezTo>
                <a:cubicBezTo>
                  <a:pt x="11682" y="8139"/>
                  <a:pt x="11683" y="8201"/>
                  <a:pt x="11683" y="8285"/>
                </a:cubicBezTo>
                <a:cubicBezTo>
                  <a:pt x="11683" y="8462"/>
                  <a:pt x="11681" y="8637"/>
                  <a:pt x="11708" y="8806"/>
                </a:cubicBezTo>
                <a:cubicBezTo>
                  <a:pt x="11708" y="8857"/>
                  <a:pt x="11709" y="8876"/>
                  <a:pt x="11733" y="8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16280" y="2795760"/>
            <a:ext cx="268560" cy="446040"/>
          </a:xfrm>
          <a:custGeom>
            <a:avLst/>
            <a:gdLst/>
            <a:ahLst/>
            <a:rect l="l" t="t" r="r" b="b"/>
            <a:pathLst>
              <a:path w="745" h="1241">
                <a:moveTo>
                  <a:pt x="12973" y="7938"/>
                </a:moveTo>
                <a:cubicBezTo>
                  <a:pt x="12964" y="7911"/>
                  <a:pt x="12955" y="7892"/>
                  <a:pt x="12923" y="7888"/>
                </a:cubicBezTo>
                <a:cubicBezTo>
                  <a:pt x="12864" y="7881"/>
                  <a:pt x="12831" y="7943"/>
                  <a:pt x="12824" y="7987"/>
                </a:cubicBezTo>
                <a:cubicBezTo>
                  <a:pt x="12816" y="8034"/>
                  <a:pt x="12828" y="8051"/>
                  <a:pt x="12849" y="8086"/>
                </a:cubicBezTo>
                <a:cubicBezTo>
                  <a:pt x="12903" y="8073"/>
                  <a:pt x="12930" y="8018"/>
                  <a:pt x="12948" y="7962"/>
                </a:cubicBezTo>
                <a:cubicBezTo>
                  <a:pt x="12954" y="7942"/>
                  <a:pt x="12973" y="7858"/>
                  <a:pt x="12973" y="7913"/>
                </a:cubicBezTo>
                <a:cubicBezTo>
                  <a:pt x="12973" y="7987"/>
                  <a:pt x="12971" y="8042"/>
                  <a:pt x="12948" y="8111"/>
                </a:cubicBezTo>
                <a:cubicBezTo>
                  <a:pt x="12924" y="8184"/>
                  <a:pt x="12923" y="8235"/>
                  <a:pt x="12923" y="8310"/>
                </a:cubicBezTo>
                <a:cubicBezTo>
                  <a:pt x="12982" y="8310"/>
                  <a:pt x="13001" y="8311"/>
                  <a:pt x="13047" y="8285"/>
                </a:cubicBezTo>
                <a:cubicBezTo>
                  <a:pt x="13088" y="8261"/>
                  <a:pt x="13150" y="8240"/>
                  <a:pt x="13196" y="8235"/>
                </a:cubicBezTo>
                <a:cubicBezTo>
                  <a:pt x="13204" y="8235"/>
                  <a:pt x="13213" y="8235"/>
                  <a:pt x="13221" y="8235"/>
                </a:cubicBezTo>
              </a:path>
              <a:path w="745" h="1241">
                <a:moveTo>
                  <a:pt x="12923" y="8632"/>
                </a:moveTo>
                <a:cubicBezTo>
                  <a:pt x="12946" y="8609"/>
                  <a:pt x="12954" y="8605"/>
                  <a:pt x="12948" y="8582"/>
                </a:cubicBezTo>
                <a:cubicBezTo>
                  <a:pt x="12922" y="8588"/>
                  <a:pt x="12863" y="8603"/>
                  <a:pt x="12849" y="8632"/>
                </a:cubicBezTo>
                <a:cubicBezTo>
                  <a:pt x="12819" y="8692"/>
                  <a:pt x="12890" y="8693"/>
                  <a:pt x="12923" y="8706"/>
                </a:cubicBezTo>
                <a:cubicBezTo>
                  <a:pt x="12978" y="8728"/>
                  <a:pt x="13028" y="8772"/>
                  <a:pt x="13047" y="8830"/>
                </a:cubicBezTo>
                <a:cubicBezTo>
                  <a:pt x="13066" y="8887"/>
                  <a:pt x="12979" y="8903"/>
                  <a:pt x="12948" y="8905"/>
                </a:cubicBezTo>
                <a:cubicBezTo>
                  <a:pt x="12931" y="8905"/>
                  <a:pt x="12915" y="8905"/>
                  <a:pt x="12898" y="8905"/>
                </a:cubicBezTo>
              </a:path>
              <a:path w="745" h="1241">
                <a:moveTo>
                  <a:pt x="13295" y="7789"/>
                </a:moveTo>
                <a:cubicBezTo>
                  <a:pt x="13310" y="7744"/>
                  <a:pt x="13355" y="7757"/>
                  <a:pt x="13395" y="7789"/>
                </a:cubicBezTo>
                <a:cubicBezTo>
                  <a:pt x="13455" y="7837"/>
                  <a:pt x="13496" y="7888"/>
                  <a:pt x="13519" y="7962"/>
                </a:cubicBezTo>
                <a:cubicBezTo>
                  <a:pt x="13565" y="8106"/>
                  <a:pt x="13568" y="8235"/>
                  <a:pt x="13568" y="8384"/>
                </a:cubicBezTo>
                <a:cubicBezTo>
                  <a:pt x="13568" y="8537"/>
                  <a:pt x="13554" y="8736"/>
                  <a:pt x="13494" y="8880"/>
                </a:cubicBezTo>
                <a:cubicBezTo>
                  <a:pt x="13450" y="8945"/>
                  <a:pt x="13439" y="8959"/>
                  <a:pt x="13419" y="90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01800" y="3732120"/>
            <a:ext cx="206280" cy="196920"/>
          </a:xfrm>
          <a:custGeom>
            <a:avLst/>
            <a:gdLst/>
            <a:ahLst/>
            <a:rect l="l" t="t" r="r" b="b"/>
            <a:pathLst>
              <a:path w="572" h="547">
                <a:moveTo>
                  <a:pt x="2604" y="10393"/>
                </a:moveTo>
                <a:cubicBezTo>
                  <a:pt x="2632" y="10393"/>
                  <a:pt x="2643" y="10391"/>
                  <a:pt x="2654" y="10368"/>
                </a:cubicBezTo>
                <a:cubicBezTo>
                  <a:pt x="2593" y="10383"/>
                  <a:pt x="2592" y="10419"/>
                  <a:pt x="2555" y="10468"/>
                </a:cubicBezTo>
                <a:cubicBezTo>
                  <a:pt x="2533" y="10496"/>
                  <a:pt x="2480" y="10549"/>
                  <a:pt x="2505" y="10592"/>
                </a:cubicBezTo>
                <a:cubicBezTo>
                  <a:pt x="2524" y="10625"/>
                  <a:pt x="2598" y="10642"/>
                  <a:pt x="2629" y="10666"/>
                </a:cubicBezTo>
                <a:cubicBezTo>
                  <a:pt x="2666" y="10694"/>
                  <a:pt x="2715" y="10768"/>
                  <a:pt x="2704" y="10815"/>
                </a:cubicBezTo>
                <a:cubicBezTo>
                  <a:pt x="2686" y="10891"/>
                  <a:pt x="2674" y="10889"/>
                  <a:pt x="2604" y="10889"/>
                </a:cubicBezTo>
                <a:cubicBezTo>
                  <a:pt x="2553" y="10889"/>
                  <a:pt x="2518" y="10904"/>
                  <a:pt x="2505" y="10864"/>
                </a:cubicBezTo>
              </a:path>
              <a:path w="572" h="547">
                <a:moveTo>
                  <a:pt x="2902" y="10815"/>
                </a:moveTo>
                <a:cubicBezTo>
                  <a:pt x="2902" y="10772"/>
                  <a:pt x="2888" y="10718"/>
                  <a:pt x="2927" y="10691"/>
                </a:cubicBezTo>
                <a:cubicBezTo>
                  <a:pt x="2978" y="10656"/>
                  <a:pt x="3051" y="10705"/>
                  <a:pt x="3076" y="10765"/>
                </a:cubicBezTo>
                <a:cubicBezTo>
                  <a:pt x="3089" y="10796"/>
                  <a:pt x="3088" y="10896"/>
                  <a:pt x="3051" y="10914"/>
                </a:cubicBezTo>
                <a:cubicBezTo>
                  <a:pt x="3013" y="10933"/>
                  <a:pt x="2970" y="10892"/>
                  <a:pt x="2952" y="10864"/>
                </a:cubicBezTo>
                <a:cubicBezTo>
                  <a:pt x="2944" y="10848"/>
                  <a:pt x="2935" y="10831"/>
                  <a:pt x="2927" y="10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25760" y="3562200"/>
            <a:ext cx="223560" cy="474840"/>
          </a:xfrm>
          <a:custGeom>
            <a:avLst/>
            <a:gdLst/>
            <a:ahLst/>
            <a:rect l="l" t="t" r="r" b="b"/>
            <a:pathLst>
              <a:path w="622" h="1316">
                <a:moveTo>
                  <a:pt x="4911" y="10120"/>
                </a:moveTo>
                <a:cubicBezTo>
                  <a:pt x="4939" y="10084"/>
                  <a:pt x="4950" y="10078"/>
                  <a:pt x="4961" y="10046"/>
                </a:cubicBezTo>
                <a:cubicBezTo>
                  <a:pt x="4924" y="10055"/>
                  <a:pt x="4885" y="10084"/>
                  <a:pt x="4862" y="10120"/>
                </a:cubicBezTo>
                <a:cubicBezTo>
                  <a:pt x="4812" y="10198"/>
                  <a:pt x="4806" y="10236"/>
                  <a:pt x="4837" y="10319"/>
                </a:cubicBezTo>
                <a:cubicBezTo>
                  <a:pt x="4899" y="10281"/>
                  <a:pt x="4902" y="10227"/>
                  <a:pt x="4936" y="10170"/>
                </a:cubicBezTo>
                <a:cubicBezTo>
                  <a:pt x="4972" y="10110"/>
                  <a:pt x="5032" y="10158"/>
                  <a:pt x="5060" y="10195"/>
                </a:cubicBezTo>
                <a:cubicBezTo>
                  <a:pt x="5085" y="10244"/>
                  <a:pt x="5094" y="10261"/>
                  <a:pt x="5135" y="10269"/>
                </a:cubicBezTo>
              </a:path>
              <a:path w="622" h="1316">
                <a:moveTo>
                  <a:pt x="4936" y="11013"/>
                </a:moveTo>
                <a:cubicBezTo>
                  <a:pt x="4958" y="10991"/>
                  <a:pt x="4967" y="10986"/>
                  <a:pt x="4961" y="10964"/>
                </a:cubicBezTo>
                <a:cubicBezTo>
                  <a:pt x="4922" y="10973"/>
                  <a:pt x="4864" y="11001"/>
                  <a:pt x="4837" y="11038"/>
                </a:cubicBezTo>
                <a:cubicBezTo>
                  <a:pt x="4786" y="11109"/>
                  <a:pt x="4810" y="11179"/>
                  <a:pt x="4887" y="11212"/>
                </a:cubicBezTo>
                <a:cubicBezTo>
                  <a:pt x="4953" y="11240"/>
                  <a:pt x="5013" y="11200"/>
                  <a:pt x="5060" y="11162"/>
                </a:cubicBezTo>
              </a:path>
              <a:path w="622" h="1316">
                <a:moveTo>
                  <a:pt x="4614" y="9996"/>
                </a:moveTo>
                <a:cubicBezTo>
                  <a:pt x="4635" y="9959"/>
                  <a:pt x="4654" y="9934"/>
                  <a:pt x="4663" y="9897"/>
                </a:cubicBezTo>
                <a:cubicBezTo>
                  <a:pt x="4614" y="9996"/>
                  <a:pt x="4569" y="10088"/>
                  <a:pt x="4539" y="10195"/>
                </a:cubicBezTo>
                <a:cubicBezTo>
                  <a:pt x="4491" y="10368"/>
                  <a:pt x="4514" y="10568"/>
                  <a:pt x="4564" y="10740"/>
                </a:cubicBezTo>
                <a:cubicBezTo>
                  <a:pt x="4599" y="10862"/>
                  <a:pt x="4627" y="11023"/>
                  <a:pt x="4688" y="11137"/>
                </a:cubicBezTo>
                <a:cubicBezTo>
                  <a:pt x="4713" y="11162"/>
                  <a:pt x="4721" y="11170"/>
                  <a:pt x="4738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43080" y="3483000"/>
            <a:ext cx="563760" cy="490680"/>
          </a:xfrm>
          <a:custGeom>
            <a:avLst/>
            <a:gdLst/>
            <a:ahLst/>
            <a:rect l="l" t="t" r="r" b="b"/>
            <a:pathLst>
              <a:path w="1564" h="1365">
                <a:moveTo>
                  <a:pt x="6176" y="9748"/>
                </a:moveTo>
                <a:cubicBezTo>
                  <a:pt x="6168" y="9740"/>
                  <a:pt x="6160" y="9731"/>
                  <a:pt x="6152" y="9723"/>
                </a:cubicBezTo>
                <a:cubicBezTo>
                  <a:pt x="6152" y="9889"/>
                  <a:pt x="6152" y="10054"/>
                  <a:pt x="6152" y="10220"/>
                </a:cubicBezTo>
                <a:cubicBezTo>
                  <a:pt x="6177" y="10150"/>
                  <a:pt x="6177" y="10089"/>
                  <a:pt x="6251" y="10046"/>
                </a:cubicBezTo>
                <a:cubicBezTo>
                  <a:pt x="6276" y="10046"/>
                  <a:pt x="6284" y="10046"/>
                  <a:pt x="6300" y="10046"/>
                </a:cubicBezTo>
                <a:cubicBezTo>
                  <a:pt x="6315" y="10073"/>
                  <a:pt x="6385" y="10160"/>
                  <a:pt x="6350" y="10195"/>
                </a:cubicBezTo>
                <a:cubicBezTo>
                  <a:pt x="6299" y="10246"/>
                  <a:pt x="6242" y="10244"/>
                  <a:pt x="6176" y="10244"/>
                </a:cubicBezTo>
                <a:cubicBezTo>
                  <a:pt x="6160" y="10244"/>
                  <a:pt x="6143" y="10244"/>
                  <a:pt x="6127" y="10244"/>
                </a:cubicBezTo>
              </a:path>
              <a:path w="1564" h="1365">
                <a:moveTo>
                  <a:pt x="6028" y="10939"/>
                </a:moveTo>
                <a:cubicBezTo>
                  <a:pt x="6013" y="10895"/>
                  <a:pt x="5973" y="10921"/>
                  <a:pt x="5953" y="10964"/>
                </a:cubicBezTo>
                <a:cubicBezTo>
                  <a:pt x="5934" y="11005"/>
                  <a:pt x="5957" y="11024"/>
                  <a:pt x="5978" y="11038"/>
                </a:cubicBezTo>
                <a:cubicBezTo>
                  <a:pt x="6083" y="11008"/>
                  <a:pt x="6054" y="10943"/>
                  <a:pt x="6077" y="10840"/>
                </a:cubicBezTo>
                <a:cubicBezTo>
                  <a:pt x="6094" y="10765"/>
                  <a:pt x="6091" y="10676"/>
                  <a:pt x="6127" y="10616"/>
                </a:cubicBezTo>
                <a:cubicBezTo>
                  <a:pt x="6142" y="10690"/>
                  <a:pt x="6154" y="10765"/>
                  <a:pt x="6176" y="10840"/>
                </a:cubicBezTo>
                <a:cubicBezTo>
                  <a:pt x="6194" y="10902"/>
                  <a:pt x="6212" y="10940"/>
                  <a:pt x="6251" y="10988"/>
                </a:cubicBezTo>
              </a:path>
              <a:path w="1564" h="1365">
                <a:moveTo>
                  <a:pt x="6424" y="9674"/>
                </a:moveTo>
                <a:cubicBezTo>
                  <a:pt x="6474" y="9674"/>
                  <a:pt x="6506" y="9691"/>
                  <a:pt x="6548" y="9723"/>
                </a:cubicBezTo>
                <a:cubicBezTo>
                  <a:pt x="6621" y="9777"/>
                  <a:pt x="6652" y="9887"/>
                  <a:pt x="6672" y="9971"/>
                </a:cubicBezTo>
                <a:cubicBezTo>
                  <a:pt x="6710" y="10130"/>
                  <a:pt x="6704" y="10284"/>
                  <a:pt x="6672" y="10443"/>
                </a:cubicBezTo>
                <a:cubicBezTo>
                  <a:pt x="6645" y="10579"/>
                  <a:pt x="6600" y="10692"/>
                  <a:pt x="6548" y="10815"/>
                </a:cubicBezTo>
                <a:cubicBezTo>
                  <a:pt x="6540" y="10840"/>
                  <a:pt x="6532" y="10864"/>
                  <a:pt x="6524" y="10889"/>
                </a:cubicBezTo>
              </a:path>
              <a:path w="1564" h="1365">
                <a:moveTo>
                  <a:pt x="7193" y="9971"/>
                </a:moveTo>
                <a:cubicBezTo>
                  <a:pt x="7193" y="9947"/>
                  <a:pt x="7193" y="9938"/>
                  <a:pt x="7193" y="9922"/>
                </a:cubicBezTo>
                <a:cubicBezTo>
                  <a:pt x="7237" y="9937"/>
                  <a:pt x="7218" y="9993"/>
                  <a:pt x="7218" y="10046"/>
                </a:cubicBezTo>
                <a:cubicBezTo>
                  <a:pt x="7218" y="10173"/>
                  <a:pt x="7251" y="10272"/>
                  <a:pt x="7268" y="10393"/>
                </a:cubicBezTo>
                <a:cubicBezTo>
                  <a:pt x="7276" y="10450"/>
                  <a:pt x="7282" y="10489"/>
                  <a:pt x="7293" y="10542"/>
                </a:cubicBezTo>
              </a:path>
              <a:path w="1564" h="1365">
                <a:moveTo>
                  <a:pt x="7218" y="10120"/>
                </a:moveTo>
                <a:cubicBezTo>
                  <a:pt x="7218" y="10072"/>
                  <a:pt x="7223" y="10010"/>
                  <a:pt x="7243" y="9971"/>
                </a:cubicBezTo>
                <a:cubicBezTo>
                  <a:pt x="7276" y="9907"/>
                  <a:pt x="7259" y="9879"/>
                  <a:pt x="7342" y="9872"/>
                </a:cubicBezTo>
                <a:cubicBezTo>
                  <a:pt x="7401" y="9867"/>
                  <a:pt x="7415" y="9978"/>
                  <a:pt x="7417" y="10021"/>
                </a:cubicBezTo>
                <a:cubicBezTo>
                  <a:pt x="7422" y="10105"/>
                  <a:pt x="7430" y="10138"/>
                  <a:pt x="7342" y="10145"/>
                </a:cubicBezTo>
                <a:cubicBezTo>
                  <a:pt x="7334" y="10145"/>
                  <a:pt x="7325" y="10145"/>
                  <a:pt x="7317" y="10145"/>
                </a:cubicBezTo>
              </a:path>
              <a:path w="1564" h="1365">
                <a:moveTo>
                  <a:pt x="7342" y="11013"/>
                </a:moveTo>
                <a:cubicBezTo>
                  <a:pt x="7334" y="11013"/>
                  <a:pt x="7325" y="11013"/>
                  <a:pt x="7317" y="11013"/>
                </a:cubicBezTo>
                <a:cubicBezTo>
                  <a:pt x="7317" y="10978"/>
                  <a:pt x="7298" y="10877"/>
                  <a:pt x="7342" y="10864"/>
                </a:cubicBezTo>
                <a:cubicBezTo>
                  <a:pt x="7390" y="10849"/>
                  <a:pt x="7465" y="10864"/>
                  <a:pt x="7516" y="10864"/>
                </a:cubicBezTo>
              </a:path>
              <a:path w="1564" h="1365">
                <a:moveTo>
                  <a:pt x="6995" y="9723"/>
                </a:moveTo>
                <a:cubicBezTo>
                  <a:pt x="7023" y="9723"/>
                  <a:pt x="7034" y="9721"/>
                  <a:pt x="7045" y="9699"/>
                </a:cubicBezTo>
                <a:cubicBezTo>
                  <a:pt x="7045" y="9754"/>
                  <a:pt x="7040" y="9770"/>
                  <a:pt x="7020" y="9823"/>
                </a:cubicBezTo>
                <a:cubicBezTo>
                  <a:pt x="6977" y="9941"/>
                  <a:pt x="6932" y="10069"/>
                  <a:pt x="6921" y="10195"/>
                </a:cubicBezTo>
                <a:cubicBezTo>
                  <a:pt x="6907" y="10353"/>
                  <a:pt x="6959" y="10522"/>
                  <a:pt x="7020" y="10666"/>
                </a:cubicBezTo>
                <a:cubicBezTo>
                  <a:pt x="7054" y="10745"/>
                  <a:pt x="7125" y="10884"/>
                  <a:pt x="7193" y="10939"/>
                </a:cubicBezTo>
                <a:cubicBezTo>
                  <a:pt x="7201" y="10939"/>
                  <a:pt x="7210" y="10939"/>
                  <a:pt x="7218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84320" y="3554280"/>
            <a:ext cx="277920" cy="366840"/>
          </a:xfrm>
          <a:custGeom>
            <a:avLst/>
            <a:gdLst/>
            <a:ahLst/>
            <a:rect l="l" t="t" r="r" b="b"/>
            <a:pathLst>
              <a:path w="770" h="1018">
                <a:moveTo>
                  <a:pt x="8086" y="9947"/>
                </a:moveTo>
                <a:cubicBezTo>
                  <a:pt x="8114" y="9910"/>
                  <a:pt x="8125" y="9904"/>
                  <a:pt x="8136" y="9872"/>
                </a:cubicBezTo>
                <a:cubicBezTo>
                  <a:pt x="8092" y="9916"/>
                  <a:pt x="8029" y="9958"/>
                  <a:pt x="8012" y="10021"/>
                </a:cubicBezTo>
                <a:cubicBezTo>
                  <a:pt x="8012" y="10063"/>
                  <a:pt x="8012" y="10071"/>
                  <a:pt x="8012" y="10096"/>
                </a:cubicBezTo>
                <a:cubicBezTo>
                  <a:pt x="8058" y="10096"/>
                  <a:pt x="8084" y="10089"/>
                  <a:pt x="8111" y="10046"/>
                </a:cubicBezTo>
                <a:cubicBezTo>
                  <a:pt x="8146" y="9991"/>
                  <a:pt x="8118" y="9985"/>
                  <a:pt x="8161" y="9971"/>
                </a:cubicBezTo>
                <a:cubicBezTo>
                  <a:pt x="8185" y="9979"/>
                  <a:pt x="8207" y="10022"/>
                  <a:pt x="8210" y="10046"/>
                </a:cubicBezTo>
                <a:cubicBezTo>
                  <a:pt x="8221" y="10134"/>
                  <a:pt x="8199" y="10213"/>
                  <a:pt x="8186" y="10294"/>
                </a:cubicBezTo>
                <a:cubicBezTo>
                  <a:pt x="8181" y="10323"/>
                  <a:pt x="8186" y="10362"/>
                  <a:pt x="8186" y="10393"/>
                </a:cubicBezTo>
                <a:cubicBezTo>
                  <a:pt x="8230" y="10382"/>
                  <a:pt x="8265" y="10343"/>
                  <a:pt x="8310" y="10319"/>
                </a:cubicBezTo>
                <a:cubicBezTo>
                  <a:pt x="8365" y="10289"/>
                  <a:pt x="8410" y="10273"/>
                  <a:pt x="8458" y="10244"/>
                </a:cubicBezTo>
              </a:path>
              <a:path w="770" h="1018">
                <a:moveTo>
                  <a:pt x="8235" y="10691"/>
                </a:moveTo>
                <a:cubicBezTo>
                  <a:pt x="8255" y="10650"/>
                  <a:pt x="8264" y="10644"/>
                  <a:pt x="8260" y="10616"/>
                </a:cubicBezTo>
                <a:cubicBezTo>
                  <a:pt x="8212" y="10628"/>
                  <a:pt x="8204" y="10672"/>
                  <a:pt x="8161" y="10691"/>
                </a:cubicBezTo>
                <a:cubicBezTo>
                  <a:pt x="8136" y="10691"/>
                  <a:pt x="8128" y="10691"/>
                  <a:pt x="8136" y="10716"/>
                </a:cubicBezTo>
                <a:cubicBezTo>
                  <a:pt x="8175" y="10744"/>
                  <a:pt x="8223" y="10740"/>
                  <a:pt x="8260" y="10765"/>
                </a:cubicBezTo>
                <a:cubicBezTo>
                  <a:pt x="8283" y="10780"/>
                  <a:pt x="8301" y="10836"/>
                  <a:pt x="8285" y="10864"/>
                </a:cubicBezTo>
                <a:cubicBezTo>
                  <a:pt x="8262" y="10887"/>
                  <a:pt x="8258" y="10895"/>
                  <a:pt x="8235" y="10889"/>
                </a:cubicBezTo>
              </a:path>
              <a:path w="770" h="1018">
                <a:moveTo>
                  <a:pt x="8607" y="9872"/>
                </a:moveTo>
                <a:cubicBezTo>
                  <a:pt x="8648" y="9913"/>
                  <a:pt x="8678" y="9944"/>
                  <a:pt x="8706" y="9996"/>
                </a:cubicBezTo>
                <a:cubicBezTo>
                  <a:pt x="8763" y="10105"/>
                  <a:pt x="8778" y="10197"/>
                  <a:pt x="8781" y="10319"/>
                </a:cubicBezTo>
                <a:cubicBezTo>
                  <a:pt x="8784" y="10446"/>
                  <a:pt x="8784" y="10594"/>
                  <a:pt x="8756" y="10716"/>
                </a:cubicBezTo>
                <a:cubicBezTo>
                  <a:pt x="8739" y="10787"/>
                  <a:pt x="8706" y="10822"/>
                  <a:pt x="8657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02000" y="3687840"/>
            <a:ext cx="71280" cy="81000"/>
          </a:xfrm>
          <a:custGeom>
            <a:avLst/>
            <a:gdLst/>
            <a:ahLst/>
            <a:rect l="l" t="t" r="r" b="b"/>
            <a:pathLst>
              <a:path w="199" h="225">
                <a:moveTo>
                  <a:pt x="9525" y="10244"/>
                </a:moveTo>
                <a:cubicBezTo>
                  <a:pt x="9578" y="10244"/>
                  <a:pt x="9562" y="10256"/>
                  <a:pt x="9599" y="10269"/>
                </a:cubicBezTo>
                <a:cubicBezTo>
                  <a:pt x="9575" y="10275"/>
                  <a:pt x="9521" y="10282"/>
                  <a:pt x="9500" y="10294"/>
                </a:cubicBezTo>
                <a:cubicBezTo>
                  <a:pt x="9478" y="10316"/>
                  <a:pt x="9473" y="10325"/>
                  <a:pt x="9451" y="10319"/>
                </a:cubicBezTo>
              </a:path>
              <a:path w="199" h="225">
                <a:moveTo>
                  <a:pt x="9575" y="10418"/>
                </a:moveTo>
                <a:cubicBezTo>
                  <a:pt x="9600" y="10422"/>
                  <a:pt x="9675" y="10443"/>
                  <a:pt x="9624" y="10443"/>
                </a:cubicBezTo>
                <a:cubicBezTo>
                  <a:pt x="9580" y="10443"/>
                  <a:pt x="9585" y="10441"/>
                  <a:pt x="9550" y="10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43200" y="3456000"/>
            <a:ext cx="241560" cy="608040"/>
          </a:xfrm>
          <a:custGeom>
            <a:avLst/>
            <a:gdLst/>
            <a:ahLst/>
            <a:rect l="l" t="t" r="r" b="b"/>
            <a:pathLst>
              <a:path w="671" h="1688">
                <a:moveTo>
                  <a:pt x="10666" y="9847"/>
                </a:moveTo>
                <a:cubicBezTo>
                  <a:pt x="10637" y="9810"/>
                  <a:pt x="10641" y="9796"/>
                  <a:pt x="10641" y="9748"/>
                </a:cubicBezTo>
                <a:cubicBezTo>
                  <a:pt x="10641" y="9740"/>
                  <a:pt x="10641" y="9731"/>
                  <a:pt x="10641" y="9723"/>
                </a:cubicBezTo>
                <a:cubicBezTo>
                  <a:pt x="10591" y="9757"/>
                  <a:pt x="10632" y="9828"/>
                  <a:pt x="10616" y="9897"/>
                </a:cubicBezTo>
                <a:cubicBezTo>
                  <a:pt x="10603" y="9955"/>
                  <a:pt x="10592" y="9983"/>
                  <a:pt x="10592" y="10046"/>
                </a:cubicBezTo>
              </a:path>
              <a:path w="671" h="1688">
                <a:moveTo>
                  <a:pt x="10716" y="10468"/>
                </a:moveTo>
                <a:cubicBezTo>
                  <a:pt x="10678" y="10495"/>
                  <a:pt x="10664" y="10492"/>
                  <a:pt x="10616" y="10492"/>
                </a:cubicBezTo>
                <a:cubicBezTo>
                  <a:pt x="10616" y="10431"/>
                  <a:pt x="10603" y="10366"/>
                  <a:pt x="10641" y="10319"/>
                </a:cubicBezTo>
                <a:cubicBezTo>
                  <a:pt x="10671" y="10281"/>
                  <a:pt x="10736" y="10278"/>
                  <a:pt x="10765" y="10319"/>
                </a:cubicBezTo>
                <a:cubicBezTo>
                  <a:pt x="10797" y="10364"/>
                  <a:pt x="10805" y="10463"/>
                  <a:pt x="10790" y="10517"/>
                </a:cubicBezTo>
                <a:cubicBezTo>
                  <a:pt x="10776" y="10567"/>
                  <a:pt x="10755" y="10624"/>
                  <a:pt x="10691" y="10592"/>
                </a:cubicBezTo>
                <a:cubicBezTo>
                  <a:pt x="10657" y="10575"/>
                  <a:pt x="10648" y="10500"/>
                  <a:pt x="10641" y="10468"/>
                </a:cubicBezTo>
              </a:path>
              <a:path w="671" h="1688">
                <a:moveTo>
                  <a:pt x="10319" y="9649"/>
                </a:moveTo>
                <a:cubicBezTo>
                  <a:pt x="10350" y="9628"/>
                  <a:pt x="10347" y="9631"/>
                  <a:pt x="10368" y="9599"/>
                </a:cubicBezTo>
                <a:cubicBezTo>
                  <a:pt x="10336" y="9632"/>
                  <a:pt x="10329" y="9661"/>
                  <a:pt x="10294" y="9723"/>
                </a:cubicBezTo>
                <a:cubicBezTo>
                  <a:pt x="10215" y="9864"/>
                  <a:pt x="10195" y="10009"/>
                  <a:pt x="10170" y="10170"/>
                </a:cubicBezTo>
                <a:cubicBezTo>
                  <a:pt x="10133" y="10405"/>
                  <a:pt x="10120" y="10627"/>
                  <a:pt x="10120" y="10864"/>
                </a:cubicBezTo>
                <a:cubicBezTo>
                  <a:pt x="10120" y="11005"/>
                  <a:pt x="10160" y="11126"/>
                  <a:pt x="10170" y="11261"/>
                </a:cubicBezTo>
                <a:cubicBezTo>
                  <a:pt x="10170" y="11269"/>
                  <a:pt x="10170" y="11278"/>
                  <a:pt x="10170" y="11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90960" y="3483000"/>
            <a:ext cx="196920" cy="339840"/>
          </a:xfrm>
          <a:custGeom>
            <a:avLst/>
            <a:gdLst/>
            <a:ahLst/>
            <a:rect l="l" t="t" r="r" b="b"/>
            <a:pathLst>
              <a:path w="546" h="943">
                <a:moveTo>
                  <a:pt x="11162" y="10170"/>
                </a:moveTo>
                <a:cubicBezTo>
                  <a:pt x="11139" y="10193"/>
                  <a:pt x="11135" y="10201"/>
                  <a:pt x="11112" y="10195"/>
                </a:cubicBezTo>
                <a:cubicBezTo>
                  <a:pt x="11112" y="10149"/>
                  <a:pt x="11110" y="10126"/>
                  <a:pt x="11162" y="10120"/>
                </a:cubicBezTo>
                <a:cubicBezTo>
                  <a:pt x="11225" y="10113"/>
                  <a:pt x="11253" y="10225"/>
                  <a:pt x="11261" y="10269"/>
                </a:cubicBezTo>
                <a:cubicBezTo>
                  <a:pt x="11276" y="10349"/>
                  <a:pt x="11260" y="10408"/>
                  <a:pt x="11212" y="10468"/>
                </a:cubicBezTo>
                <a:cubicBezTo>
                  <a:pt x="11161" y="10455"/>
                  <a:pt x="11101" y="10403"/>
                  <a:pt x="11088" y="10344"/>
                </a:cubicBezTo>
                <a:cubicBezTo>
                  <a:pt x="11088" y="10269"/>
                  <a:pt x="11088" y="10245"/>
                  <a:pt x="11088" y="10195"/>
                </a:cubicBezTo>
              </a:path>
              <a:path w="546" h="943">
                <a:moveTo>
                  <a:pt x="11137" y="10220"/>
                </a:moveTo>
                <a:cubicBezTo>
                  <a:pt x="11137" y="10288"/>
                  <a:pt x="11133" y="10176"/>
                  <a:pt x="11137" y="10170"/>
                </a:cubicBezTo>
                <a:cubicBezTo>
                  <a:pt x="11187" y="10080"/>
                  <a:pt x="11187" y="10251"/>
                  <a:pt x="11187" y="10269"/>
                </a:cubicBezTo>
                <a:cubicBezTo>
                  <a:pt x="11187" y="10351"/>
                  <a:pt x="11168" y="10415"/>
                  <a:pt x="11162" y="10492"/>
                </a:cubicBezTo>
                <a:cubicBezTo>
                  <a:pt x="11162" y="10500"/>
                  <a:pt x="11162" y="10509"/>
                  <a:pt x="11162" y="10517"/>
                </a:cubicBezTo>
                <a:cubicBezTo>
                  <a:pt x="11162" y="10407"/>
                  <a:pt x="11148" y="10296"/>
                  <a:pt x="11187" y="10195"/>
                </a:cubicBezTo>
                <a:cubicBezTo>
                  <a:pt x="11187" y="10127"/>
                  <a:pt x="11187" y="10302"/>
                  <a:pt x="11187" y="10319"/>
                </a:cubicBezTo>
                <a:cubicBezTo>
                  <a:pt x="11187" y="10341"/>
                  <a:pt x="11187" y="10501"/>
                  <a:pt x="11187" y="10443"/>
                </a:cubicBezTo>
                <a:cubicBezTo>
                  <a:pt x="11187" y="10372"/>
                  <a:pt x="11165" y="10314"/>
                  <a:pt x="11162" y="10244"/>
                </a:cubicBezTo>
                <a:cubicBezTo>
                  <a:pt x="11160" y="10203"/>
                  <a:pt x="11162" y="10161"/>
                  <a:pt x="11162" y="10120"/>
                </a:cubicBezTo>
                <a:cubicBezTo>
                  <a:pt x="11198" y="10144"/>
                  <a:pt x="11187" y="10187"/>
                  <a:pt x="11187" y="10244"/>
                </a:cubicBezTo>
                <a:cubicBezTo>
                  <a:pt x="11187" y="10294"/>
                  <a:pt x="11187" y="10343"/>
                  <a:pt x="11187" y="10393"/>
                </a:cubicBezTo>
                <a:cubicBezTo>
                  <a:pt x="11152" y="10346"/>
                  <a:pt x="11162" y="10306"/>
                  <a:pt x="11162" y="10244"/>
                </a:cubicBezTo>
                <a:cubicBezTo>
                  <a:pt x="11162" y="10221"/>
                  <a:pt x="11181" y="10116"/>
                  <a:pt x="11187" y="10195"/>
                </a:cubicBezTo>
                <a:cubicBezTo>
                  <a:pt x="11193" y="10277"/>
                  <a:pt x="11187" y="10361"/>
                  <a:pt x="11187" y="10443"/>
                </a:cubicBezTo>
              </a:path>
              <a:path w="546" h="943">
                <a:moveTo>
                  <a:pt x="11162" y="9872"/>
                </a:moveTo>
                <a:cubicBezTo>
                  <a:pt x="11120" y="9817"/>
                  <a:pt x="11144" y="9827"/>
                  <a:pt x="11162" y="9773"/>
                </a:cubicBezTo>
                <a:cubicBezTo>
                  <a:pt x="11174" y="9736"/>
                  <a:pt x="11196" y="9712"/>
                  <a:pt x="11237" y="9699"/>
                </a:cubicBezTo>
                <a:cubicBezTo>
                  <a:pt x="11295" y="9680"/>
                  <a:pt x="11314" y="9732"/>
                  <a:pt x="11336" y="9773"/>
                </a:cubicBezTo>
                <a:cubicBezTo>
                  <a:pt x="11379" y="9854"/>
                  <a:pt x="11362" y="9923"/>
                  <a:pt x="11311" y="9996"/>
                </a:cubicBezTo>
                <a:cubicBezTo>
                  <a:pt x="11264" y="10063"/>
                  <a:pt x="11218" y="10005"/>
                  <a:pt x="11187" y="9971"/>
                </a:cubicBezTo>
                <a:cubicBezTo>
                  <a:pt x="11158" y="9943"/>
                  <a:pt x="11150" y="9930"/>
                  <a:pt x="11162" y="9897"/>
                </a:cubicBezTo>
              </a:path>
              <a:path w="546" h="943">
                <a:moveTo>
                  <a:pt x="11485" y="9674"/>
                </a:moveTo>
                <a:cubicBezTo>
                  <a:pt x="11531" y="9674"/>
                  <a:pt x="11548" y="9668"/>
                  <a:pt x="11584" y="9699"/>
                </a:cubicBezTo>
                <a:cubicBezTo>
                  <a:pt x="11630" y="9739"/>
                  <a:pt x="11631" y="9813"/>
                  <a:pt x="11633" y="9872"/>
                </a:cubicBezTo>
                <a:cubicBezTo>
                  <a:pt x="11638" y="10034"/>
                  <a:pt x="11597" y="10196"/>
                  <a:pt x="11534" y="10344"/>
                </a:cubicBezTo>
                <a:cubicBezTo>
                  <a:pt x="11495" y="10435"/>
                  <a:pt x="11444" y="10516"/>
                  <a:pt x="11385" y="10592"/>
                </a:cubicBezTo>
                <a:cubicBezTo>
                  <a:pt x="11377" y="10600"/>
                  <a:pt x="11369" y="10608"/>
                  <a:pt x="11361" y="106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35000" y="4473720"/>
            <a:ext cx="206280" cy="447480"/>
          </a:xfrm>
          <a:custGeom>
            <a:avLst/>
            <a:gdLst/>
            <a:ahLst/>
            <a:rect l="l" t="t" r="r" b="b"/>
            <a:pathLst>
              <a:path w="572" h="1241">
                <a:moveTo>
                  <a:pt x="3225" y="12675"/>
                </a:moveTo>
                <a:cubicBezTo>
                  <a:pt x="3215" y="12636"/>
                  <a:pt x="3200" y="12621"/>
                  <a:pt x="3200" y="12576"/>
                </a:cubicBezTo>
                <a:cubicBezTo>
                  <a:pt x="3200" y="12641"/>
                  <a:pt x="3217" y="12687"/>
                  <a:pt x="3225" y="12750"/>
                </a:cubicBezTo>
              </a:path>
              <a:path w="572" h="1241">
                <a:moveTo>
                  <a:pt x="3175" y="13320"/>
                </a:moveTo>
                <a:cubicBezTo>
                  <a:pt x="3175" y="13312"/>
                  <a:pt x="3175" y="13303"/>
                  <a:pt x="3175" y="13295"/>
                </a:cubicBezTo>
                <a:cubicBezTo>
                  <a:pt x="3137" y="13308"/>
                  <a:pt x="3150" y="13325"/>
                  <a:pt x="3150" y="13370"/>
                </a:cubicBezTo>
                <a:cubicBezTo>
                  <a:pt x="3150" y="13414"/>
                  <a:pt x="3147" y="13428"/>
                  <a:pt x="3175" y="13444"/>
                </a:cubicBezTo>
              </a:path>
              <a:path w="572" h="1241">
                <a:moveTo>
                  <a:pt x="3274" y="13345"/>
                </a:moveTo>
                <a:cubicBezTo>
                  <a:pt x="3293" y="13288"/>
                  <a:pt x="3284" y="13263"/>
                  <a:pt x="3324" y="13271"/>
                </a:cubicBezTo>
                <a:cubicBezTo>
                  <a:pt x="3356" y="13313"/>
                  <a:pt x="3347" y="13349"/>
                  <a:pt x="3373" y="13395"/>
                </a:cubicBezTo>
              </a:path>
              <a:path w="572" h="1241">
                <a:moveTo>
                  <a:pt x="3101" y="13593"/>
                </a:moveTo>
                <a:cubicBezTo>
                  <a:pt x="3148" y="13609"/>
                  <a:pt x="3119" y="13638"/>
                  <a:pt x="3076" y="13643"/>
                </a:cubicBezTo>
                <a:cubicBezTo>
                  <a:pt x="3023" y="13649"/>
                  <a:pt x="3026" y="13687"/>
                  <a:pt x="2977" y="13643"/>
                </a:cubicBezTo>
                <a:cubicBezTo>
                  <a:pt x="2938" y="13609"/>
                  <a:pt x="2894" y="13569"/>
                  <a:pt x="2877" y="13519"/>
                </a:cubicBezTo>
                <a:cubicBezTo>
                  <a:pt x="2855" y="13453"/>
                  <a:pt x="2876" y="13329"/>
                  <a:pt x="2902" y="13271"/>
                </a:cubicBezTo>
                <a:cubicBezTo>
                  <a:pt x="2947" y="13171"/>
                  <a:pt x="2970" y="13139"/>
                  <a:pt x="3051" y="13072"/>
                </a:cubicBezTo>
                <a:cubicBezTo>
                  <a:pt x="3112" y="13021"/>
                  <a:pt x="3166" y="13001"/>
                  <a:pt x="3249" y="12998"/>
                </a:cubicBezTo>
                <a:cubicBezTo>
                  <a:pt x="3356" y="12993"/>
                  <a:pt x="3385" y="13026"/>
                  <a:pt x="3423" y="13122"/>
                </a:cubicBezTo>
                <a:cubicBezTo>
                  <a:pt x="3464" y="13225"/>
                  <a:pt x="3459" y="13340"/>
                  <a:pt x="3423" y="13444"/>
                </a:cubicBezTo>
                <a:cubicBezTo>
                  <a:pt x="3395" y="13523"/>
                  <a:pt x="3342" y="13577"/>
                  <a:pt x="3274" y="13618"/>
                </a:cubicBezTo>
                <a:cubicBezTo>
                  <a:pt x="3258" y="13626"/>
                  <a:pt x="3241" y="13635"/>
                  <a:pt x="3225" y="13643"/>
                </a:cubicBezTo>
              </a:path>
              <a:path w="572" h="1241">
                <a:moveTo>
                  <a:pt x="3175" y="12799"/>
                </a:moveTo>
                <a:cubicBezTo>
                  <a:pt x="3194" y="12855"/>
                  <a:pt x="3194" y="12810"/>
                  <a:pt x="3175" y="12849"/>
                </a:cubicBezTo>
                <a:cubicBezTo>
                  <a:pt x="3149" y="12902"/>
                  <a:pt x="3144" y="12898"/>
                  <a:pt x="3076" y="12898"/>
                </a:cubicBezTo>
                <a:cubicBezTo>
                  <a:pt x="3028" y="12898"/>
                  <a:pt x="2983" y="12893"/>
                  <a:pt x="2952" y="12849"/>
                </a:cubicBezTo>
                <a:cubicBezTo>
                  <a:pt x="2919" y="12803"/>
                  <a:pt x="2905" y="12729"/>
                  <a:pt x="2902" y="12675"/>
                </a:cubicBezTo>
                <a:cubicBezTo>
                  <a:pt x="2898" y="12605"/>
                  <a:pt x="2954" y="12552"/>
                  <a:pt x="3001" y="12502"/>
                </a:cubicBezTo>
                <a:cubicBezTo>
                  <a:pt x="3057" y="12442"/>
                  <a:pt x="3115" y="12408"/>
                  <a:pt x="3200" y="12427"/>
                </a:cubicBezTo>
                <a:cubicBezTo>
                  <a:pt x="3303" y="12450"/>
                  <a:pt x="3354" y="12526"/>
                  <a:pt x="3373" y="12626"/>
                </a:cubicBezTo>
                <a:cubicBezTo>
                  <a:pt x="3390" y="12715"/>
                  <a:pt x="3330" y="12790"/>
                  <a:pt x="3274" y="12849"/>
                </a:cubicBezTo>
                <a:cubicBezTo>
                  <a:pt x="3258" y="12865"/>
                  <a:pt x="3241" y="12882"/>
                  <a:pt x="3225" y="12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24040" y="4483080"/>
            <a:ext cx="222120" cy="231840"/>
          </a:xfrm>
          <a:custGeom>
            <a:avLst/>
            <a:gdLst/>
            <a:ahLst/>
            <a:rect l="l" t="t" r="r" b="b"/>
            <a:pathLst>
              <a:path w="621" h="646">
                <a:moveTo>
                  <a:pt x="4911" y="12551"/>
                </a:moveTo>
                <a:cubicBezTo>
                  <a:pt x="4940" y="12513"/>
                  <a:pt x="4936" y="12500"/>
                  <a:pt x="4936" y="12452"/>
                </a:cubicBezTo>
                <a:cubicBezTo>
                  <a:pt x="4875" y="12467"/>
                  <a:pt x="4843" y="12520"/>
                  <a:pt x="4812" y="12576"/>
                </a:cubicBezTo>
                <a:cubicBezTo>
                  <a:pt x="4791" y="12614"/>
                  <a:pt x="4750" y="12751"/>
                  <a:pt x="4812" y="12774"/>
                </a:cubicBezTo>
                <a:cubicBezTo>
                  <a:pt x="4880" y="12800"/>
                  <a:pt x="4925" y="12700"/>
                  <a:pt x="4936" y="12650"/>
                </a:cubicBezTo>
                <a:cubicBezTo>
                  <a:pt x="4936" y="12609"/>
                  <a:pt x="4928" y="12593"/>
                  <a:pt x="4961" y="12601"/>
                </a:cubicBezTo>
                <a:cubicBezTo>
                  <a:pt x="5022" y="12616"/>
                  <a:pt x="5032" y="12669"/>
                  <a:pt x="5060" y="12725"/>
                </a:cubicBezTo>
                <a:cubicBezTo>
                  <a:pt x="5080" y="12765"/>
                  <a:pt x="5089" y="12771"/>
                  <a:pt x="5085" y="12799"/>
                </a:cubicBezTo>
              </a:path>
              <a:path w="621" h="646">
                <a:moveTo>
                  <a:pt x="5159" y="12675"/>
                </a:moveTo>
                <a:cubicBezTo>
                  <a:pt x="5179" y="12615"/>
                  <a:pt x="5178" y="12600"/>
                  <a:pt x="5209" y="12576"/>
                </a:cubicBezTo>
                <a:cubicBezTo>
                  <a:pt x="5224" y="12648"/>
                  <a:pt x="5252" y="12722"/>
                  <a:pt x="5259" y="12799"/>
                </a:cubicBezTo>
                <a:cubicBezTo>
                  <a:pt x="5268" y="12904"/>
                  <a:pt x="5275" y="12999"/>
                  <a:pt x="5308" y="13097"/>
                </a:cubicBezTo>
              </a:path>
              <a:path w="621" h="646">
                <a:moveTo>
                  <a:pt x="5283" y="12700"/>
                </a:moveTo>
                <a:cubicBezTo>
                  <a:pt x="5249" y="12618"/>
                  <a:pt x="5263" y="12632"/>
                  <a:pt x="5283" y="12551"/>
                </a:cubicBezTo>
                <a:cubicBezTo>
                  <a:pt x="5291" y="12517"/>
                  <a:pt x="5303" y="12446"/>
                  <a:pt x="5358" y="12477"/>
                </a:cubicBezTo>
                <a:cubicBezTo>
                  <a:pt x="5414" y="12508"/>
                  <a:pt x="5423" y="12622"/>
                  <a:pt x="5407" y="12675"/>
                </a:cubicBezTo>
                <a:cubicBezTo>
                  <a:pt x="5387" y="12742"/>
                  <a:pt x="5345" y="12750"/>
                  <a:pt x="5283" y="12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08160" y="4340160"/>
            <a:ext cx="741240" cy="214200"/>
          </a:xfrm>
          <a:custGeom>
            <a:avLst/>
            <a:gdLst/>
            <a:ahLst/>
            <a:rect l="l" t="t" r="r" b="b"/>
            <a:pathLst>
              <a:path w="2060" h="596">
                <a:moveTo>
                  <a:pt x="6003" y="12502"/>
                </a:moveTo>
                <a:cubicBezTo>
                  <a:pt x="6052" y="12480"/>
                  <a:pt x="6054" y="12477"/>
                  <a:pt x="6102" y="12477"/>
                </a:cubicBezTo>
                <a:cubicBezTo>
                  <a:pt x="6062" y="12501"/>
                  <a:pt x="6003" y="12514"/>
                  <a:pt x="5953" y="12526"/>
                </a:cubicBezTo>
                <a:cubicBezTo>
                  <a:pt x="5923" y="12533"/>
                  <a:pt x="5885" y="12526"/>
                  <a:pt x="5854" y="12526"/>
                </a:cubicBezTo>
              </a:path>
              <a:path w="2060" h="596">
                <a:moveTo>
                  <a:pt x="5928" y="12402"/>
                </a:moveTo>
                <a:cubicBezTo>
                  <a:pt x="5928" y="12346"/>
                  <a:pt x="5952" y="12502"/>
                  <a:pt x="5953" y="12526"/>
                </a:cubicBezTo>
                <a:cubicBezTo>
                  <a:pt x="5953" y="12543"/>
                  <a:pt x="5953" y="12559"/>
                  <a:pt x="5953" y="12576"/>
                </a:cubicBezTo>
              </a:path>
              <a:path w="2060" h="596">
                <a:moveTo>
                  <a:pt x="6449" y="12303"/>
                </a:moveTo>
                <a:cubicBezTo>
                  <a:pt x="6449" y="12225"/>
                  <a:pt x="6436" y="12143"/>
                  <a:pt x="6474" y="12080"/>
                </a:cubicBezTo>
                <a:cubicBezTo>
                  <a:pt x="6474" y="12006"/>
                  <a:pt x="6474" y="12204"/>
                  <a:pt x="6474" y="12204"/>
                </a:cubicBezTo>
                <a:cubicBezTo>
                  <a:pt x="6490" y="12317"/>
                  <a:pt x="6499" y="12412"/>
                  <a:pt x="6499" y="12526"/>
                </a:cubicBezTo>
                <a:cubicBezTo>
                  <a:pt x="6499" y="12534"/>
                  <a:pt x="6499" y="12543"/>
                  <a:pt x="6499" y="12551"/>
                </a:cubicBezTo>
                <a:cubicBezTo>
                  <a:pt x="6532" y="12507"/>
                  <a:pt x="6533" y="12474"/>
                  <a:pt x="6598" y="12452"/>
                </a:cubicBezTo>
                <a:cubicBezTo>
                  <a:pt x="6662" y="12431"/>
                  <a:pt x="6691" y="12473"/>
                  <a:pt x="6697" y="12526"/>
                </a:cubicBezTo>
                <a:cubicBezTo>
                  <a:pt x="6705" y="12594"/>
                  <a:pt x="6693" y="12627"/>
                  <a:pt x="6623" y="12650"/>
                </a:cubicBezTo>
                <a:cubicBezTo>
                  <a:pt x="6582" y="12663"/>
                  <a:pt x="6551" y="12623"/>
                  <a:pt x="6524" y="12601"/>
                </a:cubicBezTo>
              </a:path>
              <a:path w="2060" h="596">
                <a:moveTo>
                  <a:pt x="6896" y="12551"/>
                </a:moveTo>
                <a:cubicBezTo>
                  <a:pt x="6904" y="12559"/>
                  <a:pt x="6913" y="12568"/>
                  <a:pt x="6921" y="12576"/>
                </a:cubicBezTo>
                <a:cubicBezTo>
                  <a:pt x="6921" y="12482"/>
                  <a:pt x="6902" y="12433"/>
                  <a:pt x="6970" y="12378"/>
                </a:cubicBezTo>
                <a:cubicBezTo>
                  <a:pt x="7016" y="12341"/>
                  <a:pt x="7061" y="12353"/>
                  <a:pt x="7119" y="12353"/>
                </a:cubicBezTo>
              </a:path>
              <a:path w="2060" h="596">
                <a:moveTo>
                  <a:pt x="7466" y="12328"/>
                </a:moveTo>
                <a:cubicBezTo>
                  <a:pt x="7508" y="12328"/>
                  <a:pt x="7516" y="12328"/>
                  <a:pt x="7541" y="12328"/>
                </a:cubicBezTo>
                <a:cubicBezTo>
                  <a:pt x="7491" y="12298"/>
                  <a:pt x="7454" y="12303"/>
                  <a:pt x="7392" y="12303"/>
                </a:cubicBezTo>
                <a:cubicBezTo>
                  <a:pt x="7367" y="12303"/>
                  <a:pt x="7359" y="12303"/>
                  <a:pt x="7342" y="12303"/>
                </a:cubicBezTo>
              </a:path>
              <a:path w="2060" h="596">
                <a:moveTo>
                  <a:pt x="7541" y="12452"/>
                </a:moveTo>
                <a:cubicBezTo>
                  <a:pt x="7565" y="12452"/>
                  <a:pt x="7574" y="12452"/>
                  <a:pt x="7590" y="12452"/>
                </a:cubicBezTo>
                <a:cubicBezTo>
                  <a:pt x="7551" y="12442"/>
                  <a:pt x="7515" y="12411"/>
                  <a:pt x="7466" y="12427"/>
                </a:cubicBezTo>
                <a:cubicBezTo>
                  <a:pt x="7426" y="12447"/>
                  <a:pt x="7420" y="12456"/>
                  <a:pt x="7392" y="12452"/>
                </a:cubicBezTo>
              </a:path>
              <a:path w="2060" h="596">
                <a:moveTo>
                  <a:pt x="7838" y="12204"/>
                </a:moveTo>
                <a:cubicBezTo>
                  <a:pt x="7838" y="12179"/>
                  <a:pt x="7838" y="12154"/>
                  <a:pt x="7838" y="12129"/>
                </a:cubicBezTo>
                <a:cubicBezTo>
                  <a:pt x="7915" y="12168"/>
                  <a:pt x="7873" y="12224"/>
                  <a:pt x="7888" y="12303"/>
                </a:cubicBezTo>
                <a:cubicBezTo>
                  <a:pt x="7902" y="12375"/>
                  <a:pt x="7913" y="12427"/>
                  <a:pt x="7913" y="125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16160" y="4303800"/>
            <a:ext cx="563760" cy="144360"/>
          </a:xfrm>
          <a:custGeom>
            <a:avLst/>
            <a:gdLst/>
            <a:ahLst/>
            <a:rect l="l" t="t" r="r" b="b"/>
            <a:pathLst>
              <a:path w="1564" h="398">
                <a:moveTo>
                  <a:pt x="8682" y="12353"/>
                </a:moveTo>
                <a:cubicBezTo>
                  <a:pt x="8700" y="12317"/>
                  <a:pt x="8701" y="12330"/>
                  <a:pt x="8731" y="12303"/>
                </a:cubicBezTo>
                <a:cubicBezTo>
                  <a:pt x="8757" y="12279"/>
                  <a:pt x="8785" y="12287"/>
                  <a:pt x="8830" y="12254"/>
                </a:cubicBezTo>
                <a:cubicBezTo>
                  <a:pt x="8866" y="12227"/>
                  <a:pt x="8955" y="12190"/>
                  <a:pt x="9004" y="12179"/>
                </a:cubicBezTo>
                <a:cubicBezTo>
                  <a:pt x="9067" y="12165"/>
                  <a:pt x="9141" y="12171"/>
                  <a:pt x="9203" y="12154"/>
                </a:cubicBezTo>
                <a:cubicBezTo>
                  <a:pt x="9269" y="12136"/>
                  <a:pt x="9336" y="12146"/>
                  <a:pt x="9401" y="12129"/>
                </a:cubicBezTo>
                <a:cubicBezTo>
                  <a:pt x="9489" y="12106"/>
                  <a:pt x="9584" y="12085"/>
                  <a:pt x="9674" y="12080"/>
                </a:cubicBezTo>
                <a:cubicBezTo>
                  <a:pt x="9794" y="12073"/>
                  <a:pt x="9914" y="12076"/>
                  <a:pt x="10021" y="12055"/>
                </a:cubicBezTo>
                <a:cubicBezTo>
                  <a:pt x="10075" y="12044"/>
                  <a:pt x="10155" y="12048"/>
                  <a:pt x="10195" y="12080"/>
                </a:cubicBezTo>
                <a:cubicBezTo>
                  <a:pt x="10216" y="12097"/>
                  <a:pt x="10231" y="12106"/>
                  <a:pt x="10220" y="12154"/>
                </a:cubicBezTo>
                <a:cubicBezTo>
                  <a:pt x="10212" y="12188"/>
                  <a:pt x="10161" y="12276"/>
                  <a:pt x="10145" y="12303"/>
                </a:cubicBezTo>
                <a:cubicBezTo>
                  <a:pt x="10129" y="12330"/>
                  <a:pt x="10095" y="12333"/>
                  <a:pt x="10071" y="12353"/>
                </a:cubicBezTo>
                <a:cubicBezTo>
                  <a:pt x="10078" y="12294"/>
                  <a:pt x="10098" y="12261"/>
                  <a:pt x="10120" y="12204"/>
                </a:cubicBezTo>
                <a:cubicBezTo>
                  <a:pt x="10135" y="12164"/>
                  <a:pt x="10188" y="12121"/>
                  <a:pt x="10195" y="12105"/>
                </a:cubicBezTo>
                <a:cubicBezTo>
                  <a:pt x="10213" y="12066"/>
                  <a:pt x="10174" y="12024"/>
                  <a:pt x="10145" y="12005"/>
                </a:cubicBezTo>
                <a:cubicBezTo>
                  <a:pt x="10093" y="11972"/>
                  <a:pt x="10053" y="11963"/>
                  <a:pt x="9996" y="119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62240" y="4268880"/>
            <a:ext cx="385920" cy="268200"/>
          </a:xfrm>
          <a:custGeom>
            <a:avLst/>
            <a:gdLst/>
            <a:ahLst/>
            <a:rect l="l" t="t" r="r" b="b"/>
            <a:pathLst>
              <a:path w="1068" h="745">
                <a:moveTo>
                  <a:pt x="11286" y="12254"/>
                </a:moveTo>
                <a:cubicBezTo>
                  <a:pt x="11330" y="12225"/>
                  <a:pt x="11355" y="12210"/>
                  <a:pt x="11361" y="12154"/>
                </a:cubicBezTo>
                <a:cubicBezTo>
                  <a:pt x="11361" y="12129"/>
                  <a:pt x="11361" y="12121"/>
                  <a:pt x="11361" y="12105"/>
                </a:cubicBezTo>
                <a:cubicBezTo>
                  <a:pt x="11310" y="12154"/>
                  <a:pt x="11292" y="12182"/>
                  <a:pt x="11286" y="12254"/>
                </a:cubicBezTo>
                <a:cubicBezTo>
                  <a:pt x="11282" y="12302"/>
                  <a:pt x="11282" y="12309"/>
                  <a:pt x="11311" y="12328"/>
                </a:cubicBezTo>
                <a:cubicBezTo>
                  <a:pt x="11356" y="12305"/>
                  <a:pt x="11359" y="12267"/>
                  <a:pt x="11385" y="12229"/>
                </a:cubicBezTo>
                <a:cubicBezTo>
                  <a:pt x="11393" y="12221"/>
                  <a:pt x="11402" y="12212"/>
                  <a:pt x="11410" y="12204"/>
                </a:cubicBezTo>
                <a:cubicBezTo>
                  <a:pt x="11443" y="12237"/>
                  <a:pt x="11476" y="12270"/>
                  <a:pt x="11509" y="12303"/>
                </a:cubicBezTo>
              </a:path>
              <a:path w="1068" h="745">
                <a:moveTo>
                  <a:pt x="11757" y="12154"/>
                </a:moveTo>
                <a:cubicBezTo>
                  <a:pt x="11765" y="12138"/>
                  <a:pt x="11774" y="12121"/>
                  <a:pt x="11782" y="12105"/>
                </a:cubicBezTo>
                <a:cubicBezTo>
                  <a:pt x="11732" y="12105"/>
                  <a:pt x="11733" y="12110"/>
                  <a:pt x="11708" y="12154"/>
                </a:cubicBezTo>
                <a:cubicBezTo>
                  <a:pt x="11674" y="12214"/>
                  <a:pt x="11677" y="12227"/>
                  <a:pt x="11708" y="12278"/>
                </a:cubicBezTo>
                <a:cubicBezTo>
                  <a:pt x="11790" y="12278"/>
                  <a:pt x="11779" y="12230"/>
                  <a:pt x="11782" y="12154"/>
                </a:cubicBezTo>
                <a:cubicBezTo>
                  <a:pt x="11786" y="12054"/>
                  <a:pt x="11778" y="11972"/>
                  <a:pt x="11757" y="11881"/>
                </a:cubicBezTo>
                <a:cubicBezTo>
                  <a:pt x="11757" y="11873"/>
                  <a:pt x="11757" y="11865"/>
                  <a:pt x="11757" y="11857"/>
                </a:cubicBezTo>
                <a:cubicBezTo>
                  <a:pt x="11800" y="11909"/>
                  <a:pt x="11827" y="11969"/>
                  <a:pt x="11857" y="12030"/>
                </a:cubicBezTo>
                <a:cubicBezTo>
                  <a:pt x="11883" y="12082"/>
                  <a:pt x="11935" y="12131"/>
                  <a:pt x="11956" y="12179"/>
                </a:cubicBezTo>
                <a:cubicBezTo>
                  <a:pt x="11956" y="12187"/>
                  <a:pt x="11956" y="12196"/>
                  <a:pt x="11956" y="12204"/>
                </a:cubicBezTo>
              </a:path>
              <a:path w="1068" h="745">
                <a:moveTo>
                  <a:pt x="12105" y="12154"/>
                </a:moveTo>
                <a:cubicBezTo>
                  <a:pt x="12105" y="12113"/>
                  <a:pt x="12105" y="12105"/>
                  <a:pt x="12105" y="12080"/>
                </a:cubicBezTo>
                <a:cubicBezTo>
                  <a:pt x="12138" y="12137"/>
                  <a:pt x="12133" y="12209"/>
                  <a:pt x="12154" y="12278"/>
                </a:cubicBezTo>
                <a:cubicBezTo>
                  <a:pt x="12183" y="12372"/>
                  <a:pt x="12200" y="12458"/>
                  <a:pt x="12229" y="12551"/>
                </a:cubicBezTo>
                <a:cubicBezTo>
                  <a:pt x="12229" y="12576"/>
                  <a:pt x="12229" y="12584"/>
                  <a:pt x="12229" y="12601"/>
                </a:cubicBezTo>
              </a:path>
              <a:path w="1068" h="745">
                <a:moveTo>
                  <a:pt x="12204" y="12353"/>
                </a:moveTo>
                <a:cubicBezTo>
                  <a:pt x="12179" y="12285"/>
                  <a:pt x="12133" y="12205"/>
                  <a:pt x="12154" y="12129"/>
                </a:cubicBezTo>
                <a:cubicBezTo>
                  <a:pt x="12167" y="12084"/>
                  <a:pt x="12208" y="12033"/>
                  <a:pt x="12254" y="12030"/>
                </a:cubicBezTo>
                <a:cubicBezTo>
                  <a:pt x="12322" y="12025"/>
                  <a:pt x="12349" y="12091"/>
                  <a:pt x="12353" y="12154"/>
                </a:cubicBezTo>
                <a:cubicBezTo>
                  <a:pt x="12358" y="12228"/>
                  <a:pt x="12319" y="12241"/>
                  <a:pt x="12254" y="122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06920" y="4187880"/>
            <a:ext cx="984240" cy="223920"/>
          </a:xfrm>
          <a:custGeom>
            <a:avLst/>
            <a:gdLst/>
            <a:ahLst/>
            <a:rect l="l" t="t" r="r" b="b"/>
            <a:pathLst>
              <a:path w="2730" h="622">
                <a:moveTo>
                  <a:pt x="13097" y="12129"/>
                </a:moveTo>
                <a:cubicBezTo>
                  <a:pt x="13105" y="12129"/>
                  <a:pt x="13114" y="12129"/>
                  <a:pt x="13122" y="12129"/>
                </a:cubicBezTo>
                <a:cubicBezTo>
                  <a:pt x="13064" y="12129"/>
                  <a:pt x="13019" y="12145"/>
                  <a:pt x="12973" y="12154"/>
                </a:cubicBezTo>
                <a:cubicBezTo>
                  <a:pt x="12921" y="12164"/>
                  <a:pt x="12853" y="12154"/>
                  <a:pt x="12799" y="12154"/>
                </a:cubicBezTo>
              </a:path>
              <a:path w="2730" h="622">
                <a:moveTo>
                  <a:pt x="12948" y="12030"/>
                </a:moveTo>
                <a:cubicBezTo>
                  <a:pt x="12956" y="12022"/>
                  <a:pt x="12965" y="12013"/>
                  <a:pt x="12973" y="12005"/>
                </a:cubicBezTo>
                <a:cubicBezTo>
                  <a:pt x="13003" y="12074"/>
                  <a:pt x="12998" y="12127"/>
                  <a:pt x="12998" y="12204"/>
                </a:cubicBezTo>
                <a:cubicBezTo>
                  <a:pt x="12998" y="12221"/>
                  <a:pt x="12998" y="12237"/>
                  <a:pt x="12998" y="12254"/>
                </a:cubicBezTo>
              </a:path>
              <a:path w="2730" h="622">
                <a:moveTo>
                  <a:pt x="13469" y="11757"/>
                </a:moveTo>
                <a:cubicBezTo>
                  <a:pt x="13469" y="11706"/>
                  <a:pt x="13454" y="11671"/>
                  <a:pt x="13494" y="11658"/>
                </a:cubicBezTo>
                <a:cubicBezTo>
                  <a:pt x="13494" y="11584"/>
                  <a:pt x="13494" y="11780"/>
                  <a:pt x="13494" y="11782"/>
                </a:cubicBezTo>
                <a:cubicBezTo>
                  <a:pt x="13494" y="11877"/>
                  <a:pt x="13519" y="11959"/>
                  <a:pt x="13519" y="12055"/>
                </a:cubicBezTo>
                <a:cubicBezTo>
                  <a:pt x="13519" y="12096"/>
                  <a:pt x="13519" y="12104"/>
                  <a:pt x="13519" y="12129"/>
                </a:cubicBezTo>
                <a:cubicBezTo>
                  <a:pt x="13519" y="12170"/>
                  <a:pt x="13519" y="12096"/>
                  <a:pt x="13519" y="12055"/>
                </a:cubicBezTo>
                <a:cubicBezTo>
                  <a:pt x="13519" y="11995"/>
                  <a:pt x="13553" y="11925"/>
                  <a:pt x="13618" y="11906"/>
                </a:cubicBezTo>
                <a:cubicBezTo>
                  <a:pt x="13686" y="11886"/>
                  <a:pt x="13747" y="11947"/>
                  <a:pt x="13767" y="12005"/>
                </a:cubicBezTo>
                <a:cubicBezTo>
                  <a:pt x="13788" y="12066"/>
                  <a:pt x="13753" y="12115"/>
                  <a:pt x="13692" y="12129"/>
                </a:cubicBezTo>
                <a:cubicBezTo>
                  <a:pt x="13630" y="12143"/>
                  <a:pt x="13588" y="12116"/>
                  <a:pt x="13543" y="12080"/>
                </a:cubicBezTo>
              </a:path>
              <a:path w="2730" h="622">
                <a:moveTo>
                  <a:pt x="14015" y="11981"/>
                </a:moveTo>
                <a:cubicBezTo>
                  <a:pt x="14023" y="11981"/>
                  <a:pt x="14031" y="11981"/>
                  <a:pt x="14039" y="11981"/>
                </a:cubicBezTo>
                <a:cubicBezTo>
                  <a:pt x="14031" y="11958"/>
                  <a:pt x="13981" y="11928"/>
                  <a:pt x="13965" y="11981"/>
                </a:cubicBezTo>
                <a:cubicBezTo>
                  <a:pt x="13948" y="12037"/>
                  <a:pt x="13964" y="12112"/>
                  <a:pt x="13990" y="12154"/>
                </a:cubicBezTo>
                <a:cubicBezTo>
                  <a:pt x="14071" y="12133"/>
                  <a:pt x="14050" y="12077"/>
                  <a:pt x="14064" y="12005"/>
                </a:cubicBezTo>
                <a:cubicBezTo>
                  <a:pt x="14083" y="11909"/>
                  <a:pt x="14089" y="11830"/>
                  <a:pt x="14089" y="11733"/>
                </a:cubicBezTo>
                <a:cubicBezTo>
                  <a:pt x="14089" y="11692"/>
                  <a:pt x="14089" y="11766"/>
                  <a:pt x="14089" y="11807"/>
                </a:cubicBezTo>
                <a:cubicBezTo>
                  <a:pt x="14089" y="11882"/>
                  <a:pt x="14102" y="11936"/>
                  <a:pt x="14114" y="12005"/>
                </a:cubicBezTo>
                <a:cubicBezTo>
                  <a:pt x="14118" y="12029"/>
                  <a:pt x="14131" y="12131"/>
                  <a:pt x="14188" y="12105"/>
                </a:cubicBezTo>
                <a:cubicBezTo>
                  <a:pt x="14222" y="12090"/>
                  <a:pt x="14230" y="12080"/>
                  <a:pt x="14238" y="12055"/>
                </a:cubicBezTo>
              </a:path>
              <a:path w="2730" h="622">
                <a:moveTo>
                  <a:pt x="14263" y="12105"/>
                </a:moveTo>
                <a:cubicBezTo>
                  <a:pt x="14263" y="12113"/>
                  <a:pt x="14263" y="12121"/>
                  <a:pt x="14263" y="12129"/>
                </a:cubicBezTo>
                <a:cubicBezTo>
                  <a:pt x="14263" y="12071"/>
                  <a:pt x="14239" y="11950"/>
                  <a:pt x="14288" y="11906"/>
                </a:cubicBezTo>
                <a:cubicBezTo>
                  <a:pt x="14305" y="11890"/>
                  <a:pt x="14416" y="11906"/>
                  <a:pt x="14436" y="11906"/>
                </a:cubicBezTo>
              </a:path>
              <a:path w="2730" h="622">
                <a:moveTo>
                  <a:pt x="14833" y="11956"/>
                </a:moveTo>
                <a:cubicBezTo>
                  <a:pt x="14841" y="11948"/>
                  <a:pt x="14850" y="11939"/>
                  <a:pt x="14858" y="11931"/>
                </a:cubicBezTo>
                <a:cubicBezTo>
                  <a:pt x="14817" y="11931"/>
                  <a:pt x="14775" y="11931"/>
                  <a:pt x="14734" y="11931"/>
                </a:cubicBezTo>
              </a:path>
              <a:path w="2730" h="622">
                <a:moveTo>
                  <a:pt x="14883" y="12030"/>
                </a:moveTo>
                <a:cubicBezTo>
                  <a:pt x="14951" y="12030"/>
                  <a:pt x="14853" y="12055"/>
                  <a:pt x="14833" y="12055"/>
                </a:cubicBezTo>
              </a:path>
              <a:path w="2730" h="622">
                <a:moveTo>
                  <a:pt x="15304" y="11981"/>
                </a:moveTo>
                <a:cubicBezTo>
                  <a:pt x="15304" y="11956"/>
                  <a:pt x="15304" y="11948"/>
                  <a:pt x="15304" y="11931"/>
                </a:cubicBezTo>
                <a:cubicBezTo>
                  <a:pt x="15265" y="11941"/>
                  <a:pt x="15233" y="11960"/>
                  <a:pt x="15230" y="12005"/>
                </a:cubicBezTo>
                <a:cubicBezTo>
                  <a:pt x="15224" y="12093"/>
                  <a:pt x="15219" y="12117"/>
                  <a:pt x="15304" y="12129"/>
                </a:cubicBezTo>
                <a:cubicBezTo>
                  <a:pt x="15344" y="12103"/>
                  <a:pt x="15352" y="12021"/>
                  <a:pt x="15354" y="11956"/>
                </a:cubicBezTo>
                <a:cubicBezTo>
                  <a:pt x="15357" y="11852"/>
                  <a:pt x="15379" y="11762"/>
                  <a:pt x="15379" y="11658"/>
                </a:cubicBezTo>
                <a:cubicBezTo>
                  <a:pt x="15379" y="11650"/>
                  <a:pt x="15379" y="11641"/>
                  <a:pt x="15379" y="11633"/>
                </a:cubicBezTo>
                <a:cubicBezTo>
                  <a:pt x="15379" y="11722"/>
                  <a:pt x="15378" y="11795"/>
                  <a:pt x="15404" y="11881"/>
                </a:cubicBezTo>
                <a:cubicBezTo>
                  <a:pt x="15433" y="11979"/>
                  <a:pt x="15457" y="12034"/>
                  <a:pt x="15528" y="121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71720" y="5089680"/>
            <a:ext cx="142560" cy="80640"/>
          </a:xfrm>
          <a:custGeom>
            <a:avLst/>
            <a:gdLst/>
            <a:ahLst/>
            <a:rect l="l" t="t" r="r" b="b"/>
            <a:pathLst>
              <a:path w="397" h="224">
                <a:moveTo>
                  <a:pt x="2977" y="14163"/>
                </a:moveTo>
                <a:cubicBezTo>
                  <a:pt x="2977" y="14155"/>
                  <a:pt x="2977" y="14147"/>
                  <a:pt x="2977" y="14139"/>
                </a:cubicBezTo>
                <a:cubicBezTo>
                  <a:pt x="3024" y="14155"/>
                  <a:pt x="2985" y="14169"/>
                  <a:pt x="3001" y="14213"/>
                </a:cubicBezTo>
                <a:cubicBezTo>
                  <a:pt x="3021" y="14268"/>
                  <a:pt x="3018" y="14318"/>
                  <a:pt x="3051" y="14362"/>
                </a:cubicBezTo>
              </a:path>
              <a:path w="397" h="224">
                <a:moveTo>
                  <a:pt x="3125" y="14188"/>
                </a:moveTo>
                <a:cubicBezTo>
                  <a:pt x="3125" y="14180"/>
                  <a:pt x="3125" y="14171"/>
                  <a:pt x="3125" y="14163"/>
                </a:cubicBezTo>
                <a:cubicBezTo>
                  <a:pt x="3175" y="14176"/>
                  <a:pt x="3186" y="14217"/>
                  <a:pt x="3200" y="14263"/>
                </a:cubicBezTo>
                <a:cubicBezTo>
                  <a:pt x="3200" y="14288"/>
                  <a:pt x="3200" y="14296"/>
                  <a:pt x="3200" y="14312"/>
                </a:cubicBezTo>
              </a:path>
              <a:path w="397" h="224">
                <a:moveTo>
                  <a:pt x="3249" y="14163"/>
                </a:moveTo>
                <a:cubicBezTo>
                  <a:pt x="3282" y="14139"/>
                  <a:pt x="3332" y="14128"/>
                  <a:pt x="3349" y="14188"/>
                </a:cubicBezTo>
                <a:cubicBezTo>
                  <a:pt x="3364" y="14241"/>
                  <a:pt x="3353" y="14282"/>
                  <a:pt x="3373" y="143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24040" y="4616280"/>
            <a:ext cx="1892160" cy="393840"/>
          </a:xfrm>
          <a:custGeom>
            <a:avLst/>
            <a:gdLst/>
            <a:ahLst/>
            <a:rect l="l" t="t" r="r" b="b"/>
            <a:pathLst>
              <a:path w="5260" h="1092">
                <a:moveTo>
                  <a:pt x="4911" y="13419"/>
                </a:moveTo>
                <a:cubicBezTo>
                  <a:pt x="4911" y="13375"/>
                  <a:pt x="4926" y="13359"/>
                  <a:pt x="4936" y="13320"/>
                </a:cubicBezTo>
                <a:cubicBezTo>
                  <a:pt x="4879" y="13334"/>
                  <a:pt x="4843" y="13366"/>
                  <a:pt x="4812" y="13419"/>
                </a:cubicBezTo>
                <a:cubicBezTo>
                  <a:pt x="4785" y="13464"/>
                  <a:pt x="4767" y="13504"/>
                  <a:pt x="4812" y="13519"/>
                </a:cubicBezTo>
                <a:cubicBezTo>
                  <a:pt x="4846" y="13496"/>
                  <a:pt x="4840" y="13432"/>
                  <a:pt x="4887" y="13395"/>
                </a:cubicBezTo>
                <a:cubicBezTo>
                  <a:pt x="4930" y="13361"/>
                  <a:pt x="4987" y="13445"/>
                  <a:pt x="5011" y="13469"/>
                </a:cubicBezTo>
                <a:cubicBezTo>
                  <a:pt x="5035" y="13494"/>
                  <a:pt x="5043" y="13503"/>
                  <a:pt x="5060" y="13519"/>
                </a:cubicBezTo>
              </a:path>
              <a:path w="5260" h="1092">
                <a:moveTo>
                  <a:pt x="5333" y="13345"/>
                </a:moveTo>
                <a:cubicBezTo>
                  <a:pt x="5355" y="13295"/>
                  <a:pt x="5358" y="13294"/>
                  <a:pt x="5358" y="13246"/>
                </a:cubicBezTo>
                <a:cubicBezTo>
                  <a:pt x="5310" y="13246"/>
                  <a:pt x="5272" y="13269"/>
                  <a:pt x="5259" y="13320"/>
                </a:cubicBezTo>
                <a:cubicBezTo>
                  <a:pt x="5250" y="13356"/>
                  <a:pt x="5259" y="13407"/>
                  <a:pt x="5259" y="13444"/>
                </a:cubicBezTo>
                <a:cubicBezTo>
                  <a:pt x="5302" y="13433"/>
                  <a:pt x="5325" y="13403"/>
                  <a:pt x="5358" y="13370"/>
                </a:cubicBezTo>
                <a:cubicBezTo>
                  <a:pt x="5397" y="13435"/>
                  <a:pt x="5383" y="13513"/>
                  <a:pt x="5383" y="13593"/>
                </a:cubicBezTo>
                <a:cubicBezTo>
                  <a:pt x="5383" y="13641"/>
                  <a:pt x="5351" y="13813"/>
                  <a:pt x="5407" y="13841"/>
                </a:cubicBezTo>
                <a:cubicBezTo>
                  <a:pt x="5471" y="13873"/>
                  <a:pt x="5519" y="13804"/>
                  <a:pt x="5556" y="13767"/>
                </a:cubicBezTo>
                <a:cubicBezTo>
                  <a:pt x="5604" y="13719"/>
                  <a:pt x="5641" y="13717"/>
                  <a:pt x="5705" y="13717"/>
                </a:cubicBezTo>
              </a:path>
              <a:path w="5260" h="1092">
                <a:moveTo>
                  <a:pt x="6176" y="13271"/>
                </a:moveTo>
                <a:cubicBezTo>
                  <a:pt x="6184" y="13271"/>
                  <a:pt x="6193" y="13271"/>
                  <a:pt x="6201" y="13271"/>
                </a:cubicBezTo>
                <a:cubicBezTo>
                  <a:pt x="6160" y="13281"/>
                  <a:pt x="6115" y="13312"/>
                  <a:pt x="6077" y="13320"/>
                </a:cubicBezTo>
                <a:cubicBezTo>
                  <a:pt x="6041" y="13327"/>
                  <a:pt x="5991" y="13320"/>
                  <a:pt x="5953" y="13320"/>
                </a:cubicBezTo>
              </a:path>
              <a:path w="5260" h="1092">
                <a:moveTo>
                  <a:pt x="6052" y="13221"/>
                </a:moveTo>
                <a:cubicBezTo>
                  <a:pt x="6072" y="13180"/>
                  <a:pt x="6070" y="13164"/>
                  <a:pt x="6102" y="13171"/>
                </a:cubicBezTo>
                <a:cubicBezTo>
                  <a:pt x="6102" y="13254"/>
                  <a:pt x="6102" y="13336"/>
                  <a:pt x="6102" y="13419"/>
                </a:cubicBezTo>
              </a:path>
              <a:path w="5260" h="1092">
                <a:moveTo>
                  <a:pt x="6449" y="12948"/>
                </a:moveTo>
                <a:cubicBezTo>
                  <a:pt x="6449" y="12931"/>
                  <a:pt x="6449" y="12915"/>
                  <a:pt x="6449" y="12898"/>
                </a:cubicBezTo>
                <a:cubicBezTo>
                  <a:pt x="6449" y="13022"/>
                  <a:pt x="6449" y="13147"/>
                  <a:pt x="6449" y="13271"/>
                </a:cubicBezTo>
                <a:cubicBezTo>
                  <a:pt x="6476" y="13238"/>
                  <a:pt x="6497" y="13204"/>
                  <a:pt x="6524" y="13171"/>
                </a:cubicBezTo>
                <a:cubicBezTo>
                  <a:pt x="6588" y="13187"/>
                  <a:pt x="6593" y="13231"/>
                  <a:pt x="6598" y="13295"/>
                </a:cubicBezTo>
                <a:cubicBezTo>
                  <a:pt x="6603" y="13355"/>
                  <a:pt x="6543" y="13366"/>
                  <a:pt x="6499" y="13370"/>
                </a:cubicBezTo>
                <a:cubicBezTo>
                  <a:pt x="6474" y="13370"/>
                  <a:pt x="6466" y="13370"/>
                  <a:pt x="6449" y="13370"/>
                </a:cubicBezTo>
              </a:path>
              <a:path w="5260" h="1092">
                <a:moveTo>
                  <a:pt x="6772" y="13072"/>
                </a:moveTo>
                <a:cubicBezTo>
                  <a:pt x="6832" y="13020"/>
                  <a:pt x="6808" y="13022"/>
                  <a:pt x="6871" y="13022"/>
                </a:cubicBezTo>
                <a:cubicBezTo>
                  <a:pt x="6843" y="13050"/>
                  <a:pt x="6804" y="13076"/>
                  <a:pt x="6821" y="13122"/>
                </a:cubicBezTo>
                <a:cubicBezTo>
                  <a:pt x="6847" y="13193"/>
                  <a:pt x="6891" y="13205"/>
                  <a:pt x="6945" y="13246"/>
                </a:cubicBezTo>
                <a:cubicBezTo>
                  <a:pt x="6991" y="13281"/>
                  <a:pt x="6969" y="13315"/>
                  <a:pt x="6921" y="13320"/>
                </a:cubicBezTo>
                <a:cubicBezTo>
                  <a:pt x="6896" y="13320"/>
                  <a:pt x="6888" y="13320"/>
                  <a:pt x="6871" y="13320"/>
                </a:cubicBezTo>
              </a:path>
              <a:path w="5260" h="1092">
                <a:moveTo>
                  <a:pt x="7590" y="13022"/>
                </a:moveTo>
                <a:cubicBezTo>
                  <a:pt x="7647" y="13013"/>
                  <a:pt x="7666" y="13016"/>
                  <a:pt x="7615" y="13022"/>
                </a:cubicBezTo>
                <a:cubicBezTo>
                  <a:pt x="7576" y="13027"/>
                  <a:pt x="7547" y="13048"/>
                  <a:pt x="7516" y="13072"/>
                </a:cubicBezTo>
              </a:path>
              <a:path w="5260" h="1092">
                <a:moveTo>
                  <a:pt x="7640" y="13122"/>
                </a:moveTo>
                <a:cubicBezTo>
                  <a:pt x="7665" y="13122"/>
                  <a:pt x="7673" y="13122"/>
                  <a:pt x="7689" y="13122"/>
                </a:cubicBezTo>
                <a:cubicBezTo>
                  <a:pt x="7677" y="13157"/>
                  <a:pt x="7653" y="13155"/>
                  <a:pt x="7615" y="13171"/>
                </a:cubicBezTo>
                <a:cubicBezTo>
                  <a:pt x="7598" y="13179"/>
                  <a:pt x="7582" y="13188"/>
                  <a:pt x="7565" y="13196"/>
                </a:cubicBezTo>
              </a:path>
              <a:path w="5260" h="1092">
                <a:moveTo>
                  <a:pt x="7938" y="13097"/>
                </a:moveTo>
                <a:cubicBezTo>
                  <a:pt x="7938" y="13031"/>
                  <a:pt x="7923" y="12956"/>
                  <a:pt x="7962" y="12898"/>
                </a:cubicBezTo>
                <a:cubicBezTo>
                  <a:pt x="7995" y="12848"/>
                  <a:pt x="8015" y="12803"/>
                  <a:pt x="8086" y="12824"/>
                </a:cubicBezTo>
                <a:cubicBezTo>
                  <a:pt x="8191" y="12855"/>
                  <a:pt x="8183" y="12986"/>
                  <a:pt x="8186" y="13072"/>
                </a:cubicBezTo>
                <a:cubicBezTo>
                  <a:pt x="8188" y="13139"/>
                  <a:pt x="8158" y="13271"/>
                  <a:pt x="8062" y="13271"/>
                </a:cubicBezTo>
                <a:cubicBezTo>
                  <a:pt x="7956" y="13271"/>
                  <a:pt x="7945" y="13171"/>
                  <a:pt x="7938" y="13097"/>
                </a:cubicBezTo>
              </a:path>
              <a:path w="5260" h="1092">
                <a:moveTo>
                  <a:pt x="8706" y="13146"/>
                </a:moveTo>
                <a:cubicBezTo>
                  <a:pt x="8804" y="13146"/>
                  <a:pt x="8893" y="13138"/>
                  <a:pt x="8979" y="13122"/>
                </a:cubicBezTo>
                <a:cubicBezTo>
                  <a:pt x="9043" y="13110"/>
                  <a:pt x="9116" y="13107"/>
                  <a:pt x="9178" y="13097"/>
                </a:cubicBezTo>
                <a:cubicBezTo>
                  <a:pt x="9238" y="13087"/>
                  <a:pt x="9288" y="13075"/>
                  <a:pt x="9351" y="13072"/>
                </a:cubicBezTo>
                <a:cubicBezTo>
                  <a:pt x="9425" y="13068"/>
                  <a:pt x="9482" y="13059"/>
                  <a:pt x="9550" y="13047"/>
                </a:cubicBezTo>
                <a:cubicBezTo>
                  <a:pt x="9645" y="13031"/>
                  <a:pt x="9763" y="13035"/>
                  <a:pt x="9847" y="13022"/>
                </a:cubicBezTo>
                <a:cubicBezTo>
                  <a:pt x="9910" y="13013"/>
                  <a:pt x="9982" y="13022"/>
                  <a:pt x="10046" y="13022"/>
                </a:cubicBezTo>
                <a:cubicBezTo>
                  <a:pt x="10039" y="13073"/>
                  <a:pt x="10008" y="13080"/>
                  <a:pt x="9996" y="13122"/>
                </a:cubicBezTo>
                <a:cubicBezTo>
                  <a:pt x="9979" y="13181"/>
                  <a:pt x="9969" y="13219"/>
                  <a:pt x="9922" y="13271"/>
                </a:cubicBezTo>
                <a:cubicBezTo>
                  <a:pt x="9884" y="13313"/>
                  <a:pt x="9874" y="13313"/>
                  <a:pt x="9823" y="13320"/>
                </a:cubicBezTo>
                <a:cubicBezTo>
                  <a:pt x="9830" y="13268"/>
                  <a:pt x="9831" y="13262"/>
                  <a:pt x="9872" y="13221"/>
                </a:cubicBezTo>
                <a:cubicBezTo>
                  <a:pt x="9911" y="13182"/>
                  <a:pt x="10024" y="13103"/>
                  <a:pt x="10021" y="13047"/>
                </a:cubicBezTo>
                <a:cubicBezTo>
                  <a:pt x="10020" y="13022"/>
                  <a:pt x="9977" y="12954"/>
                  <a:pt x="9947" y="12948"/>
                </a:cubicBezTo>
                <a:cubicBezTo>
                  <a:pt x="9896" y="12937"/>
                  <a:pt x="9848" y="12937"/>
                  <a:pt x="9798" y="12923"/>
                </a:cubicBezTo>
              </a:path>
              <a:path w="5260" h="1092">
                <a:moveTo>
                  <a:pt x="8582" y="13915"/>
                </a:moveTo>
                <a:cubicBezTo>
                  <a:pt x="8632" y="13915"/>
                  <a:pt x="8668" y="13924"/>
                  <a:pt x="8706" y="13891"/>
                </a:cubicBezTo>
                <a:cubicBezTo>
                  <a:pt x="8742" y="13859"/>
                  <a:pt x="8786" y="13859"/>
                  <a:pt x="8830" y="13841"/>
                </a:cubicBezTo>
                <a:cubicBezTo>
                  <a:pt x="8910" y="13809"/>
                  <a:pt x="8972" y="13836"/>
                  <a:pt x="9054" y="13816"/>
                </a:cubicBezTo>
                <a:cubicBezTo>
                  <a:pt x="9116" y="13801"/>
                  <a:pt x="9193" y="13787"/>
                  <a:pt x="9252" y="13767"/>
                </a:cubicBezTo>
                <a:cubicBezTo>
                  <a:pt x="9327" y="13742"/>
                  <a:pt x="9401" y="13738"/>
                  <a:pt x="9475" y="13717"/>
                </a:cubicBezTo>
                <a:cubicBezTo>
                  <a:pt x="9547" y="13696"/>
                  <a:pt x="9595" y="13692"/>
                  <a:pt x="9674" y="13692"/>
                </a:cubicBezTo>
                <a:cubicBezTo>
                  <a:pt x="9732" y="13692"/>
                  <a:pt x="9760" y="13667"/>
                  <a:pt x="9823" y="13667"/>
                </a:cubicBezTo>
                <a:cubicBezTo>
                  <a:pt x="9848" y="13667"/>
                  <a:pt x="9872" y="13667"/>
                  <a:pt x="9897" y="13667"/>
                </a:cubicBezTo>
                <a:cubicBezTo>
                  <a:pt x="9897" y="13718"/>
                  <a:pt x="9906" y="13753"/>
                  <a:pt x="9872" y="13791"/>
                </a:cubicBezTo>
                <a:cubicBezTo>
                  <a:pt x="9833" y="13834"/>
                  <a:pt x="9790" y="13874"/>
                  <a:pt x="9748" y="13915"/>
                </a:cubicBezTo>
                <a:cubicBezTo>
                  <a:pt x="9790" y="13874"/>
                  <a:pt x="9813" y="13837"/>
                  <a:pt x="9847" y="13791"/>
                </a:cubicBezTo>
                <a:cubicBezTo>
                  <a:pt x="9873" y="13757"/>
                  <a:pt x="9915" y="13717"/>
                  <a:pt x="9897" y="13667"/>
                </a:cubicBezTo>
                <a:cubicBezTo>
                  <a:pt x="9875" y="13605"/>
                  <a:pt x="9806" y="13597"/>
                  <a:pt x="9748" y="135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10040" y="4803840"/>
            <a:ext cx="1554120" cy="331560"/>
          </a:xfrm>
          <a:custGeom>
            <a:avLst/>
            <a:gdLst/>
            <a:ahLst/>
            <a:rect l="l" t="t" r="r" b="b"/>
            <a:pathLst>
              <a:path w="4317" h="919">
                <a:moveTo>
                  <a:pt x="11137" y="13568"/>
                </a:moveTo>
                <a:cubicBezTo>
                  <a:pt x="11137" y="13543"/>
                  <a:pt x="11137" y="13535"/>
                  <a:pt x="11137" y="13519"/>
                </a:cubicBezTo>
                <a:cubicBezTo>
                  <a:pt x="11137" y="13599"/>
                  <a:pt x="11153" y="13666"/>
                  <a:pt x="11162" y="13742"/>
                </a:cubicBezTo>
                <a:cubicBezTo>
                  <a:pt x="11170" y="13814"/>
                  <a:pt x="11162" y="13892"/>
                  <a:pt x="11162" y="13965"/>
                </a:cubicBezTo>
                <a:cubicBezTo>
                  <a:pt x="11177" y="13889"/>
                  <a:pt x="11184" y="13885"/>
                  <a:pt x="11237" y="13841"/>
                </a:cubicBezTo>
                <a:cubicBezTo>
                  <a:pt x="11312" y="13779"/>
                  <a:pt x="11347" y="13847"/>
                  <a:pt x="11385" y="13915"/>
                </a:cubicBezTo>
                <a:cubicBezTo>
                  <a:pt x="11411" y="13963"/>
                  <a:pt x="11424" y="14011"/>
                  <a:pt x="11361" y="14039"/>
                </a:cubicBezTo>
                <a:cubicBezTo>
                  <a:pt x="11310" y="14061"/>
                  <a:pt x="11256" y="14026"/>
                  <a:pt x="11212" y="14015"/>
                </a:cubicBezTo>
                <a:cubicBezTo>
                  <a:pt x="11204" y="14015"/>
                  <a:pt x="11195" y="14015"/>
                  <a:pt x="11187" y="14015"/>
                </a:cubicBezTo>
              </a:path>
              <a:path w="4317" h="919">
                <a:moveTo>
                  <a:pt x="11584" y="13841"/>
                </a:moveTo>
                <a:cubicBezTo>
                  <a:pt x="11616" y="13792"/>
                  <a:pt x="11618" y="13780"/>
                  <a:pt x="11658" y="13767"/>
                </a:cubicBezTo>
                <a:cubicBezTo>
                  <a:pt x="11630" y="13774"/>
                  <a:pt x="11569" y="13806"/>
                  <a:pt x="11559" y="13841"/>
                </a:cubicBezTo>
                <a:cubicBezTo>
                  <a:pt x="11540" y="13906"/>
                  <a:pt x="11569" y="13958"/>
                  <a:pt x="11584" y="14015"/>
                </a:cubicBezTo>
                <a:cubicBezTo>
                  <a:pt x="11604" y="14094"/>
                  <a:pt x="11662" y="14015"/>
                  <a:pt x="11683" y="13990"/>
                </a:cubicBezTo>
                <a:cubicBezTo>
                  <a:pt x="11691" y="13982"/>
                  <a:pt x="11700" y="13973"/>
                  <a:pt x="11708" y="13965"/>
                </a:cubicBezTo>
              </a:path>
              <a:path w="4317" h="919">
                <a:moveTo>
                  <a:pt x="11857" y="13866"/>
                </a:moveTo>
                <a:cubicBezTo>
                  <a:pt x="11857" y="13858"/>
                  <a:pt x="11857" y="13849"/>
                  <a:pt x="11857" y="13841"/>
                </a:cubicBezTo>
                <a:cubicBezTo>
                  <a:pt x="11912" y="13869"/>
                  <a:pt x="11906" y="13902"/>
                  <a:pt x="11906" y="13965"/>
                </a:cubicBezTo>
                <a:cubicBezTo>
                  <a:pt x="11906" y="14049"/>
                  <a:pt x="11925" y="14109"/>
                  <a:pt x="11931" y="14188"/>
                </a:cubicBezTo>
                <a:cubicBezTo>
                  <a:pt x="11933" y="14213"/>
                  <a:pt x="11931" y="14238"/>
                  <a:pt x="11931" y="14263"/>
                </a:cubicBezTo>
              </a:path>
              <a:path w="4317" h="919">
                <a:moveTo>
                  <a:pt x="11881" y="13965"/>
                </a:moveTo>
                <a:cubicBezTo>
                  <a:pt x="11881" y="13879"/>
                  <a:pt x="11874" y="13860"/>
                  <a:pt x="11931" y="13816"/>
                </a:cubicBezTo>
                <a:cubicBezTo>
                  <a:pt x="11972" y="13784"/>
                  <a:pt x="11989" y="13779"/>
                  <a:pt x="12030" y="13816"/>
                </a:cubicBezTo>
                <a:cubicBezTo>
                  <a:pt x="12063" y="13845"/>
                  <a:pt x="12114" y="13945"/>
                  <a:pt x="12080" y="13990"/>
                </a:cubicBezTo>
                <a:cubicBezTo>
                  <a:pt x="12064" y="14011"/>
                  <a:pt x="12005" y="14033"/>
                  <a:pt x="11981" y="14039"/>
                </a:cubicBezTo>
              </a:path>
              <a:path w="4317" h="919">
                <a:moveTo>
                  <a:pt x="12576" y="13791"/>
                </a:moveTo>
                <a:cubicBezTo>
                  <a:pt x="12601" y="13791"/>
                  <a:pt x="12609" y="13791"/>
                  <a:pt x="12626" y="13791"/>
                </a:cubicBezTo>
                <a:cubicBezTo>
                  <a:pt x="12551" y="13791"/>
                  <a:pt x="12477" y="13791"/>
                  <a:pt x="12402" y="13791"/>
                </a:cubicBezTo>
              </a:path>
              <a:path w="4317" h="919">
                <a:moveTo>
                  <a:pt x="12477" y="13667"/>
                </a:moveTo>
                <a:cubicBezTo>
                  <a:pt x="12509" y="13606"/>
                  <a:pt x="12502" y="13738"/>
                  <a:pt x="12502" y="13767"/>
                </a:cubicBezTo>
                <a:cubicBezTo>
                  <a:pt x="12502" y="13821"/>
                  <a:pt x="12520" y="13862"/>
                  <a:pt x="12526" y="13915"/>
                </a:cubicBezTo>
              </a:path>
              <a:path w="4317" h="919">
                <a:moveTo>
                  <a:pt x="13072" y="13494"/>
                </a:moveTo>
                <a:cubicBezTo>
                  <a:pt x="13072" y="13452"/>
                  <a:pt x="13072" y="13444"/>
                  <a:pt x="13072" y="13419"/>
                </a:cubicBezTo>
                <a:cubicBezTo>
                  <a:pt x="13072" y="13568"/>
                  <a:pt x="13072" y="13965"/>
                  <a:pt x="13072" y="13816"/>
                </a:cubicBezTo>
                <a:cubicBezTo>
                  <a:pt x="13102" y="13766"/>
                  <a:pt x="13102" y="13716"/>
                  <a:pt x="13146" y="13667"/>
                </a:cubicBezTo>
                <a:cubicBezTo>
                  <a:pt x="13189" y="13620"/>
                  <a:pt x="13240" y="13644"/>
                  <a:pt x="13271" y="13692"/>
                </a:cubicBezTo>
                <a:cubicBezTo>
                  <a:pt x="13287" y="13717"/>
                  <a:pt x="13322" y="13839"/>
                  <a:pt x="13295" y="13866"/>
                </a:cubicBezTo>
                <a:cubicBezTo>
                  <a:pt x="13266" y="13895"/>
                  <a:pt x="13183" y="13903"/>
                  <a:pt x="13146" y="13891"/>
                </a:cubicBezTo>
                <a:cubicBezTo>
                  <a:pt x="13130" y="13883"/>
                  <a:pt x="13113" y="13874"/>
                  <a:pt x="13097" y="13866"/>
                </a:cubicBezTo>
              </a:path>
              <a:path w="4317" h="919">
                <a:moveTo>
                  <a:pt x="13519" y="13717"/>
                </a:moveTo>
                <a:cubicBezTo>
                  <a:pt x="13532" y="13677"/>
                  <a:pt x="13530" y="13707"/>
                  <a:pt x="13543" y="13667"/>
                </a:cubicBezTo>
                <a:cubicBezTo>
                  <a:pt x="13503" y="13677"/>
                  <a:pt x="13472" y="13696"/>
                  <a:pt x="13469" y="13742"/>
                </a:cubicBezTo>
                <a:cubicBezTo>
                  <a:pt x="13465" y="13798"/>
                  <a:pt x="13464" y="13801"/>
                  <a:pt x="13494" y="13841"/>
                </a:cubicBezTo>
                <a:cubicBezTo>
                  <a:pt x="13569" y="13822"/>
                  <a:pt x="13565" y="13764"/>
                  <a:pt x="13568" y="13692"/>
                </a:cubicBezTo>
                <a:cubicBezTo>
                  <a:pt x="13571" y="13610"/>
                  <a:pt x="13568" y="13526"/>
                  <a:pt x="13568" y="13444"/>
                </a:cubicBezTo>
                <a:cubicBezTo>
                  <a:pt x="13568" y="13402"/>
                  <a:pt x="13556" y="13479"/>
                  <a:pt x="13568" y="13519"/>
                </a:cubicBezTo>
                <a:cubicBezTo>
                  <a:pt x="13592" y="13600"/>
                  <a:pt x="13630" y="13690"/>
                  <a:pt x="13667" y="13767"/>
                </a:cubicBezTo>
                <a:cubicBezTo>
                  <a:pt x="13697" y="13831"/>
                  <a:pt x="13710" y="13858"/>
                  <a:pt x="13767" y="13816"/>
                </a:cubicBezTo>
              </a:path>
              <a:path w="4317" h="919">
                <a:moveTo>
                  <a:pt x="13915" y="13742"/>
                </a:moveTo>
                <a:cubicBezTo>
                  <a:pt x="13915" y="13767"/>
                  <a:pt x="13915" y="13775"/>
                  <a:pt x="13940" y="13767"/>
                </a:cubicBezTo>
                <a:cubicBezTo>
                  <a:pt x="13931" y="13729"/>
                  <a:pt x="13895" y="13691"/>
                  <a:pt x="13915" y="13643"/>
                </a:cubicBezTo>
                <a:cubicBezTo>
                  <a:pt x="13941" y="13580"/>
                  <a:pt x="14010" y="13593"/>
                  <a:pt x="14064" y="13593"/>
                </a:cubicBezTo>
                <a:cubicBezTo>
                  <a:pt x="14081" y="13593"/>
                  <a:pt x="14097" y="13593"/>
                  <a:pt x="14114" y="13593"/>
                </a:cubicBezTo>
              </a:path>
              <a:path w="4317" h="919">
                <a:moveTo>
                  <a:pt x="14808" y="13593"/>
                </a:moveTo>
                <a:cubicBezTo>
                  <a:pt x="14816" y="13593"/>
                  <a:pt x="14825" y="13593"/>
                  <a:pt x="14833" y="13593"/>
                </a:cubicBezTo>
                <a:cubicBezTo>
                  <a:pt x="14765" y="13593"/>
                  <a:pt x="14716" y="13599"/>
                  <a:pt x="14660" y="13618"/>
                </a:cubicBezTo>
                <a:cubicBezTo>
                  <a:pt x="14652" y="13618"/>
                  <a:pt x="14643" y="13618"/>
                  <a:pt x="14635" y="13618"/>
                </a:cubicBezTo>
              </a:path>
              <a:path w="4317" h="919">
                <a:moveTo>
                  <a:pt x="14808" y="13692"/>
                </a:moveTo>
                <a:cubicBezTo>
                  <a:pt x="14831" y="13715"/>
                  <a:pt x="14839" y="13719"/>
                  <a:pt x="14833" y="13742"/>
                </a:cubicBezTo>
                <a:cubicBezTo>
                  <a:pt x="14800" y="13742"/>
                  <a:pt x="14767" y="13742"/>
                  <a:pt x="14734" y="13742"/>
                </a:cubicBezTo>
              </a:path>
              <a:path w="4317" h="919">
                <a:moveTo>
                  <a:pt x="15230" y="13618"/>
                </a:moveTo>
                <a:cubicBezTo>
                  <a:pt x="15219" y="13592"/>
                  <a:pt x="15186" y="13528"/>
                  <a:pt x="15205" y="13494"/>
                </a:cubicBezTo>
                <a:cubicBezTo>
                  <a:pt x="15233" y="13444"/>
                  <a:pt x="15236" y="13415"/>
                  <a:pt x="15280" y="13370"/>
                </a:cubicBezTo>
                <a:cubicBezTo>
                  <a:pt x="15320" y="13329"/>
                  <a:pt x="15365" y="13335"/>
                  <a:pt x="15404" y="13370"/>
                </a:cubicBezTo>
                <a:cubicBezTo>
                  <a:pt x="15463" y="13422"/>
                  <a:pt x="15469" y="13519"/>
                  <a:pt x="15453" y="13593"/>
                </a:cubicBezTo>
                <a:cubicBezTo>
                  <a:pt x="15437" y="13667"/>
                  <a:pt x="15377" y="13726"/>
                  <a:pt x="15304" y="13742"/>
                </a:cubicBezTo>
                <a:cubicBezTo>
                  <a:pt x="15265" y="13751"/>
                  <a:pt x="15163" y="13724"/>
                  <a:pt x="15180" y="13667"/>
                </a:cubicBezTo>
                <a:cubicBezTo>
                  <a:pt x="15196" y="13611"/>
                  <a:pt x="15235" y="13550"/>
                  <a:pt x="15255" y="13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82800" y="5045040"/>
            <a:ext cx="276120" cy="241200"/>
          </a:xfrm>
          <a:custGeom>
            <a:avLst/>
            <a:gdLst/>
            <a:ahLst/>
            <a:rect l="l" t="t" r="r" b="b"/>
            <a:pathLst>
              <a:path w="769" h="670">
                <a:moveTo>
                  <a:pt x="3200" y="14610"/>
                </a:moveTo>
                <a:cubicBezTo>
                  <a:pt x="3200" y="14635"/>
                  <a:pt x="3200" y="14643"/>
                  <a:pt x="3200" y="14660"/>
                </a:cubicBezTo>
                <a:cubicBezTo>
                  <a:pt x="3144" y="14660"/>
                  <a:pt x="3122" y="14669"/>
                  <a:pt x="3076" y="14684"/>
                </a:cubicBezTo>
                <a:cubicBezTo>
                  <a:pt x="3034" y="14697"/>
                  <a:pt x="2983" y="14684"/>
                  <a:pt x="2952" y="14660"/>
                </a:cubicBezTo>
                <a:cubicBezTo>
                  <a:pt x="2913" y="14629"/>
                  <a:pt x="2870" y="14587"/>
                  <a:pt x="2828" y="14560"/>
                </a:cubicBezTo>
                <a:cubicBezTo>
                  <a:pt x="2777" y="14528"/>
                  <a:pt x="2758" y="14506"/>
                  <a:pt x="2753" y="14436"/>
                </a:cubicBezTo>
                <a:cubicBezTo>
                  <a:pt x="2749" y="14378"/>
                  <a:pt x="2729" y="14350"/>
                  <a:pt x="2729" y="14288"/>
                </a:cubicBezTo>
                <a:cubicBezTo>
                  <a:pt x="2729" y="14234"/>
                  <a:pt x="2740" y="14204"/>
                  <a:pt x="2778" y="14163"/>
                </a:cubicBezTo>
                <a:cubicBezTo>
                  <a:pt x="2819" y="14118"/>
                  <a:pt x="2869" y="14058"/>
                  <a:pt x="2927" y="14039"/>
                </a:cubicBezTo>
                <a:cubicBezTo>
                  <a:pt x="2969" y="14025"/>
                  <a:pt x="3032" y="14017"/>
                  <a:pt x="3076" y="14015"/>
                </a:cubicBezTo>
                <a:cubicBezTo>
                  <a:pt x="3132" y="14012"/>
                  <a:pt x="3197" y="14041"/>
                  <a:pt x="3249" y="14064"/>
                </a:cubicBezTo>
                <a:cubicBezTo>
                  <a:pt x="3323" y="14097"/>
                  <a:pt x="3366" y="14131"/>
                  <a:pt x="3423" y="14188"/>
                </a:cubicBezTo>
                <a:cubicBezTo>
                  <a:pt x="3467" y="14232"/>
                  <a:pt x="3494" y="14278"/>
                  <a:pt x="3497" y="14337"/>
                </a:cubicBezTo>
                <a:cubicBezTo>
                  <a:pt x="3501" y="14401"/>
                  <a:pt x="3450" y="14471"/>
                  <a:pt x="3398" y="14511"/>
                </a:cubicBezTo>
                <a:cubicBezTo>
                  <a:pt x="3358" y="14531"/>
                  <a:pt x="3352" y="14540"/>
                  <a:pt x="3324" y="145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24040" y="5045040"/>
            <a:ext cx="231840" cy="196920"/>
          </a:xfrm>
          <a:custGeom>
            <a:avLst/>
            <a:gdLst/>
            <a:ahLst/>
            <a:rect l="l" t="t" r="r" b="b"/>
            <a:pathLst>
              <a:path w="646" h="546">
                <a:moveTo>
                  <a:pt x="4862" y="14064"/>
                </a:moveTo>
                <a:cubicBezTo>
                  <a:pt x="4870" y="14056"/>
                  <a:pt x="4879" y="14047"/>
                  <a:pt x="4887" y="14039"/>
                </a:cubicBezTo>
                <a:cubicBezTo>
                  <a:pt x="4847" y="14071"/>
                  <a:pt x="4791" y="14085"/>
                  <a:pt x="4787" y="14139"/>
                </a:cubicBezTo>
                <a:cubicBezTo>
                  <a:pt x="4784" y="14185"/>
                  <a:pt x="4776" y="14270"/>
                  <a:pt x="4837" y="14288"/>
                </a:cubicBezTo>
                <a:cubicBezTo>
                  <a:pt x="4889" y="14288"/>
                  <a:pt x="4907" y="14287"/>
                  <a:pt x="4936" y="14263"/>
                </a:cubicBezTo>
              </a:path>
              <a:path w="646" h="546">
                <a:moveTo>
                  <a:pt x="5159" y="14163"/>
                </a:moveTo>
                <a:cubicBezTo>
                  <a:pt x="5159" y="14122"/>
                  <a:pt x="5151" y="14106"/>
                  <a:pt x="5184" y="14114"/>
                </a:cubicBezTo>
                <a:cubicBezTo>
                  <a:pt x="5224" y="14127"/>
                  <a:pt x="5209" y="14162"/>
                  <a:pt x="5209" y="14213"/>
                </a:cubicBezTo>
                <a:cubicBezTo>
                  <a:pt x="5209" y="14301"/>
                  <a:pt x="5229" y="14376"/>
                  <a:pt x="5234" y="14461"/>
                </a:cubicBezTo>
                <a:cubicBezTo>
                  <a:pt x="5237" y="14523"/>
                  <a:pt x="5225" y="14516"/>
                  <a:pt x="5259" y="14560"/>
                </a:cubicBezTo>
              </a:path>
              <a:path w="646" h="546">
                <a:moveTo>
                  <a:pt x="5259" y="14188"/>
                </a:moveTo>
                <a:cubicBezTo>
                  <a:pt x="5274" y="14135"/>
                  <a:pt x="5286" y="13983"/>
                  <a:pt x="5383" y="14015"/>
                </a:cubicBezTo>
                <a:cubicBezTo>
                  <a:pt x="5437" y="14033"/>
                  <a:pt x="5444" y="14145"/>
                  <a:pt x="5432" y="14188"/>
                </a:cubicBezTo>
                <a:cubicBezTo>
                  <a:pt x="5410" y="14232"/>
                  <a:pt x="5407" y="14243"/>
                  <a:pt x="5383" y="142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43080" y="4946760"/>
            <a:ext cx="384120" cy="152280"/>
          </a:xfrm>
          <a:custGeom>
            <a:avLst/>
            <a:gdLst/>
            <a:ahLst/>
            <a:rect l="l" t="t" r="r" b="b"/>
            <a:pathLst>
              <a:path w="1068" h="422">
                <a:moveTo>
                  <a:pt x="6176" y="13990"/>
                </a:moveTo>
                <a:cubicBezTo>
                  <a:pt x="6176" y="14015"/>
                  <a:pt x="6176" y="14023"/>
                  <a:pt x="6201" y="14015"/>
                </a:cubicBezTo>
                <a:cubicBezTo>
                  <a:pt x="6144" y="14015"/>
                  <a:pt x="6098" y="14030"/>
                  <a:pt x="6052" y="14039"/>
                </a:cubicBezTo>
                <a:cubicBezTo>
                  <a:pt x="6024" y="14044"/>
                  <a:pt x="5983" y="14039"/>
                  <a:pt x="5953" y="14039"/>
                </a:cubicBezTo>
              </a:path>
              <a:path w="1068" h="422">
                <a:moveTo>
                  <a:pt x="6003" y="13965"/>
                </a:moveTo>
                <a:cubicBezTo>
                  <a:pt x="6011" y="13948"/>
                  <a:pt x="6020" y="13932"/>
                  <a:pt x="6028" y="13915"/>
                </a:cubicBezTo>
                <a:cubicBezTo>
                  <a:pt x="6060" y="13960"/>
                  <a:pt x="6074" y="14005"/>
                  <a:pt x="6077" y="14064"/>
                </a:cubicBezTo>
                <a:cubicBezTo>
                  <a:pt x="6077" y="14116"/>
                  <a:pt x="6078" y="14134"/>
                  <a:pt x="6102" y="14163"/>
                </a:cubicBezTo>
              </a:path>
              <a:path w="1068" h="422">
                <a:moveTo>
                  <a:pt x="6524" y="13990"/>
                </a:moveTo>
                <a:cubicBezTo>
                  <a:pt x="6499" y="13939"/>
                  <a:pt x="6477" y="14028"/>
                  <a:pt x="6474" y="14064"/>
                </a:cubicBezTo>
                <a:cubicBezTo>
                  <a:pt x="6469" y="14126"/>
                  <a:pt x="6497" y="14139"/>
                  <a:pt x="6548" y="14139"/>
                </a:cubicBezTo>
                <a:cubicBezTo>
                  <a:pt x="6578" y="14048"/>
                  <a:pt x="6573" y="13964"/>
                  <a:pt x="6573" y="13866"/>
                </a:cubicBezTo>
                <a:cubicBezTo>
                  <a:pt x="6573" y="13816"/>
                  <a:pt x="6573" y="13800"/>
                  <a:pt x="6573" y="13767"/>
                </a:cubicBezTo>
                <a:cubicBezTo>
                  <a:pt x="6573" y="13716"/>
                  <a:pt x="6590" y="13816"/>
                  <a:pt x="6598" y="13866"/>
                </a:cubicBezTo>
                <a:cubicBezTo>
                  <a:pt x="6610" y="13944"/>
                  <a:pt x="6625" y="14021"/>
                  <a:pt x="6672" y="14089"/>
                </a:cubicBezTo>
                <a:cubicBezTo>
                  <a:pt x="6694" y="14121"/>
                  <a:pt x="6715" y="14131"/>
                  <a:pt x="6747" y="14139"/>
                </a:cubicBezTo>
              </a:path>
              <a:path w="1068" h="422">
                <a:moveTo>
                  <a:pt x="6896" y="14015"/>
                </a:moveTo>
                <a:cubicBezTo>
                  <a:pt x="6896" y="14039"/>
                  <a:pt x="6896" y="14048"/>
                  <a:pt x="6896" y="14064"/>
                </a:cubicBezTo>
                <a:cubicBezTo>
                  <a:pt x="6885" y="14008"/>
                  <a:pt x="6871" y="13974"/>
                  <a:pt x="6871" y="13915"/>
                </a:cubicBezTo>
                <a:cubicBezTo>
                  <a:pt x="6871" y="13875"/>
                  <a:pt x="6935" y="13825"/>
                  <a:pt x="6970" y="13816"/>
                </a:cubicBezTo>
                <a:cubicBezTo>
                  <a:pt x="6987" y="13816"/>
                  <a:pt x="7003" y="13816"/>
                  <a:pt x="7020" y="138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52840" y="4973760"/>
            <a:ext cx="79200" cy="63360"/>
          </a:xfrm>
          <a:custGeom>
            <a:avLst/>
            <a:gdLst/>
            <a:ahLst/>
            <a:rect l="l" t="t" r="r" b="b"/>
            <a:pathLst>
              <a:path w="224" h="175">
                <a:moveTo>
                  <a:pt x="7516" y="13841"/>
                </a:moveTo>
                <a:cubicBezTo>
                  <a:pt x="7560" y="13808"/>
                  <a:pt x="7567" y="13784"/>
                  <a:pt x="7491" y="13816"/>
                </a:cubicBezTo>
                <a:cubicBezTo>
                  <a:pt x="7444" y="13835"/>
                  <a:pt x="7427" y="13841"/>
                  <a:pt x="7367" y="13841"/>
                </a:cubicBezTo>
              </a:path>
              <a:path w="224" h="175">
                <a:moveTo>
                  <a:pt x="7541" y="13965"/>
                </a:moveTo>
                <a:cubicBezTo>
                  <a:pt x="7565" y="13965"/>
                  <a:pt x="7574" y="13965"/>
                  <a:pt x="7590" y="13965"/>
                </a:cubicBezTo>
                <a:cubicBezTo>
                  <a:pt x="7542" y="13965"/>
                  <a:pt x="7529" y="13961"/>
                  <a:pt x="7491" y="139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67040" y="4875120"/>
            <a:ext cx="98280" cy="142920"/>
          </a:xfrm>
          <a:custGeom>
            <a:avLst/>
            <a:gdLst/>
            <a:ahLst/>
            <a:rect l="l" t="t" r="r" b="b"/>
            <a:pathLst>
              <a:path w="274" h="398">
                <a:moveTo>
                  <a:pt x="7987" y="13742"/>
                </a:moveTo>
                <a:cubicBezTo>
                  <a:pt x="7987" y="13696"/>
                  <a:pt x="7967" y="13683"/>
                  <a:pt x="7962" y="13643"/>
                </a:cubicBezTo>
                <a:cubicBezTo>
                  <a:pt x="7955" y="13583"/>
                  <a:pt x="7976" y="13592"/>
                  <a:pt x="8012" y="13568"/>
                </a:cubicBezTo>
                <a:cubicBezTo>
                  <a:pt x="8049" y="13543"/>
                  <a:pt x="8092" y="13521"/>
                  <a:pt x="8136" y="13568"/>
                </a:cubicBezTo>
                <a:cubicBezTo>
                  <a:pt x="8199" y="13636"/>
                  <a:pt x="8231" y="13699"/>
                  <a:pt x="8235" y="13791"/>
                </a:cubicBezTo>
                <a:cubicBezTo>
                  <a:pt x="8239" y="13882"/>
                  <a:pt x="8258" y="13932"/>
                  <a:pt x="8161" y="13940"/>
                </a:cubicBezTo>
                <a:cubicBezTo>
                  <a:pt x="8113" y="13944"/>
                  <a:pt x="8026" y="13893"/>
                  <a:pt x="7987" y="13866"/>
                </a:cubicBezTo>
                <a:cubicBezTo>
                  <a:pt x="7954" y="13843"/>
                  <a:pt x="7962" y="13826"/>
                  <a:pt x="7962" y="137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62000" y="5303880"/>
            <a:ext cx="162000" cy="162000"/>
          </a:xfrm>
          <a:custGeom>
            <a:avLst/>
            <a:gdLst/>
            <a:ahLst/>
            <a:rect l="l" t="t" r="r" b="b"/>
            <a:pathLst>
              <a:path w="447" h="447">
                <a:moveTo>
                  <a:pt x="3076" y="14982"/>
                </a:moveTo>
                <a:cubicBezTo>
                  <a:pt x="3076" y="14974"/>
                  <a:pt x="3076" y="14965"/>
                  <a:pt x="3076" y="14957"/>
                </a:cubicBezTo>
                <a:cubicBezTo>
                  <a:pt x="3076" y="15031"/>
                  <a:pt x="3076" y="15106"/>
                  <a:pt x="3076" y="15180"/>
                </a:cubicBezTo>
              </a:path>
              <a:path w="447" h="447">
                <a:moveTo>
                  <a:pt x="3125" y="14932"/>
                </a:moveTo>
                <a:cubicBezTo>
                  <a:pt x="3155" y="14984"/>
                  <a:pt x="3183" y="15014"/>
                  <a:pt x="3225" y="15056"/>
                </a:cubicBezTo>
                <a:cubicBezTo>
                  <a:pt x="3233" y="15064"/>
                  <a:pt x="3241" y="15073"/>
                  <a:pt x="3249" y="15081"/>
                </a:cubicBezTo>
                <a:cubicBezTo>
                  <a:pt x="3287" y="15018"/>
                  <a:pt x="3277" y="14979"/>
                  <a:pt x="3299" y="14908"/>
                </a:cubicBezTo>
                <a:cubicBezTo>
                  <a:pt x="3319" y="14867"/>
                  <a:pt x="3328" y="14861"/>
                  <a:pt x="3324" y="14833"/>
                </a:cubicBezTo>
              </a:path>
              <a:path w="447" h="447">
                <a:moveTo>
                  <a:pt x="3076" y="15081"/>
                </a:moveTo>
                <a:cubicBezTo>
                  <a:pt x="3029" y="15081"/>
                  <a:pt x="3012" y="15087"/>
                  <a:pt x="2977" y="15056"/>
                </a:cubicBezTo>
                <a:cubicBezTo>
                  <a:pt x="2943" y="15026"/>
                  <a:pt x="2952" y="15000"/>
                  <a:pt x="2952" y="14957"/>
                </a:cubicBezTo>
                <a:cubicBezTo>
                  <a:pt x="2952" y="14921"/>
                  <a:pt x="2959" y="14885"/>
                  <a:pt x="2977" y="14858"/>
                </a:cubicBezTo>
                <a:cubicBezTo>
                  <a:pt x="3016" y="14798"/>
                  <a:pt x="3085" y="14739"/>
                  <a:pt x="3150" y="14734"/>
                </a:cubicBezTo>
                <a:cubicBezTo>
                  <a:pt x="3213" y="14729"/>
                  <a:pt x="3248" y="14747"/>
                  <a:pt x="3299" y="14784"/>
                </a:cubicBezTo>
                <a:cubicBezTo>
                  <a:pt x="3343" y="14816"/>
                  <a:pt x="3386" y="14880"/>
                  <a:pt x="3398" y="14932"/>
                </a:cubicBezTo>
                <a:cubicBezTo>
                  <a:pt x="3413" y="15000"/>
                  <a:pt x="3387" y="15075"/>
                  <a:pt x="3349" y="15131"/>
                </a:cubicBezTo>
                <a:cubicBezTo>
                  <a:pt x="3308" y="15191"/>
                  <a:pt x="3237" y="15180"/>
                  <a:pt x="3175" y="15180"/>
                </a:cubicBezTo>
                <a:cubicBezTo>
                  <a:pt x="3111" y="15180"/>
                  <a:pt x="3023" y="15190"/>
                  <a:pt x="2977" y="15131"/>
                </a:cubicBezTo>
                <a:cubicBezTo>
                  <a:pt x="2977" y="15123"/>
                  <a:pt x="2977" y="15114"/>
                  <a:pt x="2977" y="151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70040" y="5313240"/>
            <a:ext cx="312840" cy="169920"/>
          </a:xfrm>
          <a:custGeom>
            <a:avLst/>
            <a:gdLst/>
            <a:ahLst/>
            <a:rect l="l" t="t" r="r" b="b"/>
            <a:pathLst>
              <a:path w="870" h="472">
                <a:moveTo>
                  <a:pt x="4738" y="14784"/>
                </a:moveTo>
                <a:cubicBezTo>
                  <a:pt x="4723" y="14754"/>
                  <a:pt x="4681" y="14785"/>
                  <a:pt x="4663" y="14833"/>
                </a:cubicBezTo>
                <a:cubicBezTo>
                  <a:pt x="4650" y="14867"/>
                  <a:pt x="4621" y="14941"/>
                  <a:pt x="4638" y="14982"/>
                </a:cubicBezTo>
                <a:cubicBezTo>
                  <a:pt x="4657" y="15027"/>
                  <a:pt x="4719" y="15047"/>
                  <a:pt x="4762" y="15032"/>
                </a:cubicBezTo>
                <a:cubicBezTo>
                  <a:pt x="4779" y="15024"/>
                  <a:pt x="4795" y="15015"/>
                  <a:pt x="4812" y="15007"/>
                </a:cubicBezTo>
              </a:path>
              <a:path w="870" h="472">
                <a:moveTo>
                  <a:pt x="5135" y="14883"/>
                </a:moveTo>
                <a:cubicBezTo>
                  <a:pt x="5162" y="14845"/>
                  <a:pt x="5159" y="14831"/>
                  <a:pt x="5159" y="14784"/>
                </a:cubicBezTo>
                <a:cubicBezTo>
                  <a:pt x="5104" y="14784"/>
                  <a:pt x="5104" y="14788"/>
                  <a:pt x="5085" y="14833"/>
                </a:cubicBezTo>
                <a:cubicBezTo>
                  <a:pt x="5066" y="14877"/>
                  <a:pt x="5040" y="14969"/>
                  <a:pt x="5085" y="15007"/>
                </a:cubicBezTo>
                <a:cubicBezTo>
                  <a:pt x="5093" y="15007"/>
                  <a:pt x="5102" y="15007"/>
                  <a:pt x="5110" y="15007"/>
                </a:cubicBezTo>
                <a:cubicBezTo>
                  <a:pt x="5136" y="14974"/>
                  <a:pt x="5157" y="14941"/>
                  <a:pt x="5184" y="14908"/>
                </a:cubicBezTo>
                <a:cubicBezTo>
                  <a:pt x="5210" y="14925"/>
                  <a:pt x="5227" y="15029"/>
                  <a:pt x="5234" y="15081"/>
                </a:cubicBezTo>
                <a:cubicBezTo>
                  <a:pt x="5241" y="15129"/>
                  <a:pt x="5234" y="15182"/>
                  <a:pt x="5234" y="15230"/>
                </a:cubicBezTo>
                <a:cubicBezTo>
                  <a:pt x="5293" y="15230"/>
                  <a:pt x="5330" y="15206"/>
                  <a:pt x="5383" y="15180"/>
                </a:cubicBezTo>
                <a:cubicBezTo>
                  <a:pt x="5443" y="15150"/>
                  <a:pt x="5443" y="15140"/>
                  <a:pt x="5507" y="151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98800" y="5322960"/>
            <a:ext cx="81000" cy="7920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6003" y="14858"/>
                </a:moveTo>
                <a:cubicBezTo>
                  <a:pt x="6057" y="14858"/>
                  <a:pt x="6057" y="14858"/>
                  <a:pt x="6003" y="14858"/>
                </a:cubicBezTo>
                <a:cubicBezTo>
                  <a:pt x="5935" y="14858"/>
                  <a:pt x="5884" y="14850"/>
                  <a:pt x="5829" y="14883"/>
                </a:cubicBezTo>
              </a:path>
              <a:path w="224" h="224">
                <a:moveTo>
                  <a:pt x="5904" y="14784"/>
                </a:moveTo>
                <a:cubicBezTo>
                  <a:pt x="5935" y="14826"/>
                  <a:pt x="5950" y="14852"/>
                  <a:pt x="5953" y="14908"/>
                </a:cubicBezTo>
                <a:cubicBezTo>
                  <a:pt x="5953" y="14959"/>
                  <a:pt x="5954" y="14978"/>
                  <a:pt x="5978" y="15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03640" y="5214960"/>
            <a:ext cx="80640" cy="179280"/>
          </a:xfrm>
          <a:custGeom>
            <a:avLst/>
            <a:gdLst/>
            <a:ahLst/>
            <a:rect l="l" t="t" r="r" b="b"/>
            <a:pathLst>
              <a:path w="224" h="497">
                <a:moveTo>
                  <a:pt x="6424" y="14833"/>
                </a:moveTo>
                <a:cubicBezTo>
                  <a:pt x="6446" y="14811"/>
                  <a:pt x="6455" y="14806"/>
                  <a:pt x="6449" y="14784"/>
                </a:cubicBezTo>
                <a:cubicBezTo>
                  <a:pt x="6423" y="14792"/>
                  <a:pt x="6388" y="14838"/>
                  <a:pt x="6400" y="14883"/>
                </a:cubicBezTo>
                <a:cubicBezTo>
                  <a:pt x="6408" y="14899"/>
                  <a:pt x="6416" y="14916"/>
                  <a:pt x="6424" y="14932"/>
                </a:cubicBezTo>
                <a:cubicBezTo>
                  <a:pt x="6498" y="14914"/>
                  <a:pt x="6474" y="14854"/>
                  <a:pt x="6474" y="14784"/>
                </a:cubicBezTo>
                <a:cubicBezTo>
                  <a:pt x="6474" y="14693"/>
                  <a:pt x="6474" y="14602"/>
                  <a:pt x="6474" y="14511"/>
                </a:cubicBezTo>
                <a:cubicBezTo>
                  <a:pt x="6474" y="14456"/>
                  <a:pt x="6493" y="14655"/>
                  <a:pt x="6499" y="14684"/>
                </a:cubicBezTo>
                <a:cubicBezTo>
                  <a:pt x="6516" y="14772"/>
                  <a:pt x="6541" y="14888"/>
                  <a:pt x="6598" y="14957"/>
                </a:cubicBezTo>
                <a:cubicBezTo>
                  <a:pt x="6606" y="14965"/>
                  <a:pt x="6615" y="14974"/>
                  <a:pt x="6623" y="149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90840" y="5276880"/>
            <a:ext cx="54000" cy="98280"/>
          </a:xfrm>
          <a:custGeom>
            <a:avLst/>
            <a:gdLst/>
            <a:ahLst/>
            <a:rect l="l" t="t" r="r" b="b"/>
            <a:pathLst>
              <a:path w="149" h="273">
                <a:moveTo>
                  <a:pt x="6970" y="14709"/>
                </a:moveTo>
                <a:cubicBezTo>
                  <a:pt x="6970" y="14693"/>
                  <a:pt x="6970" y="14676"/>
                  <a:pt x="6970" y="14660"/>
                </a:cubicBezTo>
                <a:cubicBezTo>
                  <a:pt x="6935" y="14703"/>
                  <a:pt x="6921" y="14729"/>
                  <a:pt x="6921" y="14784"/>
                </a:cubicBezTo>
                <a:cubicBezTo>
                  <a:pt x="6921" y="14832"/>
                  <a:pt x="6979" y="14848"/>
                  <a:pt x="7020" y="14858"/>
                </a:cubicBezTo>
                <a:cubicBezTo>
                  <a:pt x="7045" y="14858"/>
                  <a:pt x="7053" y="14858"/>
                  <a:pt x="7069" y="14858"/>
                </a:cubicBezTo>
                <a:cubicBezTo>
                  <a:pt x="7069" y="14939"/>
                  <a:pt x="7058" y="14883"/>
                  <a:pt x="6995" y="14908"/>
                </a:cubicBezTo>
                <a:cubicBezTo>
                  <a:pt x="6987" y="14916"/>
                  <a:pt x="6978" y="14924"/>
                  <a:pt x="6970" y="149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78040" y="5268960"/>
            <a:ext cx="73080" cy="61920"/>
          </a:xfrm>
          <a:custGeom>
            <a:avLst/>
            <a:gdLst/>
            <a:ahLst/>
            <a:rect l="l" t="t" r="r" b="b"/>
            <a:pathLst>
              <a:path w="200" h="174">
                <a:moveTo>
                  <a:pt x="7590" y="14684"/>
                </a:moveTo>
                <a:cubicBezTo>
                  <a:pt x="7590" y="14643"/>
                  <a:pt x="7582" y="14627"/>
                  <a:pt x="7615" y="14635"/>
                </a:cubicBezTo>
                <a:cubicBezTo>
                  <a:pt x="7555" y="14635"/>
                  <a:pt x="7516" y="14645"/>
                  <a:pt x="7466" y="14660"/>
                </a:cubicBezTo>
                <a:cubicBezTo>
                  <a:pt x="7458" y="14660"/>
                  <a:pt x="7449" y="14660"/>
                  <a:pt x="7441" y="14660"/>
                </a:cubicBezTo>
              </a:path>
              <a:path w="200" h="174">
                <a:moveTo>
                  <a:pt x="7615" y="14784"/>
                </a:moveTo>
                <a:cubicBezTo>
                  <a:pt x="7623" y="14792"/>
                  <a:pt x="7632" y="14800"/>
                  <a:pt x="7640" y="14808"/>
                </a:cubicBezTo>
                <a:cubicBezTo>
                  <a:pt x="7627" y="14772"/>
                  <a:pt x="7609" y="14784"/>
                  <a:pt x="7565" y="14784"/>
                </a:cubicBezTo>
                <a:cubicBezTo>
                  <a:pt x="7557" y="14784"/>
                  <a:pt x="7549" y="14784"/>
                  <a:pt x="7541" y="147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94040" y="5180040"/>
            <a:ext cx="44280" cy="123840"/>
          </a:xfrm>
          <a:custGeom>
            <a:avLst/>
            <a:gdLst/>
            <a:ahLst/>
            <a:rect l="l" t="t" r="r" b="b"/>
            <a:pathLst>
              <a:path w="125" h="348">
                <a:moveTo>
                  <a:pt x="8037" y="14412"/>
                </a:moveTo>
                <a:cubicBezTo>
                  <a:pt x="8059" y="14390"/>
                  <a:pt x="8064" y="14381"/>
                  <a:pt x="8086" y="14387"/>
                </a:cubicBezTo>
                <a:cubicBezTo>
                  <a:pt x="8086" y="14474"/>
                  <a:pt x="8123" y="14530"/>
                  <a:pt x="8136" y="14610"/>
                </a:cubicBezTo>
                <a:cubicBezTo>
                  <a:pt x="8136" y="14678"/>
                  <a:pt x="8133" y="14697"/>
                  <a:pt x="8161" y="147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inverse and determinants of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the inverse of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x A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76160" y="3027240"/>
            <a:ext cx="358920" cy="268560"/>
          </a:xfrm>
          <a:custGeom>
            <a:avLst/>
            <a:gdLst/>
            <a:ahLst/>
            <a:rect l="l" t="t" r="r" b="b"/>
            <a:pathLst>
              <a:path w="993" h="745">
                <a:moveTo>
                  <a:pt x="2158" y="8632"/>
                </a:moveTo>
                <a:cubicBezTo>
                  <a:pt x="2158" y="8657"/>
                  <a:pt x="2158" y="8681"/>
                  <a:pt x="2158" y="8706"/>
                </a:cubicBezTo>
                <a:cubicBezTo>
                  <a:pt x="2196" y="8706"/>
                  <a:pt x="2232" y="8717"/>
                  <a:pt x="2257" y="8682"/>
                </a:cubicBezTo>
                <a:cubicBezTo>
                  <a:pt x="2296" y="8627"/>
                  <a:pt x="2347" y="8526"/>
                  <a:pt x="2332" y="8458"/>
                </a:cubicBezTo>
                <a:cubicBezTo>
                  <a:pt x="2324" y="8442"/>
                  <a:pt x="2315" y="8425"/>
                  <a:pt x="2307" y="8409"/>
                </a:cubicBezTo>
                <a:cubicBezTo>
                  <a:pt x="2238" y="8409"/>
                  <a:pt x="2211" y="8444"/>
                  <a:pt x="2183" y="8508"/>
                </a:cubicBezTo>
                <a:cubicBezTo>
                  <a:pt x="2145" y="8594"/>
                  <a:pt x="2133" y="8745"/>
                  <a:pt x="2183" y="8830"/>
                </a:cubicBezTo>
                <a:cubicBezTo>
                  <a:pt x="2225" y="8902"/>
                  <a:pt x="2277" y="8888"/>
                  <a:pt x="2332" y="8855"/>
                </a:cubicBezTo>
              </a:path>
              <a:path w="993" h="745">
                <a:moveTo>
                  <a:pt x="2456" y="8706"/>
                </a:moveTo>
                <a:cubicBezTo>
                  <a:pt x="2489" y="8678"/>
                  <a:pt x="2542" y="8628"/>
                  <a:pt x="2580" y="8682"/>
                </a:cubicBezTo>
                <a:cubicBezTo>
                  <a:pt x="2580" y="8690"/>
                  <a:pt x="2580" y="8698"/>
                  <a:pt x="2580" y="8706"/>
                </a:cubicBezTo>
              </a:path>
              <a:path w="993" h="745">
                <a:moveTo>
                  <a:pt x="2704" y="8582"/>
                </a:moveTo>
                <a:cubicBezTo>
                  <a:pt x="2712" y="8525"/>
                  <a:pt x="2730" y="8521"/>
                  <a:pt x="2704" y="8508"/>
                </a:cubicBezTo>
                <a:cubicBezTo>
                  <a:pt x="2679" y="8575"/>
                  <a:pt x="2663" y="8635"/>
                  <a:pt x="2654" y="8706"/>
                </a:cubicBezTo>
                <a:cubicBezTo>
                  <a:pt x="2701" y="8691"/>
                  <a:pt x="2685" y="8622"/>
                  <a:pt x="2729" y="8582"/>
                </a:cubicBezTo>
                <a:cubicBezTo>
                  <a:pt x="2831" y="8487"/>
                  <a:pt x="2891" y="8639"/>
                  <a:pt x="2927" y="8706"/>
                </a:cubicBezTo>
                <a:cubicBezTo>
                  <a:pt x="2984" y="8813"/>
                  <a:pt x="3031" y="8955"/>
                  <a:pt x="3001" y="9079"/>
                </a:cubicBezTo>
                <a:cubicBezTo>
                  <a:pt x="2976" y="9182"/>
                  <a:pt x="2856" y="9153"/>
                  <a:pt x="2778" y="9153"/>
                </a:cubicBezTo>
                <a:cubicBezTo>
                  <a:pt x="2681" y="9153"/>
                  <a:pt x="2662" y="9146"/>
                  <a:pt x="2604" y="9079"/>
                </a:cubicBezTo>
              </a:path>
              <a:path w="993" h="745">
                <a:moveTo>
                  <a:pt x="3026" y="8756"/>
                </a:moveTo>
                <a:cubicBezTo>
                  <a:pt x="3091" y="8734"/>
                  <a:pt x="3106" y="8726"/>
                  <a:pt x="3150" y="8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08120" y="2963880"/>
            <a:ext cx="115920" cy="233280"/>
          </a:xfrm>
          <a:custGeom>
            <a:avLst/>
            <a:gdLst/>
            <a:ahLst/>
            <a:rect l="l" t="t" r="r" b="b"/>
            <a:pathLst>
              <a:path w="323" h="646">
                <a:moveTo>
                  <a:pt x="4465" y="8781"/>
                </a:moveTo>
                <a:cubicBezTo>
                  <a:pt x="4465" y="8840"/>
                  <a:pt x="4458" y="8837"/>
                  <a:pt x="4490" y="8880"/>
                </a:cubicBezTo>
                <a:cubicBezTo>
                  <a:pt x="4490" y="8817"/>
                  <a:pt x="4507" y="8768"/>
                  <a:pt x="4514" y="8706"/>
                </a:cubicBezTo>
                <a:cubicBezTo>
                  <a:pt x="4526" y="8601"/>
                  <a:pt x="4542" y="8487"/>
                  <a:pt x="4564" y="8384"/>
                </a:cubicBezTo>
                <a:cubicBezTo>
                  <a:pt x="4577" y="8323"/>
                  <a:pt x="4601" y="8286"/>
                  <a:pt x="4614" y="8235"/>
                </a:cubicBezTo>
                <a:cubicBezTo>
                  <a:pt x="4668" y="8290"/>
                  <a:pt x="4668" y="8331"/>
                  <a:pt x="4688" y="8409"/>
                </a:cubicBezTo>
                <a:cubicBezTo>
                  <a:pt x="4715" y="8514"/>
                  <a:pt x="4734" y="8630"/>
                  <a:pt x="4762" y="8731"/>
                </a:cubicBezTo>
                <a:cubicBezTo>
                  <a:pt x="4770" y="8748"/>
                  <a:pt x="4779" y="8764"/>
                  <a:pt x="4787" y="8781"/>
                </a:cubicBezTo>
              </a:path>
              <a:path w="323" h="646">
                <a:moveTo>
                  <a:pt x="4787" y="8607"/>
                </a:moveTo>
                <a:cubicBezTo>
                  <a:pt x="4769" y="8580"/>
                  <a:pt x="4722" y="8475"/>
                  <a:pt x="4663" y="8508"/>
                </a:cubicBezTo>
                <a:cubicBezTo>
                  <a:pt x="4626" y="8529"/>
                  <a:pt x="4601" y="8536"/>
                  <a:pt x="4564" y="85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12960" y="3017880"/>
            <a:ext cx="88920" cy="71280"/>
          </a:xfrm>
          <a:custGeom>
            <a:avLst/>
            <a:gdLst/>
            <a:ahLst/>
            <a:rect l="l" t="t" r="r" b="b"/>
            <a:pathLst>
              <a:path w="249" h="199">
                <a:moveTo>
                  <a:pt x="5259" y="8434"/>
                </a:moveTo>
                <a:cubicBezTo>
                  <a:pt x="5259" y="8409"/>
                  <a:pt x="5259" y="8401"/>
                  <a:pt x="5259" y="8384"/>
                </a:cubicBezTo>
                <a:cubicBezTo>
                  <a:pt x="5215" y="8395"/>
                  <a:pt x="5184" y="8422"/>
                  <a:pt x="5135" y="8434"/>
                </a:cubicBezTo>
                <a:cubicBezTo>
                  <a:pt x="5102" y="8442"/>
                  <a:pt x="5069" y="8452"/>
                  <a:pt x="5035" y="8458"/>
                </a:cubicBezTo>
              </a:path>
              <a:path w="249" h="199">
                <a:moveTo>
                  <a:pt x="5259" y="8558"/>
                </a:moveTo>
                <a:cubicBezTo>
                  <a:pt x="5267" y="8558"/>
                  <a:pt x="5275" y="8558"/>
                  <a:pt x="5283" y="8558"/>
                </a:cubicBezTo>
                <a:cubicBezTo>
                  <a:pt x="5271" y="8594"/>
                  <a:pt x="5253" y="8582"/>
                  <a:pt x="5209" y="85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59000" y="2803680"/>
            <a:ext cx="277920" cy="455400"/>
          </a:xfrm>
          <a:custGeom>
            <a:avLst/>
            <a:gdLst/>
            <a:ahLst/>
            <a:rect l="l" t="t" r="r" b="b"/>
            <a:pathLst>
              <a:path w="770" h="1266">
                <a:moveTo>
                  <a:pt x="6821" y="8086"/>
                </a:moveTo>
                <a:cubicBezTo>
                  <a:pt x="6846" y="8086"/>
                  <a:pt x="6854" y="8086"/>
                  <a:pt x="6871" y="8086"/>
                </a:cubicBezTo>
                <a:cubicBezTo>
                  <a:pt x="6871" y="8045"/>
                  <a:pt x="6888" y="7992"/>
                  <a:pt x="6846" y="7987"/>
                </a:cubicBezTo>
                <a:cubicBezTo>
                  <a:pt x="6828" y="7985"/>
                  <a:pt x="6728" y="8049"/>
                  <a:pt x="6722" y="8062"/>
                </a:cubicBezTo>
                <a:cubicBezTo>
                  <a:pt x="6702" y="8101"/>
                  <a:pt x="6725" y="8183"/>
                  <a:pt x="6747" y="8210"/>
                </a:cubicBezTo>
                <a:cubicBezTo>
                  <a:pt x="6783" y="8255"/>
                  <a:pt x="6819" y="8228"/>
                  <a:pt x="6846" y="8186"/>
                </a:cubicBezTo>
                <a:cubicBezTo>
                  <a:pt x="6877" y="8138"/>
                  <a:pt x="6896" y="8093"/>
                  <a:pt x="6896" y="8037"/>
                </a:cubicBezTo>
                <a:cubicBezTo>
                  <a:pt x="6937" y="8078"/>
                  <a:pt x="6975" y="8102"/>
                  <a:pt x="7020" y="8136"/>
                </a:cubicBezTo>
                <a:cubicBezTo>
                  <a:pt x="7028" y="8144"/>
                  <a:pt x="7037" y="8153"/>
                  <a:pt x="7045" y="8161"/>
                </a:cubicBezTo>
              </a:path>
              <a:path w="770" h="1266">
                <a:moveTo>
                  <a:pt x="6821" y="8905"/>
                </a:moveTo>
                <a:cubicBezTo>
                  <a:pt x="6871" y="8872"/>
                  <a:pt x="6881" y="8863"/>
                  <a:pt x="6896" y="8806"/>
                </a:cubicBezTo>
                <a:cubicBezTo>
                  <a:pt x="6826" y="8823"/>
                  <a:pt x="6842" y="8847"/>
                  <a:pt x="6821" y="8905"/>
                </a:cubicBezTo>
                <a:cubicBezTo>
                  <a:pt x="6802" y="8959"/>
                  <a:pt x="6774" y="9014"/>
                  <a:pt x="6846" y="9054"/>
                </a:cubicBezTo>
                <a:cubicBezTo>
                  <a:pt x="6892" y="9080"/>
                  <a:pt x="6979" y="9044"/>
                  <a:pt x="7020" y="9029"/>
                </a:cubicBezTo>
              </a:path>
              <a:path w="770" h="1266">
                <a:moveTo>
                  <a:pt x="6400" y="7938"/>
                </a:moveTo>
                <a:cubicBezTo>
                  <a:pt x="6407" y="7887"/>
                  <a:pt x="6424" y="7864"/>
                  <a:pt x="6424" y="7813"/>
                </a:cubicBezTo>
                <a:cubicBezTo>
                  <a:pt x="6424" y="7805"/>
                  <a:pt x="6424" y="7797"/>
                  <a:pt x="6424" y="7789"/>
                </a:cubicBezTo>
                <a:cubicBezTo>
                  <a:pt x="6383" y="7859"/>
                  <a:pt x="6351" y="7925"/>
                  <a:pt x="6325" y="8012"/>
                </a:cubicBezTo>
                <a:cubicBezTo>
                  <a:pt x="6278" y="8171"/>
                  <a:pt x="6256" y="8319"/>
                  <a:pt x="6300" y="8483"/>
                </a:cubicBezTo>
                <a:cubicBezTo>
                  <a:pt x="6343" y="8641"/>
                  <a:pt x="6380" y="8804"/>
                  <a:pt x="6449" y="8954"/>
                </a:cubicBezTo>
                <a:cubicBezTo>
                  <a:pt x="6472" y="9004"/>
                  <a:pt x="6483" y="9034"/>
                  <a:pt x="6524" y="9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03680" y="2741760"/>
            <a:ext cx="206280" cy="465120"/>
          </a:xfrm>
          <a:custGeom>
            <a:avLst/>
            <a:gdLst/>
            <a:ahLst/>
            <a:rect l="l" t="t" r="r" b="b"/>
            <a:pathLst>
              <a:path w="571" h="1291">
                <a:moveTo>
                  <a:pt x="7789" y="7665"/>
                </a:moveTo>
                <a:cubicBezTo>
                  <a:pt x="7789" y="7657"/>
                  <a:pt x="7789" y="7573"/>
                  <a:pt x="7789" y="7640"/>
                </a:cubicBezTo>
                <a:cubicBezTo>
                  <a:pt x="7789" y="7744"/>
                  <a:pt x="7802" y="7838"/>
                  <a:pt x="7813" y="7938"/>
                </a:cubicBezTo>
                <a:cubicBezTo>
                  <a:pt x="7821" y="8010"/>
                  <a:pt x="7804" y="8030"/>
                  <a:pt x="7838" y="8086"/>
                </a:cubicBezTo>
                <a:cubicBezTo>
                  <a:pt x="7838" y="8127"/>
                  <a:pt x="7838" y="8053"/>
                  <a:pt x="7838" y="8012"/>
                </a:cubicBezTo>
                <a:cubicBezTo>
                  <a:pt x="7838" y="7953"/>
                  <a:pt x="7858" y="7940"/>
                  <a:pt x="7888" y="7888"/>
                </a:cubicBezTo>
                <a:cubicBezTo>
                  <a:pt x="7934" y="7888"/>
                  <a:pt x="7959" y="7895"/>
                  <a:pt x="7987" y="7938"/>
                </a:cubicBezTo>
                <a:cubicBezTo>
                  <a:pt x="8023" y="7993"/>
                  <a:pt x="8024" y="8056"/>
                  <a:pt x="7987" y="8111"/>
                </a:cubicBezTo>
                <a:cubicBezTo>
                  <a:pt x="7951" y="8164"/>
                  <a:pt x="7883" y="8131"/>
                  <a:pt x="7838" y="8111"/>
                </a:cubicBezTo>
                <a:cubicBezTo>
                  <a:pt x="7822" y="8103"/>
                  <a:pt x="7805" y="8094"/>
                  <a:pt x="7789" y="8086"/>
                </a:cubicBezTo>
              </a:path>
              <a:path w="571" h="1291">
                <a:moveTo>
                  <a:pt x="7813" y="8682"/>
                </a:moveTo>
                <a:cubicBezTo>
                  <a:pt x="7880" y="8703"/>
                  <a:pt x="7800" y="8715"/>
                  <a:pt x="7789" y="8756"/>
                </a:cubicBezTo>
                <a:cubicBezTo>
                  <a:pt x="7780" y="8789"/>
                  <a:pt x="7789" y="8845"/>
                  <a:pt x="7789" y="8880"/>
                </a:cubicBezTo>
                <a:cubicBezTo>
                  <a:pt x="7864" y="8861"/>
                  <a:pt x="7860" y="8803"/>
                  <a:pt x="7863" y="8731"/>
                </a:cubicBezTo>
                <a:cubicBezTo>
                  <a:pt x="7866" y="8645"/>
                  <a:pt x="7888" y="8570"/>
                  <a:pt x="7888" y="8483"/>
                </a:cubicBezTo>
                <a:cubicBezTo>
                  <a:pt x="7888" y="8467"/>
                  <a:pt x="7888" y="8450"/>
                  <a:pt x="7888" y="8434"/>
                </a:cubicBezTo>
                <a:cubicBezTo>
                  <a:pt x="7888" y="8524"/>
                  <a:pt x="7891" y="8595"/>
                  <a:pt x="7913" y="8682"/>
                </a:cubicBezTo>
                <a:cubicBezTo>
                  <a:pt x="7935" y="8770"/>
                  <a:pt x="7956" y="8835"/>
                  <a:pt x="8012" y="8905"/>
                </a:cubicBezTo>
              </a:path>
              <a:path w="571" h="1291">
                <a:moveTo>
                  <a:pt x="7938" y="7838"/>
                </a:moveTo>
                <a:cubicBezTo>
                  <a:pt x="7969" y="7814"/>
                  <a:pt x="7983" y="7791"/>
                  <a:pt x="8012" y="7789"/>
                </a:cubicBezTo>
                <a:cubicBezTo>
                  <a:pt x="8084" y="7784"/>
                  <a:pt x="8099" y="7805"/>
                  <a:pt x="8161" y="7838"/>
                </a:cubicBezTo>
                <a:cubicBezTo>
                  <a:pt x="8244" y="7882"/>
                  <a:pt x="8265" y="7959"/>
                  <a:pt x="8310" y="8037"/>
                </a:cubicBezTo>
                <a:cubicBezTo>
                  <a:pt x="8375" y="8150"/>
                  <a:pt x="8376" y="8301"/>
                  <a:pt x="8359" y="8434"/>
                </a:cubicBezTo>
                <a:cubicBezTo>
                  <a:pt x="8344" y="8552"/>
                  <a:pt x="8301" y="8694"/>
                  <a:pt x="8260" y="8806"/>
                </a:cubicBezTo>
                <a:cubicBezTo>
                  <a:pt x="8233" y="8859"/>
                  <a:pt x="8221" y="8879"/>
                  <a:pt x="8186" y="8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16200" y="2919240"/>
            <a:ext cx="268560" cy="233640"/>
          </a:xfrm>
          <a:custGeom>
            <a:avLst/>
            <a:gdLst/>
            <a:ahLst/>
            <a:rect l="l" t="t" r="r" b="b"/>
            <a:pathLst>
              <a:path w="745" h="646">
                <a:moveTo>
                  <a:pt x="10046" y="8607"/>
                </a:moveTo>
                <a:cubicBezTo>
                  <a:pt x="10046" y="8629"/>
                  <a:pt x="10046" y="8789"/>
                  <a:pt x="10046" y="8731"/>
                </a:cubicBezTo>
                <a:cubicBezTo>
                  <a:pt x="10046" y="8658"/>
                  <a:pt x="10068" y="8606"/>
                  <a:pt x="10071" y="8533"/>
                </a:cubicBezTo>
                <a:cubicBezTo>
                  <a:pt x="10074" y="8446"/>
                  <a:pt x="10094" y="8342"/>
                  <a:pt x="10120" y="8260"/>
                </a:cubicBezTo>
                <a:cubicBezTo>
                  <a:pt x="10142" y="8216"/>
                  <a:pt x="10145" y="8205"/>
                  <a:pt x="10170" y="8186"/>
                </a:cubicBezTo>
                <a:cubicBezTo>
                  <a:pt x="10228" y="8257"/>
                  <a:pt x="10227" y="8298"/>
                  <a:pt x="10244" y="8384"/>
                </a:cubicBezTo>
                <a:cubicBezTo>
                  <a:pt x="10266" y="8495"/>
                  <a:pt x="10318" y="8596"/>
                  <a:pt x="10344" y="8706"/>
                </a:cubicBezTo>
                <a:cubicBezTo>
                  <a:pt x="10344" y="8714"/>
                  <a:pt x="10344" y="8723"/>
                  <a:pt x="10344" y="8731"/>
                </a:cubicBezTo>
              </a:path>
              <a:path w="745" h="646">
                <a:moveTo>
                  <a:pt x="10344" y="8508"/>
                </a:moveTo>
                <a:cubicBezTo>
                  <a:pt x="10263" y="8438"/>
                  <a:pt x="10294" y="8458"/>
                  <a:pt x="10220" y="8483"/>
                </a:cubicBezTo>
                <a:cubicBezTo>
                  <a:pt x="10192" y="8493"/>
                  <a:pt x="10150" y="8483"/>
                  <a:pt x="10120" y="8483"/>
                </a:cubicBezTo>
              </a:path>
              <a:path w="745" h="646">
                <a:moveTo>
                  <a:pt x="10492" y="8235"/>
                </a:moveTo>
                <a:cubicBezTo>
                  <a:pt x="10484" y="8235"/>
                  <a:pt x="10476" y="8235"/>
                  <a:pt x="10468" y="8235"/>
                </a:cubicBezTo>
                <a:cubicBezTo>
                  <a:pt x="10513" y="8235"/>
                  <a:pt x="10527" y="8214"/>
                  <a:pt x="10567" y="8210"/>
                </a:cubicBezTo>
                <a:cubicBezTo>
                  <a:pt x="10599" y="8206"/>
                  <a:pt x="10611" y="8193"/>
                  <a:pt x="10641" y="8186"/>
                </a:cubicBezTo>
              </a:path>
              <a:path w="745" h="646">
                <a:moveTo>
                  <a:pt x="10740" y="8111"/>
                </a:moveTo>
                <a:cubicBezTo>
                  <a:pt x="10800" y="8126"/>
                  <a:pt x="10790" y="8149"/>
                  <a:pt x="10790" y="8210"/>
                </a:cubicBezTo>
                <a:cubicBezTo>
                  <a:pt x="10790" y="8251"/>
                  <a:pt x="10790" y="8293"/>
                  <a:pt x="10790" y="8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17960" y="3009960"/>
            <a:ext cx="73080" cy="61920"/>
          </a:xfrm>
          <a:custGeom>
            <a:avLst/>
            <a:gdLst/>
            <a:ahLst/>
            <a:rect l="l" t="t" r="r" b="b"/>
            <a:pathLst>
              <a:path w="200" h="175">
                <a:moveTo>
                  <a:pt x="11311" y="8359"/>
                </a:moveTo>
                <a:cubicBezTo>
                  <a:pt x="11319" y="8359"/>
                  <a:pt x="11328" y="8359"/>
                  <a:pt x="11336" y="8359"/>
                </a:cubicBezTo>
                <a:cubicBezTo>
                  <a:pt x="11323" y="8397"/>
                  <a:pt x="11306" y="8384"/>
                  <a:pt x="11261" y="8384"/>
                </a:cubicBezTo>
                <a:cubicBezTo>
                  <a:pt x="11209" y="8384"/>
                  <a:pt x="11205" y="8398"/>
                  <a:pt x="11162" y="8409"/>
                </a:cubicBezTo>
              </a:path>
              <a:path w="200" h="175">
                <a:moveTo>
                  <a:pt x="11336" y="8483"/>
                </a:moveTo>
                <a:cubicBezTo>
                  <a:pt x="11344" y="8491"/>
                  <a:pt x="11353" y="8500"/>
                  <a:pt x="11361" y="8508"/>
                </a:cubicBezTo>
                <a:cubicBezTo>
                  <a:pt x="11311" y="8538"/>
                  <a:pt x="11274" y="8533"/>
                  <a:pt x="11212" y="8533"/>
                </a:cubicBezTo>
                <a:cubicBezTo>
                  <a:pt x="11204" y="8533"/>
                  <a:pt x="11195" y="8533"/>
                  <a:pt x="11187" y="85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05160" y="2751120"/>
            <a:ext cx="196920" cy="473040"/>
          </a:xfrm>
          <a:custGeom>
            <a:avLst/>
            <a:gdLst/>
            <a:ahLst/>
            <a:rect l="l" t="t" r="r" b="b"/>
            <a:pathLst>
              <a:path w="547" h="1315">
                <a:moveTo>
                  <a:pt x="12030" y="7962"/>
                </a:moveTo>
                <a:cubicBezTo>
                  <a:pt x="12030" y="7938"/>
                  <a:pt x="12030" y="7930"/>
                  <a:pt x="12055" y="7938"/>
                </a:cubicBezTo>
                <a:cubicBezTo>
                  <a:pt x="12055" y="8043"/>
                  <a:pt x="12064" y="8137"/>
                  <a:pt x="12080" y="8235"/>
                </a:cubicBezTo>
                <a:cubicBezTo>
                  <a:pt x="12089" y="8293"/>
                  <a:pt x="12075" y="8310"/>
                  <a:pt x="12105" y="8359"/>
                </a:cubicBezTo>
              </a:path>
              <a:path w="547" h="1315">
                <a:moveTo>
                  <a:pt x="12055" y="8037"/>
                </a:moveTo>
                <a:cubicBezTo>
                  <a:pt x="12018" y="7988"/>
                  <a:pt x="12027" y="7986"/>
                  <a:pt x="12055" y="7938"/>
                </a:cubicBezTo>
                <a:cubicBezTo>
                  <a:pt x="12095" y="7869"/>
                  <a:pt x="12066" y="7845"/>
                  <a:pt x="12154" y="7838"/>
                </a:cubicBezTo>
                <a:cubicBezTo>
                  <a:pt x="12220" y="7832"/>
                  <a:pt x="12226" y="7915"/>
                  <a:pt x="12229" y="7962"/>
                </a:cubicBezTo>
                <a:cubicBezTo>
                  <a:pt x="12233" y="8033"/>
                  <a:pt x="12225" y="8050"/>
                  <a:pt x="12179" y="8086"/>
                </a:cubicBezTo>
                <a:cubicBezTo>
                  <a:pt x="12141" y="8115"/>
                  <a:pt x="12128" y="8111"/>
                  <a:pt x="12080" y="8111"/>
                </a:cubicBezTo>
              </a:path>
              <a:path w="547" h="1315">
                <a:moveTo>
                  <a:pt x="11981" y="8855"/>
                </a:moveTo>
                <a:cubicBezTo>
                  <a:pt x="11981" y="8888"/>
                  <a:pt x="11981" y="8921"/>
                  <a:pt x="11981" y="8954"/>
                </a:cubicBezTo>
                <a:cubicBezTo>
                  <a:pt x="11948" y="8943"/>
                  <a:pt x="11941" y="8900"/>
                  <a:pt x="11956" y="8855"/>
                </a:cubicBezTo>
                <a:cubicBezTo>
                  <a:pt x="11975" y="8800"/>
                  <a:pt x="11998" y="8754"/>
                  <a:pt x="12055" y="8731"/>
                </a:cubicBezTo>
                <a:cubicBezTo>
                  <a:pt x="12087" y="8718"/>
                  <a:pt x="12143" y="8731"/>
                  <a:pt x="12179" y="8731"/>
                </a:cubicBezTo>
              </a:path>
              <a:path w="547" h="1315">
                <a:moveTo>
                  <a:pt x="11832" y="7665"/>
                </a:moveTo>
                <a:cubicBezTo>
                  <a:pt x="11857" y="7665"/>
                  <a:pt x="11865" y="7665"/>
                  <a:pt x="11857" y="7640"/>
                </a:cubicBezTo>
                <a:cubicBezTo>
                  <a:pt x="11857" y="7676"/>
                  <a:pt x="11850" y="7712"/>
                  <a:pt x="11832" y="7739"/>
                </a:cubicBezTo>
                <a:cubicBezTo>
                  <a:pt x="11802" y="7783"/>
                  <a:pt x="11745" y="7834"/>
                  <a:pt x="11733" y="7888"/>
                </a:cubicBezTo>
                <a:cubicBezTo>
                  <a:pt x="11721" y="7942"/>
                  <a:pt x="11725" y="8011"/>
                  <a:pt x="11708" y="8062"/>
                </a:cubicBezTo>
                <a:cubicBezTo>
                  <a:pt x="11682" y="8139"/>
                  <a:pt x="11683" y="8201"/>
                  <a:pt x="11683" y="8285"/>
                </a:cubicBezTo>
                <a:cubicBezTo>
                  <a:pt x="11683" y="8462"/>
                  <a:pt x="11681" y="8637"/>
                  <a:pt x="11708" y="8806"/>
                </a:cubicBezTo>
                <a:cubicBezTo>
                  <a:pt x="11708" y="8857"/>
                  <a:pt x="11709" y="8876"/>
                  <a:pt x="11733" y="8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16280" y="2795760"/>
            <a:ext cx="268560" cy="446040"/>
          </a:xfrm>
          <a:custGeom>
            <a:avLst/>
            <a:gdLst/>
            <a:ahLst/>
            <a:rect l="l" t="t" r="r" b="b"/>
            <a:pathLst>
              <a:path w="745" h="1241">
                <a:moveTo>
                  <a:pt x="12973" y="7938"/>
                </a:moveTo>
                <a:cubicBezTo>
                  <a:pt x="12964" y="7911"/>
                  <a:pt x="12955" y="7892"/>
                  <a:pt x="12923" y="7888"/>
                </a:cubicBezTo>
                <a:cubicBezTo>
                  <a:pt x="12864" y="7881"/>
                  <a:pt x="12831" y="7943"/>
                  <a:pt x="12824" y="7987"/>
                </a:cubicBezTo>
                <a:cubicBezTo>
                  <a:pt x="12816" y="8034"/>
                  <a:pt x="12828" y="8051"/>
                  <a:pt x="12849" y="8086"/>
                </a:cubicBezTo>
                <a:cubicBezTo>
                  <a:pt x="12903" y="8073"/>
                  <a:pt x="12930" y="8018"/>
                  <a:pt x="12948" y="7962"/>
                </a:cubicBezTo>
                <a:cubicBezTo>
                  <a:pt x="12954" y="7942"/>
                  <a:pt x="12973" y="7858"/>
                  <a:pt x="12973" y="7913"/>
                </a:cubicBezTo>
                <a:cubicBezTo>
                  <a:pt x="12973" y="7987"/>
                  <a:pt x="12971" y="8042"/>
                  <a:pt x="12948" y="8111"/>
                </a:cubicBezTo>
                <a:cubicBezTo>
                  <a:pt x="12924" y="8184"/>
                  <a:pt x="12923" y="8235"/>
                  <a:pt x="12923" y="8310"/>
                </a:cubicBezTo>
                <a:cubicBezTo>
                  <a:pt x="12982" y="8310"/>
                  <a:pt x="13001" y="8311"/>
                  <a:pt x="13047" y="8285"/>
                </a:cubicBezTo>
                <a:cubicBezTo>
                  <a:pt x="13088" y="8261"/>
                  <a:pt x="13150" y="8240"/>
                  <a:pt x="13196" y="8235"/>
                </a:cubicBezTo>
                <a:cubicBezTo>
                  <a:pt x="13204" y="8235"/>
                  <a:pt x="13213" y="8235"/>
                  <a:pt x="13221" y="8235"/>
                </a:cubicBezTo>
              </a:path>
              <a:path w="745" h="1241">
                <a:moveTo>
                  <a:pt x="12923" y="8632"/>
                </a:moveTo>
                <a:cubicBezTo>
                  <a:pt x="12946" y="8609"/>
                  <a:pt x="12954" y="8605"/>
                  <a:pt x="12948" y="8582"/>
                </a:cubicBezTo>
                <a:cubicBezTo>
                  <a:pt x="12922" y="8588"/>
                  <a:pt x="12863" y="8603"/>
                  <a:pt x="12849" y="8632"/>
                </a:cubicBezTo>
                <a:cubicBezTo>
                  <a:pt x="12819" y="8692"/>
                  <a:pt x="12890" y="8693"/>
                  <a:pt x="12923" y="8706"/>
                </a:cubicBezTo>
                <a:cubicBezTo>
                  <a:pt x="12978" y="8728"/>
                  <a:pt x="13028" y="8772"/>
                  <a:pt x="13047" y="8830"/>
                </a:cubicBezTo>
                <a:cubicBezTo>
                  <a:pt x="13066" y="8887"/>
                  <a:pt x="12979" y="8903"/>
                  <a:pt x="12948" y="8905"/>
                </a:cubicBezTo>
                <a:cubicBezTo>
                  <a:pt x="12931" y="8905"/>
                  <a:pt x="12915" y="8905"/>
                  <a:pt x="12898" y="8905"/>
                </a:cubicBezTo>
              </a:path>
              <a:path w="745" h="1241">
                <a:moveTo>
                  <a:pt x="13295" y="7789"/>
                </a:moveTo>
                <a:cubicBezTo>
                  <a:pt x="13310" y="7744"/>
                  <a:pt x="13355" y="7757"/>
                  <a:pt x="13395" y="7789"/>
                </a:cubicBezTo>
                <a:cubicBezTo>
                  <a:pt x="13455" y="7837"/>
                  <a:pt x="13496" y="7888"/>
                  <a:pt x="13519" y="7962"/>
                </a:cubicBezTo>
                <a:cubicBezTo>
                  <a:pt x="13565" y="8106"/>
                  <a:pt x="13568" y="8235"/>
                  <a:pt x="13568" y="8384"/>
                </a:cubicBezTo>
                <a:cubicBezTo>
                  <a:pt x="13568" y="8537"/>
                  <a:pt x="13554" y="8736"/>
                  <a:pt x="13494" y="8880"/>
                </a:cubicBezTo>
                <a:cubicBezTo>
                  <a:pt x="13450" y="8945"/>
                  <a:pt x="13439" y="8959"/>
                  <a:pt x="13419" y="90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01800" y="3732120"/>
            <a:ext cx="206280" cy="196920"/>
          </a:xfrm>
          <a:custGeom>
            <a:avLst/>
            <a:gdLst/>
            <a:ahLst/>
            <a:rect l="l" t="t" r="r" b="b"/>
            <a:pathLst>
              <a:path w="572" h="547">
                <a:moveTo>
                  <a:pt x="2604" y="10393"/>
                </a:moveTo>
                <a:cubicBezTo>
                  <a:pt x="2632" y="10393"/>
                  <a:pt x="2643" y="10391"/>
                  <a:pt x="2654" y="10368"/>
                </a:cubicBezTo>
                <a:cubicBezTo>
                  <a:pt x="2593" y="10383"/>
                  <a:pt x="2592" y="10419"/>
                  <a:pt x="2555" y="10468"/>
                </a:cubicBezTo>
                <a:cubicBezTo>
                  <a:pt x="2533" y="10496"/>
                  <a:pt x="2480" y="10549"/>
                  <a:pt x="2505" y="10592"/>
                </a:cubicBezTo>
                <a:cubicBezTo>
                  <a:pt x="2524" y="10625"/>
                  <a:pt x="2598" y="10642"/>
                  <a:pt x="2629" y="10666"/>
                </a:cubicBezTo>
                <a:cubicBezTo>
                  <a:pt x="2666" y="10694"/>
                  <a:pt x="2715" y="10768"/>
                  <a:pt x="2704" y="10815"/>
                </a:cubicBezTo>
                <a:cubicBezTo>
                  <a:pt x="2686" y="10891"/>
                  <a:pt x="2674" y="10889"/>
                  <a:pt x="2604" y="10889"/>
                </a:cubicBezTo>
                <a:cubicBezTo>
                  <a:pt x="2553" y="10889"/>
                  <a:pt x="2518" y="10904"/>
                  <a:pt x="2505" y="10864"/>
                </a:cubicBezTo>
              </a:path>
              <a:path w="572" h="547">
                <a:moveTo>
                  <a:pt x="2902" y="10815"/>
                </a:moveTo>
                <a:cubicBezTo>
                  <a:pt x="2902" y="10772"/>
                  <a:pt x="2888" y="10718"/>
                  <a:pt x="2927" y="10691"/>
                </a:cubicBezTo>
                <a:cubicBezTo>
                  <a:pt x="2978" y="10656"/>
                  <a:pt x="3051" y="10705"/>
                  <a:pt x="3076" y="10765"/>
                </a:cubicBezTo>
                <a:cubicBezTo>
                  <a:pt x="3089" y="10796"/>
                  <a:pt x="3088" y="10896"/>
                  <a:pt x="3051" y="10914"/>
                </a:cubicBezTo>
                <a:cubicBezTo>
                  <a:pt x="3013" y="10933"/>
                  <a:pt x="2970" y="10892"/>
                  <a:pt x="2952" y="10864"/>
                </a:cubicBezTo>
                <a:cubicBezTo>
                  <a:pt x="2944" y="10848"/>
                  <a:pt x="2935" y="10831"/>
                  <a:pt x="2927" y="10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25760" y="3562200"/>
            <a:ext cx="223560" cy="474840"/>
          </a:xfrm>
          <a:custGeom>
            <a:avLst/>
            <a:gdLst/>
            <a:ahLst/>
            <a:rect l="l" t="t" r="r" b="b"/>
            <a:pathLst>
              <a:path w="622" h="1316">
                <a:moveTo>
                  <a:pt x="4911" y="10120"/>
                </a:moveTo>
                <a:cubicBezTo>
                  <a:pt x="4939" y="10084"/>
                  <a:pt x="4950" y="10078"/>
                  <a:pt x="4961" y="10046"/>
                </a:cubicBezTo>
                <a:cubicBezTo>
                  <a:pt x="4924" y="10055"/>
                  <a:pt x="4885" y="10084"/>
                  <a:pt x="4862" y="10120"/>
                </a:cubicBezTo>
                <a:cubicBezTo>
                  <a:pt x="4812" y="10198"/>
                  <a:pt x="4806" y="10236"/>
                  <a:pt x="4837" y="10319"/>
                </a:cubicBezTo>
                <a:cubicBezTo>
                  <a:pt x="4899" y="10281"/>
                  <a:pt x="4902" y="10227"/>
                  <a:pt x="4936" y="10170"/>
                </a:cubicBezTo>
                <a:cubicBezTo>
                  <a:pt x="4972" y="10110"/>
                  <a:pt x="5032" y="10158"/>
                  <a:pt x="5060" y="10195"/>
                </a:cubicBezTo>
                <a:cubicBezTo>
                  <a:pt x="5085" y="10244"/>
                  <a:pt x="5094" y="10261"/>
                  <a:pt x="5135" y="10269"/>
                </a:cubicBezTo>
              </a:path>
              <a:path w="622" h="1316">
                <a:moveTo>
                  <a:pt x="4936" y="11013"/>
                </a:moveTo>
                <a:cubicBezTo>
                  <a:pt x="4958" y="10991"/>
                  <a:pt x="4967" y="10986"/>
                  <a:pt x="4961" y="10964"/>
                </a:cubicBezTo>
                <a:cubicBezTo>
                  <a:pt x="4922" y="10973"/>
                  <a:pt x="4864" y="11001"/>
                  <a:pt x="4837" y="11038"/>
                </a:cubicBezTo>
                <a:cubicBezTo>
                  <a:pt x="4786" y="11109"/>
                  <a:pt x="4810" y="11179"/>
                  <a:pt x="4887" y="11212"/>
                </a:cubicBezTo>
                <a:cubicBezTo>
                  <a:pt x="4953" y="11240"/>
                  <a:pt x="5013" y="11200"/>
                  <a:pt x="5060" y="11162"/>
                </a:cubicBezTo>
              </a:path>
              <a:path w="622" h="1316">
                <a:moveTo>
                  <a:pt x="4614" y="9996"/>
                </a:moveTo>
                <a:cubicBezTo>
                  <a:pt x="4635" y="9959"/>
                  <a:pt x="4654" y="9934"/>
                  <a:pt x="4663" y="9897"/>
                </a:cubicBezTo>
                <a:cubicBezTo>
                  <a:pt x="4614" y="9996"/>
                  <a:pt x="4569" y="10088"/>
                  <a:pt x="4539" y="10195"/>
                </a:cubicBezTo>
                <a:cubicBezTo>
                  <a:pt x="4491" y="10368"/>
                  <a:pt x="4514" y="10568"/>
                  <a:pt x="4564" y="10740"/>
                </a:cubicBezTo>
                <a:cubicBezTo>
                  <a:pt x="4599" y="10862"/>
                  <a:pt x="4627" y="11023"/>
                  <a:pt x="4688" y="11137"/>
                </a:cubicBezTo>
                <a:cubicBezTo>
                  <a:pt x="4713" y="11162"/>
                  <a:pt x="4721" y="11170"/>
                  <a:pt x="4738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43080" y="3483000"/>
            <a:ext cx="563760" cy="490680"/>
          </a:xfrm>
          <a:custGeom>
            <a:avLst/>
            <a:gdLst/>
            <a:ahLst/>
            <a:rect l="l" t="t" r="r" b="b"/>
            <a:pathLst>
              <a:path w="1564" h="1365">
                <a:moveTo>
                  <a:pt x="6176" y="9748"/>
                </a:moveTo>
                <a:cubicBezTo>
                  <a:pt x="6168" y="9740"/>
                  <a:pt x="6160" y="9731"/>
                  <a:pt x="6152" y="9723"/>
                </a:cubicBezTo>
                <a:cubicBezTo>
                  <a:pt x="6152" y="9889"/>
                  <a:pt x="6152" y="10054"/>
                  <a:pt x="6152" y="10220"/>
                </a:cubicBezTo>
                <a:cubicBezTo>
                  <a:pt x="6177" y="10150"/>
                  <a:pt x="6177" y="10089"/>
                  <a:pt x="6251" y="10046"/>
                </a:cubicBezTo>
                <a:cubicBezTo>
                  <a:pt x="6276" y="10046"/>
                  <a:pt x="6284" y="10046"/>
                  <a:pt x="6300" y="10046"/>
                </a:cubicBezTo>
                <a:cubicBezTo>
                  <a:pt x="6315" y="10073"/>
                  <a:pt x="6385" y="10160"/>
                  <a:pt x="6350" y="10195"/>
                </a:cubicBezTo>
                <a:cubicBezTo>
                  <a:pt x="6299" y="10246"/>
                  <a:pt x="6242" y="10244"/>
                  <a:pt x="6176" y="10244"/>
                </a:cubicBezTo>
                <a:cubicBezTo>
                  <a:pt x="6160" y="10244"/>
                  <a:pt x="6143" y="10244"/>
                  <a:pt x="6127" y="10244"/>
                </a:cubicBezTo>
              </a:path>
              <a:path w="1564" h="1365">
                <a:moveTo>
                  <a:pt x="6028" y="10939"/>
                </a:moveTo>
                <a:cubicBezTo>
                  <a:pt x="6013" y="10895"/>
                  <a:pt x="5973" y="10921"/>
                  <a:pt x="5953" y="10964"/>
                </a:cubicBezTo>
                <a:cubicBezTo>
                  <a:pt x="5934" y="11005"/>
                  <a:pt x="5957" y="11024"/>
                  <a:pt x="5978" y="11038"/>
                </a:cubicBezTo>
                <a:cubicBezTo>
                  <a:pt x="6083" y="11008"/>
                  <a:pt x="6054" y="10943"/>
                  <a:pt x="6077" y="10840"/>
                </a:cubicBezTo>
                <a:cubicBezTo>
                  <a:pt x="6094" y="10765"/>
                  <a:pt x="6091" y="10676"/>
                  <a:pt x="6127" y="10616"/>
                </a:cubicBezTo>
                <a:cubicBezTo>
                  <a:pt x="6142" y="10690"/>
                  <a:pt x="6154" y="10765"/>
                  <a:pt x="6176" y="10840"/>
                </a:cubicBezTo>
                <a:cubicBezTo>
                  <a:pt x="6194" y="10902"/>
                  <a:pt x="6212" y="10940"/>
                  <a:pt x="6251" y="10988"/>
                </a:cubicBezTo>
              </a:path>
              <a:path w="1564" h="1365">
                <a:moveTo>
                  <a:pt x="6424" y="9674"/>
                </a:moveTo>
                <a:cubicBezTo>
                  <a:pt x="6474" y="9674"/>
                  <a:pt x="6506" y="9691"/>
                  <a:pt x="6548" y="9723"/>
                </a:cubicBezTo>
                <a:cubicBezTo>
                  <a:pt x="6621" y="9777"/>
                  <a:pt x="6652" y="9887"/>
                  <a:pt x="6672" y="9971"/>
                </a:cubicBezTo>
                <a:cubicBezTo>
                  <a:pt x="6710" y="10130"/>
                  <a:pt x="6704" y="10284"/>
                  <a:pt x="6672" y="10443"/>
                </a:cubicBezTo>
                <a:cubicBezTo>
                  <a:pt x="6645" y="10579"/>
                  <a:pt x="6600" y="10692"/>
                  <a:pt x="6548" y="10815"/>
                </a:cubicBezTo>
                <a:cubicBezTo>
                  <a:pt x="6540" y="10840"/>
                  <a:pt x="6532" y="10864"/>
                  <a:pt x="6524" y="10889"/>
                </a:cubicBezTo>
              </a:path>
              <a:path w="1564" h="1365">
                <a:moveTo>
                  <a:pt x="7193" y="9971"/>
                </a:moveTo>
                <a:cubicBezTo>
                  <a:pt x="7193" y="9947"/>
                  <a:pt x="7193" y="9938"/>
                  <a:pt x="7193" y="9922"/>
                </a:cubicBezTo>
                <a:cubicBezTo>
                  <a:pt x="7237" y="9937"/>
                  <a:pt x="7218" y="9993"/>
                  <a:pt x="7218" y="10046"/>
                </a:cubicBezTo>
                <a:cubicBezTo>
                  <a:pt x="7218" y="10173"/>
                  <a:pt x="7251" y="10272"/>
                  <a:pt x="7268" y="10393"/>
                </a:cubicBezTo>
                <a:cubicBezTo>
                  <a:pt x="7276" y="10450"/>
                  <a:pt x="7282" y="10489"/>
                  <a:pt x="7293" y="10542"/>
                </a:cubicBezTo>
              </a:path>
              <a:path w="1564" h="1365">
                <a:moveTo>
                  <a:pt x="7218" y="10120"/>
                </a:moveTo>
                <a:cubicBezTo>
                  <a:pt x="7218" y="10072"/>
                  <a:pt x="7223" y="10010"/>
                  <a:pt x="7243" y="9971"/>
                </a:cubicBezTo>
                <a:cubicBezTo>
                  <a:pt x="7276" y="9907"/>
                  <a:pt x="7259" y="9879"/>
                  <a:pt x="7342" y="9872"/>
                </a:cubicBezTo>
                <a:cubicBezTo>
                  <a:pt x="7401" y="9867"/>
                  <a:pt x="7415" y="9978"/>
                  <a:pt x="7417" y="10021"/>
                </a:cubicBezTo>
                <a:cubicBezTo>
                  <a:pt x="7422" y="10105"/>
                  <a:pt x="7430" y="10138"/>
                  <a:pt x="7342" y="10145"/>
                </a:cubicBezTo>
                <a:cubicBezTo>
                  <a:pt x="7334" y="10145"/>
                  <a:pt x="7325" y="10145"/>
                  <a:pt x="7317" y="10145"/>
                </a:cubicBezTo>
              </a:path>
              <a:path w="1564" h="1365">
                <a:moveTo>
                  <a:pt x="7342" y="11013"/>
                </a:moveTo>
                <a:cubicBezTo>
                  <a:pt x="7334" y="11013"/>
                  <a:pt x="7325" y="11013"/>
                  <a:pt x="7317" y="11013"/>
                </a:cubicBezTo>
                <a:cubicBezTo>
                  <a:pt x="7317" y="10978"/>
                  <a:pt x="7298" y="10877"/>
                  <a:pt x="7342" y="10864"/>
                </a:cubicBezTo>
                <a:cubicBezTo>
                  <a:pt x="7390" y="10849"/>
                  <a:pt x="7465" y="10864"/>
                  <a:pt x="7516" y="10864"/>
                </a:cubicBezTo>
              </a:path>
              <a:path w="1564" h="1365">
                <a:moveTo>
                  <a:pt x="6995" y="9723"/>
                </a:moveTo>
                <a:cubicBezTo>
                  <a:pt x="7023" y="9723"/>
                  <a:pt x="7034" y="9721"/>
                  <a:pt x="7045" y="9699"/>
                </a:cubicBezTo>
                <a:cubicBezTo>
                  <a:pt x="7045" y="9754"/>
                  <a:pt x="7040" y="9770"/>
                  <a:pt x="7020" y="9823"/>
                </a:cubicBezTo>
                <a:cubicBezTo>
                  <a:pt x="6977" y="9941"/>
                  <a:pt x="6932" y="10069"/>
                  <a:pt x="6921" y="10195"/>
                </a:cubicBezTo>
                <a:cubicBezTo>
                  <a:pt x="6907" y="10353"/>
                  <a:pt x="6959" y="10522"/>
                  <a:pt x="7020" y="10666"/>
                </a:cubicBezTo>
                <a:cubicBezTo>
                  <a:pt x="7054" y="10745"/>
                  <a:pt x="7125" y="10884"/>
                  <a:pt x="7193" y="10939"/>
                </a:cubicBezTo>
                <a:cubicBezTo>
                  <a:pt x="7201" y="10939"/>
                  <a:pt x="7210" y="10939"/>
                  <a:pt x="7218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84320" y="3554280"/>
            <a:ext cx="277920" cy="366840"/>
          </a:xfrm>
          <a:custGeom>
            <a:avLst/>
            <a:gdLst/>
            <a:ahLst/>
            <a:rect l="l" t="t" r="r" b="b"/>
            <a:pathLst>
              <a:path w="770" h="1018">
                <a:moveTo>
                  <a:pt x="8086" y="9947"/>
                </a:moveTo>
                <a:cubicBezTo>
                  <a:pt x="8114" y="9910"/>
                  <a:pt x="8125" y="9904"/>
                  <a:pt x="8136" y="9872"/>
                </a:cubicBezTo>
                <a:cubicBezTo>
                  <a:pt x="8092" y="9916"/>
                  <a:pt x="8029" y="9958"/>
                  <a:pt x="8012" y="10021"/>
                </a:cubicBezTo>
                <a:cubicBezTo>
                  <a:pt x="8012" y="10063"/>
                  <a:pt x="8012" y="10071"/>
                  <a:pt x="8012" y="10096"/>
                </a:cubicBezTo>
                <a:cubicBezTo>
                  <a:pt x="8058" y="10096"/>
                  <a:pt x="8084" y="10089"/>
                  <a:pt x="8111" y="10046"/>
                </a:cubicBezTo>
                <a:cubicBezTo>
                  <a:pt x="8146" y="9991"/>
                  <a:pt x="8118" y="9985"/>
                  <a:pt x="8161" y="9971"/>
                </a:cubicBezTo>
                <a:cubicBezTo>
                  <a:pt x="8185" y="9979"/>
                  <a:pt x="8207" y="10022"/>
                  <a:pt x="8210" y="10046"/>
                </a:cubicBezTo>
                <a:cubicBezTo>
                  <a:pt x="8221" y="10134"/>
                  <a:pt x="8199" y="10213"/>
                  <a:pt x="8186" y="10294"/>
                </a:cubicBezTo>
                <a:cubicBezTo>
                  <a:pt x="8181" y="10323"/>
                  <a:pt x="8186" y="10362"/>
                  <a:pt x="8186" y="10393"/>
                </a:cubicBezTo>
                <a:cubicBezTo>
                  <a:pt x="8230" y="10382"/>
                  <a:pt x="8265" y="10343"/>
                  <a:pt x="8310" y="10319"/>
                </a:cubicBezTo>
                <a:cubicBezTo>
                  <a:pt x="8365" y="10289"/>
                  <a:pt x="8410" y="10273"/>
                  <a:pt x="8458" y="10244"/>
                </a:cubicBezTo>
              </a:path>
              <a:path w="770" h="1018">
                <a:moveTo>
                  <a:pt x="8235" y="10691"/>
                </a:moveTo>
                <a:cubicBezTo>
                  <a:pt x="8255" y="10650"/>
                  <a:pt x="8264" y="10644"/>
                  <a:pt x="8260" y="10616"/>
                </a:cubicBezTo>
                <a:cubicBezTo>
                  <a:pt x="8212" y="10628"/>
                  <a:pt x="8204" y="10672"/>
                  <a:pt x="8161" y="10691"/>
                </a:cubicBezTo>
                <a:cubicBezTo>
                  <a:pt x="8136" y="10691"/>
                  <a:pt x="8128" y="10691"/>
                  <a:pt x="8136" y="10716"/>
                </a:cubicBezTo>
                <a:cubicBezTo>
                  <a:pt x="8175" y="10744"/>
                  <a:pt x="8223" y="10740"/>
                  <a:pt x="8260" y="10765"/>
                </a:cubicBezTo>
                <a:cubicBezTo>
                  <a:pt x="8283" y="10780"/>
                  <a:pt x="8301" y="10836"/>
                  <a:pt x="8285" y="10864"/>
                </a:cubicBezTo>
                <a:cubicBezTo>
                  <a:pt x="8262" y="10887"/>
                  <a:pt x="8258" y="10895"/>
                  <a:pt x="8235" y="10889"/>
                </a:cubicBezTo>
              </a:path>
              <a:path w="770" h="1018">
                <a:moveTo>
                  <a:pt x="8607" y="9872"/>
                </a:moveTo>
                <a:cubicBezTo>
                  <a:pt x="8648" y="9913"/>
                  <a:pt x="8678" y="9944"/>
                  <a:pt x="8706" y="9996"/>
                </a:cubicBezTo>
                <a:cubicBezTo>
                  <a:pt x="8763" y="10105"/>
                  <a:pt x="8778" y="10197"/>
                  <a:pt x="8781" y="10319"/>
                </a:cubicBezTo>
                <a:cubicBezTo>
                  <a:pt x="8784" y="10446"/>
                  <a:pt x="8784" y="10594"/>
                  <a:pt x="8756" y="10716"/>
                </a:cubicBezTo>
                <a:cubicBezTo>
                  <a:pt x="8739" y="10787"/>
                  <a:pt x="8706" y="10822"/>
                  <a:pt x="8657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02000" y="3687840"/>
            <a:ext cx="71280" cy="81000"/>
          </a:xfrm>
          <a:custGeom>
            <a:avLst/>
            <a:gdLst/>
            <a:ahLst/>
            <a:rect l="l" t="t" r="r" b="b"/>
            <a:pathLst>
              <a:path w="199" h="225">
                <a:moveTo>
                  <a:pt x="9525" y="10244"/>
                </a:moveTo>
                <a:cubicBezTo>
                  <a:pt x="9578" y="10244"/>
                  <a:pt x="9562" y="10256"/>
                  <a:pt x="9599" y="10269"/>
                </a:cubicBezTo>
                <a:cubicBezTo>
                  <a:pt x="9575" y="10275"/>
                  <a:pt x="9521" y="10282"/>
                  <a:pt x="9500" y="10294"/>
                </a:cubicBezTo>
                <a:cubicBezTo>
                  <a:pt x="9478" y="10316"/>
                  <a:pt x="9473" y="10325"/>
                  <a:pt x="9451" y="10319"/>
                </a:cubicBezTo>
              </a:path>
              <a:path w="199" h="225">
                <a:moveTo>
                  <a:pt x="9575" y="10418"/>
                </a:moveTo>
                <a:cubicBezTo>
                  <a:pt x="9600" y="10422"/>
                  <a:pt x="9675" y="10443"/>
                  <a:pt x="9624" y="10443"/>
                </a:cubicBezTo>
                <a:cubicBezTo>
                  <a:pt x="9580" y="10443"/>
                  <a:pt x="9585" y="10441"/>
                  <a:pt x="9550" y="10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43200" y="3456000"/>
            <a:ext cx="241560" cy="608040"/>
          </a:xfrm>
          <a:custGeom>
            <a:avLst/>
            <a:gdLst/>
            <a:ahLst/>
            <a:rect l="l" t="t" r="r" b="b"/>
            <a:pathLst>
              <a:path w="671" h="1688">
                <a:moveTo>
                  <a:pt x="10666" y="9847"/>
                </a:moveTo>
                <a:cubicBezTo>
                  <a:pt x="10637" y="9810"/>
                  <a:pt x="10641" y="9796"/>
                  <a:pt x="10641" y="9748"/>
                </a:cubicBezTo>
                <a:cubicBezTo>
                  <a:pt x="10641" y="9740"/>
                  <a:pt x="10641" y="9731"/>
                  <a:pt x="10641" y="9723"/>
                </a:cubicBezTo>
                <a:cubicBezTo>
                  <a:pt x="10591" y="9757"/>
                  <a:pt x="10632" y="9828"/>
                  <a:pt x="10616" y="9897"/>
                </a:cubicBezTo>
                <a:cubicBezTo>
                  <a:pt x="10603" y="9955"/>
                  <a:pt x="10592" y="9983"/>
                  <a:pt x="10592" y="10046"/>
                </a:cubicBezTo>
              </a:path>
              <a:path w="671" h="1688">
                <a:moveTo>
                  <a:pt x="10716" y="10468"/>
                </a:moveTo>
                <a:cubicBezTo>
                  <a:pt x="10678" y="10495"/>
                  <a:pt x="10664" y="10492"/>
                  <a:pt x="10616" y="10492"/>
                </a:cubicBezTo>
                <a:cubicBezTo>
                  <a:pt x="10616" y="10431"/>
                  <a:pt x="10603" y="10366"/>
                  <a:pt x="10641" y="10319"/>
                </a:cubicBezTo>
                <a:cubicBezTo>
                  <a:pt x="10671" y="10281"/>
                  <a:pt x="10736" y="10278"/>
                  <a:pt x="10765" y="10319"/>
                </a:cubicBezTo>
                <a:cubicBezTo>
                  <a:pt x="10797" y="10364"/>
                  <a:pt x="10805" y="10463"/>
                  <a:pt x="10790" y="10517"/>
                </a:cubicBezTo>
                <a:cubicBezTo>
                  <a:pt x="10776" y="10567"/>
                  <a:pt x="10755" y="10624"/>
                  <a:pt x="10691" y="10592"/>
                </a:cubicBezTo>
                <a:cubicBezTo>
                  <a:pt x="10657" y="10575"/>
                  <a:pt x="10648" y="10500"/>
                  <a:pt x="10641" y="10468"/>
                </a:cubicBezTo>
              </a:path>
              <a:path w="671" h="1688">
                <a:moveTo>
                  <a:pt x="10319" y="9649"/>
                </a:moveTo>
                <a:cubicBezTo>
                  <a:pt x="10350" y="9628"/>
                  <a:pt x="10347" y="9631"/>
                  <a:pt x="10368" y="9599"/>
                </a:cubicBezTo>
                <a:cubicBezTo>
                  <a:pt x="10336" y="9632"/>
                  <a:pt x="10329" y="9661"/>
                  <a:pt x="10294" y="9723"/>
                </a:cubicBezTo>
                <a:cubicBezTo>
                  <a:pt x="10215" y="9864"/>
                  <a:pt x="10195" y="10009"/>
                  <a:pt x="10170" y="10170"/>
                </a:cubicBezTo>
                <a:cubicBezTo>
                  <a:pt x="10133" y="10405"/>
                  <a:pt x="10120" y="10627"/>
                  <a:pt x="10120" y="10864"/>
                </a:cubicBezTo>
                <a:cubicBezTo>
                  <a:pt x="10120" y="11005"/>
                  <a:pt x="10160" y="11126"/>
                  <a:pt x="10170" y="11261"/>
                </a:cubicBezTo>
                <a:cubicBezTo>
                  <a:pt x="10170" y="11269"/>
                  <a:pt x="10170" y="11278"/>
                  <a:pt x="10170" y="11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90960" y="3483000"/>
            <a:ext cx="196920" cy="339840"/>
          </a:xfrm>
          <a:custGeom>
            <a:avLst/>
            <a:gdLst/>
            <a:ahLst/>
            <a:rect l="l" t="t" r="r" b="b"/>
            <a:pathLst>
              <a:path w="546" h="943">
                <a:moveTo>
                  <a:pt x="11162" y="10170"/>
                </a:moveTo>
                <a:cubicBezTo>
                  <a:pt x="11139" y="10193"/>
                  <a:pt x="11135" y="10201"/>
                  <a:pt x="11112" y="10195"/>
                </a:cubicBezTo>
                <a:cubicBezTo>
                  <a:pt x="11112" y="10149"/>
                  <a:pt x="11110" y="10126"/>
                  <a:pt x="11162" y="10120"/>
                </a:cubicBezTo>
                <a:cubicBezTo>
                  <a:pt x="11225" y="10113"/>
                  <a:pt x="11253" y="10225"/>
                  <a:pt x="11261" y="10269"/>
                </a:cubicBezTo>
                <a:cubicBezTo>
                  <a:pt x="11276" y="10349"/>
                  <a:pt x="11260" y="10408"/>
                  <a:pt x="11212" y="10468"/>
                </a:cubicBezTo>
                <a:cubicBezTo>
                  <a:pt x="11161" y="10455"/>
                  <a:pt x="11101" y="10403"/>
                  <a:pt x="11088" y="10344"/>
                </a:cubicBezTo>
                <a:cubicBezTo>
                  <a:pt x="11088" y="10269"/>
                  <a:pt x="11088" y="10245"/>
                  <a:pt x="11088" y="10195"/>
                </a:cubicBezTo>
              </a:path>
              <a:path w="546" h="943">
                <a:moveTo>
                  <a:pt x="11137" y="10220"/>
                </a:moveTo>
                <a:cubicBezTo>
                  <a:pt x="11137" y="10288"/>
                  <a:pt x="11133" y="10176"/>
                  <a:pt x="11137" y="10170"/>
                </a:cubicBezTo>
                <a:cubicBezTo>
                  <a:pt x="11187" y="10080"/>
                  <a:pt x="11187" y="10251"/>
                  <a:pt x="11187" y="10269"/>
                </a:cubicBezTo>
                <a:cubicBezTo>
                  <a:pt x="11187" y="10351"/>
                  <a:pt x="11168" y="10415"/>
                  <a:pt x="11162" y="10492"/>
                </a:cubicBezTo>
                <a:cubicBezTo>
                  <a:pt x="11162" y="10500"/>
                  <a:pt x="11162" y="10509"/>
                  <a:pt x="11162" y="10517"/>
                </a:cubicBezTo>
                <a:cubicBezTo>
                  <a:pt x="11162" y="10407"/>
                  <a:pt x="11148" y="10296"/>
                  <a:pt x="11187" y="10195"/>
                </a:cubicBezTo>
                <a:cubicBezTo>
                  <a:pt x="11187" y="10127"/>
                  <a:pt x="11187" y="10302"/>
                  <a:pt x="11187" y="10319"/>
                </a:cubicBezTo>
                <a:cubicBezTo>
                  <a:pt x="11187" y="10341"/>
                  <a:pt x="11187" y="10501"/>
                  <a:pt x="11187" y="10443"/>
                </a:cubicBezTo>
                <a:cubicBezTo>
                  <a:pt x="11187" y="10372"/>
                  <a:pt x="11165" y="10314"/>
                  <a:pt x="11162" y="10244"/>
                </a:cubicBezTo>
                <a:cubicBezTo>
                  <a:pt x="11160" y="10203"/>
                  <a:pt x="11162" y="10161"/>
                  <a:pt x="11162" y="10120"/>
                </a:cubicBezTo>
                <a:cubicBezTo>
                  <a:pt x="11198" y="10144"/>
                  <a:pt x="11187" y="10187"/>
                  <a:pt x="11187" y="10244"/>
                </a:cubicBezTo>
                <a:cubicBezTo>
                  <a:pt x="11187" y="10294"/>
                  <a:pt x="11187" y="10343"/>
                  <a:pt x="11187" y="10393"/>
                </a:cubicBezTo>
                <a:cubicBezTo>
                  <a:pt x="11152" y="10346"/>
                  <a:pt x="11162" y="10306"/>
                  <a:pt x="11162" y="10244"/>
                </a:cubicBezTo>
                <a:cubicBezTo>
                  <a:pt x="11162" y="10221"/>
                  <a:pt x="11181" y="10116"/>
                  <a:pt x="11187" y="10195"/>
                </a:cubicBezTo>
                <a:cubicBezTo>
                  <a:pt x="11193" y="10277"/>
                  <a:pt x="11187" y="10361"/>
                  <a:pt x="11187" y="10443"/>
                </a:cubicBezTo>
              </a:path>
              <a:path w="546" h="943">
                <a:moveTo>
                  <a:pt x="11162" y="9872"/>
                </a:moveTo>
                <a:cubicBezTo>
                  <a:pt x="11120" y="9817"/>
                  <a:pt x="11144" y="9827"/>
                  <a:pt x="11162" y="9773"/>
                </a:cubicBezTo>
                <a:cubicBezTo>
                  <a:pt x="11174" y="9736"/>
                  <a:pt x="11196" y="9712"/>
                  <a:pt x="11237" y="9699"/>
                </a:cubicBezTo>
                <a:cubicBezTo>
                  <a:pt x="11295" y="9680"/>
                  <a:pt x="11314" y="9732"/>
                  <a:pt x="11336" y="9773"/>
                </a:cubicBezTo>
                <a:cubicBezTo>
                  <a:pt x="11379" y="9854"/>
                  <a:pt x="11362" y="9923"/>
                  <a:pt x="11311" y="9996"/>
                </a:cubicBezTo>
                <a:cubicBezTo>
                  <a:pt x="11264" y="10063"/>
                  <a:pt x="11218" y="10005"/>
                  <a:pt x="11187" y="9971"/>
                </a:cubicBezTo>
                <a:cubicBezTo>
                  <a:pt x="11158" y="9943"/>
                  <a:pt x="11150" y="9930"/>
                  <a:pt x="11162" y="9897"/>
                </a:cubicBezTo>
              </a:path>
              <a:path w="546" h="943">
                <a:moveTo>
                  <a:pt x="11485" y="9674"/>
                </a:moveTo>
                <a:cubicBezTo>
                  <a:pt x="11531" y="9674"/>
                  <a:pt x="11548" y="9668"/>
                  <a:pt x="11584" y="9699"/>
                </a:cubicBezTo>
                <a:cubicBezTo>
                  <a:pt x="11630" y="9739"/>
                  <a:pt x="11631" y="9813"/>
                  <a:pt x="11633" y="9872"/>
                </a:cubicBezTo>
                <a:cubicBezTo>
                  <a:pt x="11638" y="10034"/>
                  <a:pt x="11597" y="10196"/>
                  <a:pt x="11534" y="10344"/>
                </a:cubicBezTo>
                <a:cubicBezTo>
                  <a:pt x="11495" y="10435"/>
                  <a:pt x="11444" y="10516"/>
                  <a:pt x="11385" y="10592"/>
                </a:cubicBezTo>
                <a:cubicBezTo>
                  <a:pt x="11377" y="10600"/>
                  <a:pt x="11369" y="10608"/>
                  <a:pt x="11361" y="106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35000" y="4473720"/>
            <a:ext cx="206280" cy="447480"/>
          </a:xfrm>
          <a:custGeom>
            <a:avLst/>
            <a:gdLst/>
            <a:ahLst/>
            <a:rect l="l" t="t" r="r" b="b"/>
            <a:pathLst>
              <a:path w="572" h="1241">
                <a:moveTo>
                  <a:pt x="3225" y="12675"/>
                </a:moveTo>
                <a:cubicBezTo>
                  <a:pt x="3215" y="12636"/>
                  <a:pt x="3200" y="12621"/>
                  <a:pt x="3200" y="12576"/>
                </a:cubicBezTo>
                <a:cubicBezTo>
                  <a:pt x="3200" y="12641"/>
                  <a:pt x="3217" y="12687"/>
                  <a:pt x="3225" y="12750"/>
                </a:cubicBezTo>
              </a:path>
              <a:path w="572" h="1241">
                <a:moveTo>
                  <a:pt x="3175" y="13320"/>
                </a:moveTo>
                <a:cubicBezTo>
                  <a:pt x="3175" y="13312"/>
                  <a:pt x="3175" y="13303"/>
                  <a:pt x="3175" y="13295"/>
                </a:cubicBezTo>
                <a:cubicBezTo>
                  <a:pt x="3137" y="13308"/>
                  <a:pt x="3150" y="13325"/>
                  <a:pt x="3150" y="13370"/>
                </a:cubicBezTo>
                <a:cubicBezTo>
                  <a:pt x="3150" y="13414"/>
                  <a:pt x="3147" y="13428"/>
                  <a:pt x="3175" y="13444"/>
                </a:cubicBezTo>
              </a:path>
              <a:path w="572" h="1241">
                <a:moveTo>
                  <a:pt x="3274" y="13345"/>
                </a:moveTo>
                <a:cubicBezTo>
                  <a:pt x="3293" y="13288"/>
                  <a:pt x="3284" y="13263"/>
                  <a:pt x="3324" y="13271"/>
                </a:cubicBezTo>
                <a:cubicBezTo>
                  <a:pt x="3356" y="13313"/>
                  <a:pt x="3347" y="13349"/>
                  <a:pt x="3373" y="13395"/>
                </a:cubicBezTo>
              </a:path>
              <a:path w="572" h="1241">
                <a:moveTo>
                  <a:pt x="3101" y="13593"/>
                </a:moveTo>
                <a:cubicBezTo>
                  <a:pt x="3148" y="13609"/>
                  <a:pt x="3119" y="13638"/>
                  <a:pt x="3076" y="13643"/>
                </a:cubicBezTo>
                <a:cubicBezTo>
                  <a:pt x="3023" y="13649"/>
                  <a:pt x="3026" y="13687"/>
                  <a:pt x="2977" y="13643"/>
                </a:cubicBezTo>
                <a:cubicBezTo>
                  <a:pt x="2938" y="13609"/>
                  <a:pt x="2894" y="13569"/>
                  <a:pt x="2877" y="13519"/>
                </a:cubicBezTo>
                <a:cubicBezTo>
                  <a:pt x="2855" y="13453"/>
                  <a:pt x="2876" y="13329"/>
                  <a:pt x="2902" y="13271"/>
                </a:cubicBezTo>
                <a:cubicBezTo>
                  <a:pt x="2947" y="13171"/>
                  <a:pt x="2970" y="13139"/>
                  <a:pt x="3051" y="13072"/>
                </a:cubicBezTo>
                <a:cubicBezTo>
                  <a:pt x="3112" y="13021"/>
                  <a:pt x="3166" y="13001"/>
                  <a:pt x="3249" y="12998"/>
                </a:cubicBezTo>
                <a:cubicBezTo>
                  <a:pt x="3356" y="12993"/>
                  <a:pt x="3385" y="13026"/>
                  <a:pt x="3423" y="13122"/>
                </a:cubicBezTo>
                <a:cubicBezTo>
                  <a:pt x="3464" y="13225"/>
                  <a:pt x="3459" y="13340"/>
                  <a:pt x="3423" y="13444"/>
                </a:cubicBezTo>
                <a:cubicBezTo>
                  <a:pt x="3395" y="13523"/>
                  <a:pt x="3342" y="13577"/>
                  <a:pt x="3274" y="13618"/>
                </a:cubicBezTo>
                <a:cubicBezTo>
                  <a:pt x="3258" y="13626"/>
                  <a:pt x="3241" y="13635"/>
                  <a:pt x="3225" y="13643"/>
                </a:cubicBezTo>
              </a:path>
              <a:path w="572" h="1241">
                <a:moveTo>
                  <a:pt x="3175" y="12799"/>
                </a:moveTo>
                <a:cubicBezTo>
                  <a:pt x="3194" y="12855"/>
                  <a:pt x="3194" y="12810"/>
                  <a:pt x="3175" y="12849"/>
                </a:cubicBezTo>
                <a:cubicBezTo>
                  <a:pt x="3149" y="12902"/>
                  <a:pt x="3144" y="12898"/>
                  <a:pt x="3076" y="12898"/>
                </a:cubicBezTo>
                <a:cubicBezTo>
                  <a:pt x="3028" y="12898"/>
                  <a:pt x="2983" y="12893"/>
                  <a:pt x="2952" y="12849"/>
                </a:cubicBezTo>
                <a:cubicBezTo>
                  <a:pt x="2919" y="12803"/>
                  <a:pt x="2905" y="12729"/>
                  <a:pt x="2902" y="12675"/>
                </a:cubicBezTo>
                <a:cubicBezTo>
                  <a:pt x="2898" y="12605"/>
                  <a:pt x="2954" y="12552"/>
                  <a:pt x="3001" y="12502"/>
                </a:cubicBezTo>
                <a:cubicBezTo>
                  <a:pt x="3057" y="12442"/>
                  <a:pt x="3115" y="12408"/>
                  <a:pt x="3200" y="12427"/>
                </a:cubicBezTo>
                <a:cubicBezTo>
                  <a:pt x="3303" y="12450"/>
                  <a:pt x="3354" y="12526"/>
                  <a:pt x="3373" y="12626"/>
                </a:cubicBezTo>
                <a:cubicBezTo>
                  <a:pt x="3390" y="12715"/>
                  <a:pt x="3330" y="12790"/>
                  <a:pt x="3274" y="12849"/>
                </a:cubicBezTo>
                <a:cubicBezTo>
                  <a:pt x="3258" y="12865"/>
                  <a:pt x="3241" y="12882"/>
                  <a:pt x="3225" y="12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24040" y="4483080"/>
            <a:ext cx="222120" cy="231840"/>
          </a:xfrm>
          <a:custGeom>
            <a:avLst/>
            <a:gdLst/>
            <a:ahLst/>
            <a:rect l="l" t="t" r="r" b="b"/>
            <a:pathLst>
              <a:path w="621" h="646">
                <a:moveTo>
                  <a:pt x="4911" y="12551"/>
                </a:moveTo>
                <a:cubicBezTo>
                  <a:pt x="4940" y="12513"/>
                  <a:pt x="4936" y="12500"/>
                  <a:pt x="4936" y="12452"/>
                </a:cubicBezTo>
                <a:cubicBezTo>
                  <a:pt x="4875" y="12467"/>
                  <a:pt x="4843" y="12520"/>
                  <a:pt x="4812" y="12576"/>
                </a:cubicBezTo>
                <a:cubicBezTo>
                  <a:pt x="4791" y="12614"/>
                  <a:pt x="4750" y="12751"/>
                  <a:pt x="4812" y="12774"/>
                </a:cubicBezTo>
                <a:cubicBezTo>
                  <a:pt x="4880" y="12800"/>
                  <a:pt x="4925" y="12700"/>
                  <a:pt x="4936" y="12650"/>
                </a:cubicBezTo>
                <a:cubicBezTo>
                  <a:pt x="4936" y="12609"/>
                  <a:pt x="4928" y="12593"/>
                  <a:pt x="4961" y="12601"/>
                </a:cubicBezTo>
                <a:cubicBezTo>
                  <a:pt x="5022" y="12616"/>
                  <a:pt x="5032" y="12669"/>
                  <a:pt x="5060" y="12725"/>
                </a:cubicBezTo>
                <a:cubicBezTo>
                  <a:pt x="5080" y="12765"/>
                  <a:pt x="5089" y="12771"/>
                  <a:pt x="5085" y="12799"/>
                </a:cubicBezTo>
              </a:path>
              <a:path w="621" h="646">
                <a:moveTo>
                  <a:pt x="5159" y="12675"/>
                </a:moveTo>
                <a:cubicBezTo>
                  <a:pt x="5179" y="12615"/>
                  <a:pt x="5178" y="12600"/>
                  <a:pt x="5209" y="12576"/>
                </a:cubicBezTo>
                <a:cubicBezTo>
                  <a:pt x="5224" y="12648"/>
                  <a:pt x="5252" y="12722"/>
                  <a:pt x="5259" y="12799"/>
                </a:cubicBezTo>
                <a:cubicBezTo>
                  <a:pt x="5268" y="12904"/>
                  <a:pt x="5275" y="12999"/>
                  <a:pt x="5308" y="13097"/>
                </a:cubicBezTo>
              </a:path>
              <a:path w="621" h="646">
                <a:moveTo>
                  <a:pt x="5283" y="12700"/>
                </a:moveTo>
                <a:cubicBezTo>
                  <a:pt x="5249" y="12618"/>
                  <a:pt x="5263" y="12632"/>
                  <a:pt x="5283" y="12551"/>
                </a:cubicBezTo>
                <a:cubicBezTo>
                  <a:pt x="5291" y="12517"/>
                  <a:pt x="5303" y="12446"/>
                  <a:pt x="5358" y="12477"/>
                </a:cubicBezTo>
                <a:cubicBezTo>
                  <a:pt x="5414" y="12508"/>
                  <a:pt x="5423" y="12622"/>
                  <a:pt x="5407" y="12675"/>
                </a:cubicBezTo>
                <a:cubicBezTo>
                  <a:pt x="5387" y="12742"/>
                  <a:pt x="5345" y="12750"/>
                  <a:pt x="5283" y="12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08160" y="4340160"/>
            <a:ext cx="741240" cy="214200"/>
          </a:xfrm>
          <a:custGeom>
            <a:avLst/>
            <a:gdLst/>
            <a:ahLst/>
            <a:rect l="l" t="t" r="r" b="b"/>
            <a:pathLst>
              <a:path w="2060" h="596">
                <a:moveTo>
                  <a:pt x="6003" y="12502"/>
                </a:moveTo>
                <a:cubicBezTo>
                  <a:pt x="6052" y="12480"/>
                  <a:pt x="6054" y="12477"/>
                  <a:pt x="6102" y="12477"/>
                </a:cubicBezTo>
                <a:cubicBezTo>
                  <a:pt x="6062" y="12501"/>
                  <a:pt x="6003" y="12514"/>
                  <a:pt x="5953" y="12526"/>
                </a:cubicBezTo>
                <a:cubicBezTo>
                  <a:pt x="5923" y="12533"/>
                  <a:pt x="5885" y="12526"/>
                  <a:pt x="5854" y="12526"/>
                </a:cubicBezTo>
              </a:path>
              <a:path w="2060" h="596">
                <a:moveTo>
                  <a:pt x="5928" y="12402"/>
                </a:moveTo>
                <a:cubicBezTo>
                  <a:pt x="5928" y="12346"/>
                  <a:pt x="5952" y="12502"/>
                  <a:pt x="5953" y="12526"/>
                </a:cubicBezTo>
                <a:cubicBezTo>
                  <a:pt x="5953" y="12543"/>
                  <a:pt x="5953" y="12559"/>
                  <a:pt x="5953" y="12576"/>
                </a:cubicBezTo>
              </a:path>
              <a:path w="2060" h="596">
                <a:moveTo>
                  <a:pt x="6449" y="12303"/>
                </a:moveTo>
                <a:cubicBezTo>
                  <a:pt x="6449" y="12225"/>
                  <a:pt x="6436" y="12143"/>
                  <a:pt x="6474" y="12080"/>
                </a:cubicBezTo>
                <a:cubicBezTo>
                  <a:pt x="6474" y="12006"/>
                  <a:pt x="6474" y="12204"/>
                  <a:pt x="6474" y="12204"/>
                </a:cubicBezTo>
                <a:cubicBezTo>
                  <a:pt x="6490" y="12317"/>
                  <a:pt x="6499" y="12412"/>
                  <a:pt x="6499" y="12526"/>
                </a:cubicBezTo>
                <a:cubicBezTo>
                  <a:pt x="6499" y="12534"/>
                  <a:pt x="6499" y="12543"/>
                  <a:pt x="6499" y="12551"/>
                </a:cubicBezTo>
                <a:cubicBezTo>
                  <a:pt x="6532" y="12507"/>
                  <a:pt x="6533" y="12474"/>
                  <a:pt x="6598" y="12452"/>
                </a:cubicBezTo>
                <a:cubicBezTo>
                  <a:pt x="6662" y="12431"/>
                  <a:pt x="6691" y="12473"/>
                  <a:pt x="6697" y="12526"/>
                </a:cubicBezTo>
                <a:cubicBezTo>
                  <a:pt x="6705" y="12594"/>
                  <a:pt x="6693" y="12627"/>
                  <a:pt x="6623" y="12650"/>
                </a:cubicBezTo>
                <a:cubicBezTo>
                  <a:pt x="6582" y="12663"/>
                  <a:pt x="6551" y="12623"/>
                  <a:pt x="6524" y="12601"/>
                </a:cubicBezTo>
              </a:path>
              <a:path w="2060" h="596">
                <a:moveTo>
                  <a:pt x="6896" y="12551"/>
                </a:moveTo>
                <a:cubicBezTo>
                  <a:pt x="6904" y="12559"/>
                  <a:pt x="6913" y="12568"/>
                  <a:pt x="6921" y="12576"/>
                </a:cubicBezTo>
                <a:cubicBezTo>
                  <a:pt x="6921" y="12482"/>
                  <a:pt x="6902" y="12433"/>
                  <a:pt x="6970" y="12378"/>
                </a:cubicBezTo>
                <a:cubicBezTo>
                  <a:pt x="7016" y="12341"/>
                  <a:pt x="7061" y="12353"/>
                  <a:pt x="7119" y="12353"/>
                </a:cubicBezTo>
              </a:path>
              <a:path w="2060" h="596">
                <a:moveTo>
                  <a:pt x="7466" y="12328"/>
                </a:moveTo>
                <a:cubicBezTo>
                  <a:pt x="7508" y="12328"/>
                  <a:pt x="7516" y="12328"/>
                  <a:pt x="7541" y="12328"/>
                </a:cubicBezTo>
                <a:cubicBezTo>
                  <a:pt x="7491" y="12298"/>
                  <a:pt x="7454" y="12303"/>
                  <a:pt x="7392" y="12303"/>
                </a:cubicBezTo>
                <a:cubicBezTo>
                  <a:pt x="7367" y="12303"/>
                  <a:pt x="7359" y="12303"/>
                  <a:pt x="7342" y="12303"/>
                </a:cubicBezTo>
              </a:path>
              <a:path w="2060" h="596">
                <a:moveTo>
                  <a:pt x="7541" y="12452"/>
                </a:moveTo>
                <a:cubicBezTo>
                  <a:pt x="7565" y="12452"/>
                  <a:pt x="7574" y="12452"/>
                  <a:pt x="7590" y="12452"/>
                </a:cubicBezTo>
                <a:cubicBezTo>
                  <a:pt x="7551" y="12442"/>
                  <a:pt x="7515" y="12411"/>
                  <a:pt x="7466" y="12427"/>
                </a:cubicBezTo>
                <a:cubicBezTo>
                  <a:pt x="7426" y="12447"/>
                  <a:pt x="7420" y="12456"/>
                  <a:pt x="7392" y="12452"/>
                </a:cubicBezTo>
              </a:path>
              <a:path w="2060" h="596">
                <a:moveTo>
                  <a:pt x="7838" y="12204"/>
                </a:moveTo>
                <a:cubicBezTo>
                  <a:pt x="7838" y="12179"/>
                  <a:pt x="7838" y="12154"/>
                  <a:pt x="7838" y="12129"/>
                </a:cubicBezTo>
                <a:cubicBezTo>
                  <a:pt x="7915" y="12168"/>
                  <a:pt x="7873" y="12224"/>
                  <a:pt x="7888" y="12303"/>
                </a:cubicBezTo>
                <a:cubicBezTo>
                  <a:pt x="7902" y="12375"/>
                  <a:pt x="7913" y="12427"/>
                  <a:pt x="7913" y="125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16160" y="4303800"/>
            <a:ext cx="563760" cy="144360"/>
          </a:xfrm>
          <a:custGeom>
            <a:avLst/>
            <a:gdLst/>
            <a:ahLst/>
            <a:rect l="l" t="t" r="r" b="b"/>
            <a:pathLst>
              <a:path w="1564" h="398">
                <a:moveTo>
                  <a:pt x="8682" y="12353"/>
                </a:moveTo>
                <a:cubicBezTo>
                  <a:pt x="8700" y="12317"/>
                  <a:pt x="8701" y="12330"/>
                  <a:pt x="8731" y="12303"/>
                </a:cubicBezTo>
                <a:cubicBezTo>
                  <a:pt x="8757" y="12279"/>
                  <a:pt x="8785" y="12287"/>
                  <a:pt x="8830" y="12254"/>
                </a:cubicBezTo>
                <a:cubicBezTo>
                  <a:pt x="8866" y="12227"/>
                  <a:pt x="8955" y="12190"/>
                  <a:pt x="9004" y="12179"/>
                </a:cubicBezTo>
                <a:cubicBezTo>
                  <a:pt x="9067" y="12165"/>
                  <a:pt x="9141" y="12171"/>
                  <a:pt x="9203" y="12154"/>
                </a:cubicBezTo>
                <a:cubicBezTo>
                  <a:pt x="9269" y="12136"/>
                  <a:pt x="9336" y="12146"/>
                  <a:pt x="9401" y="12129"/>
                </a:cubicBezTo>
                <a:cubicBezTo>
                  <a:pt x="9489" y="12106"/>
                  <a:pt x="9584" y="12085"/>
                  <a:pt x="9674" y="12080"/>
                </a:cubicBezTo>
                <a:cubicBezTo>
                  <a:pt x="9794" y="12073"/>
                  <a:pt x="9914" y="12076"/>
                  <a:pt x="10021" y="12055"/>
                </a:cubicBezTo>
                <a:cubicBezTo>
                  <a:pt x="10075" y="12044"/>
                  <a:pt x="10155" y="12048"/>
                  <a:pt x="10195" y="12080"/>
                </a:cubicBezTo>
                <a:cubicBezTo>
                  <a:pt x="10216" y="12097"/>
                  <a:pt x="10231" y="12106"/>
                  <a:pt x="10220" y="12154"/>
                </a:cubicBezTo>
                <a:cubicBezTo>
                  <a:pt x="10212" y="12188"/>
                  <a:pt x="10161" y="12276"/>
                  <a:pt x="10145" y="12303"/>
                </a:cubicBezTo>
                <a:cubicBezTo>
                  <a:pt x="10129" y="12330"/>
                  <a:pt x="10095" y="12333"/>
                  <a:pt x="10071" y="12353"/>
                </a:cubicBezTo>
                <a:cubicBezTo>
                  <a:pt x="10078" y="12294"/>
                  <a:pt x="10098" y="12261"/>
                  <a:pt x="10120" y="12204"/>
                </a:cubicBezTo>
                <a:cubicBezTo>
                  <a:pt x="10135" y="12164"/>
                  <a:pt x="10188" y="12121"/>
                  <a:pt x="10195" y="12105"/>
                </a:cubicBezTo>
                <a:cubicBezTo>
                  <a:pt x="10213" y="12066"/>
                  <a:pt x="10174" y="12024"/>
                  <a:pt x="10145" y="12005"/>
                </a:cubicBezTo>
                <a:cubicBezTo>
                  <a:pt x="10093" y="11972"/>
                  <a:pt x="10053" y="11963"/>
                  <a:pt x="9996" y="119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62240" y="4268880"/>
            <a:ext cx="385920" cy="268200"/>
          </a:xfrm>
          <a:custGeom>
            <a:avLst/>
            <a:gdLst/>
            <a:ahLst/>
            <a:rect l="l" t="t" r="r" b="b"/>
            <a:pathLst>
              <a:path w="1068" h="745">
                <a:moveTo>
                  <a:pt x="11286" y="12254"/>
                </a:moveTo>
                <a:cubicBezTo>
                  <a:pt x="11330" y="12225"/>
                  <a:pt x="11355" y="12210"/>
                  <a:pt x="11361" y="12154"/>
                </a:cubicBezTo>
                <a:cubicBezTo>
                  <a:pt x="11361" y="12129"/>
                  <a:pt x="11361" y="12121"/>
                  <a:pt x="11361" y="12105"/>
                </a:cubicBezTo>
                <a:cubicBezTo>
                  <a:pt x="11310" y="12154"/>
                  <a:pt x="11292" y="12182"/>
                  <a:pt x="11286" y="12254"/>
                </a:cubicBezTo>
                <a:cubicBezTo>
                  <a:pt x="11282" y="12302"/>
                  <a:pt x="11282" y="12309"/>
                  <a:pt x="11311" y="12328"/>
                </a:cubicBezTo>
                <a:cubicBezTo>
                  <a:pt x="11356" y="12305"/>
                  <a:pt x="11359" y="12267"/>
                  <a:pt x="11385" y="12229"/>
                </a:cubicBezTo>
                <a:cubicBezTo>
                  <a:pt x="11393" y="12221"/>
                  <a:pt x="11402" y="12212"/>
                  <a:pt x="11410" y="12204"/>
                </a:cubicBezTo>
                <a:cubicBezTo>
                  <a:pt x="11443" y="12237"/>
                  <a:pt x="11476" y="12270"/>
                  <a:pt x="11509" y="12303"/>
                </a:cubicBezTo>
              </a:path>
              <a:path w="1068" h="745">
                <a:moveTo>
                  <a:pt x="11757" y="12154"/>
                </a:moveTo>
                <a:cubicBezTo>
                  <a:pt x="11765" y="12138"/>
                  <a:pt x="11774" y="12121"/>
                  <a:pt x="11782" y="12105"/>
                </a:cubicBezTo>
                <a:cubicBezTo>
                  <a:pt x="11732" y="12105"/>
                  <a:pt x="11733" y="12110"/>
                  <a:pt x="11708" y="12154"/>
                </a:cubicBezTo>
                <a:cubicBezTo>
                  <a:pt x="11674" y="12214"/>
                  <a:pt x="11677" y="12227"/>
                  <a:pt x="11708" y="12278"/>
                </a:cubicBezTo>
                <a:cubicBezTo>
                  <a:pt x="11790" y="12278"/>
                  <a:pt x="11779" y="12230"/>
                  <a:pt x="11782" y="12154"/>
                </a:cubicBezTo>
                <a:cubicBezTo>
                  <a:pt x="11786" y="12054"/>
                  <a:pt x="11778" y="11972"/>
                  <a:pt x="11757" y="11881"/>
                </a:cubicBezTo>
                <a:cubicBezTo>
                  <a:pt x="11757" y="11873"/>
                  <a:pt x="11757" y="11865"/>
                  <a:pt x="11757" y="11857"/>
                </a:cubicBezTo>
                <a:cubicBezTo>
                  <a:pt x="11800" y="11909"/>
                  <a:pt x="11827" y="11969"/>
                  <a:pt x="11857" y="12030"/>
                </a:cubicBezTo>
                <a:cubicBezTo>
                  <a:pt x="11883" y="12082"/>
                  <a:pt x="11935" y="12131"/>
                  <a:pt x="11956" y="12179"/>
                </a:cubicBezTo>
                <a:cubicBezTo>
                  <a:pt x="11956" y="12187"/>
                  <a:pt x="11956" y="12196"/>
                  <a:pt x="11956" y="12204"/>
                </a:cubicBezTo>
              </a:path>
              <a:path w="1068" h="745">
                <a:moveTo>
                  <a:pt x="12105" y="12154"/>
                </a:moveTo>
                <a:cubicBezTo>
                  <a:pt x="12105" y="12113"/>
                  <a:pt x="12105" y="12105"/>
                  <a:pt x="12105" y="12080"/>
                </a:cubicBezTo>
                <a:cubicBezTo>
                  <a:pt x="12138" y="12137"/>
                  <a:pt x="12133" y="12209"/>
                  <a:pt x="12154" y="12278"/>
                </a:cubicBezTo>
                <a:cubicBezTo>
                  <a:pt x="12183" y="12372"/>
                  <a:pt x="12200" y="12458"/>
                  <a:pt x="12229" y="12551"/>
                </a:cubicBezTo>
                <a:cubicBezTo>
                  <a:pt x="12229" y="12576"/>
                  <a:pt x="12229" y="12584"/>
                  <a:pt x="12229" y="12601"/>
                </a:cubicBezTo>
              </a:path>
              <a:path w="1068" h="745">
                <a:moveTo>
                  <a:pt x="12204" y="12353"/>
                </a:moveTo>
                <a:cubicBezTo>
                  <a:pt x="12179" y="12285"/>
                  <a:pt x="12133" y="12205"/>
                  <a:pt x="12154" y="12129"/>
                </a:cubicBezTo>
                <a:cubicBezTo>
                  <a:pt x="12167" y="12084"/>
                  <a:pt x="12208" y="12033"/>
                  <a:pt x="12254" y="12030"/>
                </a:cubicBezTo>
                <a:cubicBezTo>
                  <a:pt x="12322" y="12025"/>
                  <a:pt x="12349" y="12091"/>
                  <a:pt x="12353" y="12154"/>
                </a:cubicBezTo>
                <a:cubicBezTo>
                  <a:pt x="12358" y="12228"/>
                  <a:pt x="12319" y="12241"/>
                  <a:pt x="12254" y="122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06920" y="4187880"/>
            <a:ext cx="984240" cy="223920"/>
          </a:xfrm>
          <a:custGeom>
            <a:avLst/>
            <a:gdLst/>
            <a:ahLst/>
            <a:rect l="l" t="t" r="r" b="b"/>
            <a:pathLst>
              <a:path w="2730" h="622">
                <a:moveTo>
                  <a:pt x="13097" y="12129"/>
                </a:moveTo>
                <a:cubicBezTo>
                  <a:pt x="13105" y="12129"/>
                  <a:pt x="13114" y="12129"/>
                  <a:pt x="13122" y="12129"/>
                </a:cubicBezTo>
                <a:cubicBezTo>
                  <a:pt x="13064" y="12129"/>
                  <a:pt x="13019" y="12145"/>
                  <a:pt x="12973" y="12154"/>
                </a:cubicBezTo>
                <a:cubicBezTo>
                  <a:pt x="12921" y="12164"/>
                  <a:pt x="12853" y="12154"/>
                  <a:pt x="12799" y="12154"/>
                </a:cubicBezTo>
              </a:path>
              <a:path w="2730" h="622">
                <a:moveTo>
                  <a:pt x="12948" y="12030"/>
                </a:moveTo>
                <a:cubicBezTo>
                  <a:pt x="12956" y="12022"/>
                  <a:pt x="12965" y="12013"/>
                  <a:pt x="12973" y="12005"/>
                </a:cubicBezTo>
                <a:cubicBezTo>
                  <a:pt x="13003" y="12074"/>
                  <a:pt x="12998" y="12127"/>
                  <a:pt x="12998" y="12204"/>
                </a:cubicBezTo>
                <a:cubicBezTo>
                  <a:pt x="12998" y="12221"/>
                  <a:pt x="12998" y="12237"/>
                  <a:pt x="12998" y="12254"/>
                </a:cubicBezTo>
              </a:path>
              <a:path w="2730" h="622">
                <a:moveTo>
                  <a:pt x="13469" y="11757"/>
                </a:moveTo>
                <a:cubicBezTo>
                  <a:pt x="13469" y="11706"/>
                  <a:pt x="13454" y="11671"/>
                  <a:pt x="13494" y="11658"/>
                </a:cubicBezTo>
                <a:cubicBezTo>
                  <a:pt x="13494" y="11584"/>
                  <a:pt x="13494" y="11780"/>
                  <a:pt x="13494" y="11782"/>
                </a:cubicBezTo>
                <a:cubicBezTo>
                  <a:pt x="13494" y="11877"/>
                  <a:pt x="13519" y="11959"/>
                  <a:pt x="13519" y="12055"/>
                </a:cubicBezTo>
                <a:cubicBezTo>
                  <a:pt x="13519" y="12096"/>
                  <a:pt x="13519" y="12104"/>
                  <a:pt x="13519" y="12129"/>
                </a:cubicBezTo>
                <a:cubicBezTo>
                  <a:pt x="13519" y="12170"/>
                  <a:pt x="13519" y="12096"/>
                  <a:pt x="13519" y="12055"/>
                </a:cubicBezTo>
                <a:cubicBezTo>
                  <a:pt x="13519" y="11995"/>
                  <a:pt x="13553" y="11925"/>
                  <a:pt x="13618" y="11906"/>
                </a:cubicBezTo>
                <a:cubicBezTo>
                  <a:pt x="13686" y="11886"/>
                  <a:pt x="13747" y="11947"/>
                  <a:pt x="13767" y="12005"/>
                </a:cubicBezTo>
                <a:cubicBezTo>
                  <a:pt x="13788" y="12066"/>
                  <a:pt x="13753" y="12115"/>
                  <a:pt x="13692" y="12129"/>
                </a:cubicBezTo>
                <a:cubicBezTo>
                  <a:pt x="13630" y="12143"/>
                  <a:pt x="13588" y="12116"/>
                  <a:pt x="13543" y="12080"/>
                </a:cubicBezTo>
              </a:path>
              <a:path w="2730" h="622">
                <a:moveTo>
                  <a:pt x="14015" y="11981"/>
                </a:moveTo>
                <a:cubicBezTo>
                  <a:pt x="14023" y="11981"/>
                  <a:pt x="14031" y="11981"/>
                  <a:pt x="14039" y="11981"/>
                </a:cubicBezTo>
                <a:cubicBezTo>
                  <a:pt x="14031" y="11958"/>
                  <a:pt x="13981" y="11928"/>
                  <a:pt x="13965" y="11981"/>
                </a:cubicBezTo>
                <a:cubicBezTo>
                  <a:pt x="13948" y="12037"/>
                  <a:pt x="13964" y="12112"/>
                  <a:pt x="13990" y="12154"/>
                </a:cubicBezTo>
                <a:cubicBezTo>
                  <a:pt x="14071" y="12133"/>
                  <a:pt x="14050" y="12077"/>
                  <a:pt x="14064" y="12005"/>
                </a:cubicBezTo>
                <a:cubicBezTo>
                  <a:pt x="14083" y="11909"/>
                  <a:pt x="14089" y="11830"/>
                  <a:pt x="14089" y="11733"/>
                </a:cubicBezTo>
                <a:cubicBezTo>
                  <a:pt x="14089" y="11692"/>
                  <a:pt x="14089" y="11766"/>
                  <a:pt x="14089" y="11807"/>
                </a:cubicBezTo>
                <a:cubicBezTo>
                  <a:pt x="14089" y="11882"/>
                  <a:pt x="14102" y="11936"/>
                  <a:pt x="14114" y="12005"/>
                </a:cubicBezTo>
                <a:cubicBezTo>
                  <a:pt x="14118" y="12029"/>
                  <a:pt x="14131" y="12131"/>
                  <a:pt x="14188" y="12105"/>
                </a:cubicBezTo>
                <a:cubicBezTo>
                  <a:pt x="14222" y="12090"/>
                  <a:pt x="14230" y="12080"/>
                  <a:pt x="14238" y="12055"/>
                </a:cubicBezTo>
              </a:path>
              <a:path w="2730" h="622">
                <a:moveTo>
                  <a:pt x="14263" y="12105"/>
                </a:moveTo>
                <a:cubicBezTo>
                  <a:pt x="14263" y="12113"/>
                  <a:pt x="14263" y="12121"/>
                  <a:pt x="14263" y="12129"/>
                </a:cubicBezTo>
                <a:cubicBezTo>
                  <a:pt x="14263" y="12071"/>
                  <a:pt x="14239" y="11950"/>
                  <a:pt x="14288" y="11906"/>
                </a:cubicBezTo>
                <a:cubicBezTo>
                  <a:pt x="14305" y="11890"/>
                  <a:pt x="14416" y="11906"/>
                  <a:pt x="14436" y="11906"/>
                </a:cubicBezTo>
              </a:path>
              <a:path w="2730" h="622">
                <a:moveTo>
                  <a:pt x="14833" y="11956"/>
                </a:moveTo>
                <a:cubicBezTo>
                  <a:pt x="14841" y="11948"/>
                  <a:pt x="14850" y="11939"/>
                  <a:pt x="14858" y="11931"/>
                </a:cubicBezTo>
                <a:cubicBezTo>
                  <a:pt x="14817" y="11931"/>
                  <a:pt x="14775" y="11931"/>
                  <a:pt x="14734" y="11931"/>
                </a:cubicBezTo>
              </a:path>
              <a:path w="2730" h="622">
                <a:moveTo>
                  <a:pt x="14883" y="12030"/>
                </a:moveTo>
                <a:cubicBezTo>
                  <a:pt x="14951" y="12030"/>
                  <a:pt x="14853" y="12055"/>
                  <a:pt x="14833" y="12055"/>
                </a:cubicBezTo>
              </a:path>
              <a:path w="2730" h="622">
                <a:moveTo>
                  <a:pt x="15304" y="11981"/>
                </a:moveTo>
                <a:cubicBezTo>
                  <a:pt x="15304" y="11956"/>
                  <a:pt x="15304" y="11948"/>
                  <a:pt x="15304" y="11931"/>
                </a:cubicBezTo>
                <a:cubicBezTo>
                  <a:pt x="15265" y="11941"/>
                  <a:pt x="15233" y="11960"/>
                  <a:pt x="15230" y="12005"/>
                </a:cubicBezTo>
                <a:cubicBezTo>
                  <a:pt x="15224" y="12093"/>
                  <a:pt x="15219" y="12117"/>
                  <a:pt x="15304" y="12129"/>
                </a:cubicBezTo>
                <a:cubicBezTo>
                  <a:pt x="15344" y="12103"/>
                  <a:pt x="15352" y="12021"/>
                  <a:pt x="15354" y="11956"/>
                </a:cubicBezTo>
                <a:cubicBezTo>
                  <a:pt x="15357" y="11852"/>
                  <a:pt x="15379" y="11762"/>
                  <a:pt x="15379" y="11658"/>
                </a:cubicBezTo>
                <a:cubicBezTo>
                  <a:pt x="15379" y="11650"/>
                  <a:pt x="15379" y="11641"/>
                  <a:pt x="15379" y="11633"/>
                </a:cubicBezTo>
                <a:cubicBezTo>
                  <a:pt x="15379" y="11722"/>
                  <a:pt x="15378" y="11795"/>
                  <a:pt x="15404" y="11881"/>
                </a:cubicBezTo>
                <a:cubicBezTo>
                  <a:pt x="15433" y="11979"/>
                  <a:pt x="15457" y="12034"/>
                  <a:pt x="15528" y="121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71720" y="5089680"/>
            <a:ext cx="142560" cy="80640"/>
          </a:xfrm>
          <a:custGeom>
            <a:avLst/>
            <a:gdLst/>
            <a:ahLst/>
            <a:rect l="l" t="t" r="r" b="b"/>
            <a:pathLst>
              <a:path w="397" h="224">
                <a:moveTo>
                  <a:pt x="2977" y="14163"/>
                </a:moveTo>
                <a:cubicBezTo>
                  <a:pt x="2977" y="14155"/>
                  <a:pt x="2977" y="14147"/>
                  <a:pt x="2977" y="14139"/>
                </a:cubicBezTo>
                <a:cubicBezTo>
                  <a:pt x="3024" y="14155"/>
                  <a:pt x="2985" y="14169"/>
                  <a:pt x="3001" y="14213"/>
                </a:cubicBezTo>
                <a:cubicBezTo>
                  <a:pt x="3021" y="14268"/>
                  <a:pt x="3018" y="14318"/>
                  <a:pt x="3051" y="14362"/>
                </a:cubicBezTo>
              </a:path>
              <a:path w="397" h="224">
                <a:moveTo>
                  <a:pt x="3125" y="14188"/>
                </a:moveTo>
                <a:cubicBezTo>
                  <a:pt x="3125" y="14180"/>
                  <a:pt x="3125" y="14171"/>
                  <a:pt x="3125" y="14163"/>
                </a:cubicBezTo>
                <a:cubicBezTo>
                  <a:pt x="3175" y="14176"/>
                  <a:pt x="3186" y="14217"/>
                  <a:pt x="3200" y="14263"/>
                </a:cubicBezTo>
                <a:cubicBezTo>
                  <a:pt x="3200" y="14288"/>
                  <a:pt x="3200" y="14296"/>
                  <a:pt x="3200" y="14312"/>
                </a:cubicBezTo>
              </a:path>
              <a:path w="397" h="224">
                <a:moveTo>
                  <a:pt x="3249" y="14163"/>
                </a:moveTo>
                <a:cubicBezTo>
                  <a:pt x="3282" y="14139"/>
                  <a:pt x="3332" y="14128"/>
                  <a:pt x="3349" y="14188"/>
                </a:cubicBezTo>
                <a:cubicBezTo>
                  <a:pt x="3364" y="14241"/>
                  <a:pt x="3353" y="14282"/>
                  <a:pt x="3373" y="143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24040" y="4616280"/>
            <a:ext cx="1892160" cy="393840"/>
          </a:xfrm>
          <a:custGeom>
            <a:avLst/>
            <a:gdLst/>
            <a:ahLst/>
            <a:rect l="l" t="t" r="r" b="b"/>
            <a:pathLst>
              <a:path w="5260" h="1092">
                <a:moveTo>
                  <a:pt x="4911" y="13419"/>
                </a:moveTo>
                <a:cubicBezTo>
                  <a:pt x="4911" y="13375"/>
                  <a:pt x="4926" y="13359"/>
                  <a:pt x="4936" y="13320"/>
                </a:cubicBezTo>
                <a:cubicBezTo>
                  <a:pt x="4879" y="13334"/>
                  <a:pt x="4843" y="13366"/>
                  <a:pt x="4812" y="13419"/>
                </a:cubicBezTo>
                <a:cubicBezTo>
                  <a:pt x="4785" y="13464"/>
                  <a:pt x="4767" y="13504"/>
                  <a:pt x="4812" y="13519"/>
                </a:cubicBezTo>
                <a:cubicBezTo>
                  <a:pt x="4846" y="13496"/>
                  <a:pt x="4840" y="13432"/>
                  <a:pt x="4887" y="13395"/>
                </a:cubicBezTo>
                <a:cubicBezTo>
                  <a:pt x="4930" y="13361"/>
                  <a:pt x="4987" y="13445"/>
                  <a:pt x="5011" y="13469"/>
                </a:cubicBezTo>
                <a:cubicBezTo>
                  <a:pt x="5035" y="13494"/>
                  <a:pt x="5043" y="13503"/>
                  <a:pt x="5060" y="13519"/>
                </a:cubicBezTo>
              </a:path>
              <a:path w="5260" h="1092">
                <a:moveTo>
                  <a:pt x="5333" y="13345"/>
                </a:moveTo>
                <a:cubicBezTo>
                  <a:pt x="5355" y="13295"/>
                  <a:pt x="5358" y="13294"/>
                  <a:pt x="5358" y="13246"/>
                </a:cubicBezTo>
                <a:cubicBezTo>
                  <a:pt x="5310" y="13246"/>
                  <a:pt x="5272" y="13269"/>
                  <a:pt x="5259" y="13320"/>
                </a:cubicBezTo>
                <a:cubicBezTo>
                  <a:pt x="5250" y="13356"/>
                  <a:pt x="5259" y="13407"/>
                  <a:pt x="5259" y="13444"/>
                </a:cubicBezTo>
                <a:cubicBezTo>
                  <a:pt x="5302" y="13433"/>
                  <a:pt x="5325" y="13403"/>
                  <a:pt x="5358" y="13370"/>
                </a:cubicBezTo>
                <a:cubicBezTo>
                  <a:pt x="5397" y="13435"/>
                  <a:pt x="5383" y="13513"/>
                  <a:pt x="5383" y="13593"/>
                </a:cubicBezTo>
                <a:cubicBezTo>
                  <a:pt x="5383" y="13641"/>
                  <a:pt x="5351" y="13813"/>
                  <a:pt x="5407" y="13841"/>
                </a:cubicBezTo>
                <a:cubicBezTo>
                  <a:pt x="5471" y="13873"/>
                  <a:pt x="5519" y="13804"/>
                  <a:pt x="5556" y="13767"/>
                </a:cubicBezTo>
                <a:cubicBezTo>
                  <a:pt x="5604" y="13719"/>
                  <a:pt x="5641" y="13717"/>
                  <a:pt x="5705" y="13717"/>
                </a:cubicBezTo>
              </a:path>
              <a:path w="5260" h="1092">
                <a:moveTo>
                  <a:pt x="6176" y="13271"/>
                </a:moveTo>
                <a:cubicBezTo>
                  <a:pt x="6184" y="13271"/>
                  <a:pt x="6193" y="13271"/>
                  <a:pt x="6201" y="13271"/>
                </a:cubicBezTo>
                <a:cubicBezTo>
                  <a:pt x="6160" y="13281"/>
                  <a:pt x="6115" y="13312"/>
                  <a:pt x="6077" y="13320"/>
                </a:cubicBezTo>
                <a:cubicBezTo>
                  <a:pt x="6041" y="13327"/>
                  <a:pt x="5991" y="13320"/>
                  <a:pt x="5953" y="13320"/>
                </a:cubicBezTo>
              </a:path>
              <a:path w="5260" h="1092">
                <a:moveTo>
                  <a:pt x="6052" y="13221"/>
                </a:moveTo>
                <a:cubicBezTo>
                  <a:pt x="6072" y="13180"/>
                  <a:pt x="6070" y="13164"/>
                  <a:pt x="6102" y="13171"/>
                </a:cubicBezTo>
                <a:cubicBezTo>
                  <a:pt x="6102" y="13254"/>
                  <a:pt x="6102" y="13336"/>
                  <a:pt x="6102" y="13419"/>
                </a:cubicBezTo>
              </a:path>
              <a:path w="5260" h="1092">
                <a:moveTo>
                  <a:pt x="6449" y="12948"/>
                </a:moveTo>
                <a:cubicBezTo>
                  <a:pt x="6449" y="12931"/>
                  <a:pt x="6449" y="12915"/>
                  <a:pt x="6449" y="12898"/>
                </a:cubicBezTo>
                <a:cubicBezTo>
                  <a:pt x="6449" y="13022"/>
                  <a:pt x="6449" y="13147"/>
                  <a:pt x="6449" y="13271"/>
                </a:cubicBezTo>
                <a:cubicBezTo>
                  <a:pt x="6476" y="13238"/>
                  <a:pt x="6497" y="13204"/>
                  <a:pt x="6524" y="13171"/>
                </a:cubicBezTo>
                <a:cubicBezTo>
                  <a:pt x="6588" y="13187"/>
                  <a:pt x="6593" y="13231"/>
                  <a:pt x="6598" y="13295"/>
                </a:cubicBezTo>
                <a:cubicBezTo>
                  <a:pt x="6603" y="13355"/>
                  <a:pt x="6543" y="13366"/>
                  <a:pt x="6499" y="13370"/>
                </a:cubicBezTo>
                <a:cubicBezTo>
                  <a:pt x="6474" y="13370"/>
                  <a:pt x="6466" y="13370"/>
                  <a:pt x="6449" y="13370"/>
                </a:cubicBezTo>
              </a:path>
              <a:path w="5260" h="1092">
                <a:moveTo>
                  <a:pt x="6772" y="13072"/>
                </a:moveTo>
                <a:cubicBezTo>
                  <a:pt x="6832" y="13020"/>
                  <a:pt x="6808" y="13022"/>
                  <a:pt x="6871" y="13022"/>
                </a:cubicBezTo>
                <a:cubicBezTo>
                  <a:pt x="6843" y="13050"/>
                  <a:pt x="6804" y="13076"/>
                  <a:pt x="6821" y="13122"/>
                </a:cubicBezTo>
                <a:cubicBezTo>
                  <a:pt x="6847" y="13193"/>
                  <a:pt x="6891" y="13205"/>
                  <a:pt x="6945" y="13246"/>
                </a:cubicBezTo>
                <a:cubicBezTo>
                  <a:pt x="6991" y="13281"/>
                  <a:pt x="6969" y="13315"/>
                  <a:pt x="6921" y="13320"/>
                </a:cubicBezTo>
                <a:cubicBezTo>
                  <a:pt x="6896" y="13320"/>
                  <a:pt x="6888" y="13320"/>
                  <a:pt x="6871" y="13320"/>
                </a:cubicBezTo>
              </a:path>
              <a:path w="5260" h="1092">
                <a:moveTo>
                  <a:pt x="7590" y="13022"/>
                </a:moveTo>
                <a:cubicBezTo>
                  <a:pt x="7647" y="13013"/>
                  <a:pt x="7666" y="13016"/>
                  <a:pt x="7615" y="13022"/>
                </a:cubicBezTo>
                <a:cubicBezTo>
                  <a:pt x="7576" y="13027"/>
                  <a:pt x="7547" y="13048"/>
                  <a:pt x="7516" y="13072"/>
                </a:cubicBezTo>
              </a:path>
              <a:path w="5260" h="1092">
                <a:moveTo>
                  <a:pt x="7640" y="13122"/>
                </a:moveTo>
                <a:cubicBezTo>
                  <a:pt x="7665" y="13122"/>
                  <a:pt x="7673" y="13122"/>
                  <a:pt x="7689" y="13122"/>
                </a:cubicBezTo>
                <a:cubicBezTo>
                  <a:pt x="7677" y="13157"/>
                  <a:pt x="7653" y="13155"/>
                  <a:pt x="7615" y="13171"/>
                </a:cubicBezTo>
                <a:cubicBezTo>
                  <a:pt x="7598" y="13179"/>
                  <a:pt x="7582" y="13188"/>
                  <a:pt x="7565" y="13196"/>
                </a:cubicBezTo>
              </a:path>
              <a:path w="5260" h="1092">
                <a:moveTo>
                  <a:pt x="7938" y="13097"/>
                </a:moveTo>
                <a:cubicBezTo>
                  <a:pt x="7938" y="13031"/>
                  <a:pt x="7923" y="12956"/>
                  <a:pt x="7962" y="12898"/>
                </a:cubicBezTo>
                <a:cubicBezTo>
                  <a:pt x="7995" y="12848"/>
                  <a:pt x="8015" y="12803"/>
                  <a:pt x="8086" y="12824"/>
                </a:cubicBezTo>
                <a:cubicBezTo>
                  <a:pt x="8191" y="12855"/>
                  <a:pt x="8183" y="12986"/>
                  <a:pt x="8186" y="13072"/>
                </a:cubicBezTo>
                <a:cubicBezTo>
                  <a:pt x="8188" y="13139"/>
                  <a:pt x="8158" y="13271"/>
                  <a:pt x="8062" y="13271"/>
                </a:cubicBezTo>
                <a:cubicBezTo>
                  <a:pt x="7956" y="13271"/>
                  <a:pt x="7945" y="13171"/>
                  <a:pt x="7938" y="13097"/>
                </a:cubicBezTo>
              </a:path>
              <a:path w="5260" h="1092">
                <a:moveTo>
                  <a:pt x="8706" y="13146"/>
                </a:moveTo>
                <a:cubicBezTo>
                  <a:pt x="8804" y="13146"/>
                  <a:pt x="8893" y="13138"/>
                  <a:pt x="8979" y="13122"/>
                </a:cubicBezTo>
                <a:cubicBezTo>
                  <a:pt x="9043" y="13110"/>
                  <a:pt x="9116" y="13107"/>
                  <a:pt x="9178" y="13097"/>
                </a:cubicBezTo>
                <a:cubicBezTo>
                  <a:pt x="9238" y="13087"/>
                  <a:pt x="9288" y="13075"/>
                  <a:pt x="9351" y="13072"/>
                </a:cubicBezTo>
                <a:cubicBezTo>
                  <a:pt x="9425" y="13068"/>
                  <a:pt x="9482" y="13059"/>
                  <a:pt x="9550" y="13047"/>
                </a:cubicBezTo>
                <a:cubicBezTo>
                  <a:pt x="9645" y="13031"/>
                  <a:pt x="9763" y="13035"/>
                  <a:pt x="9847" y="13022"/>
                </a:cubicBezTo>
                <a:cubicBezTo>
                  <a:pt x="9910" y="13013"/>
                  <a:pt x="9982" y="13022"/>
                  <a:pt x="10046" y="13022"/>
                </a:cubicBezTo>
                <a:cubicBezTo>
                  <a:pt x="10039" y="13073"/>
                  <a:pt x="10008" y="13080"/>
                  <a:pt x="9996" y="13122"/>
                </a:cubicBezTo>
                <a:cubicBezTo>
                  <a:pt x="9979" y="13181"/>
                  <a:pt x="9969" y="13219"/>
                  <a:pt x="9922" y="13271"/>
                </a:cubicBezTo>
                <a:cubicBezTo>
                  <a:pt x="9884" y="13313"/>
                  <a:pt x="9874" y="13313"/>
                  <a:pt x="9823" y="13320"/>
                </a:cubicBezTo>
                <a:cubicBezTo>
                  <a:pt x="9830" y="13268"/>
                  <a:pt x="9831" y="13262"/>
                  <a:pt x="9872" y="13221"/>
                </a:cubicBezTo>
                <a:cubicBezTo>
                  <a:pt x="9911" y="13182"/>
                  <a:pt x="10024" y="13103"/>
                  <a:pt x="10021" y="13047"/>
                </a:cubicBezTo>
                <a:cubicBezTo>
                  <a:pt x="10020" y="13022"/>
                  <a:pt x="9977" y="12954"/>
                  <a:pt x="9947" y="12948"/>
                </a:cubicBezTo>
                <a:cubicBezTo>
                  <a:pt x="9896" y="12937"/>
                  <a:pt x="9848" y="12937"/>
                  <a:pt x="9798" y="12923"/>
                </a:cubicBezTo>
              </a:path>
              <a:path w="5260" h="1092">
                <a:moveTo>
                  <a:pt x="8582" y="13915"/>
                </a:moveTo>
                <a:cubicBezTo>
                  <a:pt x="8632" y="13915"/>
                  <a:pt x="8668" y="13924"/>
                  <a:pt x="8706" y="13891"/>
                </a:cubicBezTo>
                <a:cubicBezTo>
                  <a:pt x="8742" y="13859"/>
                  <a:pt x="8786" y="13859"/>
                  <a:pt x="8830" y="13841"/>
                </a:cubicBezTo>
                <a:cubicBezTo>
                  <a:pt x="8910" y="13809"/>
                  <a:pt x="8972" y="13836"/>
                  <a:pt x="9054" y="13816"/>
                </a:cubicBezTo>
                <a:cubicBezTo>
                  <a:pt x="9116" y="13801"/>
                  <a:pt x="9193" y="13787"/>
                  <a:pt x="9252" y="13767"/>
                </a:cubicBezTo>
                <a:cubicBezTo>
                  <a:pt x="9327" y="13742"/>
                  <a:pt x="9401" y="13738"/>
                  <a:pt x="9475" y="13717"/>
                </a:cubicBezTo>
                <a:cubicBezTo>
                  <a:pt x="9547" y="13696"/>
                  <a:pt x="9595" y="13692"/>
                  <a:pt x="9674" y="13692"/>
                </a:cubicBezTo>
                <a:cubicBezTo>
                  <a:pt x="9732" y="13692"/>
                  <a:pt x="9760" y="13667"/>
                  <a:pt x="9823" y="13667"/>
                </a:cubicBezTo>
                <a:cubicBezTo>
                  <a:pt x="9848" y="13667"/>
                  <a:pt x="9872" y="13667"/>
                  <a:pt x="9897" y="13667"/>
                </a:cubicBezTo>
                <a:cubicBezTo>
                  <a:pt x="9897" y="13718"/>
                  <a:pt x="9906" y="13753"/>
                  <a:pt x="9872" y="13791"/>
                </a:cubicBezTo>
                <a:cubicBezTo>
                  <a:pt x="9833" y="13834"/>
                  <a:pt x="9790" y="13874"/>
                  <a:pt x="9748" y="13915"/>
                </a:cubicBezTo>
                <a:cubicBezTo>
                  <a:pt x="9790" y="13874"/>
                  <a:pt x="9813" y="13837"/>
                  <a:pt x="9847" y="13791"/>
                </a:cubicBezTo>
                <a:cubicBezTo>
                  <a:pt x="9873" y="13757"/>
                  <a:pt x="9915" y="13717"/>
                  <a:pt x="9897" y="13667"/>
                </a:cubicBezTo>
                <a:cubicBezTo>
                  <a:pt x="9875" y="13605"/>
                  <a:pt x="9806" y="13597"/>
                  <a:pt x="9748" y="135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10040" y="4803840"/>
            <a:ext cx="1554120" cy="331560"/>
          </a:xfrm>
          <a:custGeom>
            <a:avLst/>
            <a:gdLst/>
            <a:ahLst/>
            <a:rect l="l" t="t" r="r" b="b"/>
            <a:pathLst>
              <a:path w="4317" h="919">
                <a:moveTo>
                  <a:pt x="11137" y="13568"/>
                </a:moveTo>
                <a:cubicBezTo>
                  <a:pt x="11137" y="13543"/>
                  <a:pt x="11137" y="13535"/>
                  <a:pt x="11137" y="13519"/>
                </a:cubicBezTo>
                <a:cubicBezTo>
                  <a:pt x="11137" y="13599"/>
                  <a:pt x="11153" y="13666"/>
                  <a:pt x="11162" y="13742"/>
                </a:cubicBezTo>
                <a:cubicBezTo>
                  <a:pt x="11170" y="13814"/>
                  <a:pt x="11162" y="13892"/>
                  <a:pt x="11162" y="13965"/>
                </a:cubicBezTo>
                <a:cubicBezTo>
                  <a:pt x="11177" y="13889"/>
                  <a:pt x="11184" y="13885"/>
                  <a:pt x="11237" y="13841"/>
                </a:cubicBezTo>
                <a:cubicBezTo>
                  <a:pt x="11312" y="13779"/>
                  <a:pt x="11347" y="13847"/>
                  <a:pt x="11385" y="13915"/>
                </a:cubicBezTo>
                <a:cubicBezTo>
                  <a:pt x="11411" y="13963"/>
                  <a:pt x="11424" y="14011"/>
                  <a:pt x="11361" y="14039"/>
                </a:cubicBezTo>
                <a:cubicBezTo>
                  <a:pt x="11310" y="14061"/>
                  <a:pt x="11256" y="14026"/>
                  <a:pt x="11212" y="14015"/>
                </a:cubicBezTo>
                <a:cubicBezTo>
                  <a:pt x="11204" y="14015"/>
                  <a:pt x="11195" y="14015"/>
                  <a:pt x="11187" y="14015"/>
                </a:cubicBezTo>
              </a:path>
              <a:path w="4317" h="919">
                <a:moveTo>
                  <a:pt x="11584" y="13841"/>
                </a:moveTo>
                <a:cubicBezTo>
                  <a:pt x="11616" y="13792"/>
                  <a:pt x="11618" y="13780"/>
                  <a:pt x="11658" y="13767"/>
                </a:cubicBezTo>
                <a:cubicBezTo>
                  <a:pt x="11630" y="13774"/>
                  <a:pt x="11569" y="13806"/>
                  <a:pt x="11559" y="13841"/>
                </a:cubicBezTo>
                <a:cubicBezTo>
                  <a:pt x="11540" y="13906"/>
                  <a:pt x="11569" y="13958"/>
                  <a:pt x="11584" y="14015"/>
                </a:cubicBezTo>
                <a:cubicBezTo>
                  <a:pt x="11604" y="14094"/>
                  <a:pt x="11662" y="14015"/>
                  <a:pt x="11683" y="13990"/>
                </a:cubicBezTo>
                <a:cubicBezTo>
                  <a:pt x="11691" y="13982"/>
                  <a:pt x="11700" y="13973"/>
                  <a:pt x="11708" y="13965"/>
                </a:cubicBezTo>
              </a:path>
              <a:path w="4317" h="919">
                <a:moveTo>
                  <a:pt x="11857" y="13866"/>
                </a:moveTo>
                <a:cubicBezTo>
                  <a:pt x="11857" y="13858"/>
                  <a:pt x="11857" y="13849"/>
                  <a:pt x="11857" y="13841"/>
                </a:cubicBezTo>
                <a:cubicBezTo>
                  <a:pt x="11912" y="13869"/>
                  <a:pt x="11906" y="13902"/>
                  <a:pt x="11906" y="13965"/>
                </a:cubicBezTo>
                <a:cubicBezTo>
                  <a:pt x="11906" y="14049"/>
                  <a:pt x="11925" y="14109"/>
                  <a:pt x="11931" y="14188"/>
                </a:cubicBezTo>
                <a:cubicBezTo>
                  <a:pt x="11933" y="14213"/>
                  <a:pt x="11931" y="14238"/>
                  <a:pt x="11931" y="14263"/>
                </a:cubicBezTo>
              </a:path>
              <a:path w="4317" h="919">
                <a:moveTo>
                  <a:pt x="11881" y="13965"/>
                </a:moveTo>
                <a:cubicBezTo>
                  <a:pt x="11881" y="13879"/>
                  <a:pt x="11874" y="13860"/>
                  <a:pt x="11931" y="13816"/>
                </a:cubicBezTo>
                <a:cubicBezTo>
                  <a:pt x="11972" y="13784"/>
                  <a:pt x="11989" y="13779"/>
                  <a:pt x="12030" y="13816"/>
                </a:cubicBezTo>
                <a:cubicBezTo>
                  <a:pt x="12063" y="13845"/>
                  <a:pt x="12114" y="13945"/>
                  <a:pt x="12080" y="13990"/>
                </a:cubicBezTo>
                <a:cubicBezTo>
                  <a:pt x="12064" y="14011"/>
                  <a:pt x="12005" y="14033"/>
                  <a:pt x="11981" y="14039"/>
                </a:cubicBezTo>
              </a:path>
              <a:path w="4317" h="919">
                <a:moveTo>
                  <a:pt x="12576" y="13791"/>
                </a:moveTo>
                <a:cubicBezTo>
                  <a:pt x="12601" y="13791"/>
                  <a:pt x="12609" y="13791"/>
                  <a:pt x="12626" y="13791"/>
                </a:cubicBezTo>
                <a:cubicBezTo>
                  <a:pt x="12551" y="13791"/>
                  <a:pt x="12477" y="13791"/>
                  <a:pt x="12402" y="13791"/>
                </a:cubicBezTo>
              </a:path>
              <a:path w="4317" h="919">
                <a:moveTo>
                  <a:pt x="12477" y="13667"/>
                </a:moveTo>
                <a:cubicBezTo>
                  <a:pt x="12509" y="13606"/>
                  <a:pt x="12502" y="13738"/>
                  <a:pt x="12502" y="13767"/>
                </a:cubicBezTo>
                <a:cubicBezTo>
                  <a:pt x="12502" y="13821"/>
                  <a:pt x="12520" y="13862"/>
                  <a:pt x="12526" y="13915"/>
                </a:cubicBezTo>
              </a:path>
              <a:path w="4317" h="919">
                <a:moveTo>
                  <a:pt x="13072" y="13494"/>
                </a:moveTo>
                <a:cubicBezTo>
                  <a:pt x="13072" y="13452"/>
                  <a:pt x="13072" y="13444"/>
                  <a:pt x="13072" y="13419"/>
                </a:cubicBezTo>
                <a:cubicBezTo>
                  <a:pt x="13072" y="13568"/>
                  <a:pt x="13072" y="13965"/>
                  <a:pt x="13072" y="13816"/>
                </a:cubicBezTo>
                <a:cubicBezTo>
                  <a:pt x="13102" y="13766"/>
                  <a:pt x="13102" y="13716"/>
                  <a:pt x="13146" y="13667"/>
                </a:cubicBezTo>
                <a:cubicBezTo>
                  <a:pt x="13189" y="13620"/>
                  <a:pt x="13240" y="13644"/>
                  <a:pt x="13271" y="13692"/>
                </a:cubicBezTo>
                <a:cubicBezTo>
                  <a:pt x="13287" y="13717"/>
                  <a:pt x="13322" y="13839"/>
                  <a:pt x="13295" y="13866"/>
                </a:cubicBezTo>
                <a:cubicBezTo>
                  <a:pt x="13266" y="13895"/>
                  <a:pt x="13183" y="13903"/>
                  <a:pt x="13146" y="13891"/>
                </a:cubicBezTo>
                <a:cubicBezTo>
                  <a:pt x="13130" y="13883"/>
                  <a:pt x="13113" y="13874"/>
                  <a:pt x="13097" y="13866"/>
                </a:cubicBezTo>
              </a:path>
              <a:path w="4317" h="919">
                <a:moveTo>
                  <a:pt x="13519" y="13717"/>
                </a:moveTo>
                <a:cubicBezTo>
                  <a:pt x="13532" y="13677"/>
                  <a:pt x="13530" y="13707"/>
                  <a:pt x="13543" y="13667"/>
                </a:cubicBezTo>
                <a:cubicBezTo>
                  <a:pt x="13503" y="13677"/>
                  <a:pt x="13472" y="13696"/>
                  <a:pt x="13469" y="13742"/>
                </a:cubicBezTo>
                <a:cubicBezTo>
                  <a:pt x="13465" y="13798"/>
                  <a:pt x="13464" y="13801"/>
                  <a:pt x="13494" y="13841"/>
                </a:cubicBezTo>
                <a:cubicBezTo>
                  <a:pt x="13569" y="13822"/>
                  <a:pt x="13565" y="13764"/>
                  <a:pt x="13568" y="13692"/>
                </a:cubicBezTo>
                <a:cubicBezTo>
                  <a:pt x="13571" y="13610"/>
                  <a:pt x="13568" y="13526"/>
                  <a:pt x="13568" y="13444"/>
                </a:cubicBezTo>
                <a:cubicBezTo>
                  <a:pt x="13568" y="13402"/>
                  <a:pt x="13556" y="13479"/>
                  <a:pt x="13568" y="13519"/>
                </a:cubicBezTo>
                <a:cubicBezTo>
                  <a:pt x="13592" y="13600"/>
                  <a:pt x="13630" y="13690"/>
                  <a:pt x="13667" y="13767"/>
                </a:cubicBezTo>
                <a:cubicBezTo>
                  <a:pt x="13697" y="13831"/>
                  <a:pt x="13710" y="13858"/>
                  <a:pt x="13767" y="13816"/>
                </a:cubicBezTo>
              </a:path>
              <a:path w="4317" h="919">
                <a:moveTo>
                  <a:pt x="13915" y="13742"/>
                </a:moveTo>
                <a:cubicBezTo>
                  <a:pt x="13915" y="13767"/>
                  <a:pt x="13915" y="13775"/>
                  <a:pt x="13940" y="13767"/>
                </a:cubicBezTo>
                <a:cubicBezTo>
                  <a:pt x="13931" y="13729"/>
                  <a:pt x="13895" y="13691"/>
                  <a:pt x="13915" y="13643"/>
                </a:cubicBezTo>
                <a:cubicBezTo>
                  <a:pt x="13941" y="13580"/>
                  <a:pt x="14010" y="13593"/>
                  <a:pt x="14064" y="13593"/>
                </a:cubicBezTo>
                <a:cubicBezTo>
                  <a:pt x="14081" y="13593"/>
                  <a:pt x="14097" y="13593"/>
                  <a:pt x="14114" y="13593"/>
                </a:cubicBezTo>
              </a:path>
              <a:path w="4317" h="919">
                <a:moveTo>
                  <a:pt x="14808" y="13593"/>
                </a:moveTo>
                <a:cubicBezTo>
                  <a:pt x="14816" y="13593"/>
                  <a:pt x="14825" y="13593"/>
                  <a:pt x="14833" y="13593"/>
                </a:cubicBezTo>
                <a:cubicBezTo>
                  <a:pt x="14765" y="13593"/>
                  <a:pt x="14716" y="13599"/>
                  <a:pt x="14660" y="13618"/>
                </a:cubicBezTo>
                <a:cubicBezTo>
                  <a:pt x="14652" y="13618"/>
                  <a:pt x="14643" y="13618"/>
                  <a:pt x="14635" y="13618"/>
                </a:cubicBezTo>
              </a:path>
              <a:path w="4317" h="919">
                <a:moveTo>
                  <a:pt x="14808" y="13692"/>
                </a:moveTo>
                <a:cubicBezTo>
                  <a:pt x="14831" y="13715"/>
                  <a:pt x="14839" y="13719"/>
                  <a:pt x="14833" y="13742"/>
                </a:cubicBezTo>
                <a:cubicBezTo>
                  <a:pt x="14800" y="13742"/>
                  <a:pt x="14767" y="13742"/>
                  <a:pt x="14734" y="13742"/>
                </a:cubicBezTo>
              </a:path>
              <a:path w="4317" h="919">
                <a:moveTo>
                  <a:pt x="15230" y="13618"/>
                </a:moveTo>
                <a:cubicBezTo>
                  <a:pt x="15219" y="13592"/>
                  <a:pt x="15186" y="13528"/>
                  <a:pt x="15205" y="13494"/>
                </a:cubicBezTo>
                <a:cubicBezTo>
                  <a:pt x="15233" y="13444"/>
                  <a:pt x="15236" y="13415"/>
                  <a:pt x="15280" y="13370"/>
                </a:cubicBezTo>
                <a:cubicBezTo>
                  <a:pt x="15320" y="13329"/>
                  <a:pt x="15365" y="13335"/>
                  <a:pt x="15404" y="13370"/>
                </a:cubicBezTo>
                <a:cubicBezTo>
                  <a:pt x="15463" y="13422"/>
                  <a:pt x="15469" y="13519"/>
                  <a:pt x="15453" y="13593"/>
                </a:cubicBezTo>
                <a:cubicBezTo>
                  <a:pt x="15437" y="13667"/>
                  <a:pt x="15377" y="13726"/>
                  <a:pt x="15304" y="13742"/>
                </a:cubicBezTo>
                <a:cubicBezTo>
                  <a:pt x="15265" y="13751"/>
                  <a:pt x="15163" y="13724"/>
                  <a:pt x="15180" y="13667"/>
                </a:cubicBezTo>
                <a:cubicBezTo>
                  <a:pt x="15196" y="13611"/>
                  <a:pt x="15235" y="13550"/>
                  <a:pt x="15255" y="13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82800" y="5045040"/>
            <a:ext cx="276120" cy="241200"/>
          </a:xfrm>
          <a:custGeom>
            <a:avLst/>
            <a:gdLst/>
            <a:ahLst/>
            <a:rect l="l" t="t" r="r" b="b"/>
            <a:pathLst>
              <a:path w="769" h="670">
                <a:moveTo>
                  <a:pt x="3200" y="14610"/>
                </a:moveTo>
                <a:cubicBezTo>
                  <a:pt x="3200" y="14635"/>
                  <a:pt x="3200" y="14643"/>
                  <a:pt x="3200" y="14660"/>
                </a:cubicBezTo>
                <a:cubicBezTo>
                  <a:pt x="3144" y="14660"/>
                  <a:pt x="3122" y="14669"/>
                  <a:pt x="3076" y="14684"/>
                </a:cubicBezTo>
                <a:cubicBezTo>
                  <a:pt x="3034" y="14697"/>
                  <a:pt x="2983" y="14684"/>
                  <a:pt x="2952" y="14660"/>
                </a:cubicBezTo>
                <a:cubicBezTo>
                  <a:pt x="2913" y="14629"/>
                  <a:pt x="2870" y="14587"/>
                  <a:pt x="2828" y="14560"/>
                </a:cubicBezTo>
                <a:cubicBezTo>
                  <a:pt x="2777" y="14528"/>
                  <a:pt x="2758" y="14506"/>
                  <a:pt x="2753" y="14436"/>
                </a:cubicBezTo>
                <a:cubicBezTo>
                  <a:pt x="2749" y="14378"/>
                  <a:pt x="2729" y="14350"/>
                  <a:pt x="2729" y="14288"/>
                </a:cubicBezTo>
                <a:cubicBezTo>
                  <a:pt x="2729" y="14234"/>
                  <a:pt x="2740" y="14204"/>
                  <a:pt x="2778" y="14163"/>
                </a:cubicBezTo>
                <a:cubicBezTo>
                  <a:pt x="2819" y="14118"/>
                  <a:pt x="2869" y="14058"/>
                  <a:pt x="2927" y="14039"/>
                </a:cubicBezTo>
                <a:cubicBezTo>
                  <a:pt x="2969" y="14025"/>
                  <a:pt x="3032" y="14017"/>
                  <a:pt x="3076" y="14015"/>
                </a:cubicBezTo>
                <a:cubicBezTo>
                  <a:pt x="3132" y="14012"/>
                  <a:pt x="3197" y="14041"/>
                  <a:pt x="3249" y="14064"/>
                </a:cubicBezTo>
                <a:cubicBezTo>
                  <a:pt x="3323" y="14097"/>
                  <a:pt x="3366" y="14131"/>
                  <a:pt x="3423" y="14188"/>
                </a:cubicBezTo>
                <a:cubicBezTo>
                  <a:pt x="3467" y="14232"/>
                  <a:pt x="3494" y="14278"/>
                  <a:pt x="3497" y="14337"/>
                </a:cubicBezTo>
                <a:cubicBezTo>
                  <a:pt x="3501" y="14401"/>
                  <a:pt x="3450" y="14471"/>
                  <a:pt x="3398" y="14511"/>
                </a:cubicBezTo>
                <a:cubicBezTo>
                  <a:pt x="3358" y="14531"/>
                  <a:pt x="3352" y="14540"/>
                  <a:pt x="3324" y="145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24040" y="5045040"/>
            <a:ext cx="231840" cy="196920"/>
          </a:xfrm>
          <a:custGeom>
            <a:avLst/>
            <a:gdLst/>
            <a:ahLst/>
            <a:rect l="l" t="t" r="r" b="b"/>
            <a:pathLst>
              <a:path w="646" h="546">
                <a:moveTo>
                  <a:pt x="4862" y="14064"/>
                </a:moveTo>
                <a:cubicBezTo>
                  <a:pt x="4870" y="14056"/>
                  <a:pt x="4879" y="14047"/>
                  <a:pt x="4887" y="14039"/>
                </a:cubicBezTo>
                <a:cubicBezTo>
                  <a:pt x="4847" y="14071"/>
                  <a:pt x="4791" y="14085"/>
                  <a:pt x="4787" y="14139"/>
                </a:cubicBezTo>
                <a:cubicBezTo>
                  <a:pt x="4784" y="14185"/>
                  <a:pt x="4776" y="14270"/>
                  <a:pt x="4837" y="14288"/>
                </a:cubicBezTo>
                <a:cubicBezTo>
                  <a:pt x="4889" y="14288"/>
                  <a:pt x="4907" y="14287"/>
                  <a:pt x="4936" y="14263"/>
                </a:cubicBezTo>
              </a:path>
              <a:path w="646" h="546">
                <a:moveTo>
                  <a:pt x="5159" y="14163"/>
                </a:moveTo>
                <a:cubicBezTo>
                  <a:pt x="5159" y="14122"/>
                  <a:pt x="5151" y="14106"/>
                  <a:pt x="5184" y="14114"/>
                </a:cubicBezTo>
                <a:cubicBezTo>
                  <a:pt x="5224" y="14127"/>
                  <a:pt x="5209" y="14162"/>
                  <a:pt x="5209" y="14213"/>
                </a:cubicBezTo>
                <a:cubicBezTo>
                  <a:pt x="5209" y="14301"/>
                  <a:pt x="5229" y="14376"/>
                  <a:pt x="5234" y="14461"/>
                </a:cubicBezTo>
                <a:cubicBezTo>
                  <a:pt x="5237" y="14523"/>
                  <a:pt x="5225" y="14516"/>
                  <a:pt x="5259" y="14560"/>
                </a:cubicBezTo>
              </a:path>
              <a:path w="646" h="546">
                <a:moveTo>
                  <a:pt x="5259" y="14188"/>
                </a:moveTo>
                <a:cubicBezTo>
                  <a:pt x="5274" y="14135"/>
                  <a:pt x="5286" y="13983"/>
                  <a:pt x="5383" y="14015"/>
                </a:cubicBezTo>
                <a:cubicBezTo>
                  <a:pt x="5437" y="14033"/>
                  <a:pt x="5444" y="14145"/>
                  <a:pt x="5432" y="14188"/>
                </a:cubicBezTo>
                <a:cubicBezTo>
                  <a:pt x="5410" y="14232"/>
                  <a:pt x="5407" y="14243"/>
                  <a:pt x="5383" y="142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43080" y="4946760"/>
            <a:ext cx="384120" cy="152280"/>
          </a:xfrm>
          <a:custGeom>
            <a:avLst/>
            <a:gdLst/>
            <a:ahLst/>
            <a:rect l="l" t="t" r="r" b="b"/>
            <a:pathLst>
              <a:path w="1068" h="422">
                <a:moveTo>
                  <a:pt x="6176" y="13990"/>
                </a:moveTo>
                <a:cubicBezTo>
                  <a:pt x="6176" y="14015"/>
                  <a:pt x="6176" y="14023"/>
                  <a:pt x="6201" y="14015"/>
                </a:cubicBezTo>
                <a:cubicBezTo>
                  <a:pt x="6144" y="14015"/>
                  <a:pt x="6098" y="14030"/>
                  <a:pt x="6052" y="14039"/>
                </a:cubicBezTo>
                <a:cubicBezTo>
                  <a:pt x="6024" y="14044"/>
                  <a:pt x="5983" y="14039"/>
                  <a:pt x="5953" y="14039"/>
                </a:cubicBezTo>
              </a:path>
              <a:path w="1068" h="422">
                <a:moveTo>
                  <a:pt x="6003" y="13965"/>
                </a:moveTo>
                <a:cubicBezTo>
                  <a:pt x="6011" y="13948"/>
                  <a:pt x="6020" y="13932"/>
                  <a:pt x="6028" y="13915"/>
                </a:cubicBezTo>
                <a:cubicBezTo>
                  <a:pt x="6060" y="13960"/>
                  <a:pt x="6074" y="14005"/>
                  <a:pt x="6077" y="14064"/>
                </a:cubicBezTo>
                <a:cubicBezTo>
                  <a:pt x="6077" y="14116"/>
                  <a:pt x="6078" y="14134"/>
                  <a:pt x="6102" y="14163"/>
                </a:cubicBezTo>
              </a:path>
              <a:path w="1068" h="422">
                <a:moveTo>
                  <a:pt x="6524" y="13990"/>
                </a:moveTo>
                <a:cubicBezTo>
                  <a:pt x="6499" y="13939"/>
                  <a:pt x="6477" y="14028"/>
                  <a:pt x="6474" y="14064"/>
                </a:cubicBezTo>
                <a:cubicBezTo>
                  <a:pt x="6469" y="14126"/>
                  <a:pt x="6497" y="14139"/>
                  <a:pt x="6548" y="14139"/>
                </a:cubicBezTo>
                <a:cubicBezTo>
                  <a:pt x="6578" y="14048"/>
                  <a:pt x="6573" y="13964"/>
                  <a:pt x="6573" y="13866"/>
                </a:cubicBezTo>
                <a:cubicBezTo>
                  <a:pt x="6573" y="13816"/>
                  <a:pt x="6573" y="13800"/>
                  <a:pt x="6573" y="13767"/>
                </a:cubicBezTo>
                <a:cubicBezTo>
                  <a:pt x="6573" y="13716"/>
                  <a:pt x="6590" y="13816"/>
                  <a:pt x="6598" y="13866"/>
                </a:cubicBezTo>
                <a:cubicBezTo>
                  <a:pt x="6610" y="13944"/>
                  <a:pt x="6625" y="14021"/>
                  <a:pt x="6672" y="14089"/>
                </a:cubicBezTo>
                <a:cubicBezTo>
                  <a:pt x="6694" y="14121"/>
                  <a:pt x="6715" y="14131"/>
                  <a:pt x="6747" y="14139"/>
                </a:cubicBezTo>
              </a:path>
              <a:path w="1068" h="422">
                <a:moveTo>
                  <a:pt x="6896" y="14015"/>
                </a:moveTo>
                <a:cubicBezTo>
                  <a:pt x="6896" y="14039"/>
                  <a:pt x="6896" y="14048"/>
                  <a:pt x="6896" y="14064"/>
                </a:cubicBezTo>
                <a:cubicBezTo>
                  <a:pt x="6885" y="14008"/>
                  <a:pt x="6871" y="13974"/>
                  <a:pt x="6871" y="13915"/>
                </a:cubicBezTo>
                <a:cubicBezTo>
                  <a:pt x="6871" y="13875"/>
                  <a:pt x="6935" y="13825"/>
                  <a:pt x="6970" y="13816"/>
                </a:cubicBezTo>
                <a:cubicBezTo>
                  <a:pt x="6987" y="13816"/>
                  <a:pt x="7003" y="13816"/>
                  <a:pt x="7020" y="138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52840" y="4973760"/>
            <a:ext cx="79200" cy="63360"/>
          </a:xfrm>
          <a:custGeom>
            <a:avLst/>
            <a:gdLst/>
            <a:ahLst/>
            <a:rect l="l" t="t" r="r" b="b"/>
            <a:pathLst>
              <a:path w="224" h="175">
                <a:moveTo>
                  <a:pt x="7516" y="13841"/>
                </a:moveTo>
                <a:cubicBezTo>
                  <a:pt x="7560" y="13808"/>
                  <a:pt x="7567" y="13784"/>
                  <a:pt x="7491" y="13816"/>
                </a:cubicBezTo>
                <a:cubicBezTo>
                  <a:pt x="7444" y="13835"/>
                  <a:pt x="7427" y="13841"/>
                  <a:pt x="7367" y="13841"/>
                </a:cubicBezTo>
              </a:path>
              <a:path w="224" h="175">
                <a:moveTo>
                  <a:pt x="7541" y="13965"/>
                </a:moveTo>
                <a:cubicBezTo>
                  <a:pt x="7565" y="13965"/>
                  <a:pt x="7574" y="13965"/>
                  <a:pt x="7590" y="13965"/>
                </a:cubicBezTo>
                <a:cubicBezTo>
                  <a:pt x="7542" y="13965"/>
                  <a:pt x="7529" y="13961"/>
                  <a:pt x="7491" y="139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67040" y="4875120"/>
            <a:ext cx="98280" cy="142920"/>
          </a:xfrm>
          <a:custGeom>
            <a:avLst/>
            <a:gdLst/>
            <a:ahLst/>
            <a:rect l="l" t="t" r="r" b="b"/>
            <a:pathLst>
              <a:path w="274" h="398">
                <a:moveTo>
                  <a:pt x="7987" y="13742"/>
                </a:moveTo>
                <a:cubicBezTo>
                  <a:pt x="7987" y="13696"/>
                  <a:pt x="7967" y="13683"/>
                  <a:pt x="7962" y="13643"/>
                </a:cubicBezTo>
                <a:cubicBezTo>
                  <a:pt x="7955" y="13583"/>
                  <a:pt x="7976" y="13592"/>
                  <a:pt x="8012" y="13568"/>
                </a:cubicBezTo>
                <a:cubicBezTo>
                  <a:pt x="8049" y="13543"/>
                  <a:pt x="8092" y="13521"/>
                  <a:pt x="8136" y="13568"/>
                </a:cubicBezTo>
                <a:cubicBezTo>
                  <a:pt x="8199" y="13636"/>
                  <a:pt x="8231" y="13699"/>
                  <a:pt x="8235" y="13791"/>
                </a:cubicBezTo>
                <a:cubicBezTo>
                  <a:pt x="8239" y="13882"/>
                  <a:pt x="8258" y="13932"/>
                  <a:pt x="8161" y="13940"/>
                </a:cubicBezTo>
                <a:cubicBezTo>
                  <a:pt x="8113" y="13944"/>
                  <a:pt x="8026" y="13893"/>
                  <a:pt x="7987" y="13866"/>
                </a:cubicBezTo>
                <a:cubicBezTo>
                  <a:pt x="7954" y="13843"/>
                  <a:pt x="7962" y="13826"/>
                  <a:pt x="7962" y="137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62000" y="5303880"/>
            <a:ext cx="162000" cy="162000"/>
          </a:xfrm>
          <a:custGeom>
            <a:avLst/>
            <a:gdLst/>
            <a:ahLst/>
            <a:rect l="l" t="t" r="r" b="b"/>
            <a:pathLst>
              <a:path w="447" h="447">
                <a:moveTo>
                  <a:pt x="3076" y="14982"/>
                </a:moveTo>
                <a:cubicBezTo>
                  <a:pt x="3076" y="14974"/>
                  <a:pt x="3076" y="14965"/>
                  <a:pt x="3076" y="14957"/>
                </a:cubicBezTo>
                <a:cubicBezTo>
                  <a:pt x="3076" y="15031"/>
                  <a:pt x="3076" y="15106"/>
                  <a:pt x="3076" y="15180"/>
                </a:cubicBezTo>
              </a:path>
              <a:path w="447" h="447">
                <a:moveTo>
                  <a:pt x="3125" y="14932"/>
                </a:moveTo>
                <a:cubicBezTo>
                  <a:pt x="3155" y="14984"/>
                  <a:pt x="3183" y="15014"/>
                  <a:pt x="3225" y="15056"/>
                </a:cubicBezTo>
                <a:cubicBezTo>
                  <a:pt x="3233" y="15064"/>
                  <a:pt x="3241" y="15073"/>
                  <a:pt x="3249" y="15081"/>
                </a:cubicBezTo>
                <a:cubicBezTo>
                  <a:pt x="3287" y="15018"/>
                  <a:pt x="3277" y="14979"/>
                  <a:pt x="3299" y="14908"/>
                </a:cubicBezTo>
                <a:cubicBezTo>
                  <a:pt x="3319" y="14867"/>
                  <a:pt x="3328" y="14861"/>
                  <a:pt x="3324" y="14833"/>
                </a:cubicBezTo>
              </a:path>
              <a:path w="447" h="447">
                <a:moveTo>
                  <a:pt x="3076" y="15081"/>
                </a:moveTo>
                <a:cubicBezTo>
                  <a:pt x="3029" y="15081"/>
                  <a:pt x="3012" y="15087"/>
                  <a:pt x="2977" y="15056"/>
                </a:cubicBezTo>
                <a:cubicBezTo>
                  <a:pt x="2943" y="15026"/>
                  <a:pt x="2952" y="15000"/>
                  <a:pt x="2952" y="14957"/>
                </a:cubicBezTo>
                <a:cubicBezTo>
                  <a:pt x="2952" y="14921"/>
                  <a:pt x="2959" y="14885"/>
                  <a:pt x="2977" y="14858"/>
                </a:cubicBezTo>
                <a:cubicBezTo>
                  <a:pt x="3016" y="14798"/>
                  <a:pt x="3085" y="14739"/>
                  <a:pt x="3150" y="14734"/>
                </a:cubicBezTo>
                <a:cubicBezTo>
                  <a:pt x="3213" y="14729"/>
                  <a:pt x="3248" y="14747"/>
                  <a:pt x="3299" y="14784"/>
                </a:cubicBezTo>
                <a:cubicBezTo>
                  <a:pt x="3343" y="14816"/>
                  <a:pt x="3386" y="14880"/>
                  <a:pt x="3398" y="14932"/>
                </a:cubicBezTo>
                <a:cubicBezTo>
                  <a:pt x="3413" y="15000"/>
                  <a:pt x="3387" y="15075"/>
                  <a:pt x="3349" y="15131"/>
                </a:cubicBezTo>
                <a:cubicBezTo>
                  <a:pt x="3308" y="15191"/>
                  <a:pt x="3237" y="15180"/>
                  <a:pt x="3175" y="15180"/>
                </a:cubicBezTo>
                <a:cubicBezTo>
                  <a:pt x="3111" y="15180"/>
                  <a:pt x="3023" y="15190"/>
                  <a:pt x="2977" y="15131"/>
                </a:cubicBezTo>
                <a:cubicBezTo>
                  <a:pt x="2977" y="15123"/>
                  <a:pt x="2977" y="15114"/>
                  <a:pt x="2977" y="151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70040" y="5313240"/>
            <a:ext cx="312840" cy="169920"/>
          </a:xfrm>
          <a:custGeom>
            <a:avLst/>
            <a:gdLst/>
            <a:ahLst/>
            <a:rect l="l" t="t" r="r" b="b"/>
            <a:pathLst>
              <a:path w="870" h="472">
                <a:moveTo>
                  <a:pt x="4738" y="14784"/>
                </a:moveTo>
                <a:cubicBezTo>
                  <a:pt x="4723" y="14754"/>
                  <a:pt x="4681" y="14785"/>
                  <a:pt x="4663" y="14833"/>
                </a:cubicBezTo>
                <a:cubicBezTo>
                  <a:pt x="4650" y="14867"/>
                  <a:pt x="4621" y="14941"/>
                  <a:pt x="4638" y="14982"/>
                </a:cubicBezTo>
                <a:cubicBezTo>
                  <a:pt x="4657" y="15027"/>
                  <a:pt x="4719" y="15047"/>
                  <a:pt x="4762" y="15032"/>
                </a:cubicBezTo>
                <a:cubicBezTo>
                  <a:pt x="4779" y="15024"/>
                  <a:pt x="4795" y="15015"/>
                  <a:pt x="4812" y="15007"/>
                </a:cubicBezTo>
              </a:path>
              <a:path w="870" h="472">
                <a:moveTo>
                  <a:pt x="5135" y="14883"/>
                </a:moveTo>
                <a:cubicBezTo>
                  <a:pt x="5162" y="14845"/>
                  <a:pt x="5159" y="14831"/>
                  <a:pt x="5159" y="14784"/>
                </a:cubicBezTo>
                <a:cubicBezTo>
                  <a:pt x="5104" y="14784"/>
                  <a:pt x="5104" y="14788"/>
                  <a:pt x="5085" y="14833"/>
                </a:cubicBezTo>
                <a:cubicBezTo>
                  <a:pt x="5066" y="14877"/>
                  <a:pt x="5040" y="14969"/>
                  <a:pt x="5085" y="15007"/>
                </a:cubicBezTo>
                <a:cubicBezTo>
                  <a:pt x="5093" y="15007"/>
                  <a:pt x="5102" y="15007"/>
                  <a:pt x="5110" y="15007"/>
                </a:cubicBezTo>
                <a:cubicBezTo>
                  <a:pt x="5136" y="14974"/>
                  <a:pt x="5157" y="14941"/>
                  <a:pt x="5184" y="14908"/>
                </a:cubicBezTo>
                <a:cubicBezTo>
                  <a:pt x="5210" y="14925"/>
                  <a:pt x="5227" y="15029"/>
                  <a:pt x="5234" y="15081"/>
                </a:cubicBezTo>
                <a:cubicBezTo>
                  <a:pt x="5241" y="15129"/>
                  <a:pt x="5234" y="15182"/>
                  <a:pt x="5234" y="15230"/>
                </a:cubicBezTo>
                <a:cubicBezTo>
                  <a:pt x="5293" y="15230"/>
                  <a:pt x="5330" y="15206"/>
                  <a:pt x="5383" y="15180"/>
                </a:cubicBezTo>
                <a:cubicBezTo>
                  <a:pt x="5443" y="15150"/>
                  <a:pt x="5443" y="15140"/>
                  <a:pt x="5507" y="151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98800" y="5322960"/>
            <a:ext cx="81000" cy="7920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6003" y="14858"/>
                </a:moveTo>
                <a:cubicBezTo>
                  <a:pt x="6057" y="14858"/>
                  <a:pt x="6057" y="14858"/>
                  <a:pt x="6003" y="14858"/>
                </a:cubicBezTo>
                <a:cubicBezTo>
                  <a:pt x="5935" y="14858"/>
                  <a:pt x="5884" y="14850"/>
                  <a:pt x="5829" y="14883"/>
                </a:cubicBezTo>
              </a:path>
              <a:path w="224" h="224">
                <a:moveTo>
                  <a:pt x="5904" y="14784"/>
                </a:moveTo>
                <a:cubicBezTo>
                  <a:pt x="5935" y="14826"/>
                  <a:pt x="5950" y="14852"/>
                  <a:pt x="5953" y="14908"/>
                </a:cubicBezTo>
                <a:cubicBezTo>
                  <a:pt x="5953" y="14959"/>
                  <a:pt x="5954" y="14978"/>
                  <a:pt x="5978" y="15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303640" y="5214960"/>
            <a:ext cx="80640" cy="179280"/>
          </a:xfrm>
          <a:custGeom>
            <a:avLst/>
            <a:gdLst/>
            <a:ahLst/>
            <a:rect l="l" t="t" r="r" b="b"/>
            <a:pathLst>
              <a:path w="224" h="497">
                <a:moveTo>
                  <a:pt x="6424" y="14833"/>
                </a:moveTo>
                <a:cubicBezTo>
                  <a:pt x="6446" y="14811"/>
                  <a:pt x="6455" y="14806"/>
                  <a:pt x="6449" y="14784"/>
                </a:cubicBezTo>
                <a:cubicBezTo>
                  <a:pt x="6423" y="14792"/>
                  <a:pt x="6388" y="14838"/>
                  <a:pt x="6400" y="14883"/>
                </a:cubicBezTo>
                <a:cubicBezTo>
                  <a:pt x="6408" y="14899"/>
                  <a:pt x="6416" y="14916"/>
                  <a:pt x="6424" y="14932"/>
                </a:cubicBezTo>
                <a:cubicBezTo>
                  <a:pt x="6498" y="14914"/>
                  <a:pt x="6474" y="14854"/>
                  <a:pt x="6474" y="14784"/>
                </a:cubicBezTo>
                <a:cubicBezTo>
                  <a:pt x="6474" y="14693"/>
                  <a:pt x="6474" y="14602"/>
                  <a:pt x="6474" y="14511"/>
                </a:cubicBezTo>
                <a:cubicBezTo>
                  <a:pt x="6474" y="14456"/>
                  <a:pt x="6493" y="14655"/>
                  <a:pt x="6499" y="14684"/>
                </a:cubicBezTo>
                <a:cubicBezTo>
                  <a:pt x="6516" y="14772"/>
                  <a:pt x="6541" y="14888"/>
                  <a:pt x="6598" y="14957"/>
                </a:cubicBezTo>
                <a:cubicBezTo>
                  <a:pt x="6606" y="14965"/>
                  <a:pt x="6615" y="14974"/>
                  <a:pt x="6623" y="149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90840" y="5276880"/>
            <a:ext cx="54000" cy="98280"/>
          </a:xfrm>
          <a:custGeom>
            <a:avLst/>
            <a:gdLst/>
            <a:ahLst/>
            <a:rect l="l" t="t" r="r" b="b"/>
            <a:pathLst>
              <a:path w="149" h="273">
                <a:moveTo>
                  <a:pt x="6970" y="14709"/>
                </a:moveTo>
                <a:cubicBezTo>
                  <a:pt x="6970" y="14693"/>
                  <a:pt x="6970" y="14676"/>
                  <a:pt x="6970" y="14660"/>
                </a:cubicBezTo>
                <a:cubicBezTo>
                  <a:pt x="6935" y="14703"/>
                  <a:pt x="6921" y="14729"/>
                  <a:pt x="6921" y="14784"/>
                </a:cubicBezTo>
                <a:cubicBezTo>
                  <a:pt x="6921" y="14832"/>
                  <a:pt x="6979" y="14848"/>
                  <a:pt x="7020" y="14858"/>
                </a:cubicBezTo>
                <a:cubicBezTo>
                  <a:pt x="7045" y="14858"/>
                  <a:pt x="7053" y="14858"/>
                  <a:pt x="7069" y="14858"/>
                </a:cubicBezTo>
                <a:cubicBezTo>
                  <a:pt x="7069" y="14939"/>
                  <a:pt x="7058" y="14883"/>
                  <a:pt x="6995" y="14908"/>
                </a:cubicBezTo>
                <a:cubicBezTo>
                  <a:pt x="6987" y="14916"/>
                  <a:pt x="6978" y="14924"/>
                  <a:pt x="6970" y="149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678040" y="5268960"/>
            <a:ext cx="73080" cy="61920"/>
          </a:xfrm>
          <a:custGeom>
            <a:avLst/>
            <a:gdLst/>
            <a:ahLst/>
            <a:rect l="l" t="t" r="r" b="b"/>
            <a:pathLst>
              <a:path w="200" h="174">
                <a:moveTo>
                  <a:pt x="7590" y="14684"/>
                </a:moveTo>
                <a:cubicBezTo>
                  <a:pt x="7590" y="14643"/>
                  <a:pt x="7582" y="14627"/>
                  <a:pt x="7615" y="14635"/>
                </a:cubicBezTo>
                <a:cubicBezTo>
                  <a:pt x="7555" y="14635"/>
                  <a:pt x="7516" y="14645"/>
                  <a:pt x="7466" y="14660"/>
                </a:cubicBezTo>
                <a:cubicBezTo>
                  <a:pt x="7458" y="14660"/>
                  <a:pt x="7449" y="14660"/>
                  <a:pt x="7441" y="14660"/>
                </a:cubicBezTo>
              </a:path>
              <a:path w="200" h="174">
                <a:moveTo>
                  <a:pt x="7615" y="14784"/>
                </a:moveTo>
                <a:cubicBezTo>
                  <a:pt x="7623" y="14792"/>
                  <a:pt x="7632" y="14800"/>
                  <a:pt x="7640" y="14808"/>
                </a:cubicBezTo>
                <a:cubicBezTo>
                  <a:pt x="7627" y="14772"/>
                  <a:pt x="7609" y="14784"/>
                  <a:pt x="7565" y="14784"/>
                </a:cubicBezTo>
                <a:cubicBezTo>
                  <a:pt x="7557" y="14784"/>
                  <a:pt x="7549" y="14784"/>
                  <a:pt x="7541" y="147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94040" y="5180040"/>
            <a:ext cx="44280" cy="123840"/>
          </a:xfrm>
          <a:custGeom>
            <a:avLst/>
            <a:gdLst/>
            <a:ahLst/>
            <a:rect l="l" t="t" r="r" b="b"/>
            <a:pathLst>
              <a:path w="125" h="348">
                <a:moveTo>
                  <a:pt x="8037" y="14412"/>
                </a:moveTo>
                <a:cubicBezTo>
                  <a:pt x="8059" y="14390"/>
                  <a:pt x="8064" y="14381"/>
                  <a:pt x="8086" y="14387"/>
                </a:cubicBezTo>
                <a:cubicBezTo>
                  <a:pt x="8086" y="14474"/>
                  <a:pt x="8123" y="14530"/>
                  <a:pt x="8136" y="14610"/>
                </a:cubicBezTo>
                <a:cubicBezTo>
                  <a:pt x="8136" y="14678"/>
                  <a:pt x="8133" y="14697"/>
                  <a:pt x="8161" y="147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73680" y="5224320"/>
            <a:ext cx="1670040" cy="204840"/>
          </a:xfrm>
          <a:custGeom>
            <a:avLst/>
            <a:gdLst/>
            <a:ahLst/>
            <a:rect l="l" t="t" r="r" b="b"/>
            <a:pathLst>
              <a:path w="4640" h="571">
                <a:moveTo>
                  <a:pt x="15627" y="14536"/>
                </a:moveTo>
                <a:cubicBezTo>
                  <a:pt x="15627" y="14533"/>
                  <a:pt x="15711" y="14501"/>
                  <a:pt x="15652" y="14511"/>
                </a:cubicBezTo>
                <a:cubicBezTo>
                  <a:pt x="15607" y="14518"/>
                  <a:pt x="15560" y="14534"/>
                  <a:pt x="15503" y="14536"/>
                </a:cubicBezTo>
                <a:cubicBezTo>
                  <a:pt x="15345" y="14540"/>
                  <a:pt x="15186" y="14551"/>
                  <a:pt x="15032" y="14560"/>
                </a:cubicBezTo>
                <a:cubicBezTo>
                  <a:pt x="14842" y="14571"/>
                  <a:pt x="14644" y="14532"/>
                  <a:pt x="14461" y="14585"/>
                </a:cubicBezTo>
                <a:cubicBezTo>
                  <a:pt x="14367" y="14612"/>
                  <a:pt x="14280" y="14653"/>
                  <a:pt x="14188" y="14684"/>
                </a:cubicBezTo>
                <a:cubicBezTo>
                  <a:pt x="14056" y="14729"/>
                  <a:pt x="13926" y="14758"/>
                  <a:pt x="13791" y="14784"/>
                </a:cubicBezTo>
                <a:cubicBezTo>
                  <a:pt x="13692" y="14803"/>
                  <a:pt x="13593" y="14810"/>
                  <a:pt x="13494" y="14833"/>
                </a:cubicBezTo>
                <a:cubicBezTo>
                  <a:pt x="13394" y="14856"/>
                  <a:pt x="13297" y="14866"/>
                  <a:pt x="13196" y="14883"/>
                </a:cubicBezTo>
                <a:cubicBezTo>
                  <a:pt x="13088" y="14901"/>
                  <a:pt x="12985" y="14923"/>
                  <a:pt x="12874" y="14932"/>
                </a:cubicBezTo>
                <a:cubicBezTo>
                  <a:pt x="12748" y="14942"/>
                  <a:pt x="12629" y="14954"/>
                  <a:pt x="12502" y="14957"/>
                </a:cubicBezTo>
                <a:cubicBezTo>
                  <a:pt x="12380" y="14960"/>
                  <a:pt x="12273" y="14960"/>
                  <a:pt x="12154" y="14982"/>
                </a:cubicBezTo>
                <a:cubicBezTo>
                  <a:pt x="12057" y="15000"/>
                  <a:pt x="11955" y="14991"/>
                  <a:pt x="11857" y="15007"/>
                </a:cubicBezTo>
                <a:cubicBezTo>
                  <a:pt x="11762" y="15023"/>
                  <a:pt x="11682" y="15030"/>
                  <a:pt x="11584" y="15032"/>
                </a:cubicBezTo>
                <a:cubicBezTo>
                  <a:pt x="11497" y="15034"/>
                  <a:pt x="11420" y="15051"/>
                  <a:pt x="11336" y="15056"/>
                </a:cubicBezTo>
                <a:cubicBezTo>
                  <a:pt x="11232" y="15062"/>
                  <a:pt x="11127" y="15065"/>
                  <a:pt x="11038" y="15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17960" y="5545080"/>
            <a:ext cx="331920" cy="268200"/>
          </a:xfrm>
          <a:custGeom>
            <a:avLst/>
            <a:gdLst/>
            <a:ahLst/>
            <a:rect l="l" t="t" r="r" b="b"/>
            <a:pathLst>
              <a:path w="919" h="745">
                <a:moveTo>
                  <a:pt x="11261" y="15751"/>
                </a:moveTo>
                <a:cubicBezTo>
                  <a:pt x="11283" y="15713"/>
                  <a:pt x="11302" y="15689"/>
                  <a:pt x="11311" y="15652"/>
                </a:cubicBezTo>
                <a:cubicBezTo>
                  <a:pt x="11277" y="15652"/>
                  <a:pt x="11204" y="15668"/>
                  <a:pt x="11187" y="15701"/>
                </a:cubicBezTo>
                <a:cubicBezTo>
                  <a:pt x="11154" y="15767"/>
                  <a:pt x="11170" y="15839"/>
                  <a:pt x="11212" y="15900"/>
                </a:cubicBezTo>
                <a:cubicBezTo>
                  <a:pt x="11220" y="15908"/>
                  <a:pt x="11229" y="15917"/>
                  <a:pt x="11237" y="15925"/>
                </a:cubicBezTo>
                <a:cubicBezTo>
                  <a:pt x="11281" y="15902"/>
                  <a:pt x="11302" y="15833"/>
                  <a:pt x="11311" y="15776"/>
                </a:cubicBezTo>
                <a:cubicBezTo>
                  <a:pt x="11311" y="15731"/>
                  <a:pt x="11308" y="15718"/>
                  <a:pt x="11336" y="15701"/>
                </a:cubicBezTo>
                <a:cubicBezTo>
                  <a:pt x="11368" y="15758"/>
                  <a:pt x="11386" y="15777"/>
                  <a:pt x="11435" y="15825"/>
                </a:cubicBezTo>
              </a:path>
              <a:path w="919" h="745">
                <a:moveTo>
                  <a:pt x="11658" y="15701"/>
                </a:moveTo>
                <a:cubicBezTo>
                  <a:pt x="11638" y="15661"/>
                  <a:pt x="11629" y="15655"/>
                  <a:pt x="11633" y="15627"/>
                </a:cubicBezTo>
                <a:cubicBezTo>
                  <a:pt x="11602" y="15670"/>
                  <a:pt x="11587" y="15695"/>
                  <a:pt x="11584" y="15751"/>
                </a:cubicBezTo>
                <a:cubicBezTo>
                  <a:pt x="11581" y="15810"/>
                  <a:pt x="11595" y="15812"/>
                  <a:pt x="11633" y="15850"/>
                </a:cubicBezTo>
                <a:cubicBezTo>
                  <a:pt x="11648" y="15773"/>
                  <a:pt x="11658" y="15710"/>
                  <a:pt x="11658" y="15627"/>
                </a:cubicBezTo>
                <a:cubicBezTo>
                  <a:pt x="11658" y="15547"/>
                  <a:pt x="11672" y="15469"/>
                  <a:pt x="11633" y="15404"/>
                </a:cubicBezTo>
                <a:cubicBezTo>
                  <a:pt x="11642" y="15475"/>
                  <a:pt x="11659" y="15535"/>
                  <a:pt x="11683" y="15602"/>
                </a:cubicBezTo>
                <a:cubicBezTo>
                  <a:pt x="11705" y="15664"/>
                  <a:pt x="11728" y="15717"/>
                  <a:pt x="11757" y="15776"/>
                </a:cubicBezTo>
              </a:path>
              <a:path w="919" h="745">
                <a:moveTo>
                  <a:pt x="11906" y="15701"/>
                </a:moveTo>
                <a:cubicBezTo>
                  <a:pt x="11906" y="15685"/>
                  <a:pt x="11906" y="15668"/>
                  <a:pt x="11906" y="15652"/>
                </a:cubicBezTo>
                <a:cubicBezTo>
                  <a:pt x="11942" y="15723"/>
                  <a:pt x="11972" y="15796"/>
                  <a:pt x="11981" y="15875"/>
                </a:cubicBezTo>
                <a:cubicBezTo>
                  <a:pt x="11992" y="15966"/>
                  <a:pt x="11995" y="16057"/>
                  <a:pt x="12005" y="16148"/>
                </a:cubicBezTo>
              </a:path>
              <a:path w="919" h="745">
                <a:moveTo>
                  <a:pt x="11931" y="15776"/>
                </a:moveTo>
                <a:cubicBezTo>
                  <a:pt x="11931" y="15691"/>
                  <a:pt x="11922" y="15642"/>
                  <a:pt x="11981" y="15577"/>
                </a:cubicBezTo>
                <a:cubicBezTo>
                  <a:pt x="12012" y="15543"/>
                  <a:pt x="12037" y="15553"/>
                  <a:pt x="12080" y="15553"/>
                </a:cubicBezTo>
                <a:cubicBezTo>
                  <a:pt x="12080" y="15626"/>
                  <a:pt x="12111" y="15769"/>
                  <a:pt x="12055" y="15825"/>
                </a:cubicBezTo>
                <a:cubicBezTo>
                  <a:pt x="12011" y="15847"/>
                  <a:pt x="12000" y="15850"/>
                  <a:pt x="11981" y="15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73720" y="5634000"/>
            <a:ext cx="117360" cy="36720"/>
          </a:xfrm>
          <a:custGeom>
            <a:avLst/>
            <a:gdLst/>
            <a:ahLst/>
            <a:rect l="l" t="t" r="r" b="b"/>
            <a:pathLst>
              <a:path w="324" h="100">
                <a:moveTo>
                  <a:pt x="12427" y="15751"/>
                </a:moveTo>
                <a:cubicBezTo>
                  <a:pt x="12438" y="15705"/>
                  <a:pt x="12462" y="15700"/>
                  <a:pt x="12502" y="15677"/>
                </a:cubicBezTo>
                <a:cubicBezTo>
                  <a:pt x="12565" y="15641"/>
                  <a:pt x="12629" y="15652"/>
                  <a:pt x="12700" y="15652"/>
                </a:cubicBezTo>
                <a:cubicBezTo>
                  <a:pt x="12725" y="15652"/>
                  <a:pt x="12733" y="15652"/>
                  <a:pt x="12750" y="1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70280" y="5411880"/>
            <a:ext cx="347760" cy="303120"/>
          </a:xfrm>
          <a:custGeom>
            <a:avLst/>
            <a:gdLst/>
            <a:ahLst/>
            <a:rect l="l" t="t" r="r" b="b"/>
            <a:pathLst>
              <a:path w="968" h="844">
                <a:moveTo>
                  <a:pt x="12973" y="15156"/>
                </a:moveTo>
                <a:cubicBezTo>
                  <a:pt x="12973" y="15098"/>
                  <a:pt x="12973" y="15023"/>
                  <a:pt x="12973" y="15081"/>
                </a:cubicBezTo>
                <a:cubicBezTo>
                  <a:pt x="12973" y="15222"/>
                  <a:pt x="12973" y="15594"/>
                  <a:pt x="12973" y="15453"/>
                </a:cubicBezTo>
                <a:cubicBezTo>
                  <a:pt x="12973" y="15410"/>
                  <a:pt x="13005" y="15327"/>
                  <a:pt x="13072" y="15354"/>
                </a:cubicBezTo>
                <a:cubicBezTo>
                  <a:pt x="13140" y="15381"/>
                  <a:pt x="13146" y="15442"/>
                  <a:pt x="13146" y="15503"/>
                </a:cubicBezTo>
                <a:cubicBezTo>
                  <a:pt x="13146" y="15545"/>
                  <a:pt x="13112" y="15574"/>
                  <a:pt x="13072" y="15577"/>
                </a:cubicBezTo>
                <a:cubicBezTo>
                  <a:pt x="13031" y="15577"/>
                  <a:pt x="13023" y="15577"/>
                  <a:pt x="12998" y="15577"/>
                </a:cubicBezTo>
              </a:path>
              <a:path w="968" h="844">
                <a:moveTo>
                  <a:pt x="13395" y="15379"/>
                </a:moveTo>
                <a:cubicBezTo>
                  <a:pt x="13415" y="15338"/>
                  <a:pt x="13423" y="15332"/>
                  <a:pt x="13419" y="15304"/>
                </a:cubicBezTo>
                <a:cubicBezTo>
                  <a:pt x="13374" y="15350"/>
                  <a:pt x="13370" y="15363"/>
                  <a:pt x="13370" y="15429"/>
                </a:cubicBezTo>
                <a:cubicBezTo>
                  <a:pt x="13370" y="15487"/>
                  <a:pt x="13413" y="15522"/>
                  <a:pt x="13469" y="15528"/>
                </a:cubicBezTo>
                <a:cubicBezTo>
                  <a:pt x="13497" y="15528"/>
                  <a:pt x="13508" y="15526"/>
                  <a:pt x="13519" y="15503"/>
                </a:cubicBezTo>
              </a:path>
              <a:path w="968" h="844">
                <a:moveTo>
                  <a:pt x="13667" y="15453"/>
                </a:moveTo>
                <a:cubicBezTo>
                  <a:pt x="13667" y="15412"/>
                  <a:pt x="13659" y="15396"/>
                  <a:pt x="13692" y="15404"/>
                </a:cubicBezTo>
                <a:cubicBezTo>
                  <a:pt x="13717" y="15421"/>
                  <a:pt x="13736" y="15526"/>
                  <a:pt x="13742" y="15577"/>
                </a:cubicBezTo>
                <a:cubicBezTo>
                  <a:pt x="13752" y="15663"/>
                  <a:pt x="13753" y="15744"/>
                  <a:pt x="13767" y="15825"/>
                </a:cubicBezTo>
                <a:cubicBezTo>
                  <a:pt x="13767" y="15842"/>
                  <a:pt x="13767" y="15858"/>
                  <a:pt x="13767" y="15875"/>
                </a:cubicBezTo>
              </a:path>
              <a:path w="968" h="844">
                <a:moveTo>
                  <a:pt x="13667" y="15553"/>
                </a:moveTo>
                <a:cubicBezTo>
                  <a:pt x="13676" y="15401"/>
                  <a:pt x="13663" y="15393"/>
                  <a:pt x="13791" y="15329"/>
                </a:cubicBezTo>
                <a:cubicBezTo>
                  <a:pt x="13835" y="15307"/>
                  <a:pt x="13915" y="15283"/>
                  <a:pt x="13940" y="15354"/>
                </a:cubicBezTo>
                <a:cubicBezTo>
                  <a:pt x="13963" y="15419"/>
                  <a:pt x="13923" y="15479"/>
                  <a:pt x="13866" y="15503"/>
                </a:cubicBezTo>
                <a:cubicBezTo>
                  <a:pt x="13833" y="15503"/>
                  <a:pt x="13816" y="15503"/>
                  <a:pt x="13791" y="155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60960" y="5518080"/>
            <a:ext cx="63360" cy="36720"/>
          </a:xfrm>
          <a:custGeom>
            <a:avLst/>
            <a:gdLst/>
            <a:ahLst/>
            <a:rect l="l" t="t" r="r" b="b"/>
            <a:pathLst>
              <a:path w="175" h="101">
                <a:moveTo>
                  <a:pt x="14436" y="15329"/>
                </a:moveTo>
                <a:cubicBezTo>
                  <a:pt x="14461" y="15329"/>
                  <a:pt x="14469" y="15329"/>
                  <a:pt x="14486" y="15329"/>
                </a:cubicBezTo>
                <a:cubicBezTo>
                  <a:pt x="14436" y="15329"/>
                  <a:pt x="14387" y="15329"/>
                  <a:pt x="14337" y="15329"/>
                </a:cubicBezTo>
              </a:path>
              <a:path w="175" h="101">
                <a:moveTo>
                  <a:pt x="14486" y="15429"/>
                </a:moveTo>
                <a:cubicBezTo>
                  <a:pt x="14553" y="15429"/>
                  <a:pt x="14469" y="15429"/>
                  <a:pt x="14461" y="154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27800" y="5392800"/>
            <a:ext cx="108000" cy="189000"/>
          </a:xfrm>
          <a:custGeom>
            <a:avLst/>
            <a:gdLst/>
            <a:ahLst/>
            <a:rect l="l" t="t" r="r" b="b"/>
            <a:pathLst>
              <a:path w="299" h="522">
                <a:moveTo>
                  <a:pt x="15404" y="15329"/>
                </a:moveTo>
                <a:cubicBezTo>
                  <a:pt x="15439" y="15302"/>
                  <a:pt x="15442" y="15312"/>
                  <a:pt x="15453" y="15280"/>
                </a:cubicBezTo>
                <a:cubicBezTo>
                  <a:pt x="15425" y="15287"/>
                  <a:pt x="15364" y="15319"/>
                  <a:pt x="15354" y="15354"/>
                </a:cubicBezTo>
                <a:cubicBezTo>
                  <a:pt x="15335" y="15422"/>
                  <a:pt x="15360" y="15459"/>
                  <a:pt x="15404" y="15503"/>
                </a:cubicBezTo>
                <a:cubicBezTo>
                  <a:pt x="15475" y="15452"/>
                  <a:pt x="15516" y="15374"/>
                  <a:pt x="15528" y="15280"/>
                </a:cubicBezTo>
                <a:cubicBezTo>
                  <a:pt x="15539" y="15192"/>
                  <a:pt x="15528" y="15096"/>
                  <a:pt x="15528" y="15007"/>
                </a:cubicBezTo>
                <a:cubicBezTo>
                  <a:pt x="15528" y="14968"/>
                  <a:pt x="15534" y="15159"/>
                  <a:pt x="15553" y="15205"/>
                </a:cubicBezTo>
                <a:cubicBezTo>
                  <a:pt x="15587" y="15289"/>
                  <a:pt x="15618" y="15370"/>
                  <a:pt x="15652" y="154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19680" y="5776920"/>
            <a:ext cx="1331640" cy="376200"/>
          </a:xfrm>
          <a:custGeom>
            <a:avLst/>
            <a:gdLst/>
            <a:ahLst/>
            <a:rect l="l" t="t" r="r" b="b"/>
            <a:pathLst>
              <a:path w="3697" h="1042">
                <a:moveTo>
                  <a:pt x="10964" y="16619"/>
                </a:moveTo>
                <a:cubicBezTo>
                  <a:pt x="10964" y="16594"/>
                  <a:pt x="10964" y="16586"/>
                  <a:pt x="10964" y="16570"/>
                </a:cubicBezTo>
                <a:cubicBezTo>
                  <a:pt x="10964" y="16665"/>
                  <a:pt x="10978" y="16750"/>
                  <a:pt x="10988" y="16842"/>
                </a:cubicBezTo>
                <a:cubicBezTo>
                  <a:pt x="10997" y="16923"/>
                  <a:pt x="10988" y="17008"/>
                  <a:pt x="10988" y="17090"/>
                </a:cubicBezTo>
              </a:path>
              <a:path w="3697" h="1042">
                <a:moveTo>
                  <a:pt x="10889" y="16644"/>
                </a:moveTo>
                <a:cubicBezTo>
                  <a:pt x="10895" y="16567"/>
                  <a:pt x="10890" y="16474"/>
                  <a:pt x="10964" y="16421"/>
                </a:cubicBezTo>
                <a:cubicBezTo>
                  <a:pt x="11021" y="16380"/>
                  <a:pt x="11073" y="16384"/>
                  <a:pt x="11112" y="16446"/>
                </a:cubicBezTo>
                <a:cubicBezTo>
                  <a:pt x="11137" y="16486"/>
                  <a:pt x="11112" y="16605"/>
                  <a:pt x="11088" y="16644"/>
                </a:cubicBezTo>
                <a:cubicBezTo>
                  <a:pt x="11065" y="16681"/>
                  <a:pt x="11025" y="16687"/>
                  <a:pt x="10988" y="16694"/>
                </a:cubicBezTo>
              </a:path>
              <a:path w="3697" h="1042">
                <a:moveTo>
                  <a:pt x="11559" y="16297"/>
                </a:moveTo>
                <a:cubicBezTo>
                  <a:pt x="11587" y="16232"/>
                  <a:pt x="11589" y="16201"/>
                  <a:pt x="11559" y="16272"/>
                </a:cubicBezTo>
                <a:cubicBezTo>
                  <a:pt x="11524" y="16355"/>
                  <a:pt x="11520" y="16480"/>
                  <a:pt x="11534" y="16570"/>
                </a:cubicBezTo>
                <a:cubicBezTo>
                  <a:pt x="11546" y="16643"/>
                  <a:pt x="11573" y="16737"/>
                  <a:pt x="11633" y="16768"/>
                </a:cubicBezTo>
              </a:path>
              <a:path w="3697" h="1042">
                <a:moveTo>
                  <a:pt x="12055" y="16669"/>
                </a:moveTo>
                <a:cubicBezTo>
                  <a:pt x="12055" y="16652"/>
                  <a:pt x="12055" y="16636"/>
                  <a:pt x="12055" y="16619"/>
                </a:cubicBezTo>
                <a:cubicBezTo>
                  <a:pt x="12044" y="16662"/>
                  <a:pt x="12013" y="16696"/>
                  <a:pt x="12005" y="16743"/>
                </a:cubicBezTo>
                <a:cubicBezTo>
                  <a:pt x="12000" y="16772"/>
                  <a:pt x="12005" y="16812"/>
                  <a:pt x="12005" y="16842"/>
                </a:cubicBezTo>
                <a:cubicBezTo>
                  <a:pt x="12040" y="16796"/>
                  <a:pt x="12032" y="16743"/>
                  <a:pt x="12055" y="16694"/>
                </a:cubicBezTo>
                <a:cubicBezTo>
                  <a:pt x="12075" y="16651"/>
                  <a:pt x="12132" y="16663"/>
                  <a:pt x="12154" y="16694"/>
                </a:cubicBezTo>
                <a:cubicBezTo>
                  <a:pt x="12182" y="16734"/>
                  <a:pt x="12195" y="16759"/>
                  <a:pt x="12229" y="16793"/>
                </a:cubicBezTo>
              </a:path>
              <a:path w="3697" h="1042">
                <a:moveTo>
                  <a:pt x="12378" y="16594"/>
                </a:moveTo>
                <a:cubicBezTo>
                  <a:pt x="12354" y="16548"/>
                  <a:pt x="12334" y="16657"/>
                  <a:pt x="12328" y="16694"/>
                </a:cubicBezTo>
                <a:cubicBezTo>
                  <a:pt x="12328" y="16710"/>
                  <a:pt x="12328" y="16727"/>
                  <a:pt x="12328" y="16743"/>
                </a:cubicBezTo>
                <a:cubicBezTo>
                  <a:pt x="12415" y="16808"/>
                  <a:pt x="12400" y="16684"/>
                  <a:pt x="12402" y="16619"/>
                </a:cubicBezTo>
                <a:cubicBezTo>
                  <a:pt x="12405" y="16537"/>
                  <a:pt x="12402" y="16453"/>
                  <a:pt x="12402" y="16371"/>
                </a:cubicBezTo>
                <a:cubicBezTo>
                  <a:pt x="12402" y="16309"/>
                  <a:pt x="12424" y="16461"/>
                  <a:pt x="12427" y="16470"/>
                </a:cubicBezTo>
                <a:cubicBezTo>
                  <a:pt x="12449" y="16540"/>
                  <a:pt x="12499" y="16691"/>
                  <a:pt x="12551" y="16743"/>
                </a:cubicBezTo>
                <a:cubicBezTo>
                  <a:pt x="12568" y="16751"/>
                  <a:pt x="12584" y="16760"/>
                  <a:pt x="12601" y="16768"/>
                </a:cubicBezTo>
              </a:path>
              <a:path w="3697" h="1042">
                <a:moveTo>
                  <a:pt x="12948" y="16594"/>
                </a:moveTo>
                <a:cubicBezTo>
                  <a:pt x="12925" y="16572"/>
                  <a:pt x="12917" y="16567"/>
                  <a:pt x="12923" y="16545"/>
                </a:cubicBezTo>
                <a:cubicBezTo>
                  <a:pt x="12968" y="16534"/>
                  <a:pt x="12993" y="16520"/>
                  <a:pt x="13047" y="16520"/>
                </a:cubicBezTo>
                <a:cubicBezTo>
                  <a:pt x="13089" y="16520"/>
                  <a:pt x="13097" y="16520"/>
                  <a:pt x="13122" y="16520"/>
                </a:cubicBezTo>
              </a:path>
              <a:path w="3697" h="1042">
                <a:moveTo>
                  <a:pt x="13419" y="16272"/>
                </a:moveTo>
                <a:cubicBezTo>
                  <a:pt x="13419" y="16194"/>
                  <a:pt x="13404" y="16176"/>
                  <a:pt x="13444" y="16148"/>
                </a:cubicBezTo>
                <a:cubicBezTo>
                  <a:pt x="13444" y="16084"/>
                  <a:pt x="13422" y="16282"/>
                  <a:pt x="13419" y="16297"/>
                </a:cubicBezTo>
                <a:cubicBezTo>
                  <a:pt x="13400" y="16382"/>
                  <a:pt x="13395" y="16457"/>
                  <a:pt x="13395" y="16545"/>
                </a:cubicBezTo>
                <a:cubicBezTo>
                  <a:pt x="13426" y="16514"/>
                  <a:pt x="13450" y="16473"/>
                  <a:pt x="13494" y="16470"/>
                </a:cubicBezTo>
                <a:cubicBezTo>
                  <a:pt x="13563" y="16465"/>
                  <a:pt x="13568" y="16487"/>
                  <a:pt x="13568" y="16545"/>
                </a:cubicBezTo>
                <a:cubicBezTo>
                  <a:pt x="13568" y="16586"/>
                  <a:pt x="13533" y="16616"/>
                  <a:pt x="13494" y="16619"/>
                </a:cubicBezTo>
                <a:cubicBezTo>
                  <a:pt x="13477" y="16619"/>
                  <a:pt x="13461" y="16619"/>
                  <a:pt x="13444" y="16619"/>
                </a:cubicBezTo>
              </a:path>
              <a:path w="3697" h="1042">
                <a:moveTo>
                  <a:pt x="13618" y="16520"/>
                </a:moveTo>
                <a:cubicBezTo>
                  <a:pt x="13676" y="16462"/>
                  <a:pt x="13684" y="16454"/>
                  <a:pt x="13717" y="16421"/>
                </a:cubicBezTo>
                <a:cubicBezTo>
                  <a:pt x="13683" y="16466"/>
                  <a:pt x="13679" y="16497"/>
                  <a:pt x="13717" y="16545"/>
                </a:cubicBezTo>
                <a:cubicBezTo>
                  <a:pt x="13746" y="16582"/>
                  <a:pt x="13774" y="16570"/>
                  <a:pt x="13816" y="16570"/>
                </a:cubicBezTo>
              </a:path>
              <a:path w="3697" h="1042">
                <a:moveTo>
                  <a:pt x="13742" y="16148"/>
                </a:moveTo>
                <a:cubicBezTo>
                  <a:pt x="13841" y="16065"/>
                  <a:pt x="13904" y="16006"/>
                  <a:pt x="14015" y="16123"/>
                </a:cubicBezTo>
                <a:cubicBezTo>
                  <a:pt x="14109" y="16222"/>
                  <a:pt x="14098" y="16352"/>
                  <a:pt x="14064" y="16470"/>
                </a:cubicBezTo>
                <a:cubicBezTo>
                  <a:pt x="14036" y="16553"/>
                  <a:pt x="14022" y="16584"/>
                  <a:pt x="13965" y="16619"/>
                </a:cubicBezTo>
              </a:path>
              <a:path w="3697" h="1042">
                <a:moveTo>
                  <a:pt x="14560" y="16272"/>
                </a:moveTo>
                <a:cubicBezTo>
                  <a:pt x="14534" y="16272"/>
                  <a:pt x="14473" y="16280"/>
                  <a:pt x="14461" y="16297"/>
                </a:cubicBezTo>
                <a:cubicBezTo>
                  <a:pt x="14461" y="16305"/>
                  <a:pt x="14461" y="16313"/>
                  <a:pt x="14461" y="16321"/>
                </a:cubicBezTo>
              </a:path>
              <a:path w="3697" h="1042">
                <a:moveTo>
                  <a:pt x="14560" y="16396"/>
                </a:moveTo>
                <a:cubicBezTo>
                  <a:pt x="14627" y="16396"/>
                  <a:pt x="14522" y="16396"/>
                  <a:pt x="14511" y="163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5705640"/>
            <a:ext cx="134640" cy="215640"/>
          </a:xfrm>
          <a:custGeom>
            <a:avLst/>
            <a:gdLst/>
            <a:ahLst/>
            <a:rect l="l" t="t" r="r" b="b"/>
            <a:pathLst>
              <a:path w="373" h="597">
                <a:moveTo>
                  <a:pt x="15503" y="16247"/>
                </a:moveTo>
                <a:cubicBezTo>
                  <a:pt x="15528" y="16247"/>
                  <a:pt x="15536" y="16247"/>
                  <a:pt x="15553" y="16247"/>
                </a:cubicBezTo>
                <a:cubicBezTo>
                  <a:pt x="15553" y="16200"/>
                  <a:pt x="15535" y="16161"/>
                  <a:pt x="15478" y="16222"/>
                </a:cubicBezTo>
                <a:cubicBezTo>
                  <a:pt x="15454" y="16248"/>
                  <a:pt x="15431" y="16367"/>
                  <a:pt x="15453" y="16396"/>
                </a:cubicBezTo>
                <a:cubicBezTo>
                  <a:pt x="15470" y="16404"/>
                  <a:pt x="15486" y="16413"/>
                  <a:pt x="15503" y="16421"/>
                </a:cubicBezTo>
                <a:cubicBezTo>
                  <a:pt x="15593" y="16330"/>
                  <a:pt x="15597" y="16275"/>
                  <a:pt x="15627" y="16148"/>
                </a:cubicBezTo>
                <a:cubicBezTo>
                  <a:pt x="15652" y="16045"/>
                  <a:pt x="15652" y="15955"/>
                  <a:pt x="15652" y="15850"/>
                </a:cubicBezTo>
                <a:cubicBezTo>
                  <a:pt x="15652" y="15959"/>
                  <a:pt x="15661" y="16069"/>
                  <a:pt x="15701" y="16173"/>
                </a:cubicBezTo>
                <a:cubicBezTo>
                  <a:pt x="15737" y="16266"/>
                  <a:pt x="15790" y="16352"/>
                  <a:pt x="15825" y="16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30840" y="6081840"/>
            <a:ext cx="1241280" cy="490320"/>
          </a:xfrm>
          <a:custGeom>
            <a:avLst/>
            <a:gdLst/>
            <a:ahLst/>
            <a:rect l="l" t="t" r="r" b="b"/>
            <a:pathLst>
              <a:path w="3449" h="1365">
                <a:moveTo>
                  <a:pt x="13519" y="17884"/>
                </a:moveTo>
                <a:cubicBezTo>
                  <a:pt x="13519" y="17779"/>
                  <a:pt x="13519" y="17820"/>
                  <a:pt x="13519" y="17909"/>
                </a:cubicBezTo>
                <a:cubicBezTo>
                  <a:pt x="13519" y="18014"/>
                  <a:pt x="13499" y="18105"/>
                  <a:pt x="13494" y="18207"/>
                </a:cubicBezTo>
                <a:cubicBezTo>
                  <a:pt x="13494" y="18223"/>
                  <a:pt x="13494" y="18240"/>
                  <a:pt x="13494" y="18256"/>
                </a:cubicBezTo>
              </a:path>
              <a:path w="3449" h="1365">
                <a:moveTo>
                  <a:pt x="13419" y="17909"/>
                </a:moveTo>
                <a:cubicBezTo>
                  <a:pt x="13429" y="17780"/>
                  <a:pt x="13430" y="17778"/>
                  <a:pt x="13543" y="17735"/>
                </a:cubicBezTo>
                <a:cubicBezTo>
                  <a:pt x="13623" y="17705"/>
                  <a:pt x="13659" y="17690"/>
                  <a:pt x="13667" y="17785"/>
                </a:cubicBezTo>
                <a:cubicBezTo>
                  <a:pt x="13673" y="17854"/>
                  <a:pt x="13653" y="17894"/>
                  <a:pt x="13593" y="17934"/>
                </a:cubicBezTo>
                <a:cubicBezTo>
                  <a:pt x="13576" y="17942"/>
                  <a:pt x="13560" y="17951"/>
                  <a:pt x="13543" y="17959"/>
                </a:cubicBezTo>
              </a:path>
              <a:path w="3449" h="1365">
                <a:moveTo>
                  <a:pt x="14436" y="17686"/>
                </a:moveTo>
                <a:cubicBezTo>
                  <a:pt x="14444" y="17686"/>
                  <a:pt x="14453" y="17686"/>
                  <a:pt x="14461" y="17686"/>
                </a:cubicBezTo>
                <a:cubicBezTo>
                  <a:pt x="14403" y="17686"/>
                  <a:pt x="14346" y="17686"/>
                  <a:pt x="14288" y="17686"/>
                </a:cubicBezTo>
              </a:path>
              <a:path w="3449" h="1365">
                <a:moveTo>
                  <a:pt x="14412" y="17760"/>
                </a:moveTo>
                <a:cubicBezTo>
                  <a:pt x="14434" y="17783"/>
                  <a:pt x="14439" y="17791"/>
                  <a:pt x="14461" y="17785"/>
                </a:cubicBezTo>
                <a:cubicBezTo>
                  <a:pt x="14449" y="17820"/>
                  <a:pt x="14454" y="17810"/>
                  <a:pt x="14412" y="17810"/>
                </a:cubicBezTo>
              </a:path>
              <a:path w="3449" h="1365">
                <a:moveTo>
                  <a:pt x="15751" y="17239"/>
                </a:moveTo>
                <a:cubicBezTo>
                  <a:pt x="15757" y="17221"/>
                  <a:pt x="15806" y="17166"/>
                  <a:pt x="15751" y="17214"/>
                </a:cubicBezTo>
                <a:cubicBezTo>
                  <a:pt x="15715" y="17245"/>
                  <a:pt x="15666" y="17314"/>
                  <a:pt x="15677" y="17363"/>
                </a:cubicBezTo>
                <a:cubicBezTo>
                  <a:pt x="15685" y="17380"/>
                  <a:pt x="15693" y="17396"/>
                  <a:pt x="15701" y="17413"/>
                </a:cubicBezTo>
                <a:cubicBezTo>
                  <a:pt x="15772" y="17395"/>
                  <a:pt x="15805" y="17336"/>
                  <a:pt x="15825" y="17264"/>
                </a:cubicBezTo>
                <a:cubicBezTo>
                  <a:pt x="15857" y="17148"/>
                  <a:pt x="15850" y="17035"/>
                  <a:pt x="15850" y="16917"/>
                </a:cubicBezTo>
                <a:cubicBezTo>
                  <a:pt x="15850" y="16843"/>
                  <a:pt x="15850" y="17041"/>
                  <a:pt x="15850" y="17041"/>
                </a:cubicBezTo>
                <a:cubicBezTo>
                  <a:pt x="15871" y="17173"/>
                  <a:pt x="15927" y="17290"/>
                  <a:pt x="15974" y="17413"/>
                </a:cubicBezTo>
              </a:path>
              <a:path w="3449" h="1365">
                <a:moveTo>
                  <a:pt x="16694" y="17462"/>
                </a:moveTo>
                <a:cubicBezTo>
                  <a:pt x="16716" y="17440"/>
                  <a:pt x="16721" y="17432"/>
                  <a:pt x="16743" y="17438"/>
                </a:cubicBezTo>
                <a:cubicBezTo>
                  <a:pt x="16403" y="17438"/>
                  <a:pt x="16064" y="17437"/>
                  <a:pt x="15726" y="17462"/>
                </a:cubicBezTo>
                <a:cubicBezTo>
                  <a:pt x="15592" y="17472"/>
                  <a:pt x="15481" y="17494"/>
                  <a:pt x="15354" y="17537"/>
                </a:cubicBezTo>
                <a:cubicBezTo>
                  <a:pt x="15270" y="17565"/>
                  <a:pt x="15192" y="17646"/>
                  <a:pt x="15106" y="17661"/>
                </a:cubicBezTo>
                <a:cubicBezTo>
                  <a:pt x="15045" y="17672"/>
                  <a:pt x="15012" y="17671"/>
                  <a:pt x="14982" y="17686"/>
                </a:cubicBezTo>
              </a:path>
              <a:path w="3449" h="1365">
                <a:moveTo>
                  <a:pt x="15131" y="18008"/>
                </a:moveTo>
                <a:cubicBezTo>
                  <a:pt x="15139" y="17992"/>
                  <a:pt x="15148" y="17975"/>
                  <a:pt x="15156" y="17959"/>
                </a:cubicBezTo>
                <a:cubicBezTo>
                  <a:pt x="15121" y="18002"/>
                  <a:pt x="15106" y="18027"/>
                  <a:pt x="15106" y="18083"/>
                </a:cubicBezTo>
                <a:cubicBezTo>
                  <a:pt x="15106" y="18091"/>
                  <a:pt x="15106" y="18099"/>
                  <a:pt x="15106" y="18107"/>
                </a:cubicBezTo>
                <a:cubicBezTo>
                  <a:pt x="15159" y="18107"/>
                  <a:pt x="15167" y="18096"/>
                  <a:pt x="15205" y="18058"/>
                </a:cubicBezTo>
                <a:cubicBezTo>
                  <a:pt x="15241" y="18022"/>
                  <a:pt x="15281" y="18031"/>
                  <a:pt x="15304" y="18083"/>
                </a:cubicBezTo>
                <a:cubicBezTo>
                  <a:pt x="15304" y="18107"/>
                  <a:pt x="15304" y="18115"/>
                  <a:pt x="15329" y="18107"/>
                </a:cubicBezTo>
              </a:path>
              <a:path w="3449" h="1365">
                <a:moveTo>
                  <a:pt x="15404" y="18008"/>
                </a:moveTo>
                <a:cubicBezTo>
                  <a:pt x="15412" y="18000"/>
                  <a:pt x="15421" y="17991"/>
                  <a:pt x="15429" y="17983"/>
                </a:cubicBezTo>
                <a:cubicBezTo>
                  <a:pt x="15429" y="18041"/>
                  <a:pt x="15420" y="18086"/>
                  <a:pt x="15453" y="18132"/>
                </a:cubicBezTo>
                <a:cubicBezTo>
                  <a:pt x="15503" y="18108"/>
                  <a:pt x="15543" y="18024"/>
                  <a:pt x="15553" y="17959"/>
                </a:cubicBezTo>
                <a:cubicBezTo>
                  <a:pt x="15565" y="17881"/>
                  <a:pt x="15539" y="17826"/>
                  <a:pt x="15577" y="17760"/>
                </a:cubicBezTo>
                <a:cubicBezTo>
                  <a:pt x="15577" y="17825"/>
                  <a:pt x="15587" y="17897"/>
                  <a:pt x="15602" y="17959"/>
                </a:cubicBezTo>
                <a:cubicBezTo>
                  <a:pt x="15617" y="18024"/>
                  <a:pt x="15637" y="18091"/>
                  <a:pt x="15701" y="18107"/>
                </a:cubicBezTo>
              </a:path>
              <a:path w="3449" h="1365">
                <a:moveTo>
                  <a:pt x="15949" y="18033"/>
                </a:moveTo>
                <a:cubicBezTo>
                  <a:pt x="15949" y="17988"/>
                  <a:pt x="15947" y="17963"/>
                  <a:pt x="15999" y="17959"/>
                </a:cubicBezTo>
                <a:cubicBezTo>
                  <a:pt x="16040" y="17956"/>
                  <a:pt x="16082" y="17959"/>
                  <a:pt x="16123" y="17959"/>
                </a:cubicBezTo>
              </a:path>
              <a:path w="3449" h="1365">
                <a:moveTo>
                  <a:pt x="16371" y="17636"/>
                </a:moveTo>
                <a:cubicBezTo>
                  <a:pt x="16371" y="17578"/>
                  <a:pt x="16355" y="17554"/>
                  <a:pt x="16396" y="17562"/>
                </a:cubicBezTo>
                <a:cubicBezTo>
                  <a:pt x="16396" y="17645"/>
                  <a:pt x="16358" y="17705"/>
                  <a:pt x="16346" y="17785"/>
                </a:cubicBezTo>
                <a:cubicBezTo>
                  <a:pt x="16335" y="17859"/>
                  <a:pt x="16321" y="17933"/>
                  <a:pt x="16321" y="18008"/>
                </a:cubicBezTo>
                <a:cubicBezTo>
                  <a:pt x="16348" y="17988"/>
                  <a:pt x="16389" y="17948"/>
                  <a:pt x="16421" y="17934"/>
                </a:cubicBezTo>
                <a:cubicBezTo>
                  <a:pt x="16429" y="17934"/>
                  <a:pt x="16438" y="17934"/>
                  <a:pt x="16446" y="17934"/>
                </a:cubicBezTo>
                <a:cubicBezTo>
                  <a:pt x="16463" y="17957"/>
                  <a:pt x="16488" y="18000"/>
                  <a:pt x="16470" y="18033"/>
                </a:cubicBezTo>
                <a:cubicBezTo>
                  <a:pt x="16450" y="18071"/>
                  <a:pt x="16406" y="18058"/>
                  <a:pt x="16371" y="18058"/>
                </a:cubicBezTo>
              </a:path>
              <a:path w="3449" h="1365">
                <a:moveTo>
                  <a:pt x="16619" y="17909"/>
                </a:moveTo>
                <a:cubicBezTo>
                  <a:pt x="16636" y="17901"/>
                  <a:pt x="16652" y="17892"/>
                  <a:pt x="16669" y="17884"/>
                </a:cubicBezTo>
                <a:cubicBezTo>
                  <a:pt x="16627" y="17894"/>
                  <a:pt x="16574" y="17925"/>
                  <a:pt x="16594" y="17983"/>
                </a:cubicBezTo>
                <a:cubicBezTo>
                  <a:pt x="16611" y="18034"/>
                  <a:pt x="16697" y="18066"/>
                  <a:pt x="16743" y="18058"/>
                </a:cubicBezTo>
                <a:cubicBezTo>
                  <a:pt x="16810" y="18036"/>
                  <a:pt x="16828" y="18031"/>
                  <a:pt x="16867" y="180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inverse and determinants of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the inverse of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x A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6160" y="3027240"/>
            <a:ext cx="358920" cy="268560"/>
          </a:xfrm>
          <a:custGeom>
            <a:avLst/>
            <a:gdLst/>
            <a:ahLst/>
            <a:rect l="l" t="t" r="r" b="b"/>
            <a:pathLst>
              <a:path w="993" h="745">
                <a:moveTo>
                  <a:pt x="2158" y="8632"/>
                </a:moveTo>
                <a:cubicBezTo>
                  <a:pt x="2158" y="8657"/>
                  <a:pt x="2158" y="8681"/>
                  <a:pt x="2158" y="8706"/>
                </a:cubicBezTo>
                <a:cubicBezTo>
                  <a:pt x="2196" y="8706"/>
                  <a:pt x="2232" y="8717"/>
                  <a:pt x="2257" y="8682"/>
                </a:cubicBezTo>
                <a:cubicBezTo>
                  <a:pt x="2296" y="8627"/>
                  <a:pt x="2347" y="8526"/>
                  <a:pt x="2332" y="8458"/>
                </a:cubicBezTo>
                <a:cubicBezTo>
                  <a:pt x="2324" y="8442"/>
                  <a:pt x="2315" y="8425"/>
                  <a:pt x="2307" y="8409"/>
                </a:cubicBezTo>
                <a:cubicBezTo>
                  <a:pt x="2238" y="8409"/>
                  <a:pt x="2211" y="8444"/>
                  <a:pt x="2183" y="8508"/>
                </a:cubicBezTo>
                <a:cubicBezTo>
                  <a:pt x="2145" y="8594"/>
                  <a:pt x="2133" y="8745"/>
                  <a:pt x="2183" y="8830"/>
                </a:cubicBezTo>
                <a:cubicBezTo>
                  <a:pt x="2225" y="8902"/>
                  <a:pt x="2277" y="8888"/>
                  <a:pt x="2332" y="8855"/>
                </a:cubicBezTo>
              </a:path>
              <a:path w="993" h="745">
                <a:moveTo>
                  <a:pt x="2456" y="8706"/>
                </a:moveTo>
                <a:cubicBezTo>
                  <a:pt x="2489" y="8678"/>
                  <a:pt x="2542" y="8628"/>
                  <a:pt x="2580" y="8682"/>
                </a:cubicBezTo>
                <a:cubicBezTo>
                  <a:pt x="2580" y="8690"/>
                  <a:pt x="2580" y="8698"/>
                  <a:pt x="2580" y="8706"/>
                </a:cubicBezTo>
              </a:path>
              <a:path w="993" h="745">
                <a:moveTo>
                  <a:pt x="2704" y="8582"/>
                </a:moveTo>
                <a:cubicBezTo>
                  <a:pt x="2712" y="8525"/>
                  <a:pt x="2730" y="8521"/>
                  <a:pt x="2704" y="8508"/>
                </a:cubicBezTo>
                <a:cubicBezTo>
                  <a:pt x="2679" y="8575"/>
                  <a:pt x="2663" y="8635"/>
                  <a:pt x="2654" y="8706"/>
                </a:cubicBezTo>
                <a:cubicBezTo>
                  <a:pt x="2701" y="8691"/>
                  <a:pt x="2685" y="8622"/>
                  <a:pt x="2729" y="8582"/>
                </a:cubicBezTo>
                <a:cubicBezTo>
                  <a:pt x="2831" y="8487"/>
                  <a:pt x="2891" y="8639"/>
                  <a:pt x="2927" y="8706"/>
                </a:cubicBezTo>
                <a:cubicBezTo>
                  <a:pt x="2984" y="8813"/>
                  <a:pt x="3031" y="8955"/>
                  <a:pt x="3001" y="9079"/>
                </a:cubicBezTo>
                <a:cubicBezTo>
                  <a:pt x="2976" y="9182"/>
                  <a:pt x="2856" y="9153"/>
                  <a:pt x="2778" y="9153"/>
                </a:cubicBezTo>
                <a:cubicBezTo>
                  <a:pt x="2681" y="9153"/>
                  <a:pt x="2662" y="9146"/>
                  <a:pt x="2604" y="9079"/>
                </a:cubicBezTo>
              </a:path>
              <a:path w="993" h="745">
                <a:moveTo>
                  <a:pt x="3026" y="8756"/>
                </a:moveTo>
                <a:cubicBezTo>
                  <a:pt x="3091" y="8734"/>
                  <a:pt x="3106" y="8726"/>
                  <a:pt x="3150" y="8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08120" y="2963880"/>
            <a:ext cx="115920" cy="233280"/>
          </a:xfrm>
          <a:custGeom>
            <a:avLst/>
            <a:gdLst/>
            <a:ahLst/>
            <a:rect l="l" t="t" r="r" b="b"/>
            <a:pathLst>
              <a:path w="323" h="646">
                <a:moveTo>
                  <a:pt x="4465" y="8781"/>
                </a:moveTo>
                <a:cubicBezTo>
                  <a:pt x="4465" y="8840"/>
                  <a:pt x="4458" y="8837"/>
                  <a:pt x="4490" y="8880"/>
                </a:cubicBezTo>
                <a:cubicBezTo>
                  <a:pt x="4490" y="8817"/>
                  <a:pt x="4507" y="8768"/>
                  <a:pt x="4514" y="8706"/>
                </a:cubicBezTo>
                <a:cubicBezTo>
                  <a:pt x="4526" y="8601"/>
                  <a:pt x="4542" y="8487"/>
                  <a:pt x="4564" y="8384"/>
                </a:cubicBezTo>
                <a:cubicBezTo>
                  <a:pt x="4577" y="8323"/>
                  <a:pt x="4601" y="8286"/>
                  <a:pt x="4614" y="8235"/>
                </a:cubicBezTo>
                <a:cubicBezTo>
                  <a:pt x="4668" y="8290"/>
                  <a:pt x="4668" y="8331"/>
                  <a:pt x="4688" y="8409"/>
                </a:cubicBezTo>
                <a:cubicBezTo>
                  <a:pt x="4715" y="8514"/>
                  <a:pt x="4734" y="8630"/>
                  <a:pt x="4762" y="8731"/>
                </a:cubicBezTo>
                <a:cubicBezTo>
                  <a:pt x="4770" y="8748"/>
                  <a:pt x="4779" y="8764"/>
                  <a:pt x="4787" y="8781"/>
                </a:cubicBezTo>
              </a:path>
              <a:path w="323" h="646">
                <a:moveTo>
                  <a:pt x="4787" y="8607"/>
                </a:moveTo>
                <a:cubicBezTo>
                  <a:pt x="4769" y="8580"/>
                  <a:pt x="4722" y="8475"/>
                  <a:pt x="4663" y="8508"/>
                </a:cubicBezTo>
                <a:cubicBezTo>
                  <a:pt x="4626" y="8529"/>
                  <a:pt x="4601" y="8536"/>
                  <a:pt x="4564" y="85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12960" y="3017880"/>
            <a:ext cx="88920" cy="71280"/>
          </a:xfrm>
          <a:custGeom>
            <a:avLst/>
            <a:gdLst/>
            <a:ahLst/>
            <a:rect l="l" t="t" r="r" b="b"/>
            <a:pathLst>
              <a:path w="249" h="199">
                <a:moveTo>
                  <a:pt x="5259" y="8434"/>
                </a:moveTo>
                <a:cubicBezTo>
                  <a:pt x="5259" y="8409"/>
                  <a:pt x="5259" y="8401"/>
                  <a:pt x="5259" y="8384"/>
                </a:cubicBezTo>
                <a:cubicBezTo>
                  <a:pt x="5215" y="8395"/>
                  <a:pt x="5184" y="8422"/>
                  <a:pt x="5135" y="8434"/>
                </a:cubicBezTo>
                <a:cubicBezTo>
                  <a:pt x="5102" y="8442"/>
                  <a:pt x="5069" y="8452"/>
                  <a:pt x="5035" y="8458"/>
                </a:cubicBezTo>
              </a:path>
              <a:path w="249" h="199">
                <a:moveTo>
                  <a:pt x="5259" y="8558"/>
                </a:moveTo>
                <a:cubicBezTo>
                  <a:pt x="5267" y="8558"/>
                  <a:pt x="5275" y="8558"/>
                  <a:pt x="5283" y="8558"/>
                </a:cubicBezTo>
                <a:cubicBezTo>
                  <a:pt x="5271" y="8594"/>
                  <a:pt x="5253" y="8582"/>
                  <a:pt x="5209" y="85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59000" y="2803680"/>
            <a:ext cx="277920" cy="455400"/>
          </a:xfrm>
          <a:custGeom>
            <a:avLst/>
            <a:gdLst/>
            <a:ahLst/>
            <a:rect l="l" t="t" r="r" b="b"/>
            <a:pathLst>
              <a:path w="770" h="1266">
                <a:moveTo>
                  <a:pt x="6821" y="8086"/>
                </a:moveTo>
                <a:cubicBezTo>
                  <a:pt x="6846" y="8086"/>
                  <a:pt x="6854" y="8086"/>
                  <a:pt x="6871" y="8086"/>
                </a:cubicBezTo>
                <a:cubicBezTo>
                  <a:pt x="6871" y="8045"/>
                  <a:pt x="6888" y="7992"/>
                  <a:pt x="6846" y="7987"/>
                </a:cubicBezTo>
                <a:cubicBezTo>
                  <a:pt x="6828" y="7985"/>
                  <a:pt x="6728" y="8049"/>
                  <a:pt x="6722" y="8062"/>
                </a:cubicBezTo>
                <a:cubicBezTo>
                  <a:pt x="6702" y="8101"/>
                  <a:pt x="6725" y="8183"/>
                  <a:pt x="6747" y="8210"/>
                </a:cubicBezTo>
                <a:cubicBezTo>
                  <a:pt x="6783" y="8255"/>
                  <a:pt x="6819" y="8228"/>
                  <a:pt x="6846" y="8186"/>
                </a:cubicBezTo>
                <a:cubicBezTo>
                  <a:pt x="6877" y="8138"/>
                  <a:pt x="6896" y="8093"/>
                  <a:pt x="6896" y="8037"/>
                </a:cubicBezTo>
                <a:cubicBezTo>
                  <a:pt x="6937" y="8078"/>
                  <a:pt x="6975" y="8102"/>
                  <a:pt x="7020" y="8136"/>
                </a:cubicBezTo>
                <a:cubicBezTo>
                  <a:pt x="7028" y="8144"/>
                  <a:pt x="7037" y="8153"/>
                  <a:pt x="7045" y="8161"/>
                </a:cubicBezTo>
              </a:path>
              <a:path w="770" h="1266">
                <a:moveTo>
                  <a:pt x="6821" y="8905"/>
                </a:moveTo>
                <a:cubicBezTo>
                  <a:pt x="6871" y="8872"/>
                  <a:pt x="6881" y="8863"/>
                  <a:pt x="6896" y="8806"/>
                </a:cubicBezTo>
                <a:cubicBezTo>
                  <a:pt x="6826" y="8823"/>
                  <a:pt x="6842" y="8847"/>
                  <a:pt x="6821" y="8905"/>
                </a:cubicBezTo>
                <a:cubicBezTo>
                  <a:pt x="6802" y="8959"/>
                  <a:pt x="6774" y="9014"/>
                  <a:pt x="6846" y="9054"/>
                </a:cubicBezTo>
                <a:cubicBezTo>
                  <a:pt x="6892" y="9080"/>
                  <a:pt x="6979" y="9044"/>
                  <a:pt x="7020" y="9029"/>
                </a:cubicBezTo>
              </a:path>
              <a:path w="770" h="1266">
                <a:moveTo>
                  <a:pt x="6400" y="7938"/>
                </a:moveTo>
                <a:cubicBezTo>
                  <a:pt x="6407" y="7887"/>
                  <a:pt x="6424" y="7864"/>
                  <a:pt x="6424" y="7813"/>
                </a:cubicBezTo>
                <a:cubicBezTo>
                  <a:pt x="6424" y="7805"/>
                  <a:pt x="6424" y="7797"/>
                  <a:pt x="6424" y="7789"/>
                </a:cubicBezTo>
                <a:cubicBezTo>
                  <a:pt x="6383" y="7859"/>
                  <a:pt x="6351" y="7925"/>
                  <a:pt x="6325" y="8012"/>
                </a:cubicBezTo>
                <a:cubicBezTo>
                  <a:pt x="6278" y="8171"/>
                  <a:pt x="6256" y="8319"/>
                  <a:pt x="6300" y="8483"/>
                </a:cubicBezTo>
                <a:cubicBezTo>
                  <a:pt x="6343" y="8641"/>
                  <a:pt x="6380" y="8804"/>
                  <a:pt x="6449" y="8954"/>
                </a:cubicBezTo>
                <a:cubicBezTo>
                  <a:pt x="6472" y="9004"/>
                  <a:pt x="6483" y="9034"/>
                  <a:pt x="6524" y="9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03680" y="2741760"/>
            <a:ext cx="206280" cy="465120"/>
          </a:xfrm>
          <a:custGeom>
            <a:avLst/>
            <a:gdLst/>
            <a:ahLst/>
            <a:rect l="l" t="t" r="r" b="b"/>
            <a:pathLst>
              <a:path w="571" h="1291">
                <a:moveTo>
                  <a:pt x="7789" y="7665"/>
                </a:moveTo>
                <a:cubicBezTo>
                  <a:pt x="7789" y="7657"/>
                  <a:pt x="7789" y="7573"/>
                  <a:pt x="7789" y="7640"/>
                </a:cubicBezTo>
                <a:cubicBezTo>
                  <a:pt x="7789" y="7744"/>
                  <a:pt x="7802" y="7838"/>
                  <a:pt x="7813" y="7938"/>
                </a:cubicBezTo>
                <a:cubicBezTo>
                  <a:pt x="7821" y="8010"/>
                  <a:pt x="7804" y="8030"/>
                  <a:pt x="7838" y="8086"/>
                </a:cubicBezTo>
                <a:cubicBezTo>
                  <a:pt x="7838" y="8127"/>
                  <a:pt x="7838" y="8053"/>
                  <a:pt x="7838" y="8012"/>
                </a:cubicBezTo>
                <a:cubicBezTo>
                  <a:pt x="7838" y="7953"/>
                  <a:pt x="7858" y="7940"/>
                  <a:pt x="7888" y="7888"/>
                </a:cubicBezTo>
                <a:cubicBezTo>
                  <a:pt x="7934" y="7888"/>
                  <a:pt x="7959" y="7895"/>
                  <a:pt x="7987" y="7938"/>
                </a:cubicBezTo>
                <a:cubicBezTo>
                  <a:pt x="8023" y="7993"/>
                  <a:pt x="8024" y="8056"/>
                  <a:pt x="7987" y="8111"/>
                </a:cubicBezTo>
                <a:cubicBezTo>
                  <a:pt x="7951" y="8164"/>
                  <a:pt x="7883" y="8131"/>
                  <a:pt x="7838" y="8111"/>
                </a:cubicBezTo>
                <a:cubicBezTo>
                  <a:pt x="7822" y="8103"/>
                  <a:pt x="7805" y="8094"/>
                  <a:pt x="7789" y="8086"/>
                </a:cubicBezTo>
              </a:path>
              <a:path w="571" h="1291">
                <a:moveTo>
                  <a:pt x="7813" y="8682"/>
                </a:moveTo>
                <a:cubicBezTo>
                  <a:pt x="7880" y="8703"/>
                  <a:pt x="7800" y="8715"/>
                  <a:pt x="7789" y="8756"/>
                </a:cubicBezTo>
                <a:cubicBezTo>
                  <a:pt x="7780" y="8789"/>
                  <a:pt x="7789" y="8845"/>
                  <a:pt x="7789" y="8880"/>
                </a:cubicBezTo>
                <a:cubicBezTo>
                  <a:pt x="7864" y="8861"/>
                  <a:pt x="7860" y="8803"/>
                  <a:pt x="7863" y="8731"/>
                </a:cubicBezTo>
                <a:cubicBezTo>
                  <a:pt x="7866" y="8645"/>
                  <a:pt x="7888" y="8570"/>
                  <a:pt x="7888" y="8483"/>
                </a:cubicBezTo>
                <a:cubicBezTo>
                  <a:pt x="7888" y="8467"/>
                  <a:pt x="7888" y="8450"/>
                  <a:pt x="7888" y="8434"/>
                </a:cubicBezTo>
                <a:cubicBezTo>
                  <a:pt x="7888" y="8524"/>
                  <a:pt x="7891" y="8595"/>
                  <a:pt x="7913" y="8682"/>
                </a:cubicBezTo>
                <a:cubicBezTo>
                  <a:pt x="7935" y="8770"/>
                  <a:pt x="7956" y="8835"/>
                  <a:pt x="8012" y="8905"/>
                </a:cubicBezTo>
              </a:path>
              <a:path w="571" h="1291">
                <a:moveTo>
                  <a:pt x="7938" y="7838"/>
                </a:moveTo>
                <a:cubicBezTo>
                  <a:pt x="7969" y="7814"/>
                  <a:pt x="7983" y="7791"/>
                  <a:pt x="8012" y="7789"/>
                </a:cubicBezTo>
                <a:cubicBezTo>
                  <a:pt x="8084" y="7784"/>
                  <a:pt x="8099" y="7805"/>
                  <a:pt x="8161" y="7838"/>
                </a:cubicBezTo>
                <a:cubicBezTo>
                  <a:pt x="8244" y="7882"/>
                  <a:pt x="8265" y="7959"/>
                  <a:pt x="8310" y="8037"/>
                </a:cubicBezTo>
                <a:cubicBezTo>
                  <a:pt x="8375" y="8150"/>
                  <a:pt x="8376" y="8301"/>
                  <a:pt x="8359" y="8434"/>
                </a:cubicBezTo>
                <a:cubicBezTo>
                  <a:pt x="8344" y="8552"/>
                  <a:pt x="8301" y="8694"/>
                  <a:pt x="8260" y="8806"/>
                </a:cubicBezTo>
                <a:cubicBezTo>
                  <a:pt x="8233" y="8859"/>
                  <a:pt x="8221" y="8879"/>
                  <a:pt x="8186" y="8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16200" y="2919240"/>
            <a:ext cx="268560" cy="233640"/>
          </a:xfrm>
          <a:custGeom>
            <a:avLst/>
            <a:gdLst/>
            <a:ahLst/>
            <a:rect l="l" t="t" r="r" b="b"/>
            <a:pathLst>
              <a:path w="745" h="646">
                <a:moveTo>
                  <a:pt x="10046" y="8607"/>
                </a:moveTo>
                <a:cubicBezTo>
                  <a:pt x="10046" y="8629"/>
                  <a:pt x="10046" y="8789"/>
                  <a:pt x="10046" y="8731"/>
                </a:cubicBezTo>
                <a:cubicBezTo>
                  <a:pt x="10046" y="8658"/>
                  <a:pt x="10068" y="8606"/>
                  <a:pt x="10071" y="8533"/>
                </a:cubicBezTo>
                <a:cubicBezTo>
                  <a:pt x="10074" y="8446"/>
                  <a:pt x="10094" y="8342"/>
                  <a:pt x="10120" y="8260"/>
                </a:cubicBezTo>
                <a:cubicBezTo>
                  <a:pt x="10142" y="8216"/>
                  <a:pt x="10145" y="8205"/>
                  <a:pt x="10170" y="8186"/>
                </a:cubicBezTo>
                <a:cubicBezTo>
                  <a:pt x="10228" y="8257"/>
                  <a:pt x="10227" y="8298"/>
                  <a:pt x="10244" y="8384"/>
                </a:cubicBezTo>
                <a:cubicBezTo>
                  <a:pt x="10266" y="8495"/>
                  <a:pt x="10318" y="8596"/>
                  <a:pt x="10344" y="8706"/>
                </a:cubicBezTo>
                <a:cubicBezTo>
                  <a:pt x="10344" y="8714"/>
                  <a:pt x="10344" y="8723"/>
                  <a:pt x="10344" y="8731"/>
                </a:cubicBezTo>
              </a:path>
              <a:path w="745" h="646">
                <a:moveTo>
                  <a:pt x="10344" y="8508"/>
                </a:moveTo>
                <a:cubicBezTo>
                  <a:pt x="10263" y="8438"/>
                  <a:pt x="10294" y="8458"/>
                  <a:pt x="10220" y="8483"/>
                </a:cubicBezTo>
                <a:cubicBezTo>
                  <a:pt x="10192" y="8493"/>
                  <a:pt x="10150" y="8483"/>
                  <a:pt x="10120" y="8483"/>
                </a:cubicBezTo>
              </a:path>
              <a:path w="745" h="646">
                <a:moveTo>
                  <a:pt x="10492" y="8235"/>
                </a:moveTo>
                <a:cubicBezTo>
                  <a:pt x="10484" y="8235"/>
                  <a:pt x="10476" y="8235"/>
                  <a:pt x="10468" y="8235"/>
                </a:cubicBezTo>
                <a:cubicBezTo>
                  <a:pt x="10513" y="8235"/>
                  <a:pt x="10527" y="8214"/>
                  <a:pt x="10567" y="8210"/>
                </a:cubicBezTo>
                <a:cubicBezTo>
                  <a:pt x="10599" y="8206"/>
                  <a:pt x="10611" y="8193"/>
                  <a:pt x="10641" y="8186"/>
                </a:cubicBezTo>
              </a:path>
              <a:path w="745" h="646">
                <a:moveTo>
                  <a:pt x="10740" y="8111"/>
                </a:moveTo>
                <a:cubicBezTo>
                  <a:pt x="10800" y="8126"/>
                  <a:pt x="10790" y="8149"/>
                  <a:pt x="10790" y="8210"/>
                </a:cubicBezTo>
                <a:cubicBezTo>
                  <a:pt x="10790" y="8251"/>
                  <a:pt x="10790" y="8293"/>
                  <a:pt x="10790" y="8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017960" y="3009960"/>
            <a:ext cx="73080" cy="61920"/>
          </a:xfrm>
          <a:custGeom>
            <a:avLst/>
            <a:gdLst/>
            <a:ahLst/>
            <a:rect l="l" t="t" r="r" b="b"/>
            <a:pathLst>
              <a:path w="200" h="175">
                <a:moveTo>
                  <a:pt x="11311" y="8359"/>
                </a:moveTo>
                <a:cubicBezTo>
                  <a:pt x="11319" y="8359"/>
                  <a:pt x="11328" y="8359"/>
                  <a:pt x="11336" y="8359"/>
                </a:cubicBezTo>
                <a:cubicBezTo>
                  <a:pt x="11323" y="8397"/>
                  <a:pt x="11306" y="8384"/>
                  <a:pt x="11261" y="8384"/>
                </a:cubicBezTo>
                <a:cubicBezTo>
                  <a:pt x="11209" y="8384"/>
                  <a:pt x="11205" y="8398"/>
                  <a:pt x="11162" y="8409"/>
                </a:cubicBezTo>
              </a:path>
              <a:path w="200" h="175">
                <a:moveTo>
                  <a:pt x="11336" y="8483"/>
                </a:moveTo>
                <a:cubicBezTo>
                  <a:pt x="11344" y="8491"/>
                  <a:pt x="11353" y="8500"/>
                  <a:pt x="11361" y="8508"/>
                </a:cubicBezTo>
                <a:cubicBezTo>
                  <a:pt x="11311" y="8538"/>
                  <a:pt x="11274" y="8533"/>
                  <a:pt x="11212" y="8533"/>
                </a:cubicBezTo>
                <a:cubicBezTo>
                  <a:pt x="11204" y="8533"/>
                  <a:pt x="11195" y="8533"/>
                  <a:pt x="11187" y="85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05160" y="2751120"/>
            <a:ext cx="196920" cy="473040"/>
          </a:xfrm>
          <a:custGeom>
            <a:avLst/>
            <a:gdLst/>
            <a:ahLst/>
            <a:rect l="l" t="t" r="r" b="b"/>
            <a:pathLst>
              <a:path w="547" h="1315">
                <a:moveTo>
                  <a:pt x="12030" y="7962"/>
                </a:moveTo>
                <a:cubicBezTo>
                  <a:pt x="12030" y="7938"/>
                  <a:pt x="12030" y="7930"/>
                  <a:pt x="12055" y="7938"/>
                </a:cubicBezTo>
                <a:cubicBezTo>
                  <a:pt x="12055" y="8043"/>
                  <a:pt x="12064" y="8137"/>
                  <a:pt x="12080" y="8235"/>
                </a:cubicBezTo>
                <a:cubicBezTo>
                  <a:pt x="12089" y="8293"/>
                  <a:pt x="12075" y="8310"/>
                  <a:pt x="12105" y="8359"/>
                </a:cubicBezTo>
              </a:path>
              <a:path w="547" h="1315">
                <a:moveTo>
                  <a:pt x="12055" y="8037"/>
                </a:moveTo>
                <a:cubicBezTo>
                  <a:pt x="12018" y="7988"/>
                  <a:pt x="12027" y="7986"/>
                  <a:pt x="12055" y="7938"/>
                </a:cubicBezTo>
                <a:cubicBezTo>
                  <a:pt x="12095" y="7869"/>
                  <a:pt x="12066" y="7845"/>
                  <a:pt x="12154" y="7838"/>
                </a:cubicBezTo>
                <a:cubicBezTo>
                  <a:pt x="12220" y="7832"/>
                  <a:pt x="12226" y="7915"/>
                  <a:pt x="12229" y="7962"/>
                </a:cubicBezTo>
                <a:cubicBezTo>
                  <a:pt x="12233" y="8033"/>
                  <a:pt x="12225" y="8050"/>
                  <a:pt x="12179" y="8086"/>
                </a:cubicBezTo>
                <a:cubicBezTo>
                  <a:pt x="12141" y="8115"/>
                  <a:pt x="12128" y="8111"/>
                  <a:pt x="12080" y="8111"/>
                </a:cubicBezTo>
              </a:path>
              <a:path w="547" h="1315">
                <a:moveTo>
                  <a:pt x="11981" y="8855"/>
                </a:moveTo>
                <a:cubicBezTo>
                  <a:pt x="11981" y="8888"/>
                  <a:pt x="11981" y="8921"/>
                  <a:pt x="11981" y="8954"/>
                </a:cubicBezTo>
                <a:cubicBezTo>
                  <a:pt x="11948" y="8943"/>
                  <a:pt x="11941" y="8900"/>
                  <a:pt x="11956" y="8855"/>
                </a:cubicBezTo>
                <a:cubicBezTo>
                  <a:pt x="11975" y="8800"/>
                  <a:pt x="11998" y="8754"/>
                  <a:pt x="12055" y="8731"/>
                </a:cubicBezTo>
                <a:cubicBezTo>
                  <a:pt x="12087" y="8718"/>
                  <a:pt x="12143" y="8731"/>
                  <a:pt x="12179" y="8731"/>
                </a:cubicBezTo>
              </a:path>
              <a:path w="547" h="1315">
                <a:moveTo>
                  <a:pt x="11832" y="7665"/>
                </a:moveTo>
                <a:cubicBezTo>
                  <a:pt x="11857" y="7665"/>
                  <a:pt x="11865" y="7665"/>
                  <a:pt x="11857" y="7640"/>
                </a:cubicBezTo>
                <a:cubicBezTo>
                  <a:pt x="11857" y="7676"/>
                  <a:pt x="11850" y="7712"/>
                  <a:pt x="11832" y="7739"/>
                </a:cubicBezTo>
                <a:cubicBezTo>
                  <a:pt x="11802" y="7783"/>
                  <a:pt x="11745" y="7834"/>
                  <a:pt x="11733" y="7888"/>
                </a:cubicBezTo>
                <a:cubicBezTo>
                  <a:pt x="11721" y="7942"/>
                  <a:pt x="11725" y="8011"/>
                  <a:pt x="11708" y="8062"/>
                </a:cubicBezTo>
                <a:cubicBezTo>
                  <a:pt x="11682" y="8139"/>
                  <a:pt x="11683" y="8201"/>
                  <a:pt x="11683" y="8285"/>
                </a:cubicBezTo>
                <a:cubicBezTo>
                  <a:pt x="11683" y="8462"/>
                  <a:pt x="11681" y="8637"/>
                  <a:pt x="11708" y="8806"/>
                </a:cubicBezTo>
                <a:cubicBezTo>
                  <a:pt x="11708" y="8857"/>
                  <a:pt x="11709" y="8876"/>
                  <a:pt x="11733" y="8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16280" y="2795760"/>
            <a:ext cx="268560" cy="446040"/>
          </a:xfrm>
          <a:custGeom>
            <a:avLst/>
            <a:gdLst/>
            <a:ahLst/>
            <a:rect l="l" t="t" r="r" b="b"/>
            <a:pathLst>
              <a:path w="745" h="1241">
                <a:moveTo>
                  <a:pt x="12973" y="7938"/>
                </a:moveTo>
                <a:cubicBezTo>
                  <a:pt x="12964" y="7911"/>
                  <a:pt x="12955" y="7892"/>
                  <a:pt x="12923" y="7888"/>
                </a:cubicBezTo>
                <a:cubicBezTo>
                  <a:pt x="12864" y="7881"/>
                  <a:pt x="12831" y="7943"/>
                  <a:pt x="12824" y="7987"/>
                </a:cubicBezTo>
                <a:cubicBezTo>
                  <a:pt x="12816" y="8034"/>
                  <a:pt x="12828" y="8051"/>
                  <a:pt x="12849" y="8086"/>
                </a:cubicBezTo>
                <a:cubicBezTo>
                  <a:pt x="12903" y="8073"/>
                  <a:pt x="12930" y="8018"/>
                  <a:pt x="12948" y="7962"/>
                </a:cubicBezTo>
                <a:cubicBezTo>
                  <a:pt x="12954" y="7942"/>
                  <a:pt x="12973" y="7858"/>
                  <a:pt x="12973" y="7913"/>
                </a:cubicBezTo>
                <a:cubicBezTo>
                  <a:pt x="12973" y="7987"/>
                  <a:pt x="12971" y="8042"/>
                  <a:pt x="12948" y="8111"/>
                </a:cubicBezTo>
                <a:cubicBezTo>
                  <a:pt x="12924" y="8184"/>
                  <a:pt x="12923" y="8235"/>
                  <a:pt x="12923" y="8310"/>
                </a:cubicBezTo>
                <a:cubicBezTo>
                  <a:pt x="12982" y="8310"/>
                  <a:pt x="13001" y="8311"/>
                  <a:pt x="13047" y="8285"/>
                </a:cubicBezTo>
                <a:cubicBezTo>
                  <a:pt x="13088" y="8261"/>
                  <a:pt x="13150" y="8240"/>
                  <a:pt x="13196" y="8235"/>
                </a:cubicBezTo>
                <a:cubicBezTo>
                  <a:pt x="13204" y="8235"/>
                  <a:pt x="13213" y="8235"/>
                  <a:pt x="13221" y="8235"/>
                </a:cubicBezTo>
              </a:path>
              <a:path w="745" h="1241">
                <a:moveTo>
                  <a:pt x="12923" y="8632"/>
                </a:moveTo>
                <a:cubicBezTo>
                  <a:pt x="12946" y="8609"/>
                  <a:pt x="12954" y="8605"/>
                  <a:pt x="12948" y="8582"/>
                </a:cubicBezTo>
                <a:cubicBezTo>
                  <a:pt x="12922" y="8588"/>
                  <a:pt x="12863" y="8603"/>
                  <a:pt x="12849" y="8632"/>
                </a:cubicBezTo>
                <a:cubicBezTo>
                  <a:pt x="12819" y="8692"/>
                  <a:pt x="12890" y="8693"/>
                  <a:pt x="12923" y="8706"/>
                </a:cubicBezTo>
                <a:cubicBezTo>
                  <a:pt x="12978" y="8728"/>
                  <a:pt x="13028" y="8772"/>
                  <a:pt x="13047" y="8830"/>
                </a:cubicBezTo>
                <a:cubicBezTo>
                  <a:pt x="13066" y="8887"/>
                  <a:pt x="12979" y="8903"/>
                  <a:pt x="12948" y="8905"/>
                </a:cubicBezTo>
                <a:cubicBezTo>
                  <a:pt x="12931" y="8905"/>
                  <a:pt x="12915" y="8905"/>
                  <a:pt x="12898" y="8905"/>
                </a:cubicBezTo>
              </a:path>
              <a:path w="745" h="1241">
                <a:moveTo>
                  <a:pt x="13295" y="7789"/>
                </a:moveTo>
                <a:cubicBezTo>
                  <a:pt x="13310" y="7744"/>
                  <a:pt x="13355" y="7757"/>
                  <a:pt x="13395" y="7789"/>
                </a:cubicBezTo>
                <a:cubicBezTo>
                  <a:pt x="13455" y="7837"/>
                  <a:pt x="13496" y="7888"/>
                  <a:pt x="13519" y="7962"/>
                </a:cubicBezTo>
                <a:cubicBezTo>
                  <a:pt x="13565" y="8106"/>
                  <a:pt x="13568" y="8235"/>
                  <a:pt x="13568" y="8384"/>
                </a:cubicBezTo>
                <a:cubicBezTo>
                  <a:pt x="13568" y="8537"/>
                  <a:pt x="13554" y="8736"/>
                  <a:pt x="13494" y="8880"/>
                </a:cubicBezTo>
                <a:cubicBezTo>
                  <a:pt x="13450" y="8945"/>
                  <a:pt x="13439" y="8959"/>
                  <a:pt x="13419" y="90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01800" y="3732120"/>
            <a:ext cx="206280" cy="196920"/>
          </a:xfrm>
          <a:custGeom>
            <a:avLst/>
            <a:gdLst/>
            <a:ahLst/>
            <a:rect l="l" t="t" r="r" b="b"/>
            <a:pathLst>
              <a:path w="572" h="547">
                <a:moveTo>
                  <a:pt x="2604" y="10393"/>
                </a:moveTo>
                <a:cubicBezTo>
                  <a:pt x="2632" y="10393"/>
                  <a:pt x="2643" y="10391"/>
                  <a:pt x="2654" y="10368"/>
                </a:cubicBezTo>
                <a:cubicBezTo>
                  <a:pt x="2593" y="10383"/>
                  <a:pt x="2592" y="10419"/>
                  <a:pt x="2555" y="10468"/>
                </a:cubicBezTo>
                <a:cubicBezTo>
                  <a:pt x="2533" y="10496"/>
                  <a:pt x="2480" y="10549"/>
                  <a:pt x="2505" y="10592"/>
                </a:cubicBezTo>
                <a:cubicBezTo>
                  <a:pt x="2524" y="10625"/>
                  <a:pt x="2598" y="10642"/>
                  <a:pt x="2629" y="10666"/>
                </a:cubicBezTo>
                <a:cubicBezTo>
                  <a:pt x="2666" y="10694"/>
                  <a:pt x="2715" y="10768"/>
                  <a:pt x="2704" y="10815"/>
                </a:cubicBezTo>
                <a:cubicBezTo>
                  <a:pt x="2686" y="10891"/>
                  <a:pt x="2674" y="10889"/>
                  <a:pt x="2604" y="10889"/>
                </a:cubicBezTo>
                <a:cubicBezTo>
                  <a:pt x="2553" y="10889"/>
                  <a:pt x="2518" y="10904"/>
                  <a:pt x="2505" y="10864"/>
                </a:cubicBezTo>
              </a:path>
              <a:path w="572" h="547">
                <a:moveTo>
                  <a:pt x="2902" y="10815"/>
                </a:moveTo>
                <a:cubicBezTo>
                  <a:pt x="2902" y="10772"/>
                  <a:pt x="2888" y="10718"/>
                  <a:pt x="2927" y="10691"/>
                </a:cubicBezTo>
                <a:cubicBezTo>
                  <a:pt x="2978" y="10656"/>
                  <a:pt x="3051" y="10705"/>
                  <a:pt x="3076" y="10765"/>
                </a:cubicBezTo>
                <a:cubicBezTo>
                  <a:pt x="3089" y="10796"/>
                  <a:pt x="3088" y="10896"/>
                  <a:pt x="3051" y="10914"/>
                </a:cubicBezTo>
                <a:cubicBezTo>
                  <a:pt x="3013" y="10933"/>
                  <a:pt x="2970" y="10892"/>
                  <a:pt x="2952" y="10864"/>
                </a:cubicBezTo>
                <a:cubicBezTo>
                  <a:pt x="2944" y="10848"/>
                  <a:pt x="2935" y="10831"/>
                  <a:pt x="2927" y="10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25760" y="3562200"/>
            <a:ext cx="223560" cy="474840"/>
          </a:xfrm>
          <a:custGeom>
            <a:avLst/>
            <a:gdLst/>
            <a:ahLst/>
            <a:rect l="l" t="t" r="r" b="b"/>
            <a:pathLst>
              <a:path w="622" h="1316">
                <a:moveTo>
                  <a:pt x="4911" y="10120"/>
                </a:moveTo>
                <a:cubicBezTo>
                  <a:pt x="4939" y="10084"/>
                  <a:pt x="4950" y="10078"/>
                  <a:pt x="4961" y="10046"/>
                </a:cubicBezTo>
                <a:cubicBezTo>
                  <a:pt x="4924" y="10055"/>
                  <a:pt x="4885" y="10084"/>
                  <a:pt x="4862" y="10120"/>
                </a:cubicBezTo>
                <a:cubicBezTo>
                  <a:pt x="4812" y="10198"/>
                  <a:pt x="4806" y="10236"/>
                  <a:pt x="4837" y="10319"/>
                </a:cubicBezTo>
                <a:cubicBezTo>
                  <a:pt x="4899" y="10281"/>
                  <a:pt x="4902" y="10227"/>
                  <a:pt x="4936" y="10170"/>
                </a:cubicBezTo>
                <a:cubicBezTo>
                  <a:pt x="4972" y="10110"/>
                  <a:pt x="5032" y="10158"/>
                  <a:pt x="5060" y="10195"/>
                </a:cubicBezTo>
                <a:cubicBezTo>
                  <a:pt x="5085" y="10244"/>
                  <a:pt x="5094" y="10261"/>
                  <a:pt x="5135" y="10269"/>
                </a:cubicBezTo>
              </a:path>
              <a:path w="622" h="1316">
                <a:moveTo>
                  <a:pt x="4936" y="11013"/>
                </a:moveTo>
                <a:cubicBezTo>
                  <a:pt x="4958" y="10991"/>
                  <a:pt x="4967" y="10986"/>
                  <a:pt x="4961" y="10964"/>
                </a:cubicBezTo>
                <a:cubicBezTo>
                  <a:pt x="4922" y="10973"/>
                  <a:pt x="4864" y="11001"/>
                  <a:pt x="4837" y="11038"/>
                </a:cubicBezTo>
                <a:cubicBezTo>
                  <a:pt x="4786" y="11109"/>
                  <a:pt x="4810" y="11179"/>
                  <a:pt x="4887" y="11212"/>
                </a:cubicBezTo>
                <a:cubicBezTo>
                  <a:pt x="4953" y="11240"/>
                  <a:pt x="5013" y="11200"/>
                  <a:pt x="5060" y="11162"/>
                </a:cubicBezTo>
              </a:path>
              <a:path w="622" h="1316">
                <a:moveTo>
                  <a:pt x="4614" y="9996"/>
                </a:moveTo>
                <a:cubicBezTo>
                  <a:pt x="4635" y="9959"/>
                  <a:pt x="4654" y="9934"/>
                  <a:pt x="4663" y="9897"/>
                </a:cubicBezTo>
                <a:cubicBezTo>
                  <a:pt x="4614" y="9996"/>
                  <a:pt x="4569" y="10088"/>
                  <a:pt x="4539" y="10195"/>
                </a:cubicBezTo>
                <a:cubicBezTo>
                  <a:pt x="4491" y="10368"/>
                  <a:pt x="4514" y="10568"/>
                  <a:pt x="4564" y="10740"/>
                </a:cubicBezTo>
                <a:cubicBezTo>
                  <a:pt x="4599" y="10862"/>
                  <a:pt x="4627" y="11023"/>
                  <a:pt x="4688" y="11137"/>
                </a:cubicBezTo>
                <a:cubicBezTo>
                  <a:pt x="4713" y="11162"/>
                  <a:pt x="4721" y="11170"/>
                  <a:pt x="4738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43080" y="3483000"/>
            <a:ext cx="563760" cy="490680"/>
          </a:xfrm>
          <a:custGeom>
            <a:avLst/>
            <a:gdLst/>
            <a:ahLst/>
            <a:rect l="l" t="t" r="r" b="b"/>
            <a:pathLst>
              <a:path w="1564" h="1365">
                <a:moveTo>
                  <a:pt x="6176" y="9748"/>
                </a:moveTo>
                <a:cubicBezTo>
                  <a:pt x="6168" y="9740"/>
                  <a:pt x="6160" y="9731"/>
                  <a:pt x="6152" y="9723"/>
                </a:cubicBezTo>
                <a:cubicBezTo>
                  <a:pt x="6152" y="9889"/>
                  <a:pt x="6152" y="10054"/>
                  <a:pt x="6152" y="10220"/>
                </a:cubicBezTo>
                <a:cubicBezTo>
                  <a:pt x="6177" y="10150"/>
                  <a:pt x="6177" y="10089"/>
                  <a:pt x="6251" y="10046"/>
                </a:cubicBezTo>
                <a:cubicBezTo>
                  <a:pt x="6276" y="10046"/>
                  <a:pt x="6284" y="10046"/>
                  <a:pt x="6300" y="10046"/>
                </a:cubicBezTo>
                <a:cubicBezTo>
                  <a:pt x="6315" y="10073"/>
                  <a:pt x="6385" y="10160"/>
                  <a:pt x="6350" y="10195"/>
                </a:cubicBezTo>
                <a:cubicBezTo>
                  <a:pt x="6299" y="10246"/>
                  <a:pt x="6242" y="10244"/>
                  <a:pt x="6176" y="10244"/>
                </a:cubicBezTo>
                <a:cubicBezTo>
                  <a:pt x="6160" y="10244"/>
                  <a:pt x="6143" y="10244"/>
                  <a:pt x="6127" y="10244"/>
                </a:cubicBezTo>
              </a:path>
              <a:path w="1564" h="1365">
                <a:moveTo>
                  <a:pt x="6028" y="10939"/>
                </a:moveTo>
                <a:cubicBezTo>
                  <a:pt x="6013" y="10895"/>
                  <a:pt x="5973" y="10921"/>
                  <a:pt x="5953" y="10964"/>
                </a:cubicBezTo>
                <a:cubicBezTo>
                  <a:pt x="5934" y="11005"/>
                  <a:pt x="5957" y="11024"/>
                  <a:pt x="5978" y="11038"/>
                </a:cubicBezTo>
                <a:cubicBezTo>
                  <a:pt x="6083" y="11008"/>
                  <a:pt x="6054" y="10943"/>
                  <a:pt x="6077" y="10840"/>
                </a:cubicBezTo>
                <a:cubicBezTo>
                  <a:pt x="6094" y="10765"/>
                  <a:pt x="6091" y="10676"/>
                  <a:pt x="6127" y="10616"/>
                </a:cubicBezTo>
                <a:cubicBezTo>
                  <a:pt x="6142" y="10690"/>
                  <a:pt x="6154" y="10765"/>
                  <a:pt x="6176" y="10840"/>
                </a:cubicBezTo>
                <a:cubicBezTo>
                  <a:pt x="6194" y="10902"/>
                  <a:pt x="6212" y="10940"/>
                  <a:pt x="6251" y="10988"/>
                </a:cubicBezTo>
              </a:path>
              <a:path w="1564" h="1365">
                <a:moveTo>
                  <a:pt x="6424" y="9674"/>
                </a:moveTo>
                <a:cubicBezTo>
                  <a:pt x="6474" y="9674"/>
                  <a:pt x="6506" y="9691"/>
                  <a:pt x="6548" y="9723"/>
                </a:cubicBezTo>
                <a:cubicBezTo>
                  <a:pt x="6621" y="9777"/>
                  <a:pt x="6652" y="9887"/>
                  <a:pt x="6672" y="9971"/>
                </a:cubicBezTo>
                <a:cubicBezTo>
                  <a:pt x="6710" y="10130"/>
                  <a:pt x="6704" y="10284"/>
                  <a:pt x="6672" y="10443"/>
                </a:cubicBezTo>
                <a:cubicBezTo>
                  <a:pt x="6645" y="10579"/>
                  <a:pt x="6600" y="10692"/>
                  <a:pt x="6548" y="10815"/>
                </a:cubicBezTo>
                <a:cubicBezTo>
                  <a:pt x="6540" y="10840"/>
                  <a:pt x="6532" y="10864"/>
                  <a:pt x="6524" y="10889"/>
                </a:cubicBezTo>
              </a:path>
              <a:path w="1564" h="1365">
                <a:moveTo>
                  <a:pt x="7193" y="9971"/>
                </a:moveTo>
                <a:cubicBezTo>
                  <a:pt x="7193" y="9947"/>
                  <a:pt x="7193" y="9938"/>
                  <a:pt x="7193" y="9922"/>
                </a:cubicBezTo>
                <a:cubicBezTo>
                  <a:pt x="7237" y="9937"/>
                  <a:pt x="7218" y="9993"/>
                  <a:pt x="7218" y="10046"/>
                </a:cubicBezTo>
                <a:cubicBezTo>
                  <a:pt x="7218" y="10173"/>
                  <a:pt x="7251" y="10272"/>
                  <a:pt x="7268" y="10393"/>
                </a:cubicBezTo>
                <a:cubicBezTo>
                  <a:pt x="7276" y="10450"/>
                  <a:pt x="7282" y="10489"/>
                  <a:pt x="7293" y="10542"/>
                </a:cubicBezTo>
              </a:path>
              <a:path w="1564" h="1365">
                <a:moveTo>
                  <a:pt x="7218" y="10120"/>
                </a:moveTo>
                <a:cubicBezTo>
                  <a:pt x="7218" y="10072"/>
                  <a:pt x="7223" y="10010"/>
                  <a:pt x="7243" y="9971"/>
                </a:cubicBezTo>
                <a:cubicBezTo>
                  <a:pt x="7276" y="9907"/>
                  <a:pt x="7259" y="9879"/>
                  <a:pt x="7342" y="9872"/>
                </a:cubicBezTo>
                <a:cubicBezTo>
                  <a:pt x="7401" y="9867"/>
                  <a:pt x="7415" y="9978"/>
                  <a:pt x="7417" y="10021"/>
                </a:cubicBezTo>
                <a:cubicBezTo>
                  <a:pt x="7422" y="10105"/>
                  <a:pt x="7430" y="10138"/>
                  <a:pt x="7342" y="10145"/>
                </a:cubicBezTo>
                <a:cubicBezTo>
                  <a:pt x="7334" y="10145"/>
                  <a:pt x="7325" y="10145"/>
                  <a:pt x="7317" y="10145"/>
                </a:cubicBezTo>
              </a:path>
              <a:path w="1564" h="1365">
                <a:moveTo>
                  <a:pt x="7342" y="11013"/>
                </a:moveTo>
                <a:cubicBezTo>
                  <a:pt x="7334" y="11013"/>
                  <a:pt x="7325" y="11013"/>
                  <a:pt x="7317" y="11013"/>
                </a:cubicBezTo>
                <a:cubicBezTo>
                  <a:pt x="7317" y="10978"/>
                  <a:pt x="7298" y="10877"/>
                  <a:pt x="7342" y="10864"/>
                </a:cubicBezTo>
                <a:cubicBezTo>
                  <a:pt x="7390" y="10849"/>
                  <a:pt x="7465" y="10864"/>
                  <a:pt x="7516" y="10864"/>
                </a:cubicBezTo>
              </a:path>
              <a:path w="1564" h="1365">
                <a:moveTo>
                  <a:pt x="6995" y="9723"/>
                </a:moveTo>
                <a:cubicBezTo>
                  <a:pt x="7023" y="9723"/>
                  <a:pt x="7034" y="9721"/>
                  <a:pt x="7045" y="9699"/>
                </a:cubicBezTo>
                <a:cubicBezTo>
                  <a:pt x="7045" y="9754"/>
                  <a:pt x="7040" y="9770"/>
                  <a:pt x="7020" y="9823"/>
                </a:cubicBezTo>
                <a:cubicBezTo>
                  <a:pt x="6977" y="9941"/>
                  <a:pt x="6932" y="10069"/>
                  <a:pt x="6921" y="10195"/>
                </a:cubicBezTo>
                <a:cubicBezTo>
                  <a:pt x="6907" y="10353"/>
                  <a:pt x="6959" y="10522"/>
                  <a:pt x="7020" y="10666"/>
                </a:cubicBezTo>
                <a:cubicBezTo>
                  <a:pt x="7054" y="10745"/>
                  <a:pt x="7125" y="10884"/>
                  <a:pt x="7193" y="10939"/>
                </a:cubicBezTo>
                <a:cubicBezTo>
                  <a:pt x="7201" y="10939"/>
                  <a:pt x="7210" y="10939"/>
                  <a:pt x="7218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84320" y="3554280"/>
            <a:ext cx="277920" cy="366840"/>
          </a:xfrm>
          <a:custGeom>
            <a:avLst/>
            <a:gdLst/>
            <a:ahLst/>
            <a:rect l="l" t="t" r="r" b="b"/>
            <a:pathLst>
              <a:path w="770" h="1018">
                <a:moveTo>
                  <a:pt x="8086" y="9947"/>
                </a:moveTo>
                <a:cubicBezTo>
                  <a:pt x="8114" y="9910"/>
                  <a:pt x="8125" y="9904"/>
                  <a:pt x="8136" y="9872"/>
                </a:cubicBezTo>
                <a:cubicBezTo>
                  <a:pt x="8092" y="9916"/>
                  <a:pt x="8029" y="9958"/>
                  <a:pt x="8012" y="10021"/>
                </a:cubicBezTo>
                <a:cubicBezTo>
                  <a:pt x="8012" y="10063"/>
                  <a:pt x="8012" y="10071"/>
                  <a:pt x="8012" y="10096"/>
                </a:cubicBezTo>
                <a:cubicBezTo>
                  <a:pt x="8058" y="10096"/>
                  <a:pt x="8084" y="10089"/>
                  <a:pt x="8111" y="10046"/>
                </a:cubicBezTo>
                <a:cubicBezTo>
                  <a:pt x="8146" y="9991"/>
                  <a:pt x="8118" y="9985"/>
                  <a:pt x="8161" y="9971"/>
                </a:cubicBezTo>
                <a:cubicBezTo>
                  <a:pt x="8185" y="9979"/>
                  <a:pt x="8207" y="10022"/>
                  <a:pt x="8210" y="10046"/>
                </a:cubicBezTo>
                <a:cubicBezTo>
                  <a:pt x="8221" y="10134"/>
                  <a:pt x="8199" y="10213"/>
                  <a:pt x="8186" y="10294"/>
                </a:cubicBezTo>
                <a:cubicBezTo>
                  <a:pt x="8181" y="10323"/>
                  <a:pt x="8186" y="10362"/>
                  <a:pt x="8186" y="10393"/>
                </a:cubicBezTo>
                <a:cubicBezTo>
                  <a:pt x="8230" y="10382"/>
                  <a:pt x="8265" y="10343"/>
                  <a:pt x="8310" y="10319"/>
                </a:cubicBezTo>
                <a:cubicBezTo>
                  <a:pt x="8365" y="10289"/>
                  <a:pt x="8410" y="10273"/>
                  <a:pt x="8458" y="10244"/>
                </a:cubicBezTo>
              </a:path>
              <a:path w="770" h="1018">
                <a:moveTo>
                  <a:pt x="8235" y="10691"/>
                </a:moveTo>
                <a:cubicBezTo>
                  <a:pt x="8255" y="10650"/>
                  <a:pt x="8264" y="10644"/>
                  <a:pt x="8260" y="10616"/>
                </a:cubicBezTo>
                <a:cubicBezTo>
                  <a:pt x="8212" y="10628"/>
                  <a:pt x="8204" y="10672"/>
                  <a:pt x="8161" y="10691"/>
                </a:cubicBezTo>
                <a:cubicBezTo>
                  <a:pt x="8136" y="10691"/>
                  <a:pt x="8128" y="10691"/>
                  <a:pt x="8136" y="10716"/>
                </a:cubicBezTo>
                <a:cubicBezTo>
                  <a:pt x="8175" y="10744"/>
                  <a:pt x="8223" y="10740"/>
                  <a:pt x="8260" y="10765"/>
                </a:cubicBezTo>
                <a:cubicBezTo>
                  <a:pt x="8283" y="10780"/>
                  <a:pt x="8301" y="10836"/>
                  <a:pt x="8285" y="10864"/>
                </a:cubicBezTo>
                <a:cubicBezTo>
                  <a:pt x="8262" y="10887"/>
                  <a:pt x="8258" y="10895"/>
                  <a:pt x="8235" y="10889"/>
                </a:cubicBezTo>
              </a:path>
              <a:path w="770" h="1018">
                <a:moveTo>
                  <a:pt x="8607" y="9872"/>
                </a:moveTo>
                <a:cubicBezTo>
                  <a:pt x="8648" y="9913"/>
                  <a:pt x="8678" y="9944"/>
                  <a:pt x="8706" y="9996"/>
                </a:cubicBezTo>
                <a:cubicBezTo>
                  <a:pt x="8763" y="10105"/>
                  <a:pt x="8778" y="10197"/>
                  <a:pt x="8781" y="10319"/>
                </a:cubicBezTo>
                <a:cubicBezTo>
                  <a:pt x="8784" y="10446"/>
                  <a:pt x="8784" y="10594"/>
                  <a:pt x="8756" y="10716"/>
                </a:cubicBezTo>
                <a:cubicBezTo>
                  <a:pt x="8739" y="10787"/>
                  <a:pt x="8706" y="10822"/>
                  <a:pt x="8657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02000" y="3687840"/>
            <a:ext cx="71280" cy="81000"/>
          </a:xfrm>
          <a:custGeom>
            <a:avLst/>
            <a:gdLst/>
            <a:ahLst/>
            <a:rect l="l" t="t" r="r" b="b"/>
            <a:pathLst>
              <a:path w="199" h="225">
                <a:moveTo>
                  <a:pt x="9525" y="10244"/>
                </a:moveTo>
                <a:cubicBezTo>
                  <a:pt x="9578" y="10244"/>
                  <a:pt x="9562" y="10256"/>
                  <a:pt x="9599" y="10269"/>
                </a:cubicBezTo>
                <a:cubicBezTo>
                  <a:pt x="9575" y="10275"/>
                  <a:pt x="9521" y="10282"/>
                  <a:pt x="9500" y="10294"/>
                </a:cubicBezTo>
                <a:cubicBezTo>
                  <a:pt x="9478" y="10316"/>
                  <a:pt x="9473" y="10325"/>
                  <a:pt x="9451" y="10319"/>
                </a:cubicBezTo>
              </a:path>
              <a:path w="199" h="225">
                <a:moveTo>
                  <a:pt x="9575" y="10418"/>
                </a:moveTo>
                <a:cubicBezTo>
                  <a:pt x="9600" y="10422"/>
                  <a:pt x="9675" y="10443"/>
                  <a:pt x="9624" y="10443"/>
                </a:cubicBezTo>
                <a:cubicBezTo>
                  <a:pt x="9580" y="10443"/>
                  <a:pt x="9585" y="10441"/>
                  <a:pt x="9550" y="10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43200" y="3456000"/>
            <a:ext cx="241560" cy="608040"/>
          </a:xfrm>
          <a:custGeom>
            <a:avLst/>
            <a:gdLst/>
            <a:ahLst/>
            <a:rect l="l" t="t" r="r" b="b"/>
            <a:pathLst>
              <a:path w="671" h="1688">
                <a:moveTo>
                  <a:pt x="10666" y="9847"/>
                </a:moveTo>
                <a:cubicBezTo>
                  <a:pt x="10637" y="9810"/>
                  <a:pt x="10641" y="9796"/>
                  <a:pt x="10641" y="9748"/>
                </a:cubicBezTo>
                <a:cubicBezTo>
                  <a:pt x="10641" y="9740"/>
                  <a:pt x="10641" y="9731"/>
                  <a:pt x="10641" y="9723"/>
                </a:cubicBezTo>
                <a:cubicBezTo>
                  <a:pt x="10591" y="9757"/>
                  <a:pt x="10632" y="9828"/>
                  <a:pt x="10616" y="9897"/>
                </a:cubicBezTo>
                <a:cubicBezTo>
                  <a:pt x="10603" y="9955"/>
                  <a:pt x="10592" y="9983"/>
                  <a:pt x="10592" y="10046"/>
                </a:cubicBezTo>
              </a:path>
              <a:path w="671" h="1688">
                <a:moveTo>
                  <a:pt x="10716" y="10468"/>
                </a:moveTo>
                <a:cubicBezTo>
                  <a:pt x="10678" y="10495"/>
                  <a:pt x="10664" y="10492"/>
                  <a:pt x="10616" y="10492"/>
                </a:cubicBezTo>
                <a:cubicBezTo>
                  <a:pt x="10616" y="10431"/>
                  <a:pt x="10603" y="10366"/>
                  <a:pt x="10641" y="10319"/>
                </a:cubicBezTo>
                <a:cubicBezTo>
                  <a:pt x="10671" y="10281"/>
                  <a:pt x="10736" y="10278"/>
                  <a:pt x="10765" y="10319"/>
                </a:cubicBezTo>
                <a:cubicBezTo>
                  <a:pt x="10797" y="10364"/>
                  <a:pt x="10805" y="10463"/>
                  <a:pt x="10790" y="10517"/>
                </a:cubicBezTo>
                <a:cubicBezTo>
                  <a:pt x="10776" y="10567"/>
                  <a:pt x="10755" y="10624"/>
                  <a:pt x="10691" y="10592"/>
                </a:cubicBezTo>
                <a:cubicBezTo>
                  <a:pt x="10657" y="10575"/>
                  <a:pt x="10648" y="10500"/>
                  <a:pt x="10641" y="10468"/>
                </a:cubicBezTo>
              </a:path>
              <a:path w="671" h="1688">
                <a:moveTo>
                  <a:pt x="10319" y="9649"/>
                </a:moveTo>
                <a:cubicBezTo>
                  <a:pt x="10350" y="9628"/>
                  <a:pt x="10347" y="9631"/>
                  <a:pt x="10368" y="9599"/>
                </a:cubicBezTo>
                <a:cubicBezTo>
                  <a:pt x="10336" y="9632"/>
                  <a:pt x="10329" y="9661"/>
                  <a:pt x="10294" y="9723"/>
                </a:cubicBezTo>
                <a:cubicBezTo>
                  <a:pt x="10215" y="9864"/>
                  <a:pt x="10195" y="10009"/>
                  <a:pt x="10170" y="10170"/>
                </a:cubicBezTo>
                <a:cubicBezTo>
                  <a:pt x="10133" y="10405"/>
                  <a:pt x="10120" y="10627"/>
                  <a:pt x="10120" y="10864"/>
                </a:cubicBezTo>
                <a:cubicBezTo>
                  <a:pt x="10120" y="11005"/>
                  <a:pt x="10160" y="11126"/>
                  <a:pt x="10170" y="11261"/>
                </a:cubicBezTo>
                <a:cubicBezTo>
                  <a:pt x="10170" y="11269"/>
                  <a:pt x="10170" y="11278"/>
                  <a:pt x="10170" y="11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90960" y="3483000"/>
            <a:ext cx="196920" cy="339840"/>
          </a:xfrm>
          <a:custGeom>
            <a:avLst/>
            <a:gdLst/>
            <a:ahLst/>
            <a:rect l="l" t="t" r="r" b="b"/>
            <a:pathLst>
              <a:path w="546" h="943">
                <a:moveTo>
                  <a:pt x="11162" y="10170"/>
                </a:moveTo>
                <a:cubicBezTo>
                  <a:pt x="11139" y="10193"/>
                  <a:pt x="11135" y="10201"/>
                  <a:pt x="11112" y="10195"/>
                </a:cubicBezTo>
                <a:cubicBezTo>
                  <a:pt x="11112" y="10149"/>
                  <a:pt x="11110" y="10126"/>
                  <a:pt x="11162" y="10120"/>
                </a:cubicBezTo>
                <a:cubicBezTo>
                  <a:pt x="11225" y="10113"/>
                  <a:pt x="11253" y="10225"/>
                  <a:pt x="11261" y="10269"/>
                </a:cubicBezTo>
                <a:cubicBezTo>
                  <a:pt x="11276" y="10349"/>
                  <a:pt x="11260" y="10408"/>
                  <a:pt x="11212" y="10468"/>
                </a:cubicBezTo>
                <a:cubicBezTo>
                  <a:pt x="11161" y="10455"/>
                  <a:pt x="11101" y="10403"/>
                  <a:pt x="11088" y="10344"/>
                </a:cubicBezTo>
                <a:cubicBezTo>
                  <a:pt x="11088" y="10269"/>
                  <a:pt x="11088" y="10245"/>
                  <a:pt x="11088" y="10195"/>
                </a:cubicBezTo>
              </a:path>
              <a:path w="546" h="943">
                <a:moveTo>
                  <a:pt x="11137" y="10220"/>
                </a:moveTo>
                <a:cubicBezTo>
                  <a:pt x="11137" y="10288"/>
                  <a:pt x="11133" y="10176"/>
                  <a:pt x="11137" y="10170"/>
                </a:cubicBezTo>
                <a:cubicBezTo>
                  <a:pt x="11187" y="10080"/>
                  <a:pt x="11187" y="10251"/>
                  <a:pt x="11187" y="10269"/>
                </a:cubicBezTo>
                <a:cubicBezTo>
                  <a:pt x="11187" y="10351"/>
                  <a:pt x="11168" y="10415"/>
                  <a:pt x="11162" y="10492"/>
                </a:cubicBezTo>
                <a:cubicBezTo>
                  <a:pt x="11162" y="10500"/>
                  <a:pt x="11162" y="10509"/>
                  <a:pt x="11162" y="10517"/>
                </a:cubicBezTo>
                <a:cubicBezTo>
                  <a:pt x="11162" y="10407"/>
                  <a:pt x="11148" y="10296"/>
                  <a:pt x="11187" y="10195"/>
                </a:cubicBezTo>
                <a:cubicBezTo>
                  <a:pt x="11187" y="10127"/>
                  <a:pt x="11187" y="10302"/>
                  <a:pt x="11187" y="10319"/>
                </a:cubicBezTo>
                <a:cubicBezTo>
                  <a:pt x="11187" y="10341"/>
                  <a:pt x="11187" y="10501"/>
                  <a:pt x="11187" y="10443"/>
                </a:cubicBezTo>
                <a:cubicBezTo>
                  <a:pt x="11187" y="10372"/>
                  <a:pt x="11165" y="10314"/>
                  <a:pt x="11162" y="10244"/>
                </a:cubicBezTo>
                <a:cubicBezTo>
                  <a:pt x="11160" y="10203"/>
                  <a:pt x="11162" y="10161"/>
                  <a:pt x="11162" y="10120"/>
                </a:cubicBezTo>
                <a:cubicBezTo>
                  <a:pt x="11198" y="10144"/>
                  <a:pt x="11187" y="10187"/>
                  <a:pt x="11187" y="10244"/>
                </a:cubicBezTo>
                <a:cubicBezTo>
                  <a:pt x="11187" y="10294"/>
                  <a:pt x="11187" y="10343"/>
                  <a:pt x="11187" y="10393"/>
                </a:cubicBezTo>
                <a:cubicBezTo>
                  <a:pt x="11152" y="10346"/>
                  <a:pt x="11162" y="10306"/>
                  <a:pt x="11162" y="10244"/>
                </a:cubicBezTo>
                <a:cubicBezTo>
                  <a:pt x="11162" y="10221"/>
                  <a:pt x="11181" y="10116"/>
                  <a:pt x="11187" y="10195"/>
                </a:cubicBezTo>
                <a:cubicBezTo>
                  <a:pt x="11193" y="10277"/>
                  <a:pt x="11187" y="10361"/>
                  <a:pt x="11187" y="10443"/>
                </a:cubicBezTo>
              </a:path>
              <a:path w="546" h="943">
                <a:moveTo>
                  <a:pt x="11162" y="9872"/>
                </a:moveTo>
                <a:cubicBezTo>
                  <a:pt x="11120" y="9817"/>
                  <a:pt x="11144" y="9827"/>
                  <a:pt x="11162" y="9773"/>
                </a:cubicBezTo>
                <a:cubicBezTo>
                  <a:pt x="11174" y="9736"/>
                  <a:pt x="11196" y="9712"/>
                  <a:pt x="11237" y="9699"/>
                </a:cubicBezTo>
                <a:cubicBezTo>
                  <a:pt x="11295" y="9680"/>
                  <a:pt x="11314" y="9732"/>
                  <a:pt x="11336" y="9773"/>
                </a:cubicBezTo>
                <a:cubicBezTo>
                  <a:pt x="11379" y="9854"/>
                  <a:pt x="11362" y="9923"/>
                  <a:pt x="11311" y="9996"/>
                </a:cubicBezTo>
                <a:cubicBezTo>
                  <a:pt x="11264" y="10063"/>
                  <a:pt x="11218" y="10005"/>
                  <a:pt x="11187" y="9971"/>
                </a:cubicBezTo>
                <a:cubicBezTo>
                  <a:pt x="11158" y="9943"/>
                  <a:pt x="11150" y="9930"/>
                  <a:pt x="11162" y="9897"/>
                </a:cubicBezTo>
              </a:path>
              <a:path w="546" h="943">
                <a:moveTo>
                  <a:pt x="11485" y="9674"/>
                </a:moveTo>
                <a:cubicBezTo>
                  <a:pt x="11531" y="9674"/>
                  <a:pt x="11548" y="9668"/>
                  <a:pt x="11584" y="9699"/>
                </a:cubicBezTo>
                <a:cubicBezTo>
                  <a:pt x="11630" y="9739"/>
                  <a:pt x="11631" y="9813"/>
                  <a:pt x="11633" y="9872"/>
                </a:cubicBezTo>
                <a:cubicBezTo>
                  <a:pt x="11638" y="10034"/>
                  <a:pt x="11597" y="10196"/>
                  <a:pt x="11534" y="10344"/>
                </a:cubicBezTo>
                <a:cubicBezTo>
                  <a:pt x="11495" y="10435"/>
                  <a:pt x="11444" y="10516"/>
                  <a:pt x="11385" y="10592"/>
                </a:cubicBezTo>
                <a:cubicBezTo>
                  <a:pt x="11377" y="10600"/>
                  <a:pt x="11369" y="10608"/>
                  <a:pt x="11361" y="106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35000" y="4473720"/>
            <a:ext cx="206280" cy="447480"/>
          </a:xfrm>
          <a:custGeom>
            <a:avLst/>
            <a:gdLst/>
            <a:ahLst/>
            <a:rect l="l" t="t" r="r" b="b"/>
            <a:pathLst>
              <a:path w="572" h="1241">
                <a:moveTo>
                  <a:pt x="3225" y="12675"/>
                </a:moveTo>
                <a:cubicBezTo>
                  <a:pt x="3215" y="12636"/>
                  <a:pt x="3200" y="12621"/>
                  <a:pt x="3200" y="12576"/>
                </a:cubicBezTo>
                <a:cubicBezTo>
                  <a:pt x="3200" y="12641"/>
                  <a:pt x="3217" y="12687"/>
                  <a:pt x="3225" y="12750"/>
                </a:cubicBezTo>
              </a:path>
              <a:path w="572" h="1241">
                <a:moveTo>
                  <a:pt x="3175" y="13320"/>
                </a:moveTo>
                <a:cubicBezTo>
                  <a:pt x="3175" y="13312"/>
                  <a:pt x="3175" y="13303"/>
                  <a:pt x="3175" y="13295"/>
                </a:cubicBezTo>
                <a:cubicBezTo>
                  <a:pt x="3137" y="13308"/>
                  <a:pt x="3150" y="13325"/>
                  <a:pt x="3150" y="13370"/>
                </a:cubicBezTo>
                <a:cubicBezTo>
                  <a:pt x="3150" y="13414"/>
                  <a:pt x="3147" y="13428"/>
                  <a:pt x="3175" y="13444"/>
                </a:cubicBezTo>
              </a:path>
              <a:path w="572" h="1241">
                <a:moveTo>
                  <a:pt x="3274" y="13345"/>
                </a:moveTo>
                <a:cubicBezTo>
                  <a:pt x="3293" y="13288"/>
                  <a:pt x="3284" y="13263"/>
                  <a:pt x="3324" y="13271"/>
                </a:cubicBezTo>
                <a:cubicBezTo>
                  <a:pt x="3356" y="13313"/>
                  <a:pt x="3347" y="13349"/>
                  <a:pt x="3373" y="13395"/>
                </a:cubicBezTo>
              </a:path>
              <a:path w="572" h="1241">
                <a:moveTo>
                  <a:pt x="3101" y="13593"/>
                </a:moveTo>
                <a:cubicBezTo>
                  <a:pt x="3148" y="13609"/>
                  <a:pt x="3119" y="13638"/>
                  <a:pt x="3076" y="13643"/>
                </a:cubicBezTo>
                <a:cubicBezTo>
                  <a:pt x="3023" y="13649"/>
                  <a:pt x="3026" y="13687"/>
                  <a:pt x="2977" y="13643"/>
                </a:cubicBezTo>
                <a:cubicBezTo>
                  <a:pt x="2938" y="13609"/>
                  <a:pt x="2894" y="13569"/>
                  <a:pt x="2877" y="13519"/>
                </a:cubicBezTo>
                <a:cubicBezTo>
                  <a:pt x="2855" y="13453"/>
                  <a:pt x="2876" y="13329"/>
                  <a:pt x="2902" y="13271"/>
                </a:cubicBezTo>
                <a:cubicBezTo>
                  <a:pt x="2947" y="13171"/>
                  <a:pt x="2970" y="13139"/>
                  <a:pt x="3051" y="13072"/>
                </a:cubicBezTo>
                <a:cubicBezTo>
                  <a:pt x="3112" y="13021"/>
                  <a:pt x="3166" y="13001"/>
                  <a:pt x="3249" y="12998"/>
                </a:cubicBezTo>
                <a:cubicBezTo>
                  <a:pt x="3356" y="12993"/>
                  <a:pt x="3385" y="13026"/>
                  <a:pt x="3423" y="13122"/>
                </a:cubicBezTo>
                <a:cubicBezTo>
                  <a:pt x="3464" y="13225"/>
                  <a:pt x="3459" y="13340"/>
                  <a:pt x="3423" y="13444"/>
                </a:cubicBezTo>
                <a:cubicBezTo>
                  <a:pt x="3395" y="13523"/>
                  <a:pt x="3342" y="13577"/>
                  <a:pt x="3274" y="13618"/>
                </a:cubicBezTo>
                <a:cubicBezTo>
                  <a:pt x="3258" y="13626"/>
                  <a:pt x="3241" y="13635"/>
                  <a:pt x="3225" y="13643"/>
                </a:cubicBezTo>
              </a:path>
              <a:path w="572" h="1241">
                <a:moveTo>
                  <a:pt x="3175" y="12799"/>
                </a:moveTo>
                <a:cubicBezTo>
                  <a:pt x="3194" y="12855"/>
                  <a:pt x="3194" y="12810"/>
                  <a:pt x="3175" y="12849"/>
                </a:cubicBezTo>
                <a:cubicBezTo>
                  <a:pt x="3149" y="12902"/>
                  <a:pt x="3144" y="12898"/>
                  <a:pt x="3076" y="12898"/>
                </a:cubicBezTo>
                <a:cubicBezTo>
                  <a:pt x="3028" y="12898"/>
                  <a:pt x="2983" y="12893"/>
                  <a:pt x="2952" y="12849"/>
                </a:cubicBezTo>
                <a:cubicBezTo>
                  <a:pt x="2919" y="12803"/>
                  <a:pt x="2905" y="12729"/>
                  <a:pt x="2902" y="12675"/>
                </a:cubicBezTo>
                <a:cubicBezTo>
                  <a:pt x="2898" y="12605"/>
                  <a:pt x="2954" y="12552"/>
                  <a:pt x="3001" y="12502"/>
                </a:cubicBezTo>
                <a:cubicBezTo>
                  <a:pt x="3057" y="12442"/>
                  <a:pt x="3115" y="12408"/>
                  <a:pt x="3200" y="12427"/>
                </a:cubicBezTo>
                <a:cubicBezTo>
                  <a:pt x="3303" y="12450"/>
                  <a:pt x="3354" y="12526"/>
                  <a:pt x="3373" y="12626"/>
                </a:cubicBezTo>
                <a:cubicBezTo>
                  <a:pt x="3390" y="12715"/>
                  <a:pt x="3330" y="12790"/>
                  <a:pt x="3274" y="12849"/>
                </a:cubicBezTo>
                <a:cubicBezTo>
                  <a:pt x="3258" y="12865"/>
                  <a:pt x="3241" y="12882"/>
                  <a:pt x="3225" y="12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24040" y="4483080"/>
            <a:ext cx="222120" cy="231840"/>
          </a:xfrm>
          <a:custGeom>
            <a:avLst/>
            <a:gdLst/>
            <a:ahLst/>
            <a:rect l="l" t="t" r="r" b="b"/>
            <a:pathLst>
              <a:path w="621" h="646">
                <a:moveTo>
                  <a:pt x="4911" y="12551"/>
                </a:moveTo>
                <a:cubicBezTo>
                  <a:pt x="4940" y="12513"/>
                  <a:pt x="4936" y="12500"/>
                  <a:pt x="4936" y="12452"/>
                </a:cubicBezTo>
                <a:cubicBezTo>
                  <a:pt x="4875" y="12467"/>
                  <a:pt x="4843" y="12520"/>
                  <a:pt x="4812" y="12576"/>
                </a:cubicBezTo>
                <a:cubicBezTo>
                  <a:pt x="4791" y="12614"/>
                  <a:pt x="4750" y="12751"/>
                  <a:pt x="4812" y="12774"/>
                </a:cubicBezTo>
                <a:cubicBezTo>
                  <a:pt x="4880" y="12800"/>
                  <a:pt x="4925" y="12700"/>
                  <a:pt x="4936" y="12650"/>
                </a:cubicBezTo>
                <a:cubicBezTo>
                  <a:pt x="4936" y="12609"/>
                  <a:pt x="4928" y="12593"/>
                  <a:pt x="4961" y="12601"/>
                </a:cubicBezTo>
                <a:cubicBezTo>
                  <a:pt x="5022" y="12616"/>
                  <a:pt x="5032" y="12669"/>
                  <a:pt x="5060" y="12725"/>
                </a:cubicBezTo>
                <a:cubicBezTo>
                  <a:pt x="5080" y="12765"/>
                  <a:pt x="5089" y="12771"/>
                  <a:pt x="5085" y="12799"/>
                </a:cubicBezTo>
              </a:path>
              <a:path w="621" h="646">
                <a:moveTo>
                  <a:pt x="5159" y="12675"/>
                </a:moveTo>
                <a:cubicBezTo>
                  <a:pt x="5179" y="12615"/>
                  <a:pt x="5178" y="12600"/>
                  <a:pt x="5209" y="12576"/>
                </a:cubicBezTo>
                <a:cubicBezTo>
                  <a:pt x="5224" y="12648"/>
                  <a:pt x="5252" y="12722"/>
                  <a:pt x="5259" y="12799"/>
                </a:cubicBezTo>
                <a:cubicBezTo>
                  <a:pt x="5268" y="12904"/>
                  <a:pt x="5275" y="12999"/>
                  <a:pt x="5308" y="13097"/>
                </a:cubicBezTo>
              </a:path>
              <a:path w="621" h="646">
                <a:moveTo>
                  <a:pt x="5283" y="12700"/>
                </a:moveTo>
                <a:cubicBezTo>
                  <a:pt x="5249" y="12618"/>
                  <a:pt x="5263" y="12632"/>
                  <a:pt x="5283" y="12551"/>
                </a:cubicBezTo>
                <a:cubicBezTo>
                  <a:pt x="5291" y="12517"/>
                  <a:pt x="5303" y="12446"/>
                  <a:pt x="5358" y="12477"/>
                </a:cubicBezTo>
                <a:cubicBezTo>
                  <a:pt x="5414" y="12508"/>
                  <a:pt x="5423" y="12622"/>
                  <a:pt x="5407" y="12675"/>
                </a:cubicBezTo>
                <a:cubicBezTo>
                  <a:pt x="5387" y="12742"/>
                  <a:pt x="5345" y="12750"/>
                  <a:pt x="5283" y="12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08160" y="4340160"/>
            <a:ext cx="741240" cy="214200"/>
          </a:xfrm>
          <a:custGeom>
            <a:avLst/>
            <a:gdLst/>
            <a:ahLst/>
            <a:rect l="l" t="t" r="r" b="b"/>
            <a:pathLst>
              <a:path w="2060" h="596">
                <a:moveTo>
                  <a:pt x="6003" y="12502"/>
                </a:moveTo>
                <a:cubicBezTo>
                  <a:pt x="6052" y="12480"/>
                  <a:pt x="6054" y="12477"/>
                  <a:pt x="6102" y="12477"/>
                </a:cubicBezTo>
                <a:cubicBezTo>
                  <a:pt x="6062" y="12501"/>
                  <a:pt x="6003" y="12514"/>
                  <a:pt x="5953" y="12526"/>
                </a:cubicBezTo>
                <a:cubicBezTo>
                  <a:pt x="5923" y="12533"/>
                  <a:pt x="5885" y="12526"/>
                  <a:pt x="5854" y="12526"/>
                </a:cubicBezTo>
              </a:path>
              <a:path w="2060" h="596">
                <a:moveTo>
                  <a:pt x="5928" y="12402"/>
                </a:moveTo>
                <a:cubicBezTo>
                  <a:pt x="5928" y="12346"/>
                  <a:pt x="5952" y="12502"/>
                  <a:pt x="5953" y="12526"/>
                </a:cubicBezTo>
                <a:cubicBezTo>
                  <a:pt x="5953" y="12543"/>
                  <a:pt x="5953" y="12559"/>
                  <a:pt x="5953" y="12576"/>
                </a:cubicBezTo>
              </a:path>
              <a:path w="2060" h="596">
                <a:moveTo>
                  <a:pt x="6449" y="12303"/>
                </a:moveTo>
                <a:cubicBezTo>
                  <a:pt x="6449" y="12225"/>
                  <a:pt x="6436" y="12143"/>
                  <a:pt x="6474" y="12080"/>
                </a:cubicBezTo>
                <a:cubicBezTo>
                  <a:pt x="6474" y="12006"/>
                  <a:pt x="6474" y="12204"/>
                  <a:pt x="6474" y="12204"/>
                </a:cubicBezTo>
                <a:cubicBezTo>
                  <a:pt x="6490" y="12317"/>
                  <a:pt x="6499" y="12412"/>
                  <a:pt x="6499" y="12526"/>
                </a:cubicBezTo>
                <a:cubicBezTo>
                  <a:pt x="6499" y="12534"/>
                  <a:pt x="6499" y="12543"/>
                  <a:pt x="6499" y="12551"/>
                </a:cubicBezTo>
                <a:cubicBezTo>
                  <a:pt x="6532" y="12507"/>
                  <a:pt x="6533" y="12474"/>
                  <a:pt x="6598" y="12452"/>
                </a:cubicBezTo>
                <a:cubicBezTo>
                  <a:pt x="6662" y="12431"/>
                  <a:pt x="6691" y="12473"/>
                  <a:pt x="6697" y="12526"/>
                </a:cubicBezTo>
                <a:cubicBezTo>
                  <a:pt x="6705" y="12594"/>
                  <a:pt x="6693" y="12627"/>
                  <a:pt x="6623" y="12650"/>
                </a:cubicBezTo>
                <a:cubicBezTo>
                  <a:pt x="6582" y="12663"/>
                  <a:pt x="6551" y="12623"/>
                  <a:pt x="6524" y="12601"/>
                </a:cubicBezTo>
              </a:path>
              <a:path w="2060" h="596">
                <a:moveTo>
                  <a:pt x="6896" y="12551"/>
                </a:moveTo>
                <a:cubicBezTo>
                  <a:pt x="6904" y="12559"/>
                  <a:pt x="6913" y="12568"/>
                  <a:pt x="6921" y="12576"/>
                </a:cubicBezTo>
                <a:cubicBezTo>
                  <a:pt x="6921" y="12482"/>
                  <a:pt x="6902" y="12433"/>
                  <a:pt x="6970" y="12378"/>
                </a:cubicBezTo>
                <a:cubicBezTo>
                  <a:pt x="7016" y="12341"/>
                  <a:pt x="7061" y="12353"/>
                  <a:pt x="7119" y="12353"/>
                </a:cubicBezTo>
              </a:path>
              <a:path w="2060" h="596">
                <a:moveTo>
                  <a:pt x="7466" y="12328"/>
                </a:moveTo>
                <a:cubicBezTo>
                  <a:pt x="7508" y="12328"/>
                  <a:pt x="7516" y="12328"/>
                  <a:pt x="7541" y="12328"/>
                </a:cubicBezTo>
                <a:cubicBezTo>
                  <a:pt x="7491" y="12298"/>
                  <a:pt x="7454" y="12303"/>
                  <a:pt x="7392" y="12303"/>
                </a:cubicBezTo>
                <a:cubicBezTo>
                  <a:pt x="7367" y="12303"/>
                  <a:pt x="7359" y="12303"/>
                  <a:pt x="7342" y="12303"/>
                </a:cubicBezTo>
              </a:path>
              <a:path w="2060" h="596">
                <a:moveTo>
                  <a:pt x="7541" y="12452"/>
                </a:moveTo>
                <a:cubicBezTo>
                  <a:pt x="7565" y="12452"/>
                  <a:pt x="7574" y="12452"/>
                  <a:pt x="7590" y="12452"/>
                </a:cubicBezTo>
                <a:cubicBezTo>
                  <a:pt x="7551" y="12442"/>
                  <a:pt x="7515" y="12411"/>
                  <a:pt x="7466" y="12427"/>
                </a:cubicBezTo>
                <a:cubicBezTo>
                  <a:pt x="7426" y="12447"/>
                  <a:pt x="7420" y="12456"/>
                  <a:pt x="7392" y="12452"/>
                </a:cubicBezTo>
              </a:path>
              <a:path w="2060" h="596">
                <a:moveTo>
                  <a:pt x="7838" y="12204"/>
                </a:moveTo>
                <a:cubicBezTo>
                  <a:pt x="7838" y="12179"/>
                  <a:pt x="7838" y="12154"/>
                  <a:pt x="7838" y="12129"/>
                </a:cubicBezTo>
                <a:cubicBezTo>
                  <a:pt x="7915" y="12168"/>
                  <a:pt x="7873" y="12224"/>
                  <a:pt x="7888" y="12303"/>
                </a:cubicBezTo>
                <a:cubicBezTo>
                  <a:pt x="7902" y="12375"/>
                  <a:pt x="7913" y="12427"/>
                  <a:pt x="7913" y="125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16160" y="4303800"/>
            <a:ext cx="563760" cy="144360"/>
          </a:xfrm>
          <a:custGeom>
            <a:avLst/>
            <a:gdLst/>
            <a:ahLst/>
            <a:rect l="l" t="t" r="r" b="b"/>
            <a:pathLst>
              <a:path w="1564" h="398">
                <a:moveTo>
                  <a:pt x="8682" y="12353"/>
                </a:moveTo>
                <a:cubicBezTo>
                  <a:pt x="8700" y="12317"/>
                  <a:pt x="8701" y="12330"/>
                  <a:pt x="8731" y="12303"/>
                </a:cubicBezTo>
                <a:cubicBezTo>
                  <a:pt x="8757" y="12279"/>
                  <a:pt x="8785" y="12287"/>
                  <a:pt x="8830" y="12254"/>
                </a:cubicBezTo>
                <a:cubicBezTo>
                  <a:pt x="8866" y="12227"/>
                  <a:pt x="8955" y="12190"/>
                  <a:pt x="9004" y="12179"/>
                </a:cubicBezTo>
                <a:cubicBezTo>
                  <a:pt x="9067" y="12165"/>
                  <a:pt x="9141" y="12171"/>
                  <a:pt x="9203" y="12154"/>
                </a:cubicBezTo>
                <a:cubicBezTo>
                  <a:pt x="9269" y="12136"/>
                  <a:pt x="9336" y="12146"/>
                  <a:pt x="9401" y="12129"/>
                </a:cubicBezTo>
                <a:cubicBezTo>
                  <a:pt x="9489" y="12106"/>
                  <a:pt x="9584" y="12085"/>
                  <a:pt x="9674" y="12080"/>
                </a:cubicBezTo>
                <a:cubicBezTo>
                  <a:pt x="9794" y="12073"/>
                  <a:pt x="9914" y="12076"/>
                  <a:pt x="10021" y="12055"/>
                </a:cubicBezTo>
                <a:cubicBezTo>
                  <a:pt x="10075" y="12044"/>
                  <a:pt x="10155" y="12048"/>
                  <a:pt x="10195" y="12080"/>
                </a:cubicBezTo>
                <a:cubicBezTo>
                  <a:pt x="10216" y="12097"/>
                  <a:pt x="10231" y="12106"/>
                  <a:pt x="10220" y="12154"/>
                </a:cubicBezTo>
                <a:cubicBezTo>
                  <a:pt x="10212" y="12188"/>
                  <a:pt x="10161" y="12276"/>
                  <a:pt x="10145" y="12303"/>
                </a:cubicBezTo>
                <a:cubicBezTo>
                  <a:pt x="10129" y="12330"/>
                  <a:pt x="10095" y="12333"/>
                  <a:pt x="10071" y="12353"/>
                </a:cubicBezTo>
                <a:cubicBezTo>
                  <a:pt x="10078" y="12294"/>
                  <a:pt x="10098" y="12261"/>
                  <a:pt x="10120" y="12204"/>
                </a:cubicBezTo>
                <a:cubicBezTo>
                  <a:pt x="10135" y="12164"/>
                  <a:pt x="10188" y="12121"/>
                  <a:pt x="10195" y="12105"/>
                </a:cubicBezTo>
                <a:cubicBezTo>
                  <a:pt x="10213" y="12066"/>
                  <a:pt x="10174" y="12024"/>
                  <a:pt x="10145" y="12005"/>
                </a:cubicBezTo>
                <a:cubicBezTo>
                  <a:pt x="10093" y="11972"/>
                  <a:pt x="10053" y="11963"/>
                  <a:pt x="9996" y="119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62240" y="4268880"/>
            <a:ext cx="385920" cy="268200"/>
          </a:xfrm>
          <a:custGeom>
            <a:avLst/>
            <a:gdLst/>
            <a:ahLst/>
            <a:rect l="l" t="t" r="r" b="b"/>
            <a:pathLst>
              <a:path w="1068" h="745">
                <a:moveTo>
                  <a:pt x="11286" y="12254"/>
                </a:moveTo>
                <a:cubicBezTo>
                  <a:pt x="11330" y="12225"/>
                  <a:pt x="11355" y="12210"/>
                  <a:pt x="11361" y="12154"/>
                </a:cubicBezTo>
                <a:cubicBezTo>
                  <a:pt x="11361" y="12129"/>
                  <a:pt x="11361" y="12121"/>
                  <a:pt x="11361" y="12105"/>
                </a:cubicBezTo>
                <a:cubicBezTo>
                  <a:pt x="11310" y="12154"/>
                  <a:pt x="11292" y="12182"/>
                  <a:pt x="11286" y="12254"/>
                </a:cubicBezTo>
                <a:cubicBezTo>
                  <a:pt x="11282" y="12302"/>
                  <a:pt x="11282" y="12309"/>
                  <a:pt x="11311" y="12328"/>
                </a:cubicBezTo>
                <a:cubicBezTo>
                  <a:pt x="11356" y="12305"/>
                  <a:pt x="11359" y="12267"/>
                  <a:pt x="11385" y="12229"/>
                </a:cubicBezTo>
                <a:cubicBezTo>
                  <a:pt x="11393" y="12221"/>
                  <a:pt x="11402" y="12212"/>
                  <a:pt x="11410" y="12204"/>
                </a:cubicBezTo>
                <a:cubicBezTo>
                  <a:pt x="11443" y="12237"/>
                  <a:pt x="11476" y="12270"/>
                  <a:pt x="11509" y="12303"/>
                </a:cubicBezTo>
              </a:path>
              <a:path w="1068" h="745">
                <a:moveTo>
                  <a:pt x="11757" y="12154"/>
                </a:moveTo>
                <a:cubicBezTo>
                  <a:pt x="11765" y="12138"/>
                  <a:pt x="11774" y="12121"/>
                  <a:pt x="11782" y="12105"/>
                </a:cubicBezTo>
                <a:cubicBezTo>
                  <a:pt x="11732" y="12105"/>
                  <a:pt x="11733" y="12110"/>
                  <a:pt x="11708" y="12154"/>
                </a:cubicBezTo>
                <a:cubicBezTo>
                  <a:pt x="11674" y="12214"/>
                  <a:pt x="11677" y="12227"/>
                  <a:pt x="11708" y="12278"/>
                </a:cubicBezTo>
                <a:cubicBezTo>
                  <a:pt x="11790" y="12278"/>
                  <a:pt x="11779" y="12230"/>
                  <a:pt x="11782" y="12154"/>
                </a:cubicBezTo>
                <a:cubicBezTo>
                  <a:pt x="11786" y="12054"/>
                  <a:pt x="11778" y="11972"/>
                  <a:pt x="11757" y="11881"/>
                </a:cubicBezTo>
                <a:cubicBezTo>
                  <a:pt x="11757" y="11873"/>
                  <a:pt x="11757" y="11865"/>
                  <a:pt x="11757" y="11857"/>
                </a:cubicBezTo>
                <a:cubicBezTo>
                  <a:pt x="11800" y="11909"/>
                  <a:pt x="11827" y="11969"/>
                  <a:pt x="11857" y="12030"/>
                </a:cubicBezTo>
                <a:cubicBezTo>
                  <a:pt x="11883" y="12082"/>
                  <a:pt x="11935" y="12131"/>
                  <a:pt x="11956" y="12179"/>
                </a:cubicBezTo>
                <a:cubicBezTo>
                  <a:pt x="11956" y="12187"/>
                  <a:pt x="11956" y="12196"/>
                  <a:pt x="11956" y="12204"/>
                </a:cubicBezTo>
              </a:path>
              <a:path w="1068" h="745">
                <a:moveTo>
                  <a:pt x="12105" y="12154"/>
                </a:moveTo>
                <a:cubicBezTo>
                  <a:pt x="12105" y="12113"/>
                  <a:pt x="12105" y="12105"/>
                  <a:pt x="12105" y="12080"/>
                </a:cubicBezTo>
                <a:cubicBezTo>
                  <a:pt x="12138" y="12137"/>
                  <a:pt x="12133" y="12209"/>
                  <a:pt x="12154" y="12278"/>
                </a:cubicBezTo>
                <a:cubicBezTo>
                  <a:pt x="12183" y="12372"/>
                  <a:pt x="12200" y="12458"/>
                  <a:pt x="12229" y="12551"/>
                </a:cubicBezTo>
                <a:cubicBezTo>
                  <a:pt x="12229" y="12576"/>
                  <a:pt x="12229" y="12584"/>
                  <a:pt x="12229" y="12601"/>
                </a:cubicBezTo>
              </a:path>
              <a:path w="1068" h="745">
                <a:moveTo>
                  <a:pt x="12204" y="12353"/>
                </a:moveTo>
                <a:cubicBezTo>
                  <a:pt x="12179" y="12285"/>
                  <a:pt x="12133" y="12205"/>
                  <a:pt x="12154" y="12129"/>
                </a:cubicBezTo>
                <a:cubicBezTo>
                  <a:pt x="12167" y="12084"/>
                  <a:pt x="12208" y="12033"/>
                  <a:pt x="12254" y="12030"/>
                </a:cubicBezTo>
                <a:cubicBezTo>
                  <a:pt x="12322" y="12025"/>
                  <a:pt x="12349" y="12091"/>
                  <a:pt x="12353" y="12154"/>
                </a:cubicBezTo>
                <a:cubicBezTo>
                  <a:pt x="12358" y="12228"/>
                  <a:pt x="12319" y="12241"/>
                  <a:pt x="12254" y="122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06920" y="4187880"/>
            <a:ext cx="984240" cy="223920"/>
          </a:xfrm>
          <a:custGeom>
            <a:avLst/>
            <a:gdLst/>
            <a:ahLst/>
            <a:rect l="l" t="t" r="r" b="b"/>
            <a:pathLst>
              <a:path w="2730" h="622">
                <a:moveTo>
                  <a:pt x="13097" y="12129"/>
                </a:moveTo>
                <a:cubicBezTo>
                  <a:pt x="13105" y="12129"/>
                  <a:pt x="13114" y="12129"/>
                  <a:pt x="13122" y="12129"/>
                </a:cubicBezTo>
                <a:cubicBezTo>
                  <a:pt x="13064" y="12129"/>
                  <a:pt x="13019" y="12145"/>
                  <a:pt x="12973" y="12154"/>
                </a:cubicBezTo>
                <a:cubicBezTo>
                  <a:pt x="12921" y="12164"/>
                  <a:pt x="12853" y="12154"/>
                  <a:pt x="12799" y="12154"/>
                </a:cubicBezTo>
              </a:path>
              <a:path w="2730" h="622">
                <a:moveTo>
                  <a:pt x="12948" y="12030"/>
                </a:moveTo>
                <a:cubicBezTo>
                  <a:pt x="12956" y="12022"/>
                  <a:pt x="12965" y="12013"/>
                  <a:pt x="12973" y="12005"/>
                </a:cubicBezTo>
                <a:cubicBezTo>
                  <a:pt x="13003" y="12074"/>
                  <a:pt x="12998" y="12127"/>
                  <a:pt x="12998" y="12204"/>
                </a:cubicBezTo>
                <a:cubicBezTo>
                  <a:pt x="12998" y="12221"/>
                  <a:pt x="12998" y="12237"/>
                  <a:pt x="12998" y="12254"/>
                </a:cubicBezTo>
              </a:path>
              <a:path w="2730" h="622">
                <a:moveTo>
                  <a:pt x="13469" y="11757"/>
                </a:moveTo>
                <a:cubicBezTo>
                  <a:pt x="13469" y="11706"/>
                  <a:pt x="13454" y="11671"/>
                  <a:pt x="13494" y="11658"/>
                </a:cubicBezTo>
                <a:cubicBezTo>
                  <a:pt x="13494" y="11584"/>
                  <a:pt x="13494" y="11780"/>
                  <a:pt x="13494" y="11782"/>
                </a:cubicBezTo>
                <a:cubicBezTo>
                  <a:pt x="13494" y="11877"/>
                  <a:pt x="13519" y="11959"/>
                  <a:pt x="13519" y="12055"/>
                </a:cubicBezTo>
                <a:cubicBezTo>
                  <a:pt x="13519" y="12096"/>
                  <a:pt x="13519" y="12104"/>
                  <a:pt x="13519" y="12129"/>
                </a:cubicBezTo>
                <a:cubicBezTo>
                  <a:pt x="13519" y="12170"/>
                  <a:pt x="13519" y="12096"/>
                  <a:pt x="13519" y="12055"/>
                </a:cubicBezTo>
                <a:cubicBezTo>
                  <a:pt x="13519" y="11995"/>
                  <a:pt x="13553" y="11925"/>
                  <a:pt x="13618" y="11906"/>
                </a:cubicBezTo>
                <a:cubicBezTo>
                  <a:pt x="13686" y="11886"/>
                  <a:pt x="13747" y="11947"/>
                  <a:pt x="13767" y="12005"/>
                </a:cubicBezTo>
                <a:cubicBezTo>
                  <a:pt x="13788" y="12066"/>
                  <a:pt x="13753" y="12115"/>
                  <a:pt x="13692" y="12129"/>
                </a:cubicBezTo>
                <a:cubicBezTo>
                  <a:pt x="13630" y="12143"/>
                  <a:pt x="13588" y="12116"/>
                  <a:pt x="13543" y="12080"/>
                </a:cubicBezTo>
              </a:path>
              <a:path w="2730" h="622">
                <a:moveTo>
                  <a:pt x="14015" y="11981"/>
                </a:moveTo>
                <a:cubicBezTo>
                  <a:pt x="14023" y="11981"/>
                  <a:pt x="14031" y="11981"/>
                  <a:pt x="14039" y="11981"/>
                </a:cubicBezTo>
                <a:cubicBezTo>
                  <a:pt x="14031" y="11958"/>
                  <a:pt x="13981" y="11928"/>
                  <a:pt x="13965" y="11981"/>
                </a:cubicBezTo>
                <a:cubicBezTo>
                  <a:pt x="13948" y="12037"/>
                  <a:pt x="13964" y="12112"/>
                  <a:pt x="13990" y="12154"/>
                </a:cubicBezTo>
                <a:cubicBezTo>
                  <a:pt x="14071" y="12133"/>
                  <a:pt x="14050" y="12077"/>
                  <a:pt x="14064" y="12005"/>
                </a:cubicBezTo>
                <a:cubicBezTo>
                  <a:pt x="14083" y="11909"/>
                  <a:pt x="14089" y="11830"/>
                  <a:pt x="14089" y="11733"/>
                </a:cubicBezTo>
                <a:cubicBezTo>
                  <a:pt x="14089" y="11692"/>
                  <a:pt x="14089" y="11766"/>
                  <a:pt x="14089" y="11807"/>
                </a:cubicBezTo>
                <a:cubicBezTo>
                  <a:pt x="14089" y="11882"/>
                  <a:pt x="14102" y="11936"/>
                  <a:pt x="14114" y="12005"/>
                </a:cubicBezTo>
                <a:cubicBezTo>
                  <a:pt x="14118" y="12029"/>
                  <a:pt x="14131" y="12131"/>
                  <a:pt x="14188" y="12105"/>
                </a:cubicBezTo>
                <a:cubicBezTo>
                  <a:pt x="14222" y="12090"/>
                  <a:pt x="14230" y="12080"/>
                  <a:pt x="14238" y="12055"/>
                </a:cubicBezTo>
              </a:path>
              <a:path w="2730" h="622">
                <a:moveTo>
                  <a:pt x="14263" y="12105"/>
                </a:moveTo>
                <a:cubicBezTo>
                  <a:pt x="14263" y="12113"/>
                  <a:pt x="14263" y="12121"/>
                  <a:pt x="14263" y="12129"/>
                </a:cubicBezTo>
                <a:cubicBezTo>
                  <a:pt x="14263" y="12071"/>
                  <a:pt x="14239" y="11950"/>
                  <a:pt x="14288" y="11906"/>
                </a:cubicBezTo>
                <a:cubicBezTo>
                  <a:pt x="14305" y="11890"/>
                  <a:pt x="14416" y="11906"/>
                  <a:pt x="14436" y="11906"/>
                </a:cubicBezTo>
              </a:path>
              <a:path w="2730" h="622">
                <a:moveTo>
                  <a:pt x="14833" y="11956"/>
                </a:moveTo>
                <a:cubicBezTo>
                  <a:pt x="14841" y="11948"/>
                  <a:pt x="14850" y="11939"/>
                  <a:pt x="14858" y="11931"/>
                </a:cubicBezTo>
                <a:cubicBezTo>
                  <a:pt x="14817" y="11931"/>
                  <a:pt x="14775" y="11931"/>
                  <a:pt x="14734" y="11931"/>
                </a:cubicBezTo>
              </a:path>
              <a:path w="2730" h="622">
                <a:moveTo>
                  <a:pt x="14883" y="12030"/>
                </a:moveTo>
                <a:cubicBezTo>
                  <a:pt x="14951" y="12030"/>
                  <a:pt x="14853" y="12055"/>
                  <a:pt x="14833" y="12055"/>
                </a:cubicBezTo>
              </a:path>
              <a:path w="2730" h="622">
                <a:moveTo>
                  <a:pt x="15304" y="11981"/>
                </a:moveTo>
                <a:cubicBezTo>
                  <a:pt x="15304" y="11956"/>
                  <a:pt x="15304" y="11948"/>
                  <a:pt x="15304" y="11931"/>
                </a:cubicBezTo>
                <a:cubicBezTo>
                  <a:pt x="15265" y="11941"/>
                  <a:pt x="15233" y="11960"/>
                  <a:pt x="15230" y="12005"/>
                </a:cubicBezTo>
                <a:cubicBezTo>
                  <a:pt x="15224" y="12093"/>
                  <a:pt x="15219" y="12117"/>
                  <a:pt x="15304" y="12129"/>
                </a:cubicBezTo>
                <a:cubicBezTo>
                  <a:pt x="15344" y="12103"/>
                  <a:pt x="15352" y="12021"/>
                  <a:pt x="15354" y="11956"/>
                </a:cubicBezTo>
                <a:cubicBezTo>
                  <a:pt x="15357" y="11852"/>
                  <a:pt x="15379" y="11762"/>
                  <a:pt x="15379" y="11658"/>
                </a:cubicBezTo>
                <a:cubicBezTo>
                  <a:pt x="15379" y="11650"/>
                  <a:pt x="15379" y="11641"/>
                  <a:pt x="15379" y="11633"/>
                </a:cubicBezTo>
                <a:cubicBezTo>
                  <a:pt x="15379" y="11722"/>
                  <a:pt x="15378" y="11795"/>
                  <a:pt x="15404" y="11881"/>
                </a:cubicBezTo>
                <a:cubicBezTo>
                  <a:pt x="15433" y="11979"/>
                  <a:pt x="15457" y="12034"/>
                  <a:pt x="15528" y="121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71720" y="5089680"/>
            <a:ext cx="142560" cy="80640"/>
          </a:xfrm>
          <a:custGeom>
            <a:avLst/>
            <a:gdLst/>
            <a:ahLst/>
            <a:rect l="l" t="t" r="r" b="b"/>
            <a:pathLst>
              <a:path w="397" h="224">
                <a:moveTo>
                  <a:pt x="2977" y="14163"/>
                </a:moveTo>
                <a:cubicBezTo>
                  <a:pt x="2977" y="14155"/>
                  <a:pt x="2977" y="14147"/>
                  <a:pt x="2977" y="14139"/>
                </a:cubicBezTo>
                <a:cubicBezTo>
                  <a:pt x="3024" y="14155"/>
                  <a:pt x="2985" y="14169"/>
                  <a:pt x="3001" y="14213"/>
                </a:cubicBezTo>
                <a:cubicBezTo>
                  <a:pt x="3021" y="14268"/>
                  <a:pt x="3018" y="14318"/>
                  <a:pt x="3051" y="14362"/>
                </a:cubicBezTo>
              </a:path>
              <a:path w="397" h="224">
                <a:moveTo>
                  <a:pt x="3125" y="14188"/>
                </a:moveTo>
                <a:cubicBezTo>
                  <a:pt x="3125" y="14180"/>
                  <a:pt x="3125" y="14171"/>
                  <a:pt x="3125" y="14163"/>
                </a:cubicBezTo>
                <a:cubicBezTo>
                  <a:pt x="3175" y="14176"/>
                  <a:pt x="3186" y="14217"/>
                  <a:pt x="3200" y="14263"/>
                </a:cubicBezTo>
                <a:cubicBezTo>
                  <a:pt x="3200" y="14288"/>
                  <a:pt x="3200" y="14296"/>
                  <a:pt x="3200" y="14312"/>
                </a:cubicBezTo>
              </a:path>
              <a:path w="397" h="224">
                <a:moveTo>
                  <a:pt x="3249" y="14163"/>
                </a:moveTo>
                <a:cubicBezTo>
                  <a:pt x="3282" y="14139"/>
                  <a:pt x="3332" y="14128"/>
                  <a:pt x="3349" y="14188"/>
                </a:cubicBezTo>
                <a:cubicBezTo>
                  <a:pt x="3364" y="14241"/>
                  <a:pt x="3353" y="14282"/>
                  <a:pt x="3373" y="143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24040" y="4616280"/>
            <a:ext cx="1892160" cy="393840"/>
          </a:xfrm>
          <a:custGeom>
            <a:avLst/>
            <a:gdLst/>
            <a:ahLst/>
            <a:rect l="l" t="t" r="r" b="b"/>
            <a:pathLst>
              <a:path w="5260" h="1092">
                <a:moveTo>
                  <a:pt x="4911" y="13419"/>
                </a:moveTo>
                <a:cubicBezTo>
                  <a:pt x="4911" y="13375"/>
                  <a:pt x="4926" y="13359"/>
                  <a:pt x="4936" y="13320"/>
                </a:cubicBezTo>
                <a:cubicBezTo>
                  <a:pt x="4879" y="13334"/>
                  <a:pt x="4843" y="13366"/>
                  <a:pt x="4812" y="13419"/>
                </a:cubicBezTo>
                <a:cubicBezTo>
                  <a:pt x="4785" y="13464"/>
                  <a:pt x="4767" y="13504"/>
                  <a:pt x="4812" y="13519"/>
                </a:cubicBezTo>
                <a:cubicBezTo>
                  <a:pt x="4846" y="13496"/>
                  <a:pt x="4840" y="13432"/>
                  <a:pt x="4887" y="13395"/>
                </a:cubicBezTo>
                <a:cubicBezTo>
                  <a:pt x="4930" y="13361"/>
                  <a:pt x="4987" y="13445"/>
                  <a:pt x="5011" y="13469"/>
                </a:cubicBezTo>
                <a:cubicBezTo>
                  <a:pt x="5035" y="13494"/>
                  <a:pt x="5043" y="13503"/>
                  <a:pt x="5060" y="13519"/>
                </a:cubicBezTo>
              </a:path>
              <a:path w="5260" h="1092">
                <a:moveTo>
                  <a:pt x="5333" y="13345"/>
                </a:moveTo>
                <a:cubicBezTo>
                  <a:pt x="5355" y="13295"/>
                  <a:pt x="5358" y="13294"/>
                  <a:pt x="5358" y="13246"/>
                </a:cubicBezTo>
                <a:cubicBezTo>
                  <a:pt x="5310" y="13246"/>
                  <a:pt x="5272" y="13269"/>
                  <a:pt x="5259" y="13320"/>
                </a:cubicBezTo>
                <a:cubicBezTo>
                  <a:pt x="5250" y="13356"/>
                  <a:pt x="5259" y="13407"/>
                  <a:pt x="5259" y="13444"/>
                </a:cubicBezTo>
                <a:cubicBezTo>
                  <a:pt x="5302" y="13433"/>
                  <a:pt x="5325" y="13403"/>
                  <a:pt x="5358" y="13370"/>
                </a:cubicBezTo>
                <a:cubicBezTo>
                  <a:pt x="5397" y="13435"/>
                  <a:pt x="5383" y="13513"/>
                  <a:pt x="5383" y="13593"/>
                </a:cubicBezTo>
                <a:cubicBezTo>
                  <a:pt x="5383" y="13641"/>
                  <a:pt x="5351" y="13813"/>
                  <a:pt x="5407" y="13841"/>
                </a:cubicBezTo>
                <a:cubicBezTo>
                  <a:pt x="5471" y="13873"/>
                  <a:pt x="5519" y="13804"/>
                  <a:pt x="5556" y="13767"/>
                </a:cubicBezTo>
                <a:cubicBezTo>
                  <a:pt x="5604" y="13719"/>
                  <a:pt x="5641" y="13717"/>
                  <a:pt x="5705" y="13717"/>
                </a:cubicBezTo>
              </a:path>
              <a:path w="5260" h="1092">
                <a:moveTo>
                  <a:pt x="6176" y="13271"/>
                </a:moveTo>
                <a:cubicBezTo>
                  <a:pt x="6184" y="13271"/>
                  <a:pt x="6193" y="13271"/>
                  <a:pt x="6201" y="13271"/>
                </a:cubicBezTo>
                <a:cubicBezTo>
                  <a:pt x="6160" y="13281"/>
                  <a:pt x="6115" y="13312"/>
                  <a:pt x="6077" y="13320"/>
                </a:cubicBezTo>
                <a:cubicBezTo>
                  <a:pt x="6041" y="13327"/>
                  <a:pt x="5991" y="13320"/>
                  <a:pt x="5953" y="13320"/>
                </a:cubicBezTo>
              </a:path>
              <a:path w="5260" h="1092">
                <a:moveTo>
                  <a:pt x="6052" y="13221"/>
                </a:moveTo>
                <a:cubicBezTo>
                  <a:pt x="6072" y="13180"/>
                  <a:pt x="6070" y="13164"/>
                  <a:pt x="6102" y="13171"/>
                </a:cubicBezTo>
                <a:cubicBezTo>
                  <a:pt x="6102" y="13254"/>
                  <a:pt x="6102" y="13336"/>
                  <a:pt x="6102" y="13419"/>
                </a:cubicBezTo>
              </a:path>
              <a:path w="5260" h="1092">
                <a:moveTo>
                  <a:pt x="6449" y="12948"/>
                </a:moveTo>
                <a:cubicBezTo>
                  <a:pt x="6449" y="12931"/>
                  <a:pt x="6449" y="12915"/>
                  <a:pt x="6449" y="12898"/>
                </a:cubicBezTo>
                <a:cubicBezTo>
                  <a:pt x="6449" y="13022"/>
                  <a:pt x="6449" y="13147"/>
                  <a:pt x="6449" y="13271"/>
                </a:cubicBezTo>
                <a:cubicBezTo>
                  <a:pt x="6476" y="13238"/>
                  <a:pt x="6497" y="13204"/>
                  <a:pt x="6524" y="13171"/>
                </a:cubicBezTo>
                <a:cubicBezTo>
                  <a:pt x="6588" y="13187"/>
                  <a:pt x="6593" y="13231"/>
                  <a:pt x="6598" y="13295"/>
                </a:cubicBezTo>
                <a:cubicBezTo>
                  <a:pt x="6603" y="13355"/>
                  <a:pt x="6543" y="13366"/>
                  <a:pt x="6499" y="13370"/>
                </a:cubicBezTo>
                <a:cubicBezTo>
                  <a:pt x="6474" y="13370"/>
                  <a:pt x="6466" y="13370"/>
                  <a:pt x="6449" y="13370"/>
                </a:cubicBezTo>
              </a:path>
              <a:path w="5260" h="1092">
                <a:moveTo>
                  <a:pt x="6772" y="13072"/>
                </a:moveTo>
                <a:cubicBezTo>
                  <a:pt x="6832" y="13020"/>
                  <a:pt x="6808" y="13022"/>
                  <a:pt x="6871" y="13022"/>
                </a:cubicBezTo>
                <a:cubicBezTo>
                  <a:pt x="6843" y="13050"/>
                  <a:pt x="6804" y="13076"/>
                  <a:pt x="6821" y="13122"/>
                </a:cubicBezTo>
                <a:cubicBezTo>
                  <a:pt x="6847" y="13193"/>
                  <a:pt x="6891" y="13205"/>
                  <a:pt x="6945" y="13246"/>
                </a:cubicBezTo>
                <a:cubicBezTo>
                  <a:pt x="6991" y="13281"/>
                  <a:pt x="6969" y="13315"/>
                  <a:pt x="6921" y="13320"/>
                </a:cubicBezTo>
                <a:cubicBezTo>
                  <a:pt x="6896" y="13320"/>
                  <a:pt x="6888" y="13320"/>
                  <a:pt x="6871" y="13320"/>
                </a:cubicBezTo>
              </a:path>
              <a:path w="5260" h="1092">
                <a:moveTo>
                  <a:pt x="7590" y="13022"/>
                </a:moveTo>
                <a:cubicBezTo>
                  <a:pt x="7647" y="13013"/>
                  <a:pt x="7666" y="13016"/>
                  <a:pt x="7615" y="13022"/>
                </a:cubicBezTo>
                <a:cubicBezTo>
                  <a:pt x="7576" y="13027"/>
                  <a:pt x="7547" y="13048"/>
                  <a:pt x="7516" y="13072"/>
                </a:cubicBezTo>
              </a:path>
              <a:path w="5260" h="1092">
                <a:moveTo>
                  <a:pt x="7640" y="13122"/>
                </a:moveTo>
                <a:cubicBezTo>
                  <a:pt x="7665" y="13122"/>
                  <a:pt x="7673" y="13122"/>
                  <a:pt x="7689" y="13122"/>
                </a:cubicBezTo>
                <a:cubicBezTo>
                  <a:pt x="7677" y="13157"/>
                  <a:pt x="7653" y="13155"/>
                  <a:pt x="7615" y="13171"/>
                </a:cubicBezTo>
                <a:cubicBezTo>
                  <a:pt x="7598" y="13179"/>
                  <a:pt x="7582" y="13188"/>
                  <a:pt x="7565" y="13196"/>
                </a:cubicBezTo>
              </a:path>
              <a:path w="5260" h="1092">
                <a:moveTo>
                  <a:pt x="7938" y="13097"/>
                </a:moveTo>
                <a:cubicBezTo>
                  <a:pt x="7938" y="13031"/>
                  <a:pt x="7923" y="12956"/>
                  <a:pt x="7962" y="12898"/>
                </a:cubicBezTo>
                <a:cubicBezTo>
                  <a:pt x="7995" y="12848"/>
                  <a:pt x="8015" y="12803"/>
                  <a:pt x="8086" y="12824"/>
                </a:cubicBezTo>
                <a:cubicBezTo>
                  <a:pt x="8191" y="12855"/>
                  <a:pt x="8183" y="12986"/>
                  <a:pt x="8186" y="13072"/>
                </a:cubicBezTo>
                <a:cubicBezTo>
                  <a:pt x="8188" y="13139"/>
                  <a:pt x="8158" y="13271"/>
                  <a:pt x="8062" y="13271"/>
                </a:cubicBezTo>
                <a:cubicBezTo>
                  <a:pt x="7956" y="13271"/>
                  <a:pt x="7945" y="13171"/>
                  <a:pt x="7938" y="13097"/>
                </a:cubicBezTo>
              </a:path>
              <a:path w="5260" h="1092">
                <a:moveTo>
                  <a:pt x="8706" y="13146"/>
                </a:moveTo>
                <a:cubicBezTo>
                  <a:pt x="8804" y="13146"/>
                  <a:pt x="8893" y="13138"/>
                  <a:pt x="8979" y="13122"/>
                </a:cubicBezTo>
                <a:cubicBezTo>
                  <a:pt x="9043" y="13110"/>
                  <a:pt x="9116" y="13107"/>
                  <a:pt x="9178" y="13097"/>
                </a:cubicBezTo>
                <a:cubicBezTo>
                  <a:pt x="9238" y="13087"/>
                  <a:pt x="9288" y="13075"/>
                  <a:pt x="9351" y="13072"/>
                </a:cubicBezTo>
                <a:cubicBezTo>
                  <a:pt x="9425" y="13068"/>
                  <a:pt x="9482" y="13059"/>
                  <a:pt x="9550" y="13047"/>
                </a:cubicBezTo>
                <a:cubicBezTo>
                  <a:pt x="9645" y="13031"/>
                  <a:pt x="9763" y="13035"/>
                  <a:pt x="9847" y="13022"/>
                </a:cubicBezTo>
                <a:cubicBezTo>
                  <a:pt x="9910" y="13013"/>
                  <a:pt x="9982" y="13022"/>
                  <a:pt x="10046" y="13022"/>
                </a:cubicBezTo>
                <a:cubicBezTo>
                  <a:pt x="10039" y="13073"/>
                  <a:pt x="10008" y="13080"/>
                  <a:pt x="9996" y="13122"/>
                </a:cubicBezTo>
                <a:cubicBezTo>
                  <a:pt x="9979" y="13181"/>
                  <a:pt x="9969" y="13219"/>
                  <a:pt x="9922" y="13271"/>
                </a:cubicBezTo>
                <a:cubicBezTo>
                  <a:pt x="9884" y="13313"/>
                  <a:pt x="9874" y="13313"/>
                  <a:pt x="9823" y="13320"/>
                </a:cubicBezTo>
                <a:cubicBezTo>
                  <a:pt x="9830" y="13268"/>
                  <a:pt x="9831" y="13262"/>
                  <a:pt x="9872" y="13221"/>
                </a:cubicBezTo>
                <a:cubicBezTo>
                  <a:pt x="9911" y="13182"/>
                  <a:pt x="10024" y="13103"/>
                  <a:pt x="10021" y="13047"/>
                </a:cubicBezTo>
                <a:cubicBezTo>
                  <a:pt x="10020" y="13022"/>
                  <a:pt x="9977" y="12954"/>
                  <a:pt x="9947" y="12948"/>
                </a:cubicBezTo>
                <a:cubicBezTo>
                  <a:pt x="9896" y="12937"/>
                  <a:pt x="9848" y="12937"/>
                  <a:pt x="9798" y="12923"/>
                </a:cubicBezTo>
              </a:path>
              <a:path w="5260" h="1092">
                <a:moveTo>
                  <a:pt x="8582" y="13915"/>
                </a:moveTo>
                <a:cubicBezTo>
                  <a:pt x="8632" y="13915"/>
                  <a:pt x="8668" y="13924"/>
                  <a:pt x="8706" y="13891"/>
                </a:cubicBezTo>
                <a:cubicBezTo>
                  <a:pt x="8742" y="13859"/>
                  <a:pt x="8786" y="13859"/>
                  <a:pt x="8830" y="13841"/>
                </a:cubicBezTo>
                <a:cubicBezTo>
                  <a:pt x="8910" y="13809"/>
                  <a:pt x="8972" y="13836"/>
                  <a:pt x="9054" y="13816"/>
                </a:cubicBezTo>
                <a:cubicBezTo>
                  <a:pt x="9116" y="13801"/>
                  <a:pt x="9193" y="13787"/>
                  <a:pt x="9252" y="13767"/>
                </a:cubicBezTo>
                <a:cubicBezTo>
                  <a:pt x="9327" y="13742"/>
                  <a:pt x="9401" y="13738"/>
                  <a:pt x="9475" y="13717"/>
                </a:cubicBezTo>
                <a:cubicBezTo>
                  <a:pt x="9547" y="13696"/>
                  <a:pt x="9595" y="13692"/>
                  <a:pt x="9674" y="13692"/>
                </a:cubicBezTo>
                <a:cubicBezTo>
                  <a:pt x="9732" y="13692"/>
                  <a:pt x="9760" y="13667"/>
                  <a:pt x="9823" y="13667"/>
                </a:cubicBezTo>
                <a:cubicBezTo>
                  <a:pt x="9848" y="13667"/>
                  <a:pt x="9872" y="13667"/>
                  <a:pt x="9897" y="13667"/>
                </a:cubicBezTo>
                <a:cubicBezTo>
                  <a:pt x="9897" y="13718"/>
                  <a:pt x="9906" y="13753"/>
                  <a:pt x="9872" y="13791"/>
                </a:cubicBezTo>
                <a:cubicBezTo>
                  <a:pt x="9833" y="13834"/>
                  <a:pt x="9790" y="13874"/>
                  <a:pt x="9748" y="13915"/>
                </a:cubicBezTo>
                <a:cubicBezTo>
                  <a:pt x="9790" y="13874"/>
                  <a:pt x="9813" y="13837"/>
                  <a:pt x="9847" y="13791"/>
                </a:cubicBezTo>
                <a:cubicBezTo>
                  <a:pt x="9873" y="13757"/>
                  <a:pt x="9915" y="13717"/>
                  <a:pt x="9897" y="13667"/>
                </a:cubicBezTo>
                <a:cubicBezTo>
                  <a:pt x="9875" y="13605"/>
                  <a:pt x="9806" y="13597"/>
                  <a:pt x="9748" y="135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010040" y="4803840"/>
            <a:ext cx="1554120" cy="331560"/>
          </a:xfrm>
          <a:custGeom>
            <a:avLst/>
            <a:gdLst/>
            <a:ahLst/>
            <a:rect l="l" t="t" r="r" b="b"/>
            <a:pathLst>
              <a:path w="4317" h="919">
                <a:moveTo>
                  <a:pt x="11137" y="13568"/>
                </a:moveTo>
                <a:cubicBezTo>
                  <a:pt x="11137" y="13543"/>
                  <a:pt x="11137" y="13535"/>
                  <a:pt x="11137" y="13519"/>
                </a:cubicBezTo>
                <a:cubicBezTo>
                  <a:pt x="11137" y="13599"/>
                  <a:pt x="11153" y="13666"/>
                  <a:pt x="11162" y="13742"/>
                </a:cubicBezTo>
                <a:cubicBezTo>
                  <a:pt x="11170" y="13814"/>
                  <a:pt x="11162" y="13892"/>
                  <a:pt x="11162" y="13965"/>
                </a:cubicBezTo>
                <a:cubicBezTo>
                  <a:pt x="11177" y="13889"/>
                  <a:pt x="11184" y="13885"/>
                  <a:pt x="11237" y="13841"/>
                </a:cubicBezTo>
                <a:cubicBezTo>
                  <a:pt x="11312" y="13779"/>
                  <a:pt x="11347" y="13847"/>
                  <a:pt x="11385" y="13915"/>
                </a:cubicBezTo>
                <a:cubicBezTo>
                  <a:pt x="11411" y="13963"/>
                  <a:pt x="11424" y="14011"/>
                  <a:pt x="11361" y="14039"/>
                </a:cubicBezTo>
                <a:cubicBezTo>
                  <a:pt x="11310" y="14061"/>
                  <a:pt x="11256" y="14026"/>
                  <a:pt x="11212" y="14015"/>
                </a:cubicBezTo>
                <a:cubicBezTo>
                  <a:pt x="11204" y="14015"/>
                  <a:pt x="11195" y="14015"/>
                  <a:pt x="11187" y="14015"/>
                </a:cubicBezTo>
              </a:path>
              <a:path w="4317" h="919">
                <a:moveTo>
                  <a:pt x="11584" y="13841"/>
                </a:moveTo>
                <a:cubicBezTo>
                  <a:pt x="11616" y="13792"/>
                  <a:pt x="11618" y="13780"/>
                  <a:pt x="11658" y="13767"/>
                </a:cubicBezTo>
                <a:cubicBezTo>
                  <a:pt x="11630" y="13774"/>
                  <a:pt x="11569" y="13806"/>
                  <a:pt x="11559" y="13841"/>
                </a:cubicBezTo>
                <a:cubicBezTo>
                  <a:pt x="11540" y="13906"/>
                  <a:pt x="11569" y="13958"/>
                  <a:pt x="11584" y="14015"/>
                </a:cubicBezTo>
                <a:cubicBezTo>
                  <a:pt x="11604" y="14094"/>
                  <a:pt x="11662" y="14015"/>
                  <a:pt x="11683" y="13990"/>
                </a:cubicBezTo>
                <a:cubicBezTo>
                  <a:pt x="11691" y="13982"/>
                  <a:pt x="11700" y="13973"/>
                  <a:pt x="11708" y="13965"/>
                </a:cubicBezTo>
              </a:path>
              <a:path w="4317" h="919">
                <a:moveTo>
                  <a:pt x="11857" y="13866"/>
                </a:moveTo>
                <a:cubicBezTo>
                  <a:pt x="11857" y="13858"/>
                  <a:pt x="11857" y="13849"/>
                  <a:pt x="11857" y="13841"/>
                </a:cubicBezTo>
                <a:cubicBezTo>
                  <a:pt x="11912" y="13869"/>
                  <a:pt x="11906" y="13902"/>
                  <a:pt x="11906" y="13965"/>
                </a:cubicBezTo>
                <a:cubicBezTo>
                  <a:pt x="11906" y="14049"/>
                  <a:pt x="11925" y="14109"/>
                  <a:pt x="11931" y="14188"/>
                </a:cubicBezTo>
                <a:cubicBezTo>
                  <a:pt x="11933" y="14213"/>
                  <a:pt x="11931" y="14238"/>
                  <a:pt x="11931" y="14263"/>
                </a:cubicBezTo>
              </a:path>
              <a:path w="4317" h="919">
                <a:moveTo>
                  <a:pt x="11881" y="13965"/>
                </a:moveTo>
                <a:cubicBezTo>
                  <a:pt x="11881" y="13879"/>
                  <a:pt x="11874" y="13860"/>
                  <a:pt x="11931" y="13816"/>
                </a:cubicBezTo>
                <a:cubicBezTo>
                  <a:pt x="11972" y="13784"/>
                  <a:pt x="11989" y="13779"/>
                  <a:pt x="12030" y="13816"/>
                </a:cubicBezTo>
                <a:cubicBezTo>
                  <a:pt x="12063" y="13845"/>
                  <a:pt x="12114" y="13945"/>
                  <a:pt x="12080" y="13990"/>
                </a:cubicBezTo>
                <a:cubicBezTo>
                  <a:pt x="12064" y="14011"/>
                  <a:pt x="12005" y="14033"/>
                  <a:pt x="11981" y="14039"/>
                </a:cubicBezTo>
              </a:path>
              <a:path w="4317" h="919">
                <a:moveTo>
                  <a:pt x="12576" y="13791"/>
                </a:moveTo>
                <a:cubicBezTo>
                  <a:pt x="12601" y="13791"/>
                  <a:pt x="12609" y="13791"/>
                  <a:pt x="12626" y="13791"/>
                </a:cubicBezTo>
                <a:cubicBezTo>
                  <a:pt x="12551" y="13791"/>
                  <a:pt x="12477" y="13791"/>
                  <a:pt x="12402" y="13791"/>
                </a:cubicBezTo>
              </a:path>
              <a:path w="4317" h="919">
                <a:moveTo>
                  <a:pt x="12477" y="13667"/>
                </a:moveTo>
                <a:cubicBezTo>
                  <a:pt x="12509" y="13606"/>
                  <a:pt x="12502" y="13738"/>
                  <a:pt x="12502" y="13767"/>
                </a:cubicBezTo>
                <a:cubicBezTo>
                  <a:pt x="12502" y="13821"/>
                  <a:pt x="12520" y="13862"/>
                  <a:pt x="12526" y="13915"/>
                </a:cubicBezTo>
              </a:path>
              <a:path w="4317" h="919">
                <a:moveTo>
                  <a:pt x="13072" y="13494"/>
                </a:moveTo>
                <a:cubicBezTo>
                  <a:pt x="13072" y="13452"/>
                  <a:pt x="13072" y="13444"/>
                  <a:pt x="13072" y="13419"/>
                </a:cubicBezTo>
                <a:cubicBezTo>
                  <a:pt x="13072" y="13568"/>
                  <a:pt x="13072" y="13965"/>
                  <a:pt x="13072" y="13816"/>
                </a:cubicBezTo>
                <a:cubicBezTo>
                  <a:pt x="13102" y="13766"/>
                  <a:pt x="13102" y="13716"/>
                  <a:pt x="13146" y="13667"/>
                </a:cubicBezTo>
                <a:cubicBezTo>
                  <a:pt x="13189" y="13620"/>
                  <a:pt x="13240" y="13644"/>
                  <a:pt x="13271" y="13692"/>
                </a:cubicBezTo>
                <a:cubicBezTo>
                  <a:pt x="13287" y="13717"/>
                  <a:pt x="13322" y="13839"/>
                  <a:pt x="13295" y="13866"/>
                </a:cubicBezTo>
                <a:cubicBezTo>
                  <a:pt x="13266" y="13895"/>
                  <a:pt x="13183" y="13903"/>
                  <a:pt x="13146" y="13891"/>
                </a:cubicBezTo>
                <a:cubicBezTo>
                  <a:pt x="13130" y="13883"/>
                  <a:pt x="13113" y="13874"/>
                  <a:pt x="13097" y="13866"/>
                </a:cubicBezTo>
              </a:path>
              <a:path w="4317" h="919">
                <a:moveTo>
                  <a:pt x="13519" y="13717"/>
                </a:moveTo>
                <a:cubicBezTo>
                  <a:pt x="13532" y="13677"/>
                  <a:pt x="13530" y="13707"/>
                  <a:pt x="13543" y="13667"/>
                </a:cubicBezTo>
                <a:cubicBezTo>
                  <a:pt x="13503" y="13677"/>
                  <a:pt x="13472" y="13696"/>
                  <a:pt x="13469" y="13742"/>
                </a:cubicBezTo>
                <a:cubicBezTo>
                  <a:pt x="13465" y="13798"/>
                  <a:pt x="13464" y="13801"/>
                  <a:pt x="13494" y="13841"/>
                </a:cubicBezTo>
                <a:cubicBezTo>
                  <a:pt x="13569" y="13822"/>
                  <a:pt x="13565" y="13764"/>
                  <a:pt x="13568" y="13692"/>
                </a:cubicBezTo>
                <a:cubicBezTo>
                  <a:pt x="13571" y="13610"/>
                  <a:pt x="13568" y="13526"/>
                  <a:pt x="13568" y="13444"/>
                </a:cubicBezTo>
                <a:cubicBezTo>
                  <a:pt x="13568" y="13402"/>
                  <a:pt x="13556" y="13479"/>
                  <a:pt x="13568" y="13519"/>
                </a:cubicBezTo>
                <a:cubicBezTo>
                  <a:pt x="13592" y="13600"/>
                  <a:pt x="13630" y="13690"/>
                  <a:pt x="13667" y="13767"/>
                </a:cubicBezTo>
                <a:cubicBezTo>
                  <a:pt x="13697" y="13831"/>
                  <a:pt x="13710" y="13858"/>
                  <a:pt x="13767" y="13816"/>
                </a:cubicBezTo>
              </a:path>
              <a:path w="4317" h="919">
                <a:moveTo>
                  <a:pt x="13915" y="13742"/>
                </a:moveTo>
                <a:cubicBezTo>
                  <a:pt x="13915" y="13767"/>
                  <a:pt x="13915" y="13775"/>
                  <a:pt x="13940" y="13767"/>
                </a:cubicBezTo>
                <a:cubicBezTo>
                  <a:pt x="13931" y="13729"/>
                  <a:pt x="13895" y="13691"/>
                  <a:pt x="13915" y="13643"/>
                </a:cubicBezTo>
                <a:cubicBezTo>
                  <a:pt x="13941" y="13580"/>
                  <a:pt x="14010" y="13593"/>
                  <a:pt x="14064" y="13593"/>
                </a:cubicBezTo>
                <a:cubicBezTo>
                  <a:pt x="14081" y="13593"/>
                  <a:pt x="14097" y="13593"/>
                  <a:pt x="14114" y="13593"/>
                </a:cubicBezTo>
              </a:path>
              <a:path w="4317" h="919">
                <a:moveTo>
                  <a:pt x="14808" y="13593"/>
                </a:moveTo>
                <a:cubicBezTo>
                  <a:pt x="14816" y="13593"/>
                  <a:pt x="14825" y="13593"/>
                  <a:pt x="14833" y="13593"/>
                </a:cubicBezTo>
                <a:cubicBezTo>
                  <a:pt x="14765" y="13593"/>
                  <a:pt x="14716" y="13599"/>
                  <a:pt x="14660" y="13618"/>
                </a:cubicBezTo>
                <a:cubicBezTo>
                  <a:pt x="14652" y="13618"/>
                  <a:pt x="14643" y="13618"/>
                  <a:pt x="14635" y="13618"/>
                </a:cubicBezTo>
              </a:path>
              <a:path w="4317" h="919">
                <a:moveTo>
                  <a:pt x="14808" y="13692"/>
                </a:moveTo>
                <a:cubicBezTo>
                  <a:pt x="14831" y="13715"/>
                  <a:pt x="14839" y="13719"/>
                  <a:pt x="14833" y="13742"/>
                </a:cubicBezTo>
                <a:cubicBezTo>
                  <a:pt x="14800" y="13742"/>
                  <a:pt x="14767" y="13742"/>
                  <a:pt x="14734" y="13742"/>
                </a:cubicBezTo>
              </a:path>
              <a:path w="4317" h="919">
                <a:moveTo>
                  <a:pt x="15230" y="13618"/>
                </a:moveTo>
                <a:cubicBezTo>
                  <a:pt x="15219" y="13592"/>
                  <a:pt x="15186" y="13528"/>
                  <a:pt x="15205" y="13494"/>
                </a:cubicBezTo>
                <a:cubicBezTo>
                  <a:pt x="15233" y="13444"/>
                  <a:pt x="15236" y="13415"/>
                  <a:pt x="15280" y="13370"/>
                </a:cubicBezTo>
                <a:cubicBezTo>
                  <a:pt x="15320" y="13329"/>
                  <a:pt x="15365" y="13335"/>
                  <a:pt x="15404" y="13370"/>
                </a:cubicBezTo>
                <a:cubicBezTo>
                  <a:pt x="15463" y="13422"/>
                  <a:pt x="15469" y="13519"/>
                  <a:pt x="15453" y="13593"/>
                </a:cubicBezTo>
                <a:cubicBezTo>
                  <a:pt x="15437" y="13667"/>
                  <a:pt x="15377" y="13726"/>
                  <a:pt x="15304" y="13742"/>
                </a:cubicBezTo>
                <a:cubicBezTo>
                  <a:pt x="15265" y="13751"/>
                  <a:pt x="15163" y="13724"/>
                  <a:pt x="15180" y="13667"/>
                </a:cubicBezTo>
                <a:cubicBezTo>
                  <a:pt x="15196" y="13611"/>
                  <a:pt x="15235" y="13550"/>
                  <a:pt x="15255" y="13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81840" y="5027760"/>
            <a:ext cx="241200" cy="115920"/>
          </a:xfrm>
          <a:custGeom>
            <a:avLst/>
            <a:gdLst/>
            <a:ahLst/>
            <a:rect l="l" t="t" r="r" b="b"/>
            <a:pathLst>
              <a:path w="671" h="324">
                <a:moveTo>
                  <a:pt x="17016" y="14015"/>
                </a:moveTo>
                <a:cubicBezTo>
                  <a:pt x="17024" y="14007"/>
                  <a:pt x="17033" y="13998"/>
                  <a:pt x="17041" y="13990"/>
                </a:cubicBezTo>
                <a:cubicBezTo>
                  <a:pt x="16989" y="13990"/>
                  <a:pt x="16923" y="13984"/>
                  <a:pt x="16892" y="14039"/>
                </a:cubicBezTo>
                <a:cubicBezTo>
                  <a:pt x="16869" y="14080"/>
                  <a:pt x="16916" y="14099"/>
                  <a:pt x="16942" y="14114"/>
                </a:cubicBezTo>
                <a:cubicBezTo>
                  <a:pt x="16991" y="14142"/>
                  <a:pt x="17063" y="14127"/>
                  <a:pt x="17090" y="14188"/>
                </a:cubicBezTo>
                <a:cubicBezTo>
                  <a:pt x="17105" y="14224"/>
                  <a:pt x="17073" y="14274"/>
                  <a:pt x="17041" y="14288"/>
                </a:cubicBezTo>
                <a:cubicBezTo>
                  <a:pt x="17025" y="14295"/>
                  <a:pt x="16984" y="14288"/>
                  <a:pt x="16966" y="14288"/>
                </a:cubicBezTo>
              </a:path>
              <a:path w="671" h="324">
                <a:moveTo>
                  <a:pt x="17512" y="14015"/>
                </a:moveTo>
                <a:cubicBezTo>
                  <a:pt x="17535" y="13992"/>
                  <a:pt x="17543" y="13988"/>
                  <a:pt x="17537" y="13965"/>
                </a:cubicBezTo>
                <a:cubicBezTo>
                  <a:pt x="17490" y="13965"/>
                  <a:pt x="17458" y="13985"/>
                  <a:pt x="17413" y="13990"/>
                </a:cubicBezTo>
                <a:cubicBezTo>
                  <a:pt x="17405" y="13990"/>
                  <a:pt x="17396" y="13990"/>
                  <a:pt x="17388" y="13990"/>
                </a:cubicBezTo>
              </a:path>
              <a:path w="671" h="324">
                <a:moveTo>
                  <a:pt x="17512" y="14039"/>
                </a:moveTo>
                <a:cubicBezTo>
                  <a:pt x="17554" y="14039"/>
                  <a:pt x="17570" y="14031"/>
                  <a:pt x="17562" y="14064"/>
                </a:cubicBezTo>
                <a:cubicBezTo>
                  <a:pt x="17548" y="14106"/>
                  <a:pt x="17513" y="14089"/>
                  <a:pt x="17462" y="140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89800" y="4848120"/>
            <a:ext cx="625320" cy="366840"/>
          </a:xfrm>
          <a:custGeom>
            <a:avLst/>
            <a:gdLst/>
            <a:ahLst/>
            <a:rect l="l" t="t" r="r" b="b"/>
            <a:pathLst>
              <a:path w="1737" h="1018">
                <a:moveTo>
                  <a:pt x="18976" y="13568"/>
                </a:moveTo>
                <a:cubicBezTo>
                  <a:pt x="19011" y="13516"/>
                  <a:pt x="19025" y="13527"/>
                  <a:pt x="19025" y="13469"/>
                </a:cubicBezTo>
                <a:cubicBezTo>
                  <a:pt x="18944" y="13485"/>
                  <a:pt x="18930" y="13512"/>
                  <a:pt x="18926" y="13593"/>
                </a:cubicBezTo>
                <a:cubicBezTo>
                  <a:pt x="18923" y="13653"/>
                  <a:pt x="18917" y="13697"/>
                  <a:pt x="18951" y="13742"/>
                </a:cubicBezTo>
                <a:cubicBezTo>
                  <a:pt x="18982" y="13703"/>
                  <a:pt x="18991" y="13623"/>
                  <a:pt x="19025" y="13593"/>
                </a:cubicBezTo>
                <a:cubicBezTo>
                  <a:pt x="19033" y="13593"/>
                  <a:pt x="19042" y="13593"/>
                  <a:pt x="19050" y="13593"/>
                </a:cubicBezTo>
                <a:cubicBezTo>
                  <a:pt x="19098" y="13617"/>
                  <a:pt x="19121" y="13679"/>
                  <a:pt x="19174" y="13717"/>
                </a:cubicBezTo>
              </a:path>
              <a:path w="1737" h="1018">
                <a:moveTo>
                  <a:pt x="19968" y="13816"/>
                </a:moveTo>
                <a:cubicBezTo>
                  <a:pt x="20051" y="13816"/>
                  <a:pt x="20051" y="13816"/>
                  <a:pt x="19968" y="13816"/>
                </a:cubicBezTo>
                <a:cubicBezTo>
                  <a:pt x="19860" y="13816"/>
                  <a:pt x="19756" y="13841"/>
                  <a:pt x="19645" y="13841"/>
                </a:cubicBezTo>
                <a:cubicBezTo>
                  <a:pt x="19462" y="13841"/>
                  <a:pt x="19278" y="13826"/>
                  <a:pt x="19100" y="13866"/>
                </a:cubicBezTo>
                <a:cubicBezTo>
                  <a:pt x="18979" y="13893"/>
                  <a:pt x="18871" y="13900"/>
                  <a:pt x="18752" y="13940"/>
                </a:cubicBezTo>
                <a:cubicBezTo>
                  <a:pt x="18676" y="13965"/>
                  <a:pt x="18580" y="13980"/>
                  <a:pt x="18504" y="13990"/>
                </a:cubicBezTo>
                <a:cubicBezTo>
                  <a:pt x="18427" y="14000"/>
                  <a:pt x="18369" y="13977"/>
                  <a:pt x="18306" y="14015"/>
                </a:cubicBezTo>
              </a:path>
              <a:path w="1737" h="1018">
                <a:moveTo>
                  <a:pt x="18479" y="14288"/>
                </a:moveTo>
                <a:cubicBezTo>
                  <a:pt x="18487" y="14280"/>
                  <a:pt x="18496" y="14271"/>
                  <a:pt x="18504" y="14263"/>
                </a:cubicBezTo>
                <a:cubicBezTo>
                  <a:pt x="18490" y="14316"/>
                  <a:pt x="18460" y="14324"/>
                  <a:pt x="18455" y="14387"/>
                </a:cubicBezTo>
                <a:cubicBezTo>
                  <a:pt x="18453" y="14411"/>
                  <a:pt x="18455" y="14437"/>
                  <a:pt x="18455" y="14461"/>
                </a:cubicBezTo>
                <a:cubicBezTo>
                  <a:pt x="18493" y="14448"/>
                  <a:pt x="18481" y="14421"/>
                  <a:pt x="18504" y="14387"/>
                </a:cubicBezTo>
                <a:cubicBezTo>
                  <a:pt x="18527" y="14364"/>
                  <a:pt x="18531" y="14356"/>
                  <a:pt x="18554" y="14362"/>
                </a:cubicBezTo>
                <a:cubicBezTo>
                  <a:pt x="18565" y="14419"/>
                  <a:pt x="18588" y="14445"/>
                  <a:pt x="18628" y="14486"/>
                </a:cubicBezTo>
              </a:path>
              <a:path w="1737" h="1018">
                <a:moveTo>
                  <a:pt x="18777" y="14337"/>
                </a:moveTo>
                <a:cubicBezTo>
                  <a:pt x="18777" y="14278"/>
                  <a:pt x="18755" y="14399"/>
                  <a:pt x="18752" y="14412"/>
                </a:cubicBezTo>
                <a:cubicBezTo>
                  <a:pt x="18743" y="14449"/>
                  <a:pt x="18757" y="14459"/>
                  <a:pt x="18777" y="14486"/>
                </a:cubicBezTo>
                <a:cubicBezTo>
                  <a:pt x="18831" y="14432"/>
                  <a:pt x="18849" y="14391"/>
                  <a:pt x="18852" y="14312"/>
                </a:cubicBezTo>
                <a:cubicBezTo>
                  <a:pt x="18854" y="14255"/>
                  <a:pt x="18852" y="14197"/>
                  <a:pt x="18852" y="14139"/>
                </a:cubicBezTo>
                <a:cubicBezTo>
                  <a:pt x="18865" y="14203"/>
                  <a:pt x="18877" y="14274"/>
                  <a:pt x="18901" y="14337"/>
                </a:cubicBezTo>
                <a:cubicBezTo>
                  <a:pt x="18919" y="14384"/>
                  <a:pt x="18945" y="14423"/>
                  <a:pt x="18976" y="14461"/>
                </a:cubicBezTo>
              </a:path>
              <a:path w="1737" h="1018">
                <a:moveTo>
                  <a:pt x="19149" y="14337"/>
                </a:moveTo>
                <a:cubicBezTo>
                  <a:pt x="19182" y="14337"/>
                  <a:pt x="19215" y="14337"/>
                  <a:pt x="19248" y="14337"/>
                </a:cubicBezTo>
              </a:path>
              <a:path w="1737" h="1018">
                <a:moveTo>
                  <a:pt x="19496" y="14089"/>
                </a:moveTo>
                <a:cubicBezTo>
                  <a:pt x="19496" y="14072"/>
                  <a:pt x="19496" y="14056"/>
                  <a:pt x="19496" y="14039"/>
                </a:cubicBezTo>
                <a:cubicBezTo>
                  <a:pt x="19537" y="14107"/>
                  <a:pt x="19499" y="14156"/>
                  <a:pt x="19496" y="14238"/>
                </a:cubicBezTo>
                <a:cubicBezTo>
                  <a:pt x="19494" y="14287"/>
                  <a:pt x="19496" y="14337"/>
                  <a:pt x="19496" y="14387"/>
                </a:cubicBezTo>
                <a:cubicBezTo>
                  <a:pt x="19537" y="14373"/>
                  <a:pt x="19517" y="14324"/>
                  <a:pt x="19571" y="14312"/>
                </a:cubicBezTo>
                <a:cubicBezTo>
                  <a:pt x="19624" y="14300"/>
                  <a:pt x="19621" y="14353"/>
                  <a:pt x="19621" y="14387"/>
                </a:cubicBezTo>
                <a:cubicBezTo>
                  <a:pt x="19621" y="14440"/>
                  <a:pt x="19567" y="14449"/>
                  <a:pt x="19521" y="14436"/>
                </a:cubicBezTo>
                <a:cubicBezTo>
                  <a:pt x="19505" y="14428"/>
                  <a:pt x="19488" y="14420"/>
                  <a:pt x="19472" y="14412"/>
                </a:cubicBezTo>
              </a:path>
              <a:path w="1737" h="1018">
                <a:moveTo>
                  <a:pt x="19695" y="14288"/>
                </a:moveTo>
                <a:cubicBezTo>
                  <a:pt x="19703" y="14280"/>
                  <a:pt x="19712" y="14271"/>
                  <a:pt x="19720" y="14263"/>
                </a:cubicBezTo>
                <a:cubicBezTo>
                  <a:pt x="19720" y="14319"/>
                  <a:pt x="19710" y="14368"/>
                  <a:pt x="19745" y="14412"/>
                </a:cubicBezTo>
                <a:cubicBezTo>
                  <a:pt x="19795" y="14474"/>
                  <a:pt x="19824" y="14466"/>
                  <a:pt x="19893" y="14436"/>
                </a:cubicBezTo>
                <a:cubicBezTo>
                  <a:pt x="19910" y="14428"/>
                  <a:pt x="19926" y="14420"/>
                  <a:pt x="19943" y="144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82800" y="5045040"/>
            <a:ext cx="276120" cy="241200"/>
          </a:xfrm>
          <a:custGeom>
            <a:avLst/>
            <a:gdLst/>
            <a:ahLst/>
            <a:rect l="l" t="t" r="r" b="b"/>
            <a:pathLst>
              <a:path w="769" h="670">
                <a:moveTo>
                  <a:pt x="3200" y="14610"/>
                </a:moveTo>
                <a:cubicBezTo>
                  <a:pt x="3200" y="14635"/>
                  <a:pt x="3200" y="14643"/>
                  <a:pt x="3200" y="14660"/>
                </a:cubicBezTo>
                <a:cubicBezTo>
                  <a:pt x="3144" y="14660"/>
                  <a:pt x="3122" y="14669"/>
                  <a:pt x="3076" y="14684"/>
                </a:cubicBezTo>
                <a:cubicBezTo>
                  <a:pt x="3034" y="14697"/>
                  <a:pt x="2983" y="14684"/>
                  <a:pt x="2952" y="14660"/>
                </a:cubicBezTo>
                <a:cubicBezTo>
                  <a:pt x="2913" y="14629"/>
                  <a:pt x="2870" y="14587"/>
                  <a:pt x="2828" y="14560"/>
                </a:cubicBezTo>
                <a:cubicBezTo>
                  <a:pt x="2777" y="14528"/>
                  <a:pt x="2758" y="14506"/>
                  <a:pt x="2753" y="14436"/>
                </a:cubicBezTo>
                <a:cubicBezTo>
                  <a:pt x="2749" y="14378"/>
                  <a:pt x="2729" y="14350"/>
                  <a:pt x="2729" y="14288"/>
                </a:cubicBezTo>
                <a:cubicBezTo>
                  <a:pt x="2729" y="14234"/>
                  <a:pt x="2740" y="14204"/>
                  <a:pt x="2778" y="14163"/>
                </a:cubicBezTo>
                <a:cubicBezTo>
                  <a:pt x="2819" y="14118"/>
                  <a:pt x="2869" y="14058"/>
                  <a:pt x="2927" y="14039"/>
                </a:cubicBezTo>
                <a:cubicBezTo>
                  <a:pt x="2969" y="14025"/>
                  <a:pt x="3032" y="14017"/>
                  <a:pt x="3076" y="14015"/>
                </a:cubicBezTo>
                <a:cubicBezTo>
                  <a:pt x="3132" y="14012"/>
                  <a:pt x="3197" y="14041"/>
                  <a:pt x="3249" y="14064"/>
                </a:cubicBezTo>
                <a:cubicBezTo>
                  <a:pt x="3323" y="14097"/>
                  <a:pt x="3366" y="14131"/>
                  <a:pt x="3423" y="14188"/>
                </a:cubicBezTo>
                <a:cubicBezTo>
                  <a:pt x="3467" y="14232"/>
                  <a:pt x="3494" y="14278"/>
                  <a:pt x="3497" y="14337"/>
                </a:cubicBezTo>
                <a:cubicBezTo>
                  <a:pt x="3501" y="14401"/>
                  <a:pt x="3450" y="14471"/>
                  <a:pt x="3398" y="14511"/>
                </a:cubicBezTo>
                <a:cubicBezTo>
                  <a:pt x="3358" y="14531"/>
                  <a:pt x="3352" y="14540"/>
                  <a:pt x="3324" y="145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24040" y="5045040"/>
            <a:ext cx="231840" cy="196920"/>
          </a:xfrm>
          <a:custGeom>
            <a:avLst/>
            <a:gdLst/>
            <a:ahLst/>
            <a:rect l="l" t="t" r="r" b="b"/>
            <a:pathLst>
              <a:path w="646" h="546">
                <a:moveTo>
                  <a:pt x="4862" y="14064"/>
                </a:moveTo>
                <a:cubicBezTo>
                  <a:pt x="4870" y="14056"/>
                  <a:pt x="4879" y="14047"/>
                  <a:pt x="4887" y="14039"/>
                </a:cubicBezTo>
                <a:cubicBezTo>
                  <a:pt x="4847" y="14071"/>
                  <a:pt x="4791" y="14085"/>
                  <a:pt x="4787" y="14139"/>
                </a:cubicBezTo>
                <a:cubicBezTo>
                  <a:pt x="4784" y="14185"/>
                  <a:pt x="4776" y="14270"/>
                  <a:pt x="4837" y="14288"/>
                </a:cubicBezTo>
                <a:cubicBezTo>
                  <a:pt x="4889" y="14288"/>
                  <a:pt x="4907" y="14287"/>
                  <a:pt x="4936" y="14263"/>
                </a:cubicBezTo>
              </a:path>
              <a:path w="646" h="546">
                <a:moveTo>
                  <a:pt x="5159" y="14163"/>
                </a:moveTo>
                <a:cubicBezTo>
                  <a:pt x="5159" y="14122"/>
                  <a:pt x="5151" y="14106"/>
                  <a:pt x="5184" y="14114"/>
                </a:cubicBezTo>
                <a:cubicBezTo>
                  <a:pt x="5224" y="14127"/>
                  <a:pt x="5209" y="14162"/>
                  <a:pt x="5209" y="14213"/>
                </a:cubicBezTo>
                <a:cubicBezTo>
                  <a:pt x="5209" y="14301"/>
                  <a:pt x="5229" y="14376"/>
                  <a:pt x="5234" y="14461"/>
                </a:cubicBezTo>
                <a:cubicBezTo>
                  <a:pt x="5237" y="14523"/>
                  <a:pt x="5225" y="14516"/>
                  <a:pt x="5259" y="14560"/>
                </a:cubicBezTo>
              </a:path>
              <a:path w="646" h="546">
                <a:moveTo>
                  <a:pt x="5259" y="14188"/>
                </a:moveTo>
                <a:cubicBezTo>
                  <a:pt x="5274" y="14135"/>
                  <a:pt x="5286" y="13983"/>
                  <a:pt x="5383" y="14015"/>
                </a:cubicBezTo>
                <a:cubicBezTo>
                  <a:pt x="5437" y="14033"/>
                  <a:pt x="5444" y="14145"/>
                  <a:pt x="5432" y="14188"/>
                </a:cubicBezTo>
                <a:cubicBezTo>
                  <a:pt x="5410" y="14232"/>
                  <a:pt x="5407" y="14243"/>
                  <a:pt x="5383" y="142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43080" y="4946760"/>
            <a:ext cx="384120" cy="152280"/>
          </a:xfrm>
          <a:custGeom>
            <a:avLst/>
            <a:gdLst/>
            <a:ahLst/>
            <a:rect l="l" t="t" r="r" b="b"/>
            <a:pathLst>
              <a:path w="1068" h="422">
                <a:moveTo>
                  <a:pt x="6176" y="13990"/>
                </a:moveTo>
                <a:cubicBezTo>
                  <a:pt x="6176" y="14015"/>
                  <a:pt x="6176" y="14023"/>
                  <a:pt x="6201" y="14015"/>
                </a:cubicBezTo>
                <a:cubicBezTo>
                  <a:pt x="6144" y="14015"/>
                  <a:pt x="6098" y="14030"/>
                  <a:pt x="6052" y="14039"/>
                </a:cubicBezTo>
                <a:cubicBezTo>
                  <a:pt x="6024" y="14044"/>
                  <a:pt x="5983" y="14039"/>
                  <a:pt x="5953" y="14039"/>
                </a:cubicBezTo>
              </a:path>
              <a:path w="1068" h="422">
                <a:moveTo>
                  <a:pt x="6003" y="13965"/>
                </a:moveTo>
                <a:cubicBezTo>
                  <a:pt x="6011" y="13948"/>
                  <a:pt x="6020" y="13932"/>
                  <a:pt x="6028" y="13915"/>
                </a:cubicBezTo>
                <a:cubicBezTo>
                  <a:pt x="6060" y="13960"/>
                  <a:pt x="6074" y="14005"/>
                  <a:pt x="6077" y="14064"/>
                </a:cubicBezTo>
                <a:cubicBezTo>
                  <a:pt x="6077" y="14116"/>
                  <a:pt x="6078" y="14134"/>
                  <a:pt x="6102" y="14163"/>
                </a:cubicBezTo>
              </a:path>
              <a:path w="1068" h="422">
                <a:moveTo>
                  <a:pt x="6524" y="13990"/>
                </a:moveTo>
                <a:cubicBezTo>
                  <a:pt x="6499" y="13939"/>
                  <a:pt x="6477" y="14028"/>
                  <a:pt x="6474" y="14064"/>
                </a:cubicBezTo>
                <a:cubicBezTo>
                  <a:pt x="6469" y="14126"/>
                  <a:pt x="6497" y="14139"/>
                  <a:pt x="6548" y="14139"/>
                </a:cubicBezTo>
                <a:cubicBezTo>
                  <a:pt x="6578" y="14048"/>
                  <a:pt x="6573" y="13964"/>
                  <a:pt x="6573" y="13866"/>
                </a:cubicBezTo>
                <a:cubicBezTo>
                  <a:pt x="6573" y="13816"/>
                  <a:pt x="6573" y="13800"/>
                  <a:pt x="6573" y="13767"/>
                </a:cubicBezTo>
                <a:cubicBezTo>
                  <a:pt x="6573" y="13716"/>
                  <a:pt x="6590" y="13816"/>
                  <a:pt x="6598" y="13866"/>
                </a:cubicBezTo>
                <a:cubicBezTo>
                  <a:pt x="6610" y="13944"/>
                  <a:pt x="6625" y="14021"/>
                  <a:pt x="6672" y="14089"/>
                </a:cubicBezTo>
                <a:cubicBezTo>
                  <a:pt x="6694" y="14121"/>
                  <a:pt x="6715" y="14131"/>
                  <a:pt x="6747" y="14139"/>
                </a:cubicBezTo>
              </a:path>
              <a:path w="1068" h="422">
                <a:moveTo>
                  <a:pt x="6896" y="14015"/>
                </a:moveTo>
                <a:cubicBezTo>
                  <a:pt x="6896" y="14039"/>
                  <a:pt x="6896" y="14048"/>
                  <a:pt x="6896" y="14064"/>
                </a:cubicBezTo>
                <a:cubicBezTo>
                  <a:pt x="6885" y="14008"/>
                  <a:pt x="6871" y="13974"/>
                  <a:pt x="6871" y="13915"/>
                </a:cubicBezTo>
                <a:cubicBezTo>
                  <a:pt x="6871" y="13875"/>
                  <a:pt x="6935" y="13825"/>
                  <a:pt x="6970" y="13816"/>
                </a:cubicBezTo>
                <a:cubicBezTo>
                  <a:pt x="6987" y="13816"/>
                  <a:pt x="7003" y="13816"/>
                  <a:pt x="7020" y="138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652840" y="4973760"/>
            <a:ext cx="79200" cy="63360"/>
          </a:xfrm>
          <a:custGeom>
            <a:avLst/>
            <a:gdLst/>
            <a:ahLst/>
            <a:rect l="l" t="t" r="r" b="b"/>
            <a:pathLst>
              <a:path w="224" h="175">
                <a:moveTo>
                  <a:pt x="7516" y="13841"/>
                </a:moveTo>
                <a:cubicBezTo>
                  <a:pt x="7560" y="13808"/>
                  <a:pt x="7567" y="13784"/>
                  <a:pt x="7491" y="13816"/>
                </a:cubicBezTo>
                <a:cubicBezTo>
                  <a:pt x="7444" y="13835"/>
                  <a:pt x="7427" y="13841"/>
                  <a:pt x="7367" y="13841"/>
                </a:cubicBezTo>
              </a:path>
              <a:path w="224" h="175">
                <a:moveTo>
                  <a:pt x="7541" y="13965"/>
                </a:moveTo>
                <a:cubicBezTo>
                  <a:pt x="7565" y="13965"/>
                  <a:pt x="7574" y="13965"/>
                  <a:pt x="7590" y="13965"/>
                </a:cubicBezTo>
                <a:cubicBezTo>
                  <a:pt x="7542" y="13965"/>
                  <a:pt x="7529" y="13961"/>
                  <a:pt x="7491" y="139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67040" y="4875120"/>
            <a:ext cx="98280" cy="142920"/>
          </a:xfrm>
          <a:custGeom>
            <a:avLst/>
            <a:gdLst/>
            <a:ahLst/>
            <a:rect l="l" t="t" r="r" b="b"/>
            <a:pathLst>
              <a:path w="274" h="398">
                <a:moveTo>
                  <a:pt x="7987" y="13742"/>
                </a:moveTo>
                <a:cubicBezTo>
                  <a:pt x="7987" y="13696"/>
                  <a:pt x="7967" y="13683"/>
                  <a:pt x="7962" y="13643"/>
                </a:cubicBezTo>
                <a:cubicBezTo>
                  <a:pt x="7955" y="13583"/>
                  <a:pt x="7976" y="13592"/>
                  <a:pt x="8012" y="13568"/>
                </a:cubicBezTo>
                <a:cubicBezTo>
                  <a:pt x="8049" y="13543"/>
                  <a:pt x="8092" y="13521"/>
                  <a:pt x="8136" y="13568"/>
                </a:cubicBezTo>
                <a:cubicBezTo>
                  <a:pt x="8199" y="13636"/>
                  <a:pt x="8231" y="13699"/>
                  <a:pt x="8235" y="13791"/>
                </a:cubicBezTo>
                <a:cubicBezTo>
                  <a:pt x="8239" y="13882"/>
                  <a:pt x="8258" y="13932"/>
                  <a:pt x="8161" y="13940"/>
                </a:cubicBezTo>
                <a:cubicBezTo>
                  <a:pt x="8113" y="13944"/>
                  <a:pt x="8026" y="13893"/>
                  <a:pt x="7987" y="13866"/>
                </a:cubicBezTo>
                <a:cubicBezTo>
                  <a:pt x="7954" y="13843"/>
                  <a:pt x="7962" y="13826"/>
                  <a:pt x="7962" y="137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62000" y="5303880"/>
            <a:ext cx="162000" cy="162000"/>
          </a:xfrm>
          <a:custGeom>
            <a:avLst/>
            <a:gdLst/>
            <a:ahLst/>
            <a:rect l="l" t="t" r="r" b="b"/>
            <a:pathLst>
              <a:path w="447" h="447">
                <a:moveTo>
                  <a:pt x="3076" y="14982"/>
                </a:moveTo>
                <a:cubicBezTo>
                  <a:pt x="3076" y="14974"/>
                  <a:pt x="3076" y="14965"/>
                  <a:pt x="3076" y="14957"/>
                </a:cubicBezTo>
                <a:cubicBezTo>
                  <a:pt x="3076" y="15031"/>
                  <a:pt x="3076" y="15106"/>
                  <a:pt x="3076" y="15180"/>
                </a:cubicBezTo>
              </a:path>
              <a:path w="447" h="447">
                <a:moveTo>
                  <a:pt x="3125" y="14932"/>
                </a:moveTo>
                <a:cubicBezTo>
                  <a:pt x="3155" y="14984"/>
                  <a:pt x="3183" y="15014"/>
                  <a:pt x="3225" y="15056"/>
                </a:cubicBezTo>
                <a:cubicBezTo>
                  <a:pt x="3233" y="15064"/>
                  <a:pt x="3241" y="15073"/>
                  <a:pt x="3249" y="15081"/>
                </a:cubicBezTo>
                <a:cubicBezTo>
                  <a:pt x="3287" y="15018"/>
                  <a:pt x="3277" y="14979"/>
                  <a:pt x="3299" y="14908"/>
                </a:cubicBezTo>
                <a:cubicBezTo>
                  <a:pt x="3319" y="14867"/>
                  <a:pt x="3328" y="14861"/>
                  <a:pt x="3324" y="14833"/>
                </a:cubicBezTo>
              </a:path>
              <a:path w="447" h="447">
                <a:moveTo>
                  <a:pt x="3076" y="15081"/>
                </a:moveTo>
                <a:cubicBezTo>
                  <a:pt x="3029" y="15081"/>
                  <a:pt x="3012" y="15087"/>
                  <a:pt x="2977" y="15056"/>
                </a:cubicBezTo>
                <a:cubicBezTo>
                  <a:pt x="2943" y="15026"/>
                  <a:pt x="2952" y="15000"/>
                  <a:pt x="2952" y="14957"/>
                </a:cubicBezTo>
                <a:cubicBezTo>
                  <a:pt x="2952" y="14921"/>
                  <a:pt x="2959" y="14885"/>
                  <a:pt x="2977" y="14858"/>
                </a:cubicBezTo>
                <a:cubicBezTo>
                  <a:pt x="3016" y="14798"/>
                  <a:pt x="3085" y="14739"/>
                  <a:pt x="3150" y="14734"/>
                </a:cubicBezTo>
                <a:cubicBezTo>
                  <a:pt x="3213" y="14729"/>
                  <a:pt x="3248" y="14747"/>
                  <a:pt x="3299" y="14784"/>
                </a:cubicBezTo>
                <a:cubicBezTo>
                  <a:pt x="3343" y="14816"/>
                  <a:pt x="3386" y="14880"/>
                  <a:pt x="3398" y="14932"/>
                </a:cubicBezTo>
                <a:cubicBezTo>
                  <a:pt x="3413" y="15000"/>
                  <a:pt x="3387" y="15075"/>
                  <a:pt x="3349" y="15131"/>
                </a:cubicBezTo>
                <a:cubicBezTo>
                  <a:pt x="3308" y="15191"/>
                  <a:pt x="3237" y="15180"/>
                  <a:pt x="3175" y="15180"/>
                </a:cubicBezTo>
                <a:cubicBezTo>
                  <a:pt x="3111" y="15180"/>
                  <a:pt x="3023" y="15190"/>
                  <a:pt x="2977" y="15131"/>
                </a:cubicBezTo>
                <a:cubicBezTo>
                  <a:pt x="2977" y="15123"/>
                  <a:pt x="2977" y="15114"/>
                  <a:pt x="2977" y="151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70040" y="5313240"/>
            <a:ext cx="312840" cy="169920"/>
          </a:xfrm>
          <a:custGeom>
            <a:avLst/>
            <a:gdLst/>
            <a:ahLst/>
            <a:rect l="l" t="t" r="r" b="b"/>
            <a:pathLst>
              <a:path w="870" h="472">
                <a:moveTo>
                  <a:pt x="4738" y="14784"/>
                </a:moveTo>
                <a:cubicBezTo>
                  <a:pt x="4723" y="14754"/>
                  <a:pt x="4681" y="14785"/>
                  <a:pt x="4663" y="14833"/>
                </a:cubicBezTo>
                <a:cubicBezTo>
                  <a:pt x="4650" y="14867"/>
                  <a:pt x="4621" y="14941"/>
                  <a:pt x="4638" y="14982"/>
                </a:cubicBezTo>
                <a:cubicBezTo>
                  <a:pt x="4657" y="15027"/>
                  <a:pt x="4719" y="15047"/>
                  <a:pt x="4762" y="15032"/>
                </a:cubicBezTo>
                <a:cubicBezTo>
                  <a:pt x="4779" y="15024"/>
                  <a:pt x="4795" y="15015"/>
                  <a:pt x="4812" y="15007"/>
                </a:cubicBezTo>
              </a:path>
              <a:path w="870" h="472">
                <a:moveTo>
                  <a:pt x="5135" y="14883"/>
                </a:moveTo>
                <a:cubicBezTo>
                  <a:pt x="5162" y="14845"/>
                  <a:pt x="5159" y="14831"/>
                  <a:pt x="5159" y="14784"/>
                </a:cubicBezTo>
                <a:cubicBezTo>
                  <a:pt x="5104" y="14784"/>
                  <a:pt x="5104" y="14788"/>
                  <a:pt x="5085" y="14833"/>
                </a:cubicBezTo>
                <a:cubicBezTo>
                  <a:pt x="5066" y="14877"/>
                  <a:pt x="5040" y="14969"/>
                  <a:pt x="5085" y="15007"/>
                </a:cubicBezTo>
                <a:cubicBezTo>
                  <a:pt x="5093" y="15007"/>
                  <a:pt x="5102" y="15007"/>
                  <a:pt x="5110" y="15007"/>
                </a:cubicBezTo>
                <a:cubicBezTo>
                  <a:pt x="5136" y="14974"/>
                  <a:pt x="5157" y="14941"/>
                  <a:pt x="5184" y="14908"/>
                </a:cubicBezTo>
                <a:cubicBezTo>
                  <a:pt x="5210" y="14925"/>
                  <a:pt x="5227" y="15029"/>
                  <a:pt x="5234" y="15081"/>
                </a:cubicBezTo>
                <a:cubicBezTo>
                  <a:pt x="5241" y="15129"/>
                  <a:pt x="5234" y="15182"/>
                  <a:pt x="5234" y="15230"/>
                </a:cubicBezTo>
                <a:cubicBezTo>
                  <a:pt x="5293" y="15230"/>
                  <a:pt x="5330" y="15206"/>
                  <a:pt x="5383" y="15180"/>
                </a:cubicBezTo>
                <a:cubicBezTo>
                  <a:pt x="5443" y="15150"/>
                  <a:pt x="5443" y="15140"/>
                  <a:pt x="5507" y="151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98800" y="5322960"/>
            <a:ext cx="81000" cy="7920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6003" y="14858"/>
                </a:moveTo>
                <a:cubicBezTo>
                  <a:pt x="6057" y="14858"/>
                  <a:pt x="6057" y="14858"/>
                  <a:pt x="6003" y="14858"/>
                </a:cubicBezTo>
                <a:cubicBezTo>
                  <a:pt x="5935" y="14858"/>
                  <a:pt x="5884" y="14850"/>
                  <a:pt x="5829" y="14883"/>
                </a:cubicBezTo>
              </a:path>
              <a:path w="224" h="224">
                <a:moveTo>
                  <a:pt x="5904" y="14784"/>
                </a:moveTo>
                <a:cubicBezTo>
                  <a:pt x="5935" y="14826"/>
                  <a:pt x="5950" y="14852"/>
                  <a:pt x="5953" y="14908"/>
                </a:cubicBezTo>
                <a:cubicBezTo>
                  <a:pt x="5953" y="14959"/>
                  <a:pt x="5954" y="14978"/>
                  <a:pt x="5978" y="15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03640" y="5214960"/>
            <a:ext cx="80640" cy="179280"/>
          </a:xfrm>
          <a:custGeom>
            <a:avLst/>
            <a:gdLst/>
            <a:ahLst/>
            <a:rect l="l" t="t" r="r" b="b"/>
            <a:pathLst>
              <a:path w="224" h="497">
                <a:moveTo>
                  <a:pt x="6424" y="14833"/>
                </a:moveTo>
                <a:cubicBezTo>
                  <a:pt x="6446" y="14811"/>
                  <a:pt x="6455" y="14806"/>
                  <a:pt x="6449" y="14784"/>
                </a:cubicBezTo>
                <a:cubicBezTo>
                  <a:pt x="6423" y="14792"/>
                  <a:pt x="6388" y="14838"/>
                  <a:pt x="6400" y="14883"/>
                </a:cubicBezTo>
                <a:cubicBezTo>
                  <a:pt x="6408" y="14899"/>
                  <a:pt x="6416" y="14916"/>
                  <a:pt x="6424" y="14932"/>
                </a:cubicBezTo>
                <a:cubicBezTo>
                  <a:pt x="6498" y="14914"/>
                  <a:pt x="6474" y="14854"/>
                  <a:pt x="6474" y="14784"/>
                </a:cubicBezTo>
                <a:cubicBezTo>
                  <a:pt x="6474" y="14693"/>
                  <a:pt x="6474" y="14602"/>
                  <a:pt x="6474" y="14511"/>
                </a:cubicBezTo>
                <a:cubicBezTo>
                  <a:pt x="6474" y="14456"/>
                  <a:pt x="6493" y="14655"/>
                  <a:pt x="6499" y="14684"/>
                </a:cubicBezTo>
                <a:cubicBezTo>
                  <a:pt x="6516" y="14772"/>
                  <a:pt x="6541" y="14888"/>
                  <a:pt x="6598" y="14957"/>
                </a:cubicBezTo>
                <a:cubicBezTo>
                  <a:pt x="6606" y="14965"/>
                  <a:pt x="6615" y="14974"/>
                  <a:pt x="6623" y="149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90840" y="5276880"/>
            <a:ext cx="54000" cy="98280"/>
          </a:xfrm>
          <a:custGeom>
            <a:avLst/>
            <a:gdLst/>
            <a:ahLst/>
            <a:rect l="l" t="t" r="r" b="b"/>
            <a:pathLst>
              <a:path w="149" h="273">
                <a:moveTo>
                  <a:pt x="6970" y="14709"/>
                </a:moveTo>
                <a:cubicBezTo>
                  <a:pt x="6970" y="14693"/>
                  <a:pt x="6970" y="14676"/>
                  <a:pt x="6970" y="14660"/>
                </a:cubicBezTo>
                <a:cubicBezTo>
                  <a:pt x="6935" y="14703"/>
                  <a:pt x="6921" y="14729"/>
                  <a:pt x="6921" y="14784"/>
                </a:cubicBezTo>
                <a:cubicBezTo>
                  <a:pt x="6921" y="14832"/>
                  <a:pt x="6979" y="14848"/>
                  <a:pt x="7020" y="14858"/>
                </a:cubicBezTo>
                <a:cubicBezTo>
                  <a:pt x="7045" y="14858"/>
                  <a:pt x="7053" y="14858"/>
                  <a:pt x="7069" y="14858"/>
                </a:cubicBezTo>
                <a:cubicBezTo>
                  <a:pt x="7069" y="14939"/>
                  <a:pt x="7058" y="14883"/>
                  <a:pt x="6995" y="14908"/>
                </a:cubicBezTo>
                <a:cubicBezTo>
                  <a:pt x="6987" y="14916"/>
                  <a:pt x="6978" y="14924"/>
                  <a:pt x="6970" y="149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78040" y="5268960"/>
            <a:ext cx="73080" cy="61920"/>
          </a:xfrm>
          <a:custGeom>
            <a:avLst/>
            <a:gdLst/>
            <a:ahLst/>
            <a:rect l="l" t="t" r="r" b="b"/>
            <a:pathLst>
              <a:path w="200" h="174">
                <a:moveTo>
                  <a:pt x="7590" y="14684"/>
                </a:moveTo>
                <a:cubicBezTo>
                  <a:pt x="7590" y="14643"/>
                  <a:pt x="7582" y="14627"/>
                  <a:pt x="7615" y="14635"/>
                </a:cubicBezTo>
                <a:cubicBezTo>
                  <a:pt x="7555" y="14635"/>
                  <a:pt x="7516" y="14645"/>
                  <a:pt x="7466" y="14660"/>
                </a:cubicBezTo>
                <a:cubicBezTo>
                  <a:pt x="7458" y="14660"/>
                  <a:pt x="7449" y="14660"/>
                  <a:pt x="7441" y="14660"/>
                </a:cubicBezTo>
              </a:path>
              <a:path w="200" h="174">
                <a:moveTo>
                  <a:pt x="7615" y="14784"/>
                </a:moveTo>
                <a:cubicBezTo>
                  <a:pt x="7623" y="14792"/>
                  <a:pt x="7632" y="14800"/>
                  <a:pt x="7640" y="14808"/>
                </a:cubicBezTo>
                <a:cubicBezTo>
                  <a:pt x="7627" y="14772"/>
                  <a:pt x="7609" y="14784"/>
                  <a:pt x="7565" y="14784"/>
                </a:cubicBezTo>
                <a:cubicBezTo>
                  <a:pt x="7557" y="14784"/>
                  <a:pt x="7549" y="14784"/>
                  <a:pt x="7541" y="147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94040" y="5180040"/>
            <a:ext cx="44280" cy="123840"/>
          </a:xfrm>
          <a:custGeom>
            <a:avLst/>
            <a:gdLst/>
            <a:ahLst/>
            <a:rect l="l" t="t" r="r" b="b"/>
            <a:pathLst>
              <a:path w="125" h="348">
                <a:moveTo>
                  <a:pt x="8037" y="14412"/>
                </a:moveTo>
                <a:cubicBezTo>
                  <a:pt x="8059" y="14390"/>
                  <a:pt x="8064" y="14381"/>
                  <a:pt x="8086" y="14387"/>
                </a:cubicBezTo>
                <a:cubicBezTo>
                  <a:pt x="8086" y="14474"/>
                  <a:pt x="8123" y="14530"/>
                  <a:pt x="8136" y="14610"/>
                </a:cubicBezTo>
                <a:cubicBezTo>
                  <a:pt x="8136" y="14678"/>
                  <a:pt x="8133" y="14697"/>
                  <a:pt x="8161" y="147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73680" y="5224320"/>
            <a:ext cx="1670040" cy="204840"/>
          </a:xfrm>
          <a:custGeom>
            <a:avLst/>
            <a:gdLst/>
            <a:ahLst/>
            <a:rect l="l" t="t" r="r" b="b"/>
            <a:pathLst>
              <a:path w="4640" h="571">
                <a:moveTo>
                  <a:pt x="15627" y="14536"/>
                </a:moveTo>
                <a:cubicBezTo>
                  <a:pt x="15627" y="14533"/>
                  <a:pt x="15711" y="14501"/>
                  <a:pt x="15652" y="14511"/>
                </a:cubicBezTo>
                <a:cubicBezTo>
                  <a:pt x="15607" y="14518"/>
                  <a:pt x="15560" y="14534"/>
                  <a:pt x="15503" y="14536"/>
                </a:cubicBezTo>
                <a:cubicBezTo>
                  <a:pt x="15345" y="14540"/>
                  <a:pt x="15186" y="14551"/>
                  <a:pt x="15032" y="14560"/>
                </a:cubicBezTo>
                <a:cubicBezTo>
                  <a:pt x="14842" y="14571"/>
                  <a:pt x="14644" y="14532"/>
                  <a:pt x="14461" y="14585"/>
                </a:cubicBezTo>
                <a:cubicBezTo>
                  <a:pt x="14367" y="14612"/>
                  <a:pt x="14280" y="14653"/>
                  <a:pt x="14188" y="14684"/>
                </a:cubicBezTo>
                <a:cubicBezTo>
                  <a:pt x="14056" y="14729"/>
                  <a:pt x="13926" y="14758"/>
                  <a:pt x="13791" y="14784"/>
                </a:cubicBezTo>
                <a:cubicBezTo>
                  <a:pt x="13692" y="14803"/>
                  <a:pt x="13593" y="14810"/>
                  <a:pt x="13494" y="14833"/>
                </a:cubicBezTo>
                <a:cubicBezTo>
                  <a:pt x="13394" y="14856"/>
                  <a:pt x="13297" y="14866"/>
                  <a:pt x="13196" y="14883"/>
                </a:cubicBezTo>
                <a:cubicBezTo>
                  <a:pt x="13088" y="14901"/>
                  <a:pt x="12985" y="14923"/>
                  <a:pt x="12874" y="14932"/>
                </a:cubicBezTo>
                <a:cubicBezTo>
                  <a:pt x="12748" y="14942"/>
                  <a:pt x="12629" y="14954"/>
                  <a:pt x="12502" y="14957"/>
                </a:cubicBezTo>
                <a:cubicBezTo>
                  <a:pt x="12380" y="14960"/>
                  <a:pt x="12273" y="14960"/>
                  <a:pt x="12154" y="14982"/>
                </a:cubicBezTo>
                <a:cubicBezTo>
                  <a:pt x="12057" y="15000"/>
                  <a:pt x="11955" y="14991"/>
                  <a:pt x="11857" y="15007"/>
                </a:cubicBezTo>
                <a:cubicBezTo>
                  <a:pt x="11762" y="15023"/>
                  <a:pt x="11682" y="15030"/>
                  <a:pt x="11584" y="15032"/>
                </a:cubicBezTo>
                <a:cubicBezTo>
                  <a:pt x="11497" y="15034"/>
                  <a:pt x="11420" y="15051"/>
                  <a:pt x="11336" y="15056"/>
                </a:cubicBezTo>
                <a:cubicBezTo>
                  <a:pt x="11232" y="15062"/>
                  <a:pt x="11127" y="15065"/>
                  <a:pt x="11038" y="15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017960" y="5545080"/>
            <a:ext cx="331920" cy="268200"/>
          </a:xfrm>
          <a:custGeom>
            <a:avLst/>
            <a:gdLst/>
            <a:ahLst/>
            <a:rect l="l" t="t" r="r" b="b"/>
            <a:pathLst>
              <a:path w="919" h="745">
                <a:moveTo>
                  <a:pt x="11261" y="15751"/>
                </a:moveTo>
                <a:cubicBezTo>
                  <a:pt x="11283" y="15713"/>
                  <a:pt x="11302" y="15689"/>
                  <a:pt x="11311" y="15652"/>
                </a:cubicBezTo>
                <a:cubicBezTo>
                  <a:pt x="11277" y="15652"/>
                  <a:pt x="11204" y="15668"/>
                  <a:pt x="11187" y="15701"/>
                </a:cubicBezTo>
                <a:cubicBezTo>
                  <a:pt x="11154" y="15767"/>
                  <a:pt x="11170" y="15839"/>
                  <a:pt x="11212" y="15900"/>
                </a:cubicBezTo>
                <a:cubicBezTo>
                  <a:pt x="11220" y="15908"/>
                  <a:pt x="11229" y="15917"/>
                  <a:pt x="11237" y="15925"/>
                </a:cubicBezTo>
                <a:cubicBezTo>
                  <a:pt x="11281" y="15902"/>
                  <a:pt x="11302" y="15833"/>
                  <a:pt x="11311" y="15776"/>
                </a:cubicBezTo>
                <a:cubicBezTo>
                  <a:pt x="11311" y="15731"/>
                  <a:pt x="11308" y="15718"/>
                  <a:pt x="11336" y="15701"/>
                </a:cubicBezTo>
                <a:cubicBezTo>
                  <a:pt x="11368" y="15758"/>
                  <a:pt x="11386" y="15777"/>
                  <a:pt x="11435" y="15825"/>
                </a:cubicBezTo>
              </a:path>
              <a:path w="919" h="745">
                <a:moveTo>
                  <a:pt x="11658" y="15701"/>
                </a:moveTo>
                <a:cubicBezTo>
                  <a:pt x="11638" y="15661"/>
                  <a:pt x="11629" y="15655"/>
                  <a:pt x="11633" y="15627"/>
                </a:cubicBezTo>
                <a:cubicBezTo>
                  <a:pt x="11602" y="15670"/>
                  <a:pt x="11587" y="15695"/>
                  <a:pt x="11584" y="15751"/>
                </a:cubicBezTo>
                <a:cubicBezTo>
                  <a:pt x="11581" y="15810"/>
                  <a:pt x="11595" y="15812"/>
                  <a:pt x="11633" y="15850"/>
                </a:cubicBezTo>
                <a:cubicBezTo>
                  <a:pt x="11648" y="15773"/>
                  <a:pt x="11658" y="15710"/>
                  <a:pt x="11658" y="15627"/>
                </a:cubicBezTo>
                <a:cubicBezTo>
                  <a:pt x="11658" y="15547"/>
                  <a:pt x="11672" y="15469"/>
                  <a:pt x="11633" y="15404"/>
                </a:cubicBezTo>
                <a:cubicBezTo>
                  <a:pt x="11642" y="15475"/>
                  <a:pt x="11659" y="15535"/>
                  <a:pt x="11683" y="15602"/>
                </a:cubicBezTo>
                <a:cubicBezTo>
                  <a:pt x="11705" y="15664"/>
                  <a:pt x="11728" y="15717"/>
                  <a:pt x="11757" y="15776"/>
                </a:cubicBezTo>
              </a:path>
              <a:path w="919" h="745">
                <a:moveTo>
                  <a:pt x="11906" y="15701"/>
                </a:moveTo>
                <a:cubicBezTo>
                  <a:pt x="11906" y="15685"/>
                  <a:pt x="11906" y="15668"/>
                  <a:pt x="11906" y="15652"/>
                </a:cubicBezTo>
                <a:cubicBezTo>
                  <a:pt x="11942" y="15723"/>
                  <a:pt x="11972" y="15796"/>
                  <a:pt x="11981" y="15875"/>
                </a:cubicBezTo>
                <a:cubicBezTo>
                  <a:pt x="11992" y="15966"/>
                  <a:pt x="11995" y="16057"/>
                  <a:pt x="12005" y="16148"/>
                </a:cubicBezTo>
              </a:path>
              <a:path w="919" h="745">
                <a:moveTo>
                  <a:pt x="11931" y="15776"/>
                </a:moveTo>
                <a:cubicBezTo>
                  <a:pt x="11931" y="15691"/>
                  <a:pt x="11922" y="15642"/>
                  <a:pt x="11981" y="15577"/>
                </a:cubicBezTo>
                <a:cubicBezTo>
                  <a:pt x="12012" y="15543"/>
                  <a:pt x="12037" y="15553"/>
                  <a:pt x="12080" y="15553"/>
                </a:cubicBezTo>
                <a:cubicBezTo>
                  <a:pt x="12080" y="15626"/>
                  <a:pt x="12111" y="15769"/>
                  <a:pt x="12055" y="15825"/>
                </a:cubicBezTo>
                <a:cubicBezTo>
                  <a:pt x="12011" y="15847"/>
                  <a:pt x="12000" y="15850"/>
                  <a:pt x="11981" y="15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73720" y="5634000"/>
            <a:ext cx="117360" cy="36720"/>
          </a:xfrm>
          <a:custGeom>
            <a:avLst/>
            <a:gdLst/>
            <a:ahLst/>
            <a:rect l="l" t="t" r="r" b="b"/>
            <a:pathLst>
              <a:path w="324" h="100">
                <a:moveTo>
                  <a:pt x="12427" y="15751"/>
                </a:moveTo>
                <a:cubicBezTo>
                  <a:pt x="12438" y="15705"/>
                  <a:pt x="12462" y="15700"/>
                  <a:pt x="12502" y="15677"/>
                </a:cubicBezTo>
                <a:cubicBezTo>
                  <a:pt x="12565" y="15641"/>
                  <a:pt x="12629" y="15652"/>
                  <a:pt x="12700" y="15652"/>
                </a:cubicBezTo>
                <a:cubicBezTo>
                  <a:pt x="12725" y="15652"/>
                  <a:pt x="12733" y="15652"/>
                  <a:pt x="12750" y="1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70280" y="5411880"/>
            <a:ext cx="347760" cy="303120"/>
          </a:xfrm>
          <a:custGeom>
            <a:avLst/>
            <a:gdLst/>
            <a:ahLst/>
            <a:rect l="l" t="t" r="r" b="b"/>
            <a:pathLst>
              <a:path w="968" h="844">
                <a:moveTo>
                  <a:pt x="12973" y="15156"/>
                </a:moveTo>
                <a:cubicBezTo>
                  <a:pt x="12973" y="15098"/>
                  <a:pt x="12973" y="15023"/>
                  <a:pt x="12973" y="15081"/>
                </a:cubicBezTo>
                <a:cubicBezTo>
                  <a:pt x="12973" y="15222"/>
                  <a:pt x="12973" y="15594"/>
                  <a:pt x="12973" y="15453"/>
                </a:cubicBezTo>
                <a:cubicBezTo>
                  <a:pt x="12973" y="15410"/>
                  <a:pt x="13005" y="15327"/>
                  <a:pt x="13072" y="15354"/>
                </a:cubicBezTo>
                <a:cubicBezTo>
                  <a:pt x="13140" y="15381"/>
                  <a:pt x="13146" y="15442"/>
                  <a:pt x="13146" y="15503"/>
                </a:cubicBezTo>
                <a:cubicBezTo>
                  <a:pt x="13146" y="15545"/>
                  <a:pt x="13112" y="15574"/>
                  <a:pt x="13072" y="15577"/>
                </a:cubicBezTo>
                <a:cubicBezTo>
                  <a:pt x="13031" y="15577"/>
                  <a:pt x="13023" y="15577"/>
                  <a:pt x="12998" y="15577"/>
                </a:cubicBezTo>
              </a:path>
              <a:path w="968" h="844">
                <a:moveTo>
                  <a:pt x="13395" y="15379"/>
                </a:moveTo>
                <a:cubicBezTo>
                  <a:pt x="13415" y="15338"/>
                  <a:pt x="13423" y="15332"/>
                  <a:pt x="13419" y="15304"/>
                </a:cubicBezTo>
                <a:cubicBezTo>
                  <a:pt x="13374" y="15350"/>
                  <a:pt x="13370" y="15363"/>
                  <a:pt x="13370" y="15429"/>
                </a:cubicBezTo>
                <a:cubicBezTo>
                  <a:pt x="13370" y="15487"/>
                  <a:pt x="13413" y="15522"/>
                  <a:pt x="13469" y="15528"/>
                </a:cubicBezTo>
                <a:cubicBezTo>
                  <a:pt x="13497" y="15528"/>
                  <a:pt x="13508" y="15526"/>
                  <a:pt x="13519" y="15503"/>
                </a:cubicBezTo>
              </a:path>
              <a:path w="968" h="844">
                <a:moveTo>
                  <a:pt x="13667" y="15453"/>
                </a:moveTo>
                <a:cubicBezTo>
                  <a:pt x="13667" y="15412"/>
                  <a:pt x="13659" y="15396"/>
                  <a:pt x="13692" y="15404"/>
                </a:cubicBezTo>
                <a:cubicBezTo>
                  <a:pt x="13717" y="15421"/>
                  <a:pt x="13736" y="15526"/>
                  <a:pt x="13742" y="15577"/>
                </a:cubicBezTo>
                <a:cubicBezTo>
                  <a:pt x="13752" y="15663"/>
                  <a:pt x="13753" y="15744"/>
                  <a:pt x="13767" y="15825"/>
                </a:cubicBezTo>
                <a:cubicBezTo>
                  <a:pt x="13767" y="15842"/>
                  <a:pt x="13767" y="15858"/>
                  <a:pt x="13767" y="15875"/>
                </a:cubicBezTo>
              </a:path>
              <a:path w="968" h="844">
                <a:moveTo>
                  <a:pt x="13667" y="15553"/>
                </a:moveTo>
                <a:cubicBezTo>
                  <a:pt x="13676" y="15401"/>
                  <a:pt x="13663" y="15393"/>
                  <a:pt x="13791" y="15329"/>
                </a:cubicBezTo>
                <a:cubicBezTo>
                  <a:pt x="13835" y="15307"/>
                  <a:pt x="13915" y="15283"/>
                  <a:pt x="13940" y="15354"/>
                </a:cubicBezTo>
                <a:cubicBezTo>
                  <a:pt x="13963" y="15419"/>
                  <a:pt x="13923" y="15479"/>
                  <a:pt x="13866" y="15503"/>
                </a:cubicBezTo>
                <a:cubicBezTo>
                  <a:pt x="13833" y="15503"/>
                  <a:pt x="13816" y="15503"/>
                  <a:pt x="13791" y="155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60960" y="5518080"/>
            <a:ext cx="63360" cy="36720"/>
          </a:xfrm>
          <a:custGeom>
            <a:avLst/>
            <a:gdLst/>
            <a:ahLst/>
            <a:rect l="l" t="t" r="r" b="b"/>
            <a:pathLst>
              <a:path w="175" h="101">
                <a:moveTo>
                  <a:pt x="14436" y="15329"/>
                </a:moveTo>
                <a:cubicBezTo>
                  <a:pt x="14461" y="15329"/>
                  <a:pt x="14469" y="15329"/>
                  <a:pt x="14486" y="15329"/>
                </a:cubicBezTo>
                <a:cubicBezTo>
                  <a:pt x="14436" y="15329"/>
                  <a:pt x="14387" y="15329"/>
                  <a:pt x="14337" y="15329"/>
                </a:cubicBezTo>
              </a:path>
              <a:path w="175" h="101">
                <a:moveTo>
                  <a:pt x="14486" y="15429"/>
                </a:moveTo>
                <a:cubicBezTo>
                  <a:pt x="14553" y="15429"/>
                  <a:pt x="14469" y="15429"/>
                  <a:pt x="14461" y="154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527800" y="5392800"/>
            <a:ext cx="108000" cy="189000"/>
          </a:xfrm>
          <a:custGeom>
            <a:avLst/>
            <a:gdLst/>
            <a:ahLst/>
            <a:rect l="l" t="t" r="r" b="b"/>
            <a:pathLst>
              <a:path w="299" h="522">
                <a:moveTo>
                  <a:pt x="15404" y="15329"/>
                </a:moveTo>
                <a:cubicBezTo>
                  <a:pt x="15439" y="15302"/>
                  <a:pt x="15442" y="15312"/>
                  <a:pt x="15453" y="15280"/>
                </a:cubicBezTo>
                <a:cubicBezTo>
                  <a:pt x="15425" y="15287"/>
                  <a:pt x="15364" y="15319"/>
                  <a:pt x="15354" y="15354"/>
                </a:cubicBezTo>
                <a:cubicBezTo>
                  <a:pt x="15335" y="15422"/>
                  <a:pt x="15360" y="15459"/>
                  <a:pt x="15404" y="15503"/>
                </a:cubicBezTo>
                <a:cubicBezTo>
                  <a:pt x="15475" y="15452"/>
                  <a:pt x="15516" y="15374"/>
                  <a:pt x="15528" y="15280"/>
                </a:cubicBezTo>
                <a:cubicBezTo>
                  <a:pt x="15539" y="15192"/>
                  <a:pt x="15528" y="15096"/>
                  <a:pt x="15528" y="15007"/>
                </a:cubicBezTo>
                <a:cubicBezTo>
                  <a:pt x="15528" y="14968"/>
                  <a:pt x="15534" y="15159"/>
                  <a:pt x="15553" y="15205"/>
                </a:cubicBezTo>
                <a:cubicBezTo>
                  <a:pt x="15587" y="15289"/>
                  <a:pt x="15618" y="15370"/>
                  <a:pt x="15652" y="154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19680" y="5776920"/>
            <a:ext cx="1331640" cy="376200"/>
          </a:xfrm>
          <a:custGeom>
            <a:avLst/>
            <a:gdLst/>
            <a:ahLst/>
            <a:rect l="l" t="t" r="r" b="b"/>
            <a:pathLst>
              <a:path w="3697" h="1042">
                <a:moveTo>
                  <a:pt x="10964" y="16619"/>
                </a:moveTo>
                <a:cubicBezTo>
                  <a:pt x="10964" y="16594"/>
                  <a:pt x="10964" y="16586"/>
                  <a:pt x="10964" y="16570"/>
                </a:cubicBezTo>
                <a:cubicBezTo>
                  <a:pt x="10964" y="16665"/>
                  <a:pt x="10978" y="16750"/>
                  <a:pt x="10988" y="16842"/>
                </a:cubicBezTo>
                <a:cubicBezTo>
                  <a:pt x="10997" y="16923"/>
                  <a:pt x="10988" y="17008"/>
                  <a:pt x="10988" y="17090"/>
                </a:cubicBezTo>
              </a:path>
              <a:path w="3697" h="1042">
                <a:moveTo>
                  <a:pt x="10889" y="16644"/>
                </a:moveTo>
                <a:cubicBezTo>
                  <a:pt x="10895" y="16567"/>
                  <a:pt x="10890" y="16474"/>
                  <a:pt x="10964" y="16421"/>
                </a:cubicBezTo>
                <a:cubicBezTo>
                  <a:pt x="11021" y="16380"/>
                  <a:pt x="11073" y="16384"/>
                  <a:pt x="11112" y="16446"/>
                </a:cubicBezTo>
                <a:cubicBezTo>
                  <a:pt x="11137" y="16486"/>
                  <a:pt x="11112" y="16605"/>
                  <a:pt x="11088" y="16644"/>
                </a:cubicBezTo>
                <a:cubicBezTo>
                  <a:pt x="11065" y="16681"/>
                  <a:pt x="11025" y="16687"/>
                  <a:pt x="10988" y="16694"/>
                </a:cubicBezTo>
              </a:path>
              <a:path w="3697" h="1042">
                <a:moveTo>
                  <a:pt x="11559" y="16297"/>
                </a:moveTo>
                <a:cubicBezTo>
                  <a:pt x="11587" y="16232"/>
                  <a:pt x="11589" y="16201"/>
                  <a:pt x="11559" y="16272"/>
                </a:cubicBezTo>
                <a:cubicBezTo>
                  <a:pt x="11524" y="16355"/>
                  <a:pt x="11520" y="16480"/>
                  <a:pt x="11534" y="16570"/>
                </a:cubicBezTo>
                <a:cubicBezTo>
                  <a:pt x="11546" y="16643"/>
                  <a:pt x="11573" y="16737"/>
                  <a:pt x="11633" y="16768"/>
                </a:cubicBezTo>
              </a:path>
              <a:path w="3697" h="1042">
                <a:moveTo>
                  <a:pt x="12055" y="16669"/>
                </a:moveTo>
                <a:cubicBezTo>
                  <a:pt x="12055" y="16652"/>
                  <a:pt x="12055" y="16636"/>
                  <a:pt x="12055" y="16619"/>
                </a:cubicBezTo>
                <a:cubicBezTo>
                  <a:pt x="12044" y="16662"/>
                  <a:pt x="12013" y="16696"/>
                  <a:pt x="12005" y="16743"/>
                </a:cubicBezTo>
                <a:cubicBezTo>
                  <a:pt x="12000" y="16772"/>
                  <a:pt x="12005" y="16812"/>
                  <a:pt x="12005" y="16842"/>
                </a:cubicBezTo>
                <a:cubicBezTo>
                  <a:pt x="12040" y="16796"/>
                  <a:pt x="12032" y="16743"/>
                  <a:pt x="12055" y="16694"/>
                </a:cubicBezTo>
                <a:cubicBezTo>
                  <a:pt x="12075" y="16651"/>
                  <a:pt x="12132" y="16663"/>
                  <a:pt x="12154" y="16694"/>
                </a:cubicBezTo>
                <a:cubicBezTo>
                  <a:pt x="12182" y="16734"/>
                  <a:pt x="12195" y="16759"/>
                  <a:pt x="12229" y="16793"/>
                </a:cubicBezTo>
              </a:path>
              <a:path w="3697" h="1042">
                <a:moveTo>
                  <a:pt x="12378" y="16594"/>
                </a:moveTo>
                <a:cubicBezTo>
                  <a:pt x="12354" y="16548"/>
                  <a:pt x="12334" y="16657"/>
                  <a:pt x="12328" y="16694"/>
                </a:cubicBezTo>
                <a:cubicBezTo>
                  <a:pt x="12328" y="16710"/>
                  <a:pt x="12328" y="16727"/>
                  <a:pt x="12328" y="16743"/>
                </a:cubicBezTo>
                <a:cubicBezTo>
                  <a:pt x="12415" y="16808"/>
                  <a:pt x="12400" y="16684"/>
                  <a:pt x="12402" y="16619"/>
                </a:cubicBezTo>
                <a:cubicBezTo>
                  <a:pt x="12405" y="16537"/>
                  <a:pt x="12402" y="16453"/>
                  <a:pt x="12402" y="16371"/>
                </a:cubicBezTo>
                <a:cubicBezTo>
                  <a:pt x="12402" y="16309"/>
                  <a:pt x="12424" y="16461"/>
                  <a:pt x="12427" y="16470"/>
                </a:cubicBezTo>
                <a:cubicBezTo>
                  <a:pt x="12449" y="16540"/>
                  <a:pt x="12499" y="16691"/>
                  <a:pt x="12551" y="16743"/>
                </a:cubicBezTo>
                <a:cubicBezTo>
                  <a:pt x="12568" y="16751"/>
                  <a:pt x="12584" y="16760"/>
                  <a:pt x="12601" y="16768"/>
                </a:cubicBezTo>
              </a:path>
              <a:path w="3697" h="1042">
                <a:moveTo>
                  <a:pt x="12948" y="16594"/>
                </a:moveTo>
                <a:cubicBezTo>
                  <a:pt x="12925" y="16572"/>
                  <a:pt x="12917" y="16567"/>
                  <a:pt x="12923" y="16545"/>
                </a:cubicBezTo>
                <a:cubicBezTo>
                  <a:pt x="12968" y="16534"/>
                  <a:pt x="12993" y="16520"/>
                  <a:pt x="13047" y="16520"/>
                </a:cubicBezTo>
                <a:cubicBezTo>
                  <a:pt x="13089" y="16520"/>
                  <a:pt x="13097" y="16520"/>
                  <a:pt x="13122" y="16520"/>
                </a:cubicBezTo>
              </a:path>
              <a:path w="3697" h="1042">
                <a:moveTo>
                  <a:pt x="13419" y="16272"/>
                </a:moveTo>
                <a:cubicBezTo>
                  <a:pt x="13419" y="16194"/>
                  <a:pt x="13404" y="16176"/>
                  <a:pt x="13444" y="16148"/>
                </a:cubicBezTo>
                <a:cubicBezTo>
                  <a:pt x="13444" y="16084"/>
                  <a:pt x="13422" y="16282"/>
                  <a:pt x="13419" y="16297"/>
                </a:cubicBezTo>
                <a:cubicBezTo>
                  <a:pt x="13400" y="16382"/>
                  <a:pt x="13395" y="16457"/>
                  <a:pt x="13395" y="16545"/>
                </a:cubicBezTo>
                <a:cubicBezTo>
                  <a:pt x="13426" y="16514"/>
                  <a:pt x="13450" y="16473"/>
                  <a:pt x="13494" y="16470"/>
                </a:cubicBezTo>
                <a:cubicBezTo>
                  <a:pt x="13563" y="16465"/>
                  <a:pt x="13568" y="16487"/>
                  <a:pt x="13568" y="16545"/>
                </a:cubicBezTo>
                <a:cubicBezTo>
                  <a:pt x="13568" y="16586"/>
                  <a:pt x="13533" y="16616"/>
                  <a:pt x="13494" y="16619"/>
                </a:cubicBezTo>
                <a:cubicBezTo>
                  <a:pt x="13477" y="16619"/>
                  <a:pt x="13461" y="16619"/>
                  <a:pt x="13444" y="16619"/>
                </a:cubicBezTo>
              </a:path>
              <a:path w="3697" h="1042">
                <a:moveTo>
                  <a:pt x="13618" y="16520"/>
                </a:moveTo>
                <a:cubicBezTo>
                  <a:pt x="13676" y="16462"/>
                  <a:pt x="13684" y="16454"/>
                  <a:pt x="13717" y="16421"/>
                </a:cubicBezTo>
                <a:cubicBezTo>
                  <a:pt x="13683" y="16466"/>
                  <a:pt x="13679" y="16497"/>
                  <a:pt x="13717" y="16545"/>
                </a:cubicBezTo>
                <a:cubicBezTo>
                  <a:pt x="13746" y="16582"/>
                  <a:pt x="13774" y="16570"/>
                  <a:pt x="13816" y="16570"/>
                </a:cubicBezTo>
              </a:path>
              <a:path w="3697" h="1042">
                <a:moveTo>
                  <a:pt x="13742" y="16148"/>
                </a:moveTo>
                <a:cubicBezTo>
                  <a:pt x="13841" y="16065"/>
                  <a:pt x="13904" y="16006"/>
                  <a:pt x="14015" y="16123"/>
                </a:cubicBezTo>
                <a:cubicBezTo>
                  <a:pt x="14109" y="16222"/>
                  <a:pt x="14098" y="16352"/>
                  <a:pt x="14064" y="16470"/>
                </a:cubicBezTo>
                <a:cubicBezTo>
                  <a:pt x="14036" y="16553"/>
                  <a:pt x="14022" y="16584"/>
                  <a:pt x="13965" y="16619"/>
                </a:cubicBezTo>
              </a:path>
              <a:path w="3697" h="1042">
                <a:moveTo>
                  <a:pt x="14560" y="16272"/>
                </a:moveTo>
                <a:cubicBezTo>
                  <a:pt x="14534" y="16272"/>
                  <a:pt x="14473" y="16280"/>
                  <a:pt x="14461" y="16297"/>
                </a:cubicBezTo>
                <a:cubicBezTo>
                  <a:pt x="14461" y="16305"/>
                  <a:pt x="14461" y="16313"/>
                  <a:pt x="14461" y="16321"/>
                </a:cubicBezTo>
              </a:path>
              <a:path w="3697" h="1042">
                <a:moveTo>
                  <a:pt x="14560" y="16396"/>
                </a:moveTo>
                <a:cubicBezTo>
                  <a:pt x="14627" y="16396"/>
                  <a:pt x="14522" y="16396"/>
                  <a:pt x="14511" y="163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62720" y="5705640"/>
            <a:ext cx="134640" cy="215640"/>
          </a:xfrm>
          <a:custGeom>
            <a:avLst/>
            <a:gdLst/>
            <a:ahLst/>
            <a:rect l="l" t="t" r="r" b="b"/>
            <a:pathLst>
              <a:path w="373" h="597">
                <a:moveTo>
                  <a:pt x="15503" y="16247"/>
                </a:moveTo>
                <a:cubicBezTo>
                  <a:pt x="15528" y="16247"/>
                  <a:pt x="15536" y="16247"/>
                  <a:pt x="15553" y="16247"/>
                </a:cubicBezTo>
                <a:cubicBezTo>
                  <a:pt x="15553" y="16200"/>
                  <a:pt x="15535" y="16161"/>
                  <a:pt x="15478" y="16222"/>
                </a:cubicBezTo>
                <a:cubicBezTo>
                  <a:pt x="15454" y="16248"/>
                  <a:pt x="15431" y="16367"/>
                  <a:pt x="15453" y="16396"/>
                </a:cubicBezTo>
                <a:cubicBezTo>
                  <a:pt x="15470" y="16404"/>
                  <a:pt x="15486" y="16413"/>
                  <a:pt x="15503" y="16421"/>
                </a:cubicBezTo>
                <a:cubicBezTo>
                  <a:pt x="15593" y="16330"/>
                  <a:pt x="15597" y="16275"/>
                  <a:pt x="15627" y="16148"/>
                </a:cubicBezTo>
                <a:cubicBezTo>
                  <a:pt x="15652" y="16045"/>
                  <a:pt x="15652" y="15955"/>
                  <a:pt x="15652" y="15850"/>
                </a:cubicBezTo>
                <a:cubicBezTo>
                  <a:pt x="15652" y="15959"/>
                  <a:pt x="15661" y="16069"/>
                  <a:pt x="15701" y="16173"/>
                </a:cubicBezTo>
                <a:cubicBezTo>
                  <a:pt x="15737" y="16266"/>
                  <a:pt x="15790" y="16352"/>
                  <a:pt x="15825" y="16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30840" y="6081840"/>
            <a:ext cx="1241280" cy="490320"/>
          </a:xfrm>
          <a:custGeom>
            <a:avLst/>
            <a:gdLst/>
            <a:ahLst/>
            <a:rect l="l" t="t" r="r" b="b"/>
            <a:pathLst>
              <a:path w="3449" h="1365">
                <a:moveTo>
                  <a:pt x="13519" y="17884"/>
                </a:moveTo>
                <a:cubicBezTo>
                  <a:pt x="13519" y="17779"/>
                  <a:pt x="13519" y="17820"/>
                  <a:pt x="13519" y="17909"/>
                </a:cubicBezTo>
                <a:cubicBezTo>
                  <a:pt x="13519" y="18014"/>
                  <a:pt x="13499" y="18105"/>
                  <a:pt x="13494" y="18207"/>
                </a:cubicBezTo>
                <a:cubicBezTo>
                  <a:pt x="13494" y="18223"/>
                  <a:pt x="13494" y="18240"/>
                  <a:pt x="13494" y="18256"/>
                </a:cubicBezTo>
              </a:path>
              <a:path w="3449" h="1365">
                <a:moveTo>
                  <a:pt x="13419" y="17909"/>
                </a:moveTo>
                <a:cubicBezTo>
                  <a:pt x="13429" y="17780"/>
                  <a:pt x="13430" y="17778"/>
                  <a:pt x="13543" y="17735"/>
                </a:cubicBezTo>
                <a:cubicBezTo>
                  <a:pt x="13623" y="17705"/>
                  <a:pt x="13659" y="17690"/>
                  <a:pt x="13667" y="17785"/>
                </a:cubicBezTo>
                <a:cubicBezTo>
                  <a:pt x="13673" y="17854"/>
                  <a:pt x="13653" y="17894"/>
                  <a:pt x="13593" y="17934"/>
                </a:cubicBezTo>
                <a:cubicBezTo>
                  <a:pt x="13576" y="17942"/>
                  <a:pt x="13560" y="17951"/>
                  <a:pt x="13543" y="17959"/>
                </a:cubicBezTo>
              </a:path>
              <a:path w="3449" h="1365">
                <a:moveTo>
                  <a:pt x="14436" y="17686"/>
                </a:moveTo>
                <a:cubicBezTo>
                  <a:pt x="14444" y="17686"/>
                  <a:pt x="14453" y="17686"/>
                  <a:pt x="14461" y="17686"/>
                </a:cubicBezTo>
                <a:cubicBezTo>
                  <a:pt x="14403" y="17686"/>
                  <a:pt x="14346" y="17686"/>
                  <a:pt x="14288" y="17686"/>
                </a:cubicBezTo>
              </a:path>
              <a:path w="3449" h="1365">
                <a:moveTo>
                  <a:pt x="14412" y="17760"/>
                </a:moveTo>
                <a:cubicBezTo>
                  <a:pt x="14434" y="17783"/>
                  <a:pt x="14439" y="17791"/>
                  <a:pt x="14461" y="17785"/>
                </a:cubicBezTo>
                <a:cubicBezTo>
                  <a:pt x="14449" y="17820"/>
                  <a:pt x="14454" y="17810"/>
                  <a:pt x="14412" y="17810"/>
                </a:cubicBezTo>
              </a:path>
              <a:path w="3449" h="1365">
                <a:moveTo>
                  <a:pt x="15751" y="17239"/>
                </a:moveTo>
                <a:cubicBezTo>
                  <a:pt x="15757" y="17221"/>
                  <a:pt x="15806" y="17166"/>
                  <a:pt x="15751" y="17214"/>
                </a:cubicBezTo>
                <a:cubicBezTo>
                  <a:pt x="15715" y="17245"/>
                  <a:pt x="15666" y="17314"/>
                  <a:pt x="15677" y="17363"/>
                </a:cubicBezTo>
                <a:cubicBezTo>
                  <a:pt x="15685" y="17380"/>
                  <a:pt x="15693" y="17396"/>
                  <a:pt x="15701" y="17413"/>
                </a:cubicBezTo>
                <a:cubicBezTo>
                  <a:pt x="15772" y="17395"/>
                  <a:pt x="15805" y="17336"/>
                  <a:pt x="15825" y="17264"/>
                </a:cubicBezTo>
                <a:cubicBezTo>
                  <a:pt x="15857" y="17148"/>
                  <a:pt x="15850" y="17035"/>
                  <a:pt x="15850" y="16917"/>
                </a:cubicBezTo>
                <a:cubicBezTo>
                  <a:pt x="15850" y="16843"/>
                  <a:pt x="15850" y="17041"/>
                  <a:pt x="15850" y="17041"/>
                </a:cubicBezTo>
                <a:cubicBezTo>
                  <a:pt x="15871" y="17173"/>
                  <a:pt x="15927" y="17290"/>
                  <a:pt x="15974" y="17413"/>
                </a:cubicBezTo>
              </a:path>
              <a:path w="3449" h="1365">
                <a:moveTo>
                  <a:pt x="16694" y="17462"/>
                </a:moveTo>
                <a:cubicBezTo>
                  <a:pt x="16716" y="17440"/>
                  <a:pt x="16721" y="17432"/>
                  <a:pt x="16743" y="17438"/>
                </a:cubicBezTo>
                <a:cubicBezTo>
                  <a:pt x="16403" y="17438"/>
                  <a:pt x="16064" y="17437"/>
                  <a:pt x="15726" y="17462"/>
                </a:cubicBezTo>
                <a:cubicBezTo>
                  <a:pt x="15592" y="17472"/>
                  <a:pt x="15481" y="17494"/>
                  <a:pt x="15354" y="17537"/>
                </a:cubicBezTo>
                <a:cubicBezTo>
                  <a:pt x="15270" y="17565"/>
                  <a:pt x="15192" y="17646"/>
                  <a:pt x="15106" y="17661"/>
                </a:cubicBezTo>
                <a:cubicBezTo>
                  <a:pt x="15045" y="17672"/>
                  <a:pt x="15012" y="17671"/>
                  <a:pt x="14982" y="17686"/>
                </a:cubicBezTo>
              </a:path>
              <a:path w="3449" h="1365">
                <a:moveTo>
                  <a:pt x="15131" y="18008"/>
                </a:moveTo>
                <a:cubicBezTo>
                  <a:pt x="15139" y="17992"/>
                  <a:pt x="15148" y="17975"/>
                  <a:pt x="15156" y="17959"/>
                </a:cubicBezTo>
                <a:cubicBezTo>
                  <a:pt x="15121" y="18002"/>
                  <a:pt x="15106" y="18027"/>
                  <a:pt x="15106" y="18083"/>
                </a:cubicBezTo>
                <a:cubicBezTo>
                  <a:pt x="15106" y="18091"/>
                  <a:pt x="15106" y="18099"/>
                  <a:pt x="15106" y="18107"/>
                </a:cubicBezTo>
                <a:cubicBezTo>
                  <a:pt x="15159" y="18107"/>
                  <a:pt x="15167" y="18096"/>
                  <a:pt x="15205" y="18058"/>
                </a:cubicBezTo>
                <a:cubicBezTo>
                  <a:pt x="15241" y="18022"/>
                  <a:pt x="15281" y="18031"/>
                  <a:pt x="15304" y="18083"/>
                </a:cubicBezTo>
                <a:cubicBezTo>
                  <a:pt x="15304" y="18107"/>
                  <a:pt x="15304" y="18115"/>
                  <a:pt x="15329" y="18107"/>
                </a:cubicBezTo>
              </a:path>
              <a:path w="3449" h="1365">
                <a:moveTo>
                  <a:pt x="15404" y="18008"/>
                </a:moveTo>
                <a:cubicBezTo>
                  <a:pt x="15412" y="18000"/>
                  <a:pt x="15421" y="17991"/>
                  <a:pt x="15429" y="17983"/>
                </a:cubicBezTo>
                <a:cubicBezTo>
                  <a:pt x="15429" y="18041"/>
                  <a:pt x="15420" y="18086"/>
                  <a:pt x="15453" y="18132"/>
                </a:cubicBezTo>
                <a:cubicBezTo>
                  <a:pt x="15503" y="18108"/>
                  <a:pt x="15543" y="18024"/>
                  <a:pt x="15553" y="17959"/>
                </a:cubicBezTo>
                <a:cubicBezTo>
                  <a:pt x="15565" y="17881"/>
                  <a:pt x="15539" y="17826"/>
                  <a:pt x="15577" y="17760"/>
                </a:cubicBezTo>
                <a:cubicBezTo>
                  <a:pt x="15577" y="17825"/>
                  <a:pt x="15587" y="17897"/>
                  <a:pt x="15602" y="17959"/>
                </a:cubicBezTo>
                <a:cubicBezTo>
                  <a:pt x="15617" y="18024"/>
                  <a:pt x="15637" y="18091"/>
                  <a:pt x="15701" y="18107"/>
                </a:cubicBezTo>
              </a:path>
              <a:path w="3449" h="1365">
                <a:moveTo>
                  <a:pt x="15949" y="18033"/>
                </a:moveTo>
                <a:cubicBezTo>
                  <a:pt x="15949" y="17988"/>
                  <a:pt x="15947" y="17963"/>
                  <a:pt x="15999" y="17959"/>
                </a:cubicBezTo>
                <a:cubicBezTo>
                  <a:pt x="16040" y="17956"/>
                  <a:pt x="16082" y="17959"/>
                  <a:pt x="16123" y="17959"/>
                </a:cubicBezTo>
              </a:path>
              <a:path w="3449" h="1365">
                <a:moveTo>
                  <a:pt x="16371" y="17636"/>
                </a:moveTo>
                <a:cubicBezTo>
                  <a:pt x="16371" y="17578"/>
                  <a:pt x="16355" y="17554"/>
                  <a:pt x="16396" y="17562"/>
                </a:cubicBezTo>
                <a:cubicBezTo>
                  <a:pt x="16396" y="17645"/>
                  <a:pt x="16358" y="17705"/>
                  <a:pt x="16346" y="17785"/>
                </a:cubicBezTo>
                <a:cubicBezTo>
                  <a:pt x="16335" y="17859"/>
                  <a:pt x="16321" y="17933"/>
                  <a:pt x="16321" y="18008"/>
                </a:cubicBezTo>
                <a:cubicBezTo>
                  <a:pt x="16348" y="17988"/>
                  <a:pt x="16389" y="17948"/>
                  <a:pt x="16421" y="17934"/>
                </a:cubicBezTo>
                <a:cubicBezTo>
                  <a:pt x="16429" y="17934"/>
                  <a:pt x="16438" y="17934"/>
                  <a:pt x="16446" y="17934"/>
                </a:cubicBezTo>
                <a:cubicBezTo>
                  <a:pt x="16463" y="17957"/>
                  <a:pt x="16488" y="18000"/>
                  <a:pt x="16470" y="18033"/>
                </a:cubicBezTo>
                <a:cubicBezTo>
                  <a:pt x="16450" y="18071"/>
                  <a:pt x="16406" y="18058"/>
                  <a:pt x="16371" y="18058"/>
                </a:cubicBezTo>
              </a:path>
              <a:path w="3449" h="1365">
                <a:moveTo>
                  <a:pt x="16619" y="17909"/>
                </a:moveTo>
                <a:cubicBezTo>
                  <a:pt x="16636" y="17901"/>
                  <a:pt x="16652" y="17892"/>
                  <a:pt x="16669" y="17884"/>
                </a:cubicBezTo>
                <a:cubicBezTo>
                  <a:pt x="16627" y="17894"/>
                  <a:pt x="16574" y="17925"/>
                  <a:pt x="16594" y="17983"/>
                </a:cubicBezTo>
                <a:cubicBezTo>
                  <a:pt x="16611" y="18034"/>
                  <a:pt x="16697" y="18066"/>
                  <a:pt x="16743" y="18058"/>
                </a:cubicBezTo>
                <a:cubicBezTo>
                  <a:pt x="16810" y="18036"/>
                  <a:pt x="16828" y="18031"/>
                  <a:pt x="16867" y="180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26120" y="3741840"/>
            <a:ext cx="1125720" cy="822240"/>
          </a:xfrm>
          <a:custGeom>
            <a:avLst/>
            <a:gdLst/>
            <a:ahLst/>
            <a:rect l="l" t="t" r="r" b="b"/>
            <a:pathLst>
              <a:path w="3126" h="2283">
                <a:moveTo>
                  <a:pt x="17314" y="10691"/>
                </a:moveTo>
                <a:cubicBezTo>
                  <a:pt x="17342" y="10662"/>
                  <a:pt x="17354" y="10652"/>
                  <a:pt x="17363" y="10616"/>
                </a:cubicBezTo>
                <a:cubicBezTo>
                  <a:pt x="17329" y="10591"/>
                  <a:pt x="17286" y="10579"/>
                  <a:pt x="17239" y="10592"/>
                </a:cubicBezTo>
                <a:cubicBezTo>
                  <a:pt x="17172" y="10611"/>
                  <a:pt x="17144" y="10680"/>
                  <a:pt x="17140" y="10740"/>
                </a:cubicBezTo>
                <a:cubicBezTo>
                  <a:pt x="17136" y="10812"/>
                  <a:pt x="17190" y="10840"/>
                  <a:pt x="17239" y="10889"/>
                </a:cubicBezTo>
                <a:cubicBezTo>
                  <a:pt x="17262" y="10912"/>
                  <a:pt x="17341" y="10965"/>
                  <a:pt x="17314" y="11013"/>
                </a:cubicBezTo>
                <a:cubicBezTo>
                  <a:pt x="17284" y="11066"/>
                  <a:pt x="17278" y="11063"/>
                  <a:pt x="17214" y="11063"/>
                </a:cubicBezTo>
                <a:cubicBezTo>
                  <a:pt x="17189" y="11063"/>
                  <a:pt x="17165" y="11063"/>
                  <a:pt x="17140" y="11063"/>
                </a:cubicBezTo>
              </a:path>
              <a:path w="3126" h="2283">
                <a:moveTo>
                  <a:pt x="17413" y="10964"/>
                </a:moveTo>
                <a:cubicBezTo>
                  <a:pt x="17462" y="10942"/>
                  <a:pt x="17464" y="10939"/>
                  <a:pt x="17512" y="10939"/>
                </a:cubicBezTo>
                <a:cubicBezTo>
                  <a:pt x="17523" y="10981"/>
                  <a:pt x="17530" y="10989"/>
                  <a:pt x="17537" y="11038"/>
                </a:cubicBezTo>
              </a:path>
              <a:path w="3126" h="2283">
                <a:moveTo>
                  <a:pt x="17438" y="10765"/>
                </a:moveTo>
                <a:cubicBezTo>
                  <a:pt x="17477" y="10677"/>
                  <a:pt x="17455" y="10691"/>
                  <a:pt x="17537" y="10691"/>
                </a:cubicBezTo>
              </a:path>
              <a:path w="3126" h="2283">
                <a:moveTo>
                  <a:pt x="17611" y="10889"/>
                </a:moveTo>
                <a:cubicBezTo>
                  <a:pt x="17624" y="10942"/>
                  <a:pt x="17636" y="10974"/>
                  <a:pt x="17636" y="11038"/>
                </a:cubicBezTo>
                <a:cubicBezTo>
                  <a:pt x="17636" y="11088"/>
                  <a:pt x="17638" y="10993"/>
                  <a:pt x="17661" y="10964"/>
                </a:cubicBezTo>
                <a:cubicBezTo>
                  <a:pt x="17703" y="10913"/>
                  <a:pt x="17725" y="10953"/>
                  <a:pt x="17760" y="10988"/>
                </a:cubicBezTo>
                <a:cubicBezTo>
                  <a:pt x="17797" y="11024"/>
                  <a:pt x="17770" y="11025"/>
                  <a:pt x="17810" y="11038"/>
                </a:cubicBezTo>
                <a:cubicBezTo>
                  <a:pt x="17819" y="11002"/>
                  <a:pt x="17836" y="10948"/>
                  <a:pt x="17859" y="10914"/>
                </a:cubicBezTo>
                <a:cubicBezTo>
                  <a:pt x="17867" y="10906"/>
                  <a:pt x="17876" y="10897"/>
                  <a:pt x="17884" y="10889"/>
                </a:cubicBezTo>
                <a:cubicBezTo>
                  <a:pt x="17929" y="10900"/>
                  <a:pt x="17949" y="10930"/>
                  <a:pt x="17983" y="10964"/>
                </a:cubicBezTo>
                <a:cubicBezTo>
                  <a:pt x="18006" y="10986"/>
                  <a:pt x="18014" y="10991"/>
                  <a:pt x="18008" y="11013"/>
                </a:cubicBezTo>
              </a:path>
              <a:path w="3126" h="2283">
                <a:moveTo>
                  <a:pt x="18058" y="10914"/>
                </a:moveTo>
                <a:cubicBezTo>
                  <a:pt x="18078" y="10874"/>
                  <a:pt x="18076" y="10857"/>
                  <a:pt x="18107" y="10864"/>
                </a:cubicBezTo>
                <a:cubicBezTo>
                  <a:pt x="18120" y="10918"/>
                  <a:pt x="18152" y="10926"/>
                  <a:pt x="18157" y="10988"/>
                </a:cubicBezTo>
                <a:cubicBezTo>
                  <a:pt x="18157" y="10996"/>
                  <a:pt x="18157" y="11005"/>
                  <a:pt x="18157" y="11013"/>
                </a:cubicBezTo>
              </a:path>
              <a:path w="3126" h="2283">
                <a:moveTo>
                  <a:pt x="18132" y="10840"/>
                </a:moveTo>
                <a:cubicBezTo>
                  <a:pt x="18132" y="10747"/>
                  <a:pt x="18115" y="10746"/>
                  <a:pt x="18157" y="10691"/>
                </a:cubicBezTo>
              </a:path>
              <a:path w="3126" h="2283">
                <a:moveTo>
                  <a:pt x="18256" y="10542"/>
                </a:moveTo>
                <a:cubicBezTo>
                  <a:pt x="18264" y="10534"/>
                  <a:pt x="18273" y="10525"/>
                  <a:pt x="18281" y="10517"/>
                </a:cubicBezTo>
                <a:cubicBezTo>
                  <a:pt x="18281" y="10589"/>
                  <a:pt x="18291" y="10671"/>
                  <a:pt x="18306" y="10740"/>
                </a:cubicBezTo>
                <a:cubicBezTo>
                  <a:pt x="18323" y="10817"/>
                  <a:pt x="18337" y="10887"/>
                  <a:pt x="18355" y="10964"/>
                </a:cubicBezTo>
              </a:path>
              <a:path w="3126" h="2283">
                <a:moveTo>
                  <a:pt x="18579" y="10765"/>
                </a:moveTo>
                <a:cubicBezTo>
                  <a:pt x="18579" y="10740"/>
                  <a:pt x="18579" y="10732"/>
                  <a:pt x="18579" y="10716"/>
                </a:cubicBezTo>
                <a:cubicBezTo>
                  <a:pt x="18528" y="10728"/>
                  <a:pt x="18508" y="10758"/>
                  <a:pt x="18504" y="10815"/>
                </a:cubicBezTo>
                <a:cubicBezTo>
                  <a:pt x="18502" y="10847"/>
                  <a:pt x="18504" y="10881"/>
                  <a:pt x="18504" y="10914"/>
                </a:cubicBezTo>
                <a:cubicBezTo>
                  <a:pt x="18579" y="10914"/>
                  <a:pt x="18653" y="10914"/>
                  <a:pt x="18728" y="10914"/>
                </a:cubicBezTo>
              </a:path>
              <a:path w="3126" h="2283">
                <a:moveTo>
                  <a:pt x="18802" y="10939"/>
                </a:moveTo>
                <a:cubicBezTo>
                  <a:pt x="18802" y="11006"/>
                  <a:pt x="18802" y="10855"/>
                  <a:pt x="18802" y="10840"/>
                </a:cubicBezTo>
                <a:cubicBezTo>
                  <a:pt x="18802" y="10807"/>
                  <a:pt x="18802" y="10773"/>
                  <a:pt x="18802" y="10740"/>
                </a:cubicBezTo>
                <a:cubicBezTo>
                  <a:pt x="18858" y="10740"/>
                  <a:pt x="18884" y="10733"/>
                  <a:pt x="18926" y="10765"/>
                </a:cubicBezTo>
              </a:path>
              <a:path w="3126" h="2283">
                <a:moveTo>
                  <a:pt x="19075" y="10492"/>
                </a:moveTo>
                <a:cubicBezTo>
                  <a:pt x="19075" y="10434"/>
                  <a:pt x="19075" y="10426"/>
                  <a:pt x="19075" y="10393"/>
                </a:cubicBezTo>
                <a:cubicBezTo>
                  <a:pt x="19035" y="10406"/>
                  <a:pt x="19050" y="10441"/>
                  <a:pt x="19050" y="10492"/>
                </a:cubicBezTo>
                <a:cubicBezTo>
                  <a:pt x="19050" y="10633"/>
                  <a:pt x="19050" y="10773"/>
                  <a:pt x="19050" y="10914"/>
                </a:cubicBezTo>
              </a:path>
              <a:path w="3126" h="2283">
                <a:moveTo>
                  <a:pt x="19100" y="10790"/>
                </a:moveTo>
                <a:cubicBezTo>
                  <a:pt x="19144" y="10759"/>
                  <a:pt x="19134" y="10812"/>
                  <a:pt x="19174" y="10864"/>
                </a:cubicBezTo>
                <a:cubicBezTo>
                  <a:pt x="19197" y="10895"/>
                  <a:pt x="19215" y="10906"/>
                  <a:pt x="19248" y="10914"/>
                </a:cubicBezTo>
                <a:cubicBezTo>
                  <a:pt x="19260" y="10894"/>
                  <a:pt x="19307" y="10773"/>
                  <a:pt x="19348" y="10790"/>
                </a:cubicBezTo>
                <a:cubicBezTo>
                  <a:pt x="19443" y="10829"/>
                  <a:pt x="19468" y="11032"/>
                  <a:pt x="19472" y="11112"/>
                </a:cubicBezTo>
                <a:cubicBezTo>
                  <a:pt x="19481" y="11279"/>
                  <a:pt x="19393" y="11320"/>
                  <a:pt x="19248" y="11361"/>
                </a:cubicBezTo>
                <a:cubicBezTo>
                  <a:pt x="19215" y="11369"/>
                  <a:pt x="19182" y="11377"/>
                  <a:pt x="19149" y="11385"/>
                </a:cubicBezTo>
              </a:path>
              <a:path w="3126" h="2283">
                <a:moveTo>
                  <a:pt x="17165" y="12030"/>
                </a:moveTo>
                <a:cubicBezTo>
                  <a:pt x="17194" y="12001"/>
                  <a:pt x="17205" y="11993"/>
                  <a:pt x="17214" y="11956"/>
                </a:cubicBezTo>
                <a:cubicBezTo>
                  <a:pt x="17183" y="11948"/>
                  <a:pt x="17153" y="11917"/>
                  <a:pt x="17115" y="11931"/>
                </a:cubicBezTo>
                <a:cubicBezTo>
                  <a:pt x="17028" y="11962"/>
                  <a:pt x="17020" y="12050"/>
                  <a:pt x="17016" y="12129"/>
                </a:cubicBezTo>
                <a:cubicBezTo>
                  <a:pt x="17016" y="12174"/>
                  <a:pt x="17013" y="12187"/>
                  <a:pt x="17041" y="12204"/>
                </a:cubicBezTo>
                <a:cubicBezTo>
                  <a:pt x="17094" y="12191"/>
                  <a:pt x="17123" y="12136"/>
                  <a:pt x="17140" y="12080"/>
                </a:cubicBezTo>
                <a:cubicBezTo>
                  <a:pt x="17140" y="12055"/>
                  <a:pt x="17140" y="12047"/>
                  <a:pt x="17165" y="12055"/>
                </a:cubicBezTo>
                <a:cubicBezTo>
                  <a:pt x="17165" y="12140"/>
                  <a:pt x="17202" y="12219"/>
                  <a:pt x="17190" y="12303"/>
                </a:cubicBezTo>
                <a:cubicBezTo>
                  <a:pt x="17186" y="12331"/>
                  <a:pt x="17133" y="12470"/>
                  <a:pt x="17165" y="12502"/>
                </a:cubicBezTo>
                <a:cubicBezTo>
                  <a:pt x="17223" y="12560"/>
                  <a:pt x="17266" y="12506"/>
                  <a:pt x="17314" y="12477"/>
                </a:cubicBezTo>
                <a:cubicBezTo>
                  <a:pt x="17370" y="12443"/>
                  <a:pt x="17414" y="12464"/>
                  <a:pt x="17462" y="12427"/>
                </a:cubicBezTo>
              </a:path>
              <a:path w="3126" h="2283">
                <a:moveTo>
                  <a:pt x="17711" y="11956"/>
                </a:moveTo>
                <a:cubicBezTo>
                  <a:pt x="17719" y="11956"/>
                  <a:pt x="17727" y="11956"/>
                  <a:pt x="17735" y="11956"/>
                </a:cubicBezTo>
                <a:cubicBezTo>
                  <a:pt x="17683" y="11956"/>
                  <a:pt x="17653" y="11968"/>
                  <a:pt x="17611" y="11981"/>
                </a:cubicBezTo>
                <a:cubicBezTo>
                  <a:pt x="17587" y="11981"/>
                  <a:pt x="17578" y="11981"/>
                  <a:pt x="17562" y="11981"/>
                </a:cubicBezTo>
              </a:path>
              <a:path w="3126" h="2283">
                <a:moveTo>
                  <a:pt x="17735" y="12080"/>
                </a:moveTo>
                <a:cubicBezTo>
                  <a:pt x="17775" y="12093"/>
                  <a:pt x="17745" y="12092"/>
                  <a:pt x="17785" y="12105"/>
                </a:cubicBezTo>
                <a:cubicBezTo>
                  <a:pt x="17744" y="12105"/>
                  <a:pt x="17702" y="12105"/>
                  <a:pt x="17661" y="12105"/>
                </a:cubicBezTo>
              </a:path>
              <a:path w="3126" h="2283">
                <a:moveTo>
                  <a:pt x="18653" y="11832"/>
                </a:moveTo>
                <a:cubicBezTo>
                  <a:pt x="18653" y="11840"/>
                  <a:pt x="18653" y="11849"/>
                  <a:pt x="18653" y="11857"/>
                </a:cubicBezTo>
                <a:cubicBezTo>
                  <a:pt x="18699" y="11857"/>
                  <a:pt x="18712" y="11837"/>
                  <a:pt x="18752" y="11832"/>
                </a:cubicBezTo>
                <a:cubicBezTo>
                  <a:pt x="18776" y="11829"/>
                  <a:pt x="18803" y="11832"/>
                  <a:pt x="18827" y="11832"/>
                </a:cubicBezTo>
              </a:path>
              <a:path w="3126" h="2283">
                <a:moveTo>
                  <a:pt x="19199" y="11410"/>
                </a:moveTo>
                <a:cubicBezTo>
                  <a:pt x="19221" y="11388"/>
                  <a:pt x="19226" y="11379"/>
                  <a:pt x="19248" y="11385"/>
                </a:cubicBezTo>
                <a:cubicBezTo>
                  <a:pt x="19248" y="11497"/>
                  <a:pt x="19238" y="11599"/>
                  <a:pt x="19224" y="11708"/>
                </a:cubicBezTo>
                <a:cubicBezTo>
                  <a:pt x="19224" y="11757"/>
                  <a:pt x="19224" y="11774"/>
                  <a:pt x="19224" y="11807"/>
                </a:cubicBezTo>
                <a:cubicBezTo>
                  <a:pt x="19280" y="11778"/>
                  <a:pt x="19260" y="11723"/>
                  <a:pt x="19323" y="11683"/>
                </a:cubicBezTo>
                <a:cubicBezTo>
                  <a:pt x="19381" y="11646"/>
                  <a:pt x="19424" y="11718"/>
                  <a:pt x="19447" y="11757"/>
                </a:cubicBezTo>
                <a:cubicBezTo>
                  <a:pt x="19476" y="11805"/>
                  <a:pt x="19485" y="11854"/>
                  <a:pt x="19422" y="11881"/>
                </a:cubicBezTo>
                <a:cubicBezTo>
                  <a:pt x="19392" y="11894"/>
                  <a:pt x="19330" y="11881"/>
                  <a:pt x="19298" y="11881"/>
                </a:cubicBezTo>
              </a:path>
              <a:path w="3126" h="2283">
                <a:moveTo>
                  <a:pt x="20092" y="11981"/>
                </a:moveTo>
                <a:cubicBezTo>
                  <a:pt x="20108" y="11981"/>
                  <a:pt x="20125" y="11981"/>
                  <a:pt x="20141" y="11981"/>
                </a:cubicBezTo>
                <a:cubicBezTo>
                  <a:pt x="19915" y="11981"/>
                  <a:pt x="19695" y="11973"/>
                  <a:pt x="19472" y="11956"/>
                </a:cubicBezTo>
                <a:cubicBezTo>
                  <a:pt x="19312" y="11944"/>
                  <a:pt x="19155" y="11964"/>
                  <a:pt x="19000" y="11981"/>
                </a:cubicBezTo>
                <a:cubicBezTo>
                  <a:pt x="18913" y="11990"/>
                  <a:pt x="18834" y="12016"/>
                  <a:pt x="18752" y="12030"/>
                </a:cubicBezTo>
                <a:cubicBezTo>
                  <a:pt x="18705" y="12038"/>
                  <a:pt x="18669" y="12050"/>
                  <a:pt x="18628" y="12055"/>
                </a:cubicBezTo>
                <a:cubicBezTo>
                  <a:pt x="18620" y="12055"/>
                  <a:pt x="18612" y="12055"/>
                  <a:pt x="18604" y="12055"/>
                </a:cubicBezTo>
              </a:path>
              <a:path w="3126" h="2283">
                <a:moveTo>
                  <a:pt x="18504" y="12526"/>
                </a:moveTo>
                <a:cubicBezTo>
                  <a:pt x="18464" y="12536"/>
                  <a:pt x="18433" y="12555"/>
                  <a:pt x="18430" y="12601"/>
                </a:cubicBezTo>
                <a:cubicBezTo>
                  <a:pt x="18430" y="12617"/>
                  <a:pt x="18430" y="12634"/>
                  <a:pt x="18430" y="12650"/>
                </a:cubicBezTo>
                <a:cubicBezTo>
                  <a:pt x="18475" y="12650"/>
                  <a:pt x="18494" y="12656"/>
                  <a:pt x="18529" y="12626"/>
                </a:cubicBezTo>
                <a:cubicBezTo>
                  <a:pt x="18572" y="12588"/>
                  <a:pt x="18546" y="12557"/>
                  <a:pt x="18579" y="12601"/>
                </a:cubicBezTo>
                <a:cubicBezTo>
                  <a:pt x="18587" y="12609"/>
                  <a:pt x="18596" y="12618"/>
                  <a:pt x="18604" y="12626"/>
                </a:cubicBezTo>
              </a:path>
              <a:path w="3126" h="2283">
                <a:moveTo>
                  <a:pt x="18752" y="12576"/>
                </a:moveTo>
                <a:cubicBezTo>
                  <a:pt x="18765" y="12536"/>
                  <a:pt x="18764" y="12566"/>
                  <a:pt x="18777" y="12526"/>
                </a:cubicBezTo>
                <a:cubicBezTo>
                  <a:pt x="18745" y="12559"/>
                  <a:pt x="18702" y="12597"/>
                  <a:pt x="18728" y="12650"/>
                </a:cubicBezTo>
                <a:cubicBezTo>
                  <a:pt x="18750" y="12673"/>
                  <a:pt x="18755" y="12681"/>
                  <a:pt x="18777" y="12675"/>
                </a:cubicBezTo>
                <a:cubicBezTo>
                  <a:pt x="18808" y="12594"/>
                  <a:pt x="18824" y="12515"/>
                  <a:pt x="18827" y="12427"/>
                </a:cubicBezTo>
                <a:cubicBezTo>
                  <a:pt x="18830" y="12358"/>
                  <a:pt x="18833" y="12330"/>
                  <a:pt x="18802" y="12278"/>
                </a:cubicBezTo>
                <a:cubicBezTo>
                  <a:pt x="18802" y="12359"/>
                  <a:pt x="18799" y="12425"/>
                  <a:pt x="18827" y="12502"/>
                </a:cubicBezTo>
                <a:cubicBezTo>
                  <a:pt x="18846" y="12555"/>
                  <a:pt x="18871" y="12605"/>
                  <a:pt x="18901" y="12650"/>
                </a:cubicBezTo>
              </a:path>
              <a:path w="3126" h="2283">
                <a:moveTo>
                  <a:pt x="19124" y="12576"/>
                </a:moveTo>
                <a:cubicBezTo>
                  <a:pt x="19124" y="12568"/>
                  <a:pt x="19124" y="12559"/>
                  <a:pt x="19124" y="12551"/>
                </a:cubicBezTo>
                <a:cubicBezTo>
                  <a:pt x="19163" y="12541"/>
                  <a:pt x="19179" y="12526"/>
                  <a:pt x="19224" y="12526"/>
                </a:cubicBezTo>
                <a:cubicBezTo>
                  <a:pt x="19232" y="12526"/>
                  <a:pt x="19240" y="12526"/>
                  <a:pt x="19248" y="12526"/>
                </a:cubicBezTo>
              </a:path>
              <a:path w="3126" h="2283">
                <a:moveTo>
                  <a:pt x="19496" y="12303"/>
                </a:moveTo>
                <a:cubicBezTo>
                  <a:pt x="19498" y="12296"/>
                  <a:pt x="19521" y="12141"/>
                  <a:pt x="19521" y="12204"/>
                </a:cubicBezTo>
                <a:cubicBezTo>
                  <a:pt x="19521" y="12269"/>
                  <a:pt x="19510" y="12387"/>
                  <a:pt x="19496" y="12452"/>
                </a:cubicBezTo>
                <a:cubicBezTo>
                  <a:pt x="19483" y="12512"/>
                  <a:pt x="19449" y="12519"/>
                  <a:pt x="19496" y="12551"/>
                </a:cubicBezTo>
                <a:cubicBezTo>
                  <a:pt x="19532" y="12542"/>
                  <a:pt x="19577" y="12478"/>
                  <a:pt x="19621" y="12502"/>
                </a:cubicBezTo>
                <a:cubicBezTo>
                  <a:pt x="19671" y="12529"/>
                  <a:pt x="19648" y="12596"/>
                  <a:pt x="19621" y="12626"/>
                </a:cubicBezTo>
                <a:cubicBezTo>
                  <a:pt x="19582" y="12669"/>
                  <a:pt x="19516" y="12655"/>
                  <a:pt x="19472" y="12626"/>
                </a:cubicBezTo>
                <a:cubicBezTo>
                  <a:pt x="19464" y="12618"/>
                  <a:pt x="19455" y="12609"/>
                  <a:pt x="19447" y="12601"/>
                </a:cubicBezTo>
              </a:path>
              <a:path w="3126" h="2283">
                <a:moveTo>
                  <a:pt x="19819" y="12502"/>
                </a:moveTo>
                <a:cubicBezTo>
                  <a:pt x="19827" y="12494"/>
                  <a:pt x="19836" y="12485"/>
                  <a:pt x="19844" y="12477"/>
                </a:cubicBezTo>
                <a:cubicBezTo>
                  <a:pt x="19833" y="12522"/>
                  <a:pt x="19819" y="12547"/>
                  <a:pt x="19819" y="12601"/>
                </a:cubicBezTo>
                <a:cubicBezTo>
                  <a:pt x="19819" y="12664"/>
                  <a:pt x="19899" y="12650"/>
                  <a:pt x="19943" y="126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43880" y="4089240"/>
            <a:ext cx="1143000" cy="492120"/>
          </a:xfrm>
          <a:custGeom>
            <a:avLst/>
            <a:gdLst/>
            <a:ahLst/>
            <a:rect l="l" t="t" r="r" b="b"/>
            <a:pathLst>
              <a:path w="3176" h="1365">
                <a:moveTo>
                  <a:pt x="21307" y="11981"/>
                </a:moveTo>
                <a:cubicBezTo>
                  <a:pt x="21307" y="12017"/>
                  <a:pt x="21323" y="12084"/>
                  <a:pt x="21282" y="12105"/>
                </a:cubicBezTo>
                <a:cubicBezTo>
                  <a:pt x="21274" y="12105"/>
                  <a:pt x="21266" y="12105"/>
                  <a:pt x="21258" y="12105"/>
                </a:cubicBezTo>
                <a:cubicBezTo>
                  <a:pt x="21258" y="12045"/>
                  <a:pt x="21210" y="11960"/>
                  <a:pt x="21233" y="11906"/>
                </a:cubicBezTo>
                <a:cubicBezTo>
                  <a:pt x="21254" y="11857"/>
                  <a:pt x="21333" y="11810"/>
                  <a:pt x="21382" y="11807"/>
                </a:cubicBezTo>
                <a:cubicBezTo>
                  <a:pt x="21426" y="11807"/>
                  <a:pt x="21440" y="11804"/>
                  <a:pt x="21456" y="11832"/>
                </a:cubicBezTo>
              </a:path>
              <a:path w="3176" h="1365">
                <a:moveTo>
                  <a:pt x="21927" y="11832"/>
                </a:moveTo>
                <a:cubicBezTo>
                  <a:pt x="21882" y="11832"/>
                  <a:pt x="21868" y="11853"/>
                  <a:pt x="21828" y="11857"/>
                </a:cubicBezTo>
                <a:cubicBezTo>
                  <a:pt x="21820" y="11857"/>
                  <a:pt x="21811" y="11857"/>
                  <a:pt x="21803" y="11857"/>
                </a:cubicBezTo>
              </a:path>
              <a:path w="3176" h="1365">
                <a:moveTo>
                  <a:pt x="21927" y="11931"/>
                </a:moveTo>
                <a:cubicBezTo>
                  <a:pt x="21935" y="11931"/>
                  <a:pt x="21944" y="11931"/>
                  <a:pt x="21952" y="11931"/>
                </a:cubicBezTo>
                <a:cubicBezTo>
                  <a:pt x="21940" y="11980"/>
                  <a:pt x="21928" y="11981"/>
                  <a:pt x="21878" y="11981"/>
                </a:cubicBezTo>
                <a:cubicBezTo>
                  <a:pt x="21853" y="11981"/>
                  <a:pt x="21845" y="11981"/>
                  <a:pt x="21828" y="11981"/>
                </a:cubicBezTo>
              </a:path>
              <a:path w="3176" h="1365">
                <a:moveTo>
                  <a:pt x="23068" y="11584"/>
                </a:moveTo>
                <a:cubicBezTo>
                  <a:pt x="23052" y="11584"/>
                  <a:pt x="23035" y="11584"/>
                  <a:pt x="23019" y="11584"/>
                </a:cubicBezTo>
                <a:cubicBezTo>
                  <a:pt x="23032" y="11544"/>
                  <a:pt x="23066" y="11537"/>
                  <a:pt x="23118" y="11534"/>
                </a:cubicBezTo>
                <a:cubicBezTo>
                  <a:pt x="23175" y="11531"/>
                  <a:pt x="23234" y="11534"/>
                  <a:pt x="23292" y="11534"/>
                </a:cubicBezTo>
              </a:path>
              <a:path w="3176" h="1365">
                <a:moveTo>
                  <a:pt x="23564" y="11410"/>
                </a:moveTo>
                <a:cubicBezTo>
                  <a:pt x="23581" y="11394"/>
                  <a:pt x="23597" y="11377"/>
                  <a:pt x="23614" y="11361"/>
                </a:cubicBezTo>
                <a:cubicBezTo>
                  <a:pt x="23563" y="11401"/>
                  <a:pt x="23524" y="11429"/>
                  <a:pt x="23490" y="11485"/>
                </a:cubicBezTo>
                <a:cubicBezTo>
                  <a:pt x="23435" y="11576"/>
                  <a:pt x="23475" y="11603"/>
                  <a:pt x="23540" y="11658"/>
                </a:cubicBezTo>
                <a:cubicBezTo>
                  <a:pt x="23581" y="11693"/>
                  <a:pt x="23610" y="11683"/>
                  <a:pt x="23664" y="11683"/>
                </a:cubicBezTo>
              </a:path>
              <a:path w="3176" h="1365">
                <a:moveTo>
                  <a:pt x="24383" y="12030"/>
                </a:moveTo>
                <a:cubicBezTo>
                  <a:pt x="24403" y="12004"/>
                  <a:pt x="24400" y="12031"/>
                  <a:pt x="24408" y="11981"/>
                </a:cubicBezTo>
                <a:cubicBezTo>
                  <a:pt x="24390" y="11969"/>
                  <a:pt x="24358" y="11939"/>
                  <a:pt x="24309" y="11931"/>
                </a:cubicBezTo>
                <a:cubicBezTo>
                  <a:pt x="23929" y="11867"/>
                  <a:pt x="23471" y="11929"/>
                  <a:pt x="23093" y="11956"/>
                </a:cubicBezTo>
                <a:cubicBezTo>
                  <a:pt x="22960" y="11966"/>
                  <a:pt x="22826" y="11969"/>
                  <a:pt x="22696" y="11981"/>
                </a:cubicBezTo>
                <a:cubicBezTo>
                  <a:pt x="22605" y="11989"/>
                  <a:pt x="22526" y="11967"/>
                  <a:pt x="22448" y="12005"/>
                </a:cubicBezTo>
              </a:path>
              <a:path w="3176" h="1365">
                <a:moveTo>
                  <a:pt x="22523" y="12502"/>
                </a:moveTo>
                <a:cubicBezTo>
                  <a:pt x="22550" y="12464"/>
                  <a:pt x="22547" y="12450"/>
                  <a:pt x="22547" y="12402"/>
                </a:cubicBezTo>
                <a:cubicBezTo>
                  <a:pt x="22500" y="12414"/>
                  <a:pt x="22467" y="12425"/>
                  <a:pt x="22448" y="12477"/>
                </a:cubicBezTo>
                <a:cubicBezTo>
                  <a:pt x="22431" y="12523"/>
                  <a:pt x="22448" y="12568"/>
                  <a:pt x="22473" y="12601"/>
                </a:cubicBezTo>
                <a:cubicBezTo>
                  <a:pt x="22526" y="12575"/>
                  <a:pt x="22539" y="12537"/>
                  <a:pt x="22547" y="12477"/>
                </a:cubicBezTo>
                <a:cubicBezTo>
                  <a:pt x="22613" y="12477"/>
                  <a:pt x="22613" y="12493"/>
                  <a:pt x="22647" y="12551"/>
                </a:cubicBezTo>
              </a:path>
              <a:path w="3176" h="1365">
                <a:moveTo>
                  <a:pt x="22895" y="12551"/>
                </a:moveTo>
                <a:cubicBezTo>
                  <a:pt x="22848" y="12516"/>
                  <a:pt x="22845" y="12519"/>
                  <a:pt x="22845" y="12576"/>
                </a:cubicBezTo>
                <a:cubicBezTo>
                  <a:pt x="22845" y="12601"/>
                  <a:pt x="22845" y="12625"/>
                  <a:pt x="22845" y="12650"/>
                </a:cubicBezTo>
                <a:cubicBezTo>
                  <a:pt x="22929" y="12650"/>
                  <a:pt x="22916" y="12603"/>
                  <a:pt x="22920" y="12526"/>
                </a:cubicBezTo>
                <a:cubicBezTo>
                  <a:pt x="22922" y="12491"/>
                  <a:pt x="22920" y="12229"/>
                  <a:pt x="22920" y="12353"/>
                </a:cubicBezTo>
                <a:cubicBezTo>
                  <a:pt x="22920" y="12442"/>
                  <a:pt x="22924" y="12520"/>
                  <a:pt x="22969" y="12601"/>
                </a:cubicBezTo>
                <a:cubicBezTo>
                  <a:pt x="22977" y="12609"/>
                  <a:pt x="22986" y="12618"/>
                  <a:pt x="22994" y="12626"/>
                </a:cubicBezTo>
              </a:path>
              <a:path w="3176" h="1365">
                <a:moveTo>
                  <a:pt x="23242" y="12601"/>
                </a:moveTo>
                <a:cubicBezTo>
                  <a:pt x="23242" y="12593"/>
                  <a:pt x="23242" y="12584"/>
                  <a:pt x="23242" y="12576"/>
                </a:cubicBezTo>
                <a:cubicBezTo>
                  <a:pt x="23280" y="12563"/>
                  <a:pt x="23263" y="12551"/>
                  <a:pt x="23316" y="12551"/>
                </a:cubicBezTo>
                <a:cubicBezTo>
                  <a:pt x="23341" y="12551"/>
                  <a:pt x="23366" y="12551"/>
                  <a:pt x="23391" y="12551"/>
                </a:cubicBezTo>
              </a:path>
              <a:path w="3176" h="1365">
                <a:moveTo>
                  <a:pt x="23614" y="12328"/>
                </a:moveTo>
                <a:cubicBezTo>
                  <a:pt x="23614" y="12270"/>
                  <a:pt x="23614" y="12262"/>
                  <a:pt x="23614" y="12229"/>
                </a:cubicBezTo>
                <a:cubicBezTo>
                  <a:pt x="23583" y="12310"/>
                  <a:pt x="23567" y="12389"/>
                  <a:pt x="23564" y="12477"/>
                </a:cubicBezTo>
                <a:cubicBezTo>
                  <a:pt x="23562" y="12526"/>
                  <a:pt x="23564" y="12576"/>
                  <a:pt x="23564" y="12626"/>
                </a:cubicBezTo>
                <a:cubicBezTo>
                  <a:pt x="23584" y="12606"/>
                  <a:pt x="23631" y="12536"/>
                  <a:pt x="23664" y="12551"/>
                </a:cubicBezTo>
                <a:cubicBezTo>
                  <a:pt x="23704" y="12569"/>
                  <a:pt x="23733" y="12635"/>
                  <a:pt x="23713" y="12675"/>
                </a:cubicBezTo>
                <a:cubicBezTo>
                  <a:pt x="23683" y="12734"/>
                  <a:pt x="23639" y="12733"/>
                  <a:pt x="23589" y="12700"/>
                </a:cubicBezTo>
                <a:cubicBezTo>
                  <a:pt x="23581" y="12692"/>
                  <a:pt x="23572" y="12683"/>
                  <a:pt x="23564" y="12675"/>
                </a:cubicBezTo>
              </a:path>
              <a:path w="3176" h="1365">
                <a:moveTo>
                  <a:pt x="23912" y="12526"/>
                </a:moveTo>
                <a:cubicBezTo>
                  <a:pt x="23912" y="12518"/>
                  <a:pt x="23912" y="12510"/>
                  <a:pt x="23912" y="12502"/>
                </a:cubicBezTo>
                <a:cubicBezTo>
                  <a:pt x="23886" y="12510"/>
                  <a:pt x="23852" y="12564"/>
                  <a:pt x="23837" y="12601"/>
                </a:cubicBezTo>
                <a:cubicBezTo>
                  <a:pt x="23837" y="12609"/>
                  <a:pt x="23837" y="12618"/>
                  <a:pt x="23837" y="12626"/>
                </a:cubicBezTo>
                <a:cubicBezTo>
                  <a:pt x="23904" y="12663"/>
                  <a:pt x="23953" y="12693"/>
                  <a:pt x="24036" y="12675"/>
                </a:cubicBezTo>
                <a:cubicBezTo>
                  <a:pt x="24103" y="12652"/>
                  <a:pt x="24121" y="12647"/>
                  <a:pt x="24160" y="12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inverse and determinants of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the inverse of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x A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76160" y="3027240"/>
            <a:ext cx="358920" cy="268560"/>
          </a:xfrm>
          <a:custGeom>
            <a:avLst/>
            <a:gdLst/>
            <a:ahLst/>
            <a:rect l="l" t="t" r="r" b="b"/>
            <a:pathLst>
              <a:path w="993" h="745">
                <a:moveTo>
                  <a:pt x="2158" y="8632"/>
                </a:moveTo>
                <a:cubicBezTo>
                  <a:pt x="2158" y="8657"/>
                  <a:pt x="2158" y="8681"/>
                  <a:pt x="2158" y="8706"/>
                </a:cubicBezTo>
                <a:cubicBezTo>
                  <a:pt x="2196" y="8706"/>
                  <a:pt x="2232" y="8717"/>
                  <a:pt x="2257" y="8682"/>
                </a:cubicBezTo>
                <a:cubicBezTo>
                  <a:pt x="2296" y="8627"/>
                  <a:pt x="2347" y="8526"/>
                  <a:pt x="2332" y="8458"/>
                </a:cubicBezTo>
                <a:cubicBezTo>
                  <a:pt x="2324" y="8442"/>
                  <a:pt x="2315" y="8425"/>
                  <a:pt x="2307" y="8409"/>
                </a:cubicBezTo>
                <a:cubicBezTo>
                  <a:pt x="2238" y="8409"/>
                  <a:pt x="2211" y="8444"/>
                  <a:pt x="2183" y="8508"/>
                </a:cubicBezTo>
                <a:cubicBezTo>
                  <a:pt x="2145" y="8594"/>
                  <a:pt x="2133" y="8745"/>
                  <a:pt x="2183" y="8830"/>
                </a:cubicBezTo>
                <a:cubicBezTo>
                  <a:pt x="2225" y="8902"/>
                  <a:pt x="2277" y="8888"/>
                  <a:pt x="2332" y="8855"/>
                </a:cubicBezTo>
              </a:path>
              <a:path w="993" h="745">
                <a:moveTo>
                  <a:pt x="2456" y="8706"/>
                </a:moveTo>
                <a:cubicBezTo>
                  <a:pt x="2489" y="8678"/>
                  <a:pt x="2542" y="8628"/>
                  <a:pt x="2580" y="8682"/>
                </a:cubicBezTo>
                <a:cubicBezTo>
                  <a:pt x="2580" y="8690"/>
                  <a:pt x="2580" y="8698"/>
                  <a:pt x="2580" y="8706"/>
                </a:cubicBezTo>
              </a:path>
              <a:path w="993" h="745">
                <a:moveTo>
                  <a:pt x="2704" y="8582"/>
                </a:moveTo>
                <a:cubicBezTo>
                  <a:pt x="2712" y="8525"/>
                  <a:pt x="2730" y="8521"/>
                  <a:pt x="2704" y="8508"/>
                </a:cubicBezTo>
                <a:cubicBezTo>
                  <a:pt x="2679" y="8575"/>
                  <a:pt x="2663" y="8635"/>
                  <a:pt x="2654" y="8706"/>
                </a:cubicBezTo>
                <a:cubicBezTo>
                  <a:pt x="2701" y="8691"/>
                  <a:pt x="2685" y="8622"/>
                  <a:pt x="2729" y="8582"/>
                </a:cubicBezTo>
                <a:cubicBezTo>
                  <a:pt x="2831" y="8487"/>
                  <a:pt x="2891" y="8639"/>
                  <a:pt x="2927" y="8706"/>
                </a:cubicBezTo>
                <a:cubicBezTo>
                  <a:pt x="2984" y="8813"/>
                  <a:pt x="3031" y="8955"/>
                  <a:pt x="3001" y="9079"/>
                </a:cubicBezTo>
                <a:cubicBezTo>
                  <a:pt x="2976" y="9182"/>
                  <a:pt x="2856" y="9153"/>
                  <a:pt x="2778" y="9153"/>
                </a:cubicBezTo>
                <a:cubicBezTo>
                  <a:pt x="2681" y="9153"/>
                  <a:pt x="2662" y="9146"/>
                  <a:pt x="2604" y="9079"/>
                </a:cubicBezTo>
              </a:path>
              <a:path w="993" h="745">
                <a:moveTo>
                  <a:pt x="3026" y="8756"/>
                </a:moveTo>
                <a:cubicBezTo>
                  <a:pt x="3091" y="8734"/>
                  <a:pt x="3106" y="8726"/>
                  <a:pt x="3150" y="8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08120" y="2963880"/>
            <a:ext cx="115920" cy="233280"/>
          </a:xfrm>
          <a:custGeom>
            <a:avLst/>
            <a:gdLst/>
            <a:ahLst/>
            <a:rect l="l" t="t" r="r" b="b"/>
            <a:pathLst>
              <a:path w="323" h="646">
                <a:moveTo>
                  <a:pt x="4465" y="8781"/>
                </a:moveTo>
                <a:cubicBezTo>
                  <a:pt x="4465" y="8840"/>
                  <a:pt x="4458" y="8837"/>
                  <a:pt x="4490" y="8880"/>
                </a:cubicBezTo>
                <a:cubicBezTo>
                  <a:pt x="4490" y="8817"/>
                  <a:pt x="4507" y="8768"/>
                  <a:pt x="4514" y="8706"/>
                </a:cubicBezTo>
                <a:cubicBezTo>
                  <a:pt x="4526" y="8601"/>
                  <a:pt x="4542" y="8487"/>
                  <a:pt x="4564" y="8384"/>
                </a:cubicBezTo>
                <a:cubicBezTo>
                  <a:pt x="4577" y="8323"/>
                  <a:pt x="4601" y="8286"/>
                  <a:pt x="4614" y="8235"/>
                </a:cubicBezTo>
                <a:cubicBezTo>
                  <a:pt x="4668" y="8290"/>
                  <a:pt x="4668" y="8331"/>
                  <a:pt x="4688" y="8409"/>
                </a:cubicBezTo>
                <a:cubicBezTo>
                  <a:pt x="4715" y="8514"/>
                  <a:pt x="4734" y="8630"/>
                  <a:pt x="4762" y="8731"/>
                </a:cubicBezTo>
                <a:cubicBezTo>
                  <a:pt x="4770" y="8748"/>
                  <a:pt x="4779" y="8764"/>
                  <a:pt x="4787" y="8781"/>
                </a:cubicBezTo>
              </a:path>
              <a:path w="323" h="646">
                <a:moveTo>
                  <a:pt x="4787" y="8607"/>
                </a:moveTo>
                <a:cubicBezTo>
                  <a:pt x="4769" y="8580"/>
                  <a:pt x="4722" y="8475"/>
                  <a:pt x="4663" y="8508"/>
                </a:cubicBezTo>
                <a:cubicBezTo>
                  <a:pt x="4626" y="8529"/>
                  <a:pt x="4601" y="8536"/>
                  <a:pt x="4564" y="85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12960" y="3017880"/>
            <a:ext cx="88920" cy="71280"/>
          </a:xfrm>
          <a:custGeom>
            <a:avLst/>
            <a:gdLst/>
            <a:ahLst/>
            <a:rect l="l" t="t" r="r" b="b"/>
            <a:pathLst>
              <a:path w="249" h="199">
                <a:moveTo>
                  <a:pt x="5259" y="8434"/>
                </a:moveTo>
                <a:cubicBezTo>
                  <a:pt x="5259" y="8409"/>
                  <a:pt x="5259" y="8401"/>
                  <a:pt x="5259" y="8384"/>
                </a:cubicBezTo>
                <a:cubicBezTo>
                  <a:pt x="5215" y="8395"/>
                  <a:pt x="5184" y="8422"/>
                  <a:pt x="5135" y="8434"/>
                </a:cubicBezTo>
                <a:cubicBezTo>
                  <a:pt x="5102" y="8442"/>
                  <a:pt x="5069" y="8452"/>
                  <a:pt x="5035" y="8458"/>
                </a:cubicBezTo>
              </a:path>
              <a:path w="249" h="199">
                <a:moveTo>
                  <a:pt x="5259" y="8558"/>
                </a:moveTo>
                <a:cubicBezTo>
                  <a:pt x="5267" y="8558"/>
                  <a:pt x="5275" y="8558"/>
                  <a:pt x="5283" y="8558"/>
                </a:cubicBezTo>
                <a:cubicBezTo>
                  <a:pt x="5271" y="8594"/>
                  <a:pt x="5253" y="8582"/>
                  <a:pt x="5209" y="85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9000" y="2803680"/>
            <a:ext cx="277920" cy="455400"/>
          </a:xfrm>
          <a:custGeom>
            <a:avLst/>
            <a:gdLst/>
            <a:ahLst/>
            <a:rect l="l" t="t" r="r" b="b"/>
            <a:pathLst>
              <a:path w="770" h="1266">
                <a:moveTo>
                  <a:pt x="6821" y="8086"/>
                </a:moveTo>
                <a:cubicBezTo>
                  <a:pt x="6846" y="8086"/>
                  <a:pt x="6854" y="8086"/>
                  <a:pt x="6871" y="8086"/>
                </a:cubicBezTo>
                <a:cubicBezTo>
                  <a:pt x="6871" y="8045"/>
                  <a:pt x="6888" y="7992"/>
                  <a:pt x="6846" y="7987"/>
                </a:cubicBezTo>
                <a:cubicBezTo>
                  <a:pt x="6828" y="7985"/>
                  <a:pt x="6728" y="8049"/>
                  <a:pt x="6722" y="8062"/>
                </a:cubicBezTo>
                <a:cubicBezTo>
                  <a:pt x="6702" y="8101"/>
                  <a:pt x="6725" y="8183"/>
                  <a:pt x="6747" y="8210"/>
                </a:cubicBezTo>
                <a:cubicBezTo>
                  <a:pt x="6783" y="8255"/>
                  <a:pt x="6819" y="8228"/>
                  <a:pt x="6846" y="8186"/>
                </a:cubicBezTo>
                <a:cubicBezTo>
                  <a:pt x="6877" y="8138"/>
                  <a:pt x="6896" y="8093"/>
                  <a:pt x="6896" y="8037"/>
                </a:cubicBezTo>
                <a:cubicBezTo>
                  <a:pt x="6937" y="8078"/>
                  <a:pt x="6975" y="8102"/>
                  <a:pt x="7020" y="8136"/>
                </a:cubicBezTo>
                <a:cubicBezTo>
                  <a:pt x="7028" y="8144"/>
                  <a:pt x="7037" y="8153"/>
                  <a:pt x="7045" y="8161"/>
                </a:cubicBezTo>
              </a:path>
              <a:path w="770" h="1266">
                <a:moveTo>
                  <a:pt x="6821" y="8905"/>
                </a:moveTo>
                <a:cubicBezTo>
                  <a:pt x="6871" y="8872"/>
                  <a:pt x="6881" y="8863"/>
                  <a:pt x="6896" y="8806"/>
                </a:cubicBezTo>
                <a:cubicBezTo>
                  <a:pt x="6826" y="8823"/>
                  <a:pt x="6842" y="8847"/>
                  <a:pt x="6821" y="8905"/>
                </a:cubicBezTo>
                <a:cubicBezTo>
                  <a:pt x="6802" y="8959"/>
                  <a:pt x="6774" y="9014"/>
                  <a:pt x="6846" y="9054"/>
                </a:cubicBezTo>
                <a:cubicBezTo>
                  <a:pt x="6892" y="9080"/>
                  <a:pt x="6979" y="9044"/>
                  <a:pt x="7020" y="9029"/>
                </a:cubicBezTo>
              </a:path>
              <a:path w="770" h="1266">
                <a:moveTo>
                  <a:pt x="6400" y="7938"/>
                </a:moveTo>
                <a:cubicBezTo>
                  <a:pt x="6407" y="7887"/>
                  <a:pt x="6424" y="7864"/>
                  <a:pt x="6424" y="7813"/>
                </a:cubicBezTo>
                <a:cubicBezTo>
                  <a:pt x="6424" y="7805"/>
                  <a:pt x="6424" y="7797"/>
                  <a:pt x="6424" y="7789"/>
                </a:cubicBezTo>
                <a:cubicBezTo>
                  <a:pt x="6383" y="7859"/>
                  <a:pt x="6351" y="7925"/>
                  <a:pt x="6325" y="8012"/>
                </a:cubicBezTo>
                <a:cubicBezTo>
                  <a:pt x="6278" y="8171"/>
                  <a:pt x="6256" y="8319"/>
                  <a:pt x="6300" y="8483"/>
                </a:cubicBezTo>
                <a:cubicBezTo>
                  <a:pt x="6343" y="8641"/>
                  <a:pt x="6380" y="8804"/>
                  <a:pt x="6449" y="8954"/>
                </a:cubicBezTo>
                <a:cubicBezTo>
                  <a:pt x="6472" y="9004"/>
                  <a:pt x="6483" y="9034"/>
                  <a:pt x="6524" y="9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803680" y="2741760"/>
            <a:ext cx="206280" cy="465120"/>
          </a:xfrm>
          <a:custGeom>
            <a:avLst/>
            <a:gdLst/>
            <a:ahLst/>
            <a:rect l="l" t="t" r="r" b="b"/>
            <a:pathLst>
              <a:path w="571" h="1291">
                <a:moveTo>
                  <a:pt x="7789" y="7665"/>
                </a:moveTo>
                <a:cubicBezTo>
                  <a:pt x="7789" y="7657"/>
                  <a:pt x="7789" y="7573"/>
                  <a:pt x="7789" y="7640"/>
                </a:cubicBezTo>
                <a:cubicBezTo>
                  <a:pt x="7789" y="7744"/>
                  <a:pt x="7802" y="7838"/>
                  <a:pt x="7813" y="7938"/>
                </a:cubicBezTo>
                <a:cubicBezTo>
                  <a:pt x="7821" y="8010"/>
                  <a:pt x="7804" y="8030"/>
                  <a:pt x="7838" y="8086"/>
                </a:cubicBezTo>
                <a:cubicBezTo>
                  <a:pt x="7838" y="8127"/>
                  <a:pt x="7838" y="8053"/>
                  <a:pt x="7838" y="8012"/>
                </a:cubicBezTo>
                <a:cubicBezTo>
                  <a:pt x="7838" y="7953"/>
                  <a:pt x="7858" y="7940"/>
                  <a:pt x="7888" y="7888"/>
                </a:cubicBezTo>
                <a:cubicBezTo>
                  <a:pt x="7934" y="7888"/>
                  <a:pt x="7959" y="7895"/>
                  <a:pt x="7987" y="7938"/>
                </a:cubicBezTo>
                <a:cubicBezTo>
                  <a:pt x="8023" y="7993"/>
                  <a:pt x="8024" y="8056"/>
                  <a:pt x="7987" y="8111"/>
                </a:cubicBezTo>
                <a:cubicBezTo>
                  <a:pt x="7951" y="8164"/>
                  <a:pt x="7883" y="8131"/>
                  <a:pt x="7838" y="8111"/>
                </a:cubicBezTo>
                <a:cubicBezTo>
                  <a:pt x="7822" y="8103"/>
                  <a:pt x="7805" y="8094"/>
                  <a:pt x="7789" y="8086"/>
                </a:cubicBezTo>
              </a:path>
              <a:path w="571" h="1291">
                <a:moveTo>
                  <a:pt x="7813" y="8682"/>
                </a:moveTo>
                <a:cubicBezTo>
                  <a:pt x="7880" y="8703"/>
                  <a:pt x="7800" y="8715"/>
                  <a:pt x="7789" y="8756"/>
                </a:cubicBezTo>
                <a:cubicBezTo>
                  <a:pt x="7780" y="8789"/>
                  <a:pt x="7789" y="8845"/>
                  <a:pt x="7789" y="8880"/>
                </a:cubicBezTo>
                <a:cubicBezTo>
                  <a:pt x="7864" y="8861"/>
                  <a:pt x="7860" y="8803"/>
                  <a:pt x="7863" y="8731"/>
                </a:cubicBezTo>
                <a:cubicBezTo>
                  <a:pt x="7866" y="8645"/>
                  <a:pt x="7888" y="8570"/>
                  <a:pt x="7888" y="8483"/>
                </a:cubicBezTo>
                <a:cubicBezTo>
                  <a:pt x="7888" y="8467"/>
                  <a:pt x="7888" y="8450"/>
                  <a:pt x="7888" y="8434"/>
                </a:cubicBezTo>
                <a:cubicBezTo>
                  <a:pt x="7888" y="8524"/>
                  <a:pt x="7891" y="8595"/>
                  <a:pt x="7913" y="8682"/>
                </a:cubicBezTo>
                <a:cubicBezTo>
                  <a:pt x="7935" y="8770"/>
                  <a:pt x="7956" y="8835"/>
                  <a:pt x="8012" y="8905"/>
                </a:cubicBezTo>
              </a:path>
              <a:path w="571" h="1291">
                <a:moveTo>
                  <a:pt x="7938" y="7838"/>
                </a:moveTo>
                <a:cubicBezTo>
                  <a:pt x="7969" y="7814"/>
                  <a:pt x="7983" y="7791"/>
                  <a:pt x="8012" y="7789"/>
                </a:cubicBezTo>
                <a:cubicBezTo>
                  <a:pt x="8084" y="7784"/>
                  <a:pt x="8099" y="7805"/>
                  <a:pt x="8161" y="7838"/>
                </a:cubicBezTo>
                <a:cubicBezTo>
                  <a:pt x="8244" y="7882"/>
                  <a:pt x="8265" y="7959"/>
                  <a:pt x="8310" y="8037"/>
                </a:cubicBezTo>
                <a:cubicBezTo>
                  <a:pt x="8375" y="8150"/>
                  <a:pt x="8376" y="8301"/>
                  <a:pt x="8359" y="8434"/>
                </a:cubicBezTo>
                <a:cubicBezTo>
                  <a:pt x="8344" y="8552"/>
                  <a:pt x="8301" y="8694"/>
                  <a:pt x="8260" y="8806"/>
                </a:cubicBezTo>
                <a:cubicBezTo>
                  <a:pt x="8233" y="8859"/>
                  <a:pt x="8221" y="8879"/>
                  <a:pt x="8186" y="8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616200" y="2919240"/>
            <a:ext cx="268560" cy="233640"/>
          </a:xfrm>
          <a:custGeom>
            <a:avLst/>
            <a:gdLst/>
            <a:ahLst/>
            <a:rect l="l" t="t" r="r" b="b"/>
            <a:pathLst>
              <a:path w="745" h="646">
                <a:moveTo>
                  <a:pt x="10046" y="8607"/>
                </a:moveTo>
                <a:cubicBezTo>
                  <a:pt x="10046" y="8629"/>
                  <a:pt x="10046" y="8789"/>
                  <a:pt x="10046" y="8731"/>
                </a:cubicBezTo>
                <a:cubicBezTo>
                  <a:pt x="10046" y="8658"/>
                  <a:pt x="10068" y="8606"/>
                  <a:pt x="10071" y="8533"/>
                </a:cubicBezTo>
                <a:cubicBezTo>
                  <a:pt x="10074" y="8446"/>
                  <a:pt x="10094" y="8342"/>
                  <a:pt x="10120" y="8260"/>
                </a:cubicBezTo>
                <a:cubicBezTo>
                  <a:pt x="10142" y="8216"/>
                  <a:pt x="10145" y="8205"/>
                  <a:pt x="10170" y="8186"/>
                </a:cubicBezTo>
                <a:cubicBezTo>
                  <a:pt x="10228" y="8257"/>
                  <a:pt x="10227" y="8298"/>
                  <a:pt x="10244" y="8384"/>
                </a:cubicBezTo>
                <a:cubicBezTo>
                  <a:pt x="10266" y="8495"/>
                  <a:pt x="10318" y="8596"/>
                  <a:pt x="10344" y="8706"/>
                </a:cubicBezTo>
                <a:cubicBezTo>
                  <a:pt x="10344" y="8714"/>
                  <a:pt x="10344" y="8723"/>
                  <a:pt x="10344" y="8731"/>
                </a:cubicBezTo>
              </a:path>
              <a:path w="745" h="646">
                <a:moveTo>
                  <a:pt x="10344" y="8508"/>
                </a:moveTo>
                <a:cubicBezTo>
                  <a:pt x="10263" y="8438"/>
                  <a:pt x="10294" y="8458"/>
                  <a:pt x="10220" y="8483"/>
                </a:cubicBezTo>
                <a:cubicBezTo>
                  <a:pt x="10192" y="8493"/>
                  <a:pt x="10150" y="8483"/>
                  <a:pt x="10120" y="8483"/>
                </a:cubicBezTo>
              </a:path>
              <a:path w="745" h="646">
                <a:moveTo>
                  <a:pt x="10492" y="8235"/>
                </a:moveTo>
                <a:cubicBezTo>
                  <a:pt x="10484" y="8235"/>
                  <a:pt x="10476" y="8235"/>
                  <a:pt x="10468" y="8235"/>
                </a:cubicBezTo>
                <a:cubicBezTo>
                  <a:pt x="10513" y="8235"/>
                  <a:pt x="10527" y="8214"/>
                  <a:pt x="10567" y="8210"/>
                </a:cubicBezTo>
                <a:cubicBezTo>
                  <a:pt x="10599" y="8206"/>
                  <a:pt x="10611" y="8193"/>
                  <a:pt x="10641" y="8186"/>
                </a:cubicBezTo>
              </a:path>
              <a:path w="745" h="646">
                <a:moveTo>
                  <a:pt x="10740" y="8111"/>
                </a:moveTo>
                <a:cubicBezTo>
                  <a:pt x="10800" y="8126"/>
                  <a:pt x="10790" y="8149"/>
                  <a:pt x="10790" y="8210"/>
                </a:cubicBezTo>
                <a:cubicBezTo>
                  <a:pt x="10790" y="8251"/>
                  <a:pt x="10790" y="8293"/>
                  <a:pt x="10790" y="8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17960" y="3009960"/>
            <a:ext cx="73080" cy="61920"/>
          </a:xfrm>
          <a:custGeom>
            <a:avLst/>
            <a:gdLst/>
            <a:ahLst/>
            <a:rect l="l" t="t" r="r" b="b"/>
            <a:pathLst>
              <a:path w="200" h="175">
                <a:moveTo>
                  <a:pt x="11311" y="8359"/>
                </a:moveTo>
                <a:cubicBezTo>
                  <a:pt x="11319" y="8359"/>
                  <a:pt x="11328" y="8359"/>
                  <a:pt x="11336" y="8359"/>
                </a:cubicBezTo>
                <a:cubicBezTo>
                  <a:pt x="11323" y="8397"/>
                  <a:pt x="11306" y="8384"/>
                  <a:pt x="11261" y="8384"/>
                </a:cubicBezTo>
                <a:cubicBezTo>
                  <a:pt x="11209" y="8384"/>
                  <a:pt x="11205" y="8398"/>
                  <a:pt x="11162" y="8409"/>
                </a:cubicBezTo>
              </a:path>
              <a:path w="200" h="175">
                <a:moveTo>
                  <a:pt x="11336" y="8483"/>
                </a:moveTo>
                <a:cubicBezTo>
                  <a:pt x="11344" y="8491"/>
                  <a:pt x="11353" y="8500"/>
                  <a:pt x="11361" y="8508"/>
                </a:cubicBezTo>
                <a:cubicBezTo>
                  <a:pt x="11311" y="8538"/>
                  <a:pt x="11274" y="8533"/>
                  <a:pt x="11212" y="8533"/>
                </a:cubicBezTo>
                <a:cubicBezTo>
                  <a:pt x="11204" y="8533"/>
                  <a:pt x="11195" y="8533"/>
                  <a:pt x="11187" y="85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05160" y="2751120"/>
            <a:ext cx="196920" cy="473040"/>
          </a:xfrm>
          <a:custGeom>
            <a:avLst/>
            <a:gdLst/>
            <a:ahLst/>
            <a:rect l="l" t="t" r="r" b="b"/>
            <a:pathLst>
              <a:path w="547" h="1315">
                <a:moveTo>
                  <a:pt x="12030" y="7962"/>
                </a:moveTo>
                <a:cubicBezTo>
                  <a:pt x="12030" y="7938"/>
                  <a:pt x="12030" y="7930"/>
                  <a:pt x="12055" y="7938"/>
                </a:cubicBezTo>
                <a:cubicBezTo>
                  <a:pt x="12055" y="8043"/>
                  <a:pt x="12064" y="8137"/>
                  <a:pt x="12080" y="8235"/>
                </a:cubicBezTo>
                <a:cubicBezTo>
                  <a:pt x="12089" y="8293"/>
                  <a:pt x="12075" y="8310"/>
                  <a:pt x="12105" y="8359"/>
                </a:cubicBezTo>
              </a:path>
              <a:path w="547" h="1315">
                <a:moveTo>
                  <a:pt x="12055" y="8037"/>
                </a:moveTo>
                <a:cubicBezTo>
                  <a:pt x="12018" y="7988"/>
                  <a:pt x="12027" y="7986"/>
                  <a:pt x="12055" y="7938"/>
                </a:cubicBezTo>
                <a:cubicBezTo>
                  <a:pt x="12095" y="7869"/>
                  <a:pt x="12066" y="7845"/>
                  <a:pt x="12154" y="7838"/>
                </a:cubicBezTo>
                <a:cubicBezTo>
                  <a:pt x="12220" y="7832"/>
                  <a:pt x="12226" y="7915"/>
                  <a:pt x="12229" y="7962"/>
                </a:cubicBezTo>
                <a:cubicBezTo>
                  <a:pt x="12233" y="8033"/>
                  <a:pt x="12225" y="8050"/>
                  <a:pt x="12179" y="8086"/>
                </a:cubicBezTo>
                <a:cubicBezTo>
                  <a:pt x="12141" y="8115"/>
                  <a:pt x="12128" y="8111"/>
                  <a:pt x="12080" y="8111"/>
                </a:cubicBezTo>
              </a:path>
              <a:path w="547" h="1315">
                <a:moveTo>
                  <a:pt x="11981" y="8855"/>
                </a:moveTo>
                <a:cubicBezTo>
                  <a:pt x="11981" y="8888"/>
                  <a:pt x="11981" y="8921"/>
                  <a:pt x="11981" y="8954"/>
                </a:cubicBezTo>
                <a:cubicBezTo>
                  <a:pt x="11948" y="8943"/>
                  <a:pt x="11941" y="8900"/>
                  <a:pt x="11956" y="8855"/>
                </a:cubicBezTo>
                <a:cubicBezTo>
                  <a:pt x="11975" y="8800"/>
                  <a:pt x="11998" y="8754"/>
                  <a:pt x="12055" y="8731"/>
                </a:cubicBezTo>
                <a:cubicBezTo>
                  <a:pt x="12087" y="8718"/>
                  <a:pt x="12143" y="8731"/>
                  <a:pt x="12179" y="8731"/>
                </a:cubicBezTo>
              </a:path>
              <a:path w="547" h="1315">
                <a:moveTo>
                  <a:pt x="11832" y="7665"/>
                </a:moveTo>
                <a:cubicBezTo>
                  <a:pt x="11857" y="7665"/>
                  <a:pt x="11865" y="7665"/>
                  <a:pt x="11857" y="7640"/>
                </a:cubicBezTo>
                <a:cubicBezTo>
                  <a:pt x="11857" y="7676"/>
                  <a:pt x="11850" y="7712"/>
                  <a:pt x="11832" y="7739"/>
                </a:cubicBezTo>
                <a:cubicBezTo>
                  <a:pt x="11802" y="7783"/>
                  <a:pt x="11745" y="7834"/>
                  <a:pt x="11733" y="7888"/>
                </a:cubicBezTo>
                <a:cubicBezTo>
                  <a:pt x="11721" y="7942"/>
                  <a:pt x="11725" y="8011"/>
                  <a:pt x="11708" y="8062"/>
                </a:cubicBezTo>
                <a:cubicBezTo>
                  <a:pt x="11682" y="8139"/>
                  <a:pt x="11683" y="8201"/>
                  <a:pt x="11683" y="8285"/>
                </a:cubicBezTo>
                <a:cubicBezTo>
                  <a:pt x="11683" y="8462"/>
                  <a:pt x="11681" y="8637"/>
                  <a:pt x="11708" y="8806"/>
                </a:cubicBezTo>
                <a:cubicBezTo>
                  <a:pt x="11708" y="8857"/>
                  <a:pt x="11709" y="8876"/>
                  <a:pt x="11733" y="8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16280" y="2795760"/>
            <a:ext cx="268560" cy="446040"/>
          </a:xfrm>
          <a:custGeom>
            <a:avLst/>
            <a:gdLst/>
            <a:ahLst/>
            <a:rect l="l" t="t" r="r" b="b"/>
            <a:pathLst>
              <a:path w="745" h="1241">
                <a:moveTo>
                  <a:pt x="12973" y="7938"/>
                </a:moveTo>
                <a:cubicBezTo>
                  <a:pt x="12964" y="7911"/>
                  <a:pt x="12955" y="7892"/>
                  <a:pt x="12923" y="7888"/>
                </a:cubicBezTo>
                <a:cubicBezTo>
                  <a:pt x="12864" y="7881"/>
                  <a:pt x="12831" y="7943"/>
                  <a:pt x="12824" y="7987"/>
                </a:cubicBezTo>
                <a:cubicBezTo>
                  <a:pt x="12816" y="8034"/>
                  <a:pt x="12828" y="8051"/>
                  <a:pt x="12849" y="8086"/>
                </a:cubicBezTo>
                <a:cubicBezTo>
                  <a:pt x="12903" y="8073"/>
                  <a:pt x="12930" y="8018"/>
                  <a:pt x="12948" y="7962"/>
                </a:cubicBezTo>
                <a:cubicBezTo>
                  <a:pt x="12954" y="7942"/>
                  <a:pt x="12973" y="7858"/>
                  <a:pt x="12973" y="7913"/>
                </a:cubicBezTo>
                <a:cubicBezTo>
                  <a:pt x="12973" y="7987"/>
                  <a:pt x="12971" y="8042"/>
                  <a:pt x="12948" y="8111"/>
                </a:cubicBezTo>
                <a:cubicBezTo>
                  <a:pt x="12924" y="8184"/>
                  <a:pt x="12923" y="8235"/>
                  <a:pt x="12923" y="8310"/>
                </a:cubicBezTo>
                <a:cubicBezTo>
                  <a:pt x="12982" y="8310"/>
                  <a:pt x="13001" y="8311"/>
                  <a:pt x="13047" y="8285"/>
                </a:cubicBezTo>
                <a:cubicBezTo>
                  <a:pt x="13088" y="8261"/>
                  <a:pt x="13150" y="8240"/>
                  <a:pt x="13196" y="8235"/>
                </a:cubicBezTo>
                <a:cubicBezTo>
                  <a:pt x="13204" y="8235"/>
                  <a:pt x="13213" y="8235"/>
                  <a:pt x="13221" y="8235"/>
                </a:cubicBezTo>
              </a:path>
              <a:path w="745" h="1241">
                <a:moveTo>
                  <a:pt x="12923" y="8632"/>
                </a:moveTo>
                <a:cubicBezTo>
                  <a:pt x="12946" y="8609"/>
                  <a:pt x="12954" y="8605"/>
                  <a:pt x="12948" y="8582"/>
                </a:cubicBezTo>
                <a:cubicBezTo>
                  <a:pt x="12922" y="8588"/>
                  <a:pt x="12863" y="8603"/>
                  <a:pt x="12849" y="8632"/>
                </a:cubicBezTo>
                <a:cubicBezTo>
                  <a:pt x="12819" y="8692"/>
                  <a:pt x="12890" y="8693"/>
                  <a:pt x="12923" y="8706"/>
                </a:cubicBezTo>
                <a:cubicBezTo>
                  <a:pt x="12978" y="8728"/>
                  <a:pt x="13028" y="8772"/>
                  <a:pt x="13047" y="8830"/>
                </a:cubicBezTo>
                <a:cubicBezTo>
                  <a:pt x="13066" y="8887"/>
                  <a:pt x="12979" y="8903"/>
                  <a:pt x="12948" y="8905"/>
                </a:cubicBezTo>
                <a:cubicBezTo>
                  <a:pt x="12931" y="8905"/>
                  <a:pt x="12915" y="8905"/>
                  <a:pt x="12898" y="8905"/>
                </a:cubicBezTo>
              </a:path>
              <a:path w="745" h="1241">
                <a:moveTo>
                  <a:pt x="13295" y="7789"/>
                </a:moveTo>
                <a:cubicBezTo>
                  <a:pt x="13310" y="7744"/>
                  <a:pt x="13355" y="7757"/>
                  <a:pt x="13395" y="7789"/>
                </a:cubicBezTo>
                <a:cubicBezTo>
                  <a:pt x="13455" y="7837"/>
                  <a:pt x="13496" y="7888"/>
                  <a:pt x="13519" y="7962"/>
                </a:cubicBezTo>
                <a:cubicBezTo>
                  <a:pt x="13565" y="8106"/>
                  <a:pt x="13568" y="8235"/>
                  <a:pt x="13568" y="8384"/>
                </a:cubicBezTo>
                <a:cubicBezTo>
                  <a:pt x="13568" y="8537"/>
                  <a:pt x="13554" y="8736"/>
                  <a:pt x="13494" y="8880"/>
                </a:cubicBezTo>
                <a:cubicBezTo>
                  <a:pt x="13450" y="8945"/>
                  <a:pt x="13439" y="8959"/>
                  <a:pt x="13419" y="90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01800" y="3732120"/>
            <a:ext cx="206280" cy="196920"/>
          </a:xfrm>
          <a:custGeom>
            <a:avLst/>
            <a:gdLst/>
            <a:ahLst/>
            <a:rect l="l" t="t" r="r" b="b"/>
            <a:pathLst>
              <a:path w="572" h="547">
                <a:moveTo>
                  <a:pt x="2604" y="10393"/>
                </a:moveTo>
                <a:cubicBezTo>
                  <a:pt x="2632" y="10393"/>
                  <a:pt x="2643" y="10391"/>
                  <a:pt x="2654" y="10368"/>
                </a:cubicBezTo>
                <a:cubicBezTo>
                  <a:pt x="2593" y="10383"/>
                  <a:pt x="2592" y="10419"/>
                  <a:pt x="2555" y="10468"/>
                </a:cubicBezTo>
                <a:cubicBezTo>
                  <a:pt x="2533" y="10496"/>
                  <a:pt x="2480" y="10549"/>
                  <a:pt x="2505" y="10592"/>
                </a:cubicBezTo>
                <a:cubicBezTo>
                  <a:pt x="2524" y="10625"/>
                  <a:pt x="2598" y="10642"/>
                  <a:pt x="2629" y="10666"/>
                </a:cubicBezTo>
                <a:cubicBezTo>
                  <a:pt x="2666" y="10694"/>
                  <a:pt x="2715" y="10768"/>
                  <a:pt x="2704" y="10815"/>
                </a:cubicBezTo>
                <a:cubicBezTo>
                  <a:pt x="2686" y="10891"/>
                  <a:pt x="2674" y="10889"/>
                  <a:pt x="2604" y="10889"/>
                </a:cubicBezTo>
                <a:cubicBezTo>
                  <a:pt x="2553" y="10889"/>
                  <a:pt x="2518" y="10904"/>
                  <a:pt x="2505" y="10864"/>
                </a:cubicBezTo>
              </a:path>
              <a:path w="572" h="547">
                <a:moveTo>
                  <a:pt x="2902" y="10815"/>
                </a:moveTo>
                <a:cubicBezTo>
                  <a:pt x="2902" y="10772"/>
                  <a:pt x="2888" y="10718"/>
                  <a:pt x="2927" y="10691"/>
                </a:cubicBezTo>
                <a:cubicBezTo>
                  <a:pt x="2978" y="10656"/>
                  <a:pt x="3051" y="10705"/>
                  <a:pt x="3076" y="10765"/>
                </a:cubicBezTo>
                <a:cubicBezTo>
                  <a:pt x="3089" y="10796"/>
                  <a:pt x="3088" y="10896"/>
                  <a:pt x="3051" y="10914"/>
                </a:cubicBezTo>
                <a:cubicBezTo>
                  <a:pt x="3013" y="10933"/>
                  <a:pt x="2970" y="10892"/>
                  <a:pt x="2952" y="10864"/>
                </a:cubicBezTo>
                <a:cubicBezTo>
                  <a:pt x="2944" y="10848"/>
                  <a:pt x="2935" y="10831"/>
                  <a:pt x="2927" y="10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25760" y="3562200"/>
            <a:ext cx="223560" cy="474840"/>
          </a:xfrm>
          <a:custGeom>
            <a:avLst/>
            <a:gdLst/>
            <a:ahLst/>
            <a:rect l="l" t="t" r="r" b="b"/>
            <a:pathLst>
              <a:path w="622" h="1316">
                <a:moveTo>
                  <a:pt x="4911" y="10120"/>
                </a:moveTo>
                <a:cubicBezTo>
                  <a:pt x="4939" y="10084"/>
                  <a:pt x="4950" y="10078"/>
                  <a:pt x="4961" y="10046"/>
                </a:cubicBezTo>
                <a:cubicBezTo>
                  <a:pt x="4924" y="10055"/>
                  <a:pt x="4885" y="10084"/>
                  <a:pt x="4862" y="10120"/>
                </a:cubicBezTo>
                <a:cubicBezTo>
                  <a:pt x="4812" y="10198"/>
                  <a:pt x="4806" y="10236"/>
                  <a:pt x="4837" y="10319"/>
                </a:cubicBezTo>
                <a:cubicBezTo>
                  <a:pt x="4899" y="10281"/>
                  <a:pt x="4902" y="10227"/>
                  <a:pt x="4936" y="10170"/>
                </a:cubicBezTo>
                <a:cubicBezTo>
                  <a:pt x="4972" y="10110"/>
                  <a:pt x="5032" y="10158"/>
                  <a:pt x="5060" y="10195"/>
                </a:cubicBezTo>
                <a:cubicBezTo>
                  <a:pt x="5085" y="10244"/>
                  <a:pt x="5094" y="10261"/>
                  <a:pt x="5135" y="10269"/>
                </a:cubicBezTo>
              </a:path>
              <a:path w="622" h="1316">
                <a:moveTo>
                  <a:pt x="4936" y="11013"/>
                </a:moveTo>
                <a:cubicBezTo>
                  <a:pt x="4958" y="10991"/>
                  <a:pt x="4967" y="10986"/>
                  <a:pt x="4961" y="10964"/>
                </a:cubicBezTo>
                <a:cubicBezTo>
                  <a:pt x="4922" y="10973"/>
                  <a:pt x="4864" y="11001"/>
                  <a:pt x="4837" y="11038"/>
                </a:cubicBezTo>
                <a:cubicBezTo>
                  <a:pt x="4786" y="11109"/>
                  <a:pt x="4810" y="11179"/>
                  <a:pt x="4887" y="11212"/>
                </a:cubicBezTo>
                <a:cubicBezTo>
                  <a:pt x="4953" y="11240"/>
                  <a:pt x="5013" y="11200"/>
                  <a:pt x="5060" y="11162"/>
                </a:cubicBezTo>
              </a:path>
              <a:path w="622" h="1316">
                <a:moveTo>
                  <a:pt x="4614" y="9996"/>
                </a:moveTo>
                <a:cubicBezTo>
                  <a:pt x="4635" y="9959"/>
                  <a:pt x="4654" y="9934"/>
                  <a:pt x="4663" y="9897"/>
                </a:cubicBezTo>
                <a:cubicBezTo>
                  <a:pt x="4614" y="9996"/>
                  <a:pt x="4569" y="10088"/>
                  <a:pt x="4539" y="10195"/>
                </a:cubicBezTo>
                <a:cubicBezTo>
                  <a:pt x="4491" y="10368"/>
                  <a:pt x="4514" y="10568"/>
                  <a:pt x="4564" y="10740"/>
                </a:cubicBezTo>
                <a:cubicBezTo>
                  <a:pt x="4599" y="10862"/>
                  <a:pt x="4627" y="11023"/>
                  <a:pt x="4688" y="11137"/>
                </a:cubicBezTo>
                <a:cubicBezTo>
                  <a:pt x="4713" y="11162"/>
                  <a:pt x="4721" y="11170"/>
                  <a:pt x="4738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43080" y="3483000"/>
            <a:ext cx="563760" cy="490680"/>
          </a:xfrm>
          <a:custGeom>
            <a:avLst/>
            <a:gdLst/>
            <a:ahLst/>
            <a:rect l="l" t="t" r="r" b="b"/>
            <a:pathLst>
              <a:path w="1564" h="1365">
                <a:moveTo>
                  <a:pt x="6176" y="9748"/>
                </a:moveTo>
                <a:cubicBezTo>
                  <a:pt x="6168" y="9740"/>
                  <a:pt x="6160" y="9731"/>
                  <a:pt x="6152" y="9723"/>
                </a:cubicBezTo>
                <a:cubicBezTo>
                  <a:pt x="6152" y="9889"/>
                  <a:pt x="6152" y="10054"/>
                  <a:pt x="6152" y="10220"/>
                </a:cubicBezTo>
                <a:cubicBezTo>
                  <a:pt x="6177" y="10150"/>
                  <a:pt x="6177" y="10089"/>
                  <a:pt x="6251" y="10046"/>
                </a:cubicBezTo>
                <a:cubicBezTo>
                  <a:pt x="6276" y="10046"/>
                  <a:pt x="6284" y="10046"/>
                  <a:pt x="6300" y="10046"/>
                </a:cubicBezTo>
                <a:cubicBezTo>
                  <a:pt x="6315" y="10073"/>
                  <a:pt x="6385" y="10160"/>
                  <a:pt x="6350" y="10195"/>
                </a:cubicBezTo>
                <a:cubicBezTo>
                  <a:pt x="6299" y="10246"/>
                  <a:pt x="6242" y="10244"/>
                  <a:pt x="6176" y="10244"/>
                </a:cubicBezTo>
                <a:cubicBezTo>
                  <a:pt x="6160" y="10244"/>
                  <a:pt x="6143" y="10244"/>
                  <a:pt x="6127" y="10244"/>
                </a:cubicBezTo>
              </a:path>
              <a:path w="1564" h="1365">
                <a:moveTo>
                  <a:pt x="6028" y="10939"/>
                </a:moveTo>
                <a:cubicBezTo>
                  <a:pt x="6013" y="10895"/>
                  <a:pt x="5973" y="10921"/>
                  <a:pt x="5953" y="10964"/>
                </a:cubicBezTo>
                <a:cubicBezTo>
                  <a:pt x="5934" y="11005"/>
                  <a:pt x="5957" y="11024"/>
                  <a:pt x="5978" y="11038"/>
                </a:cubicBezTo>
                <a:cubicBezTo>
                  <a:pt x="6083" y="11008"/>
                  <a:pt x="6054" y="10943"/>
                  <a:pt x="6077" y="10840"/>
                </a:cubicBezTo>
                <a:cubicBezTo>
                  <a:pt x="6094" y="10765"/>
                  <a:pt x="6091" y="10676"/>
                  <a:pt x="6127" y="10616"/>
                </a:cubicBezTo>
                <a:cubicBezTo>
                  <a:pt x="6142" y="10690"/>
                  <a:pt x="6154" y="10765"/>
                  <a:pt x="6176" y="10840"/>
                </a:cubicBezTo>
                <a:cubicBezTo>
                  <a:pt x="6194" y="10902"/>
                  <a:pt x="6212" y="10940"/>
                  <a:pt x="6251" y="10988"/>
                </a:cubicBezTo>
              </a:path>
              <a:path w="1564" h="1365">
                <a:moveTo>
                  <a:pt x="6424" y="9674"/>
                </a:moveTo>
                <a:cubicBezTo>
                  <a:pt x="6474" y="9674"/>
                  <a:pt x="6506" y="9691"/>
                  <a:pt x="6548" y="9723"/>
                </a:cubicBezTo>
                <a:cubicBezTo>
                  <a:pt x="6621" y="9777"/>
                  <a:pt x="6652" y="9887"/>
                  <a:pt x="6672" y="9971"/>
                </a:cubicBezTo>
                <a:cubicBezTo>
                  <a:pt x="6710" y="10130"/>
                  <a:pt x="6704" y="10284"/>
                  <a:pt x="6672" y="10443"/>
                </a:cubicBezTo>
                <a:cubicBezTo>
                  <a:pt x="6645" y="10579"/>
                  <a:pt x="6600" y="10692"/>
                  <a:pt x="6548" y="10815"/>
                </a:cubicBezTo>
                <a:cubicBezTo>
                  <a:pt x="6540" y="10840"/>
                  <a:pt x="6532" y="10864"/>
                  <a:pt x="6524" y="10889"/>
                </a:cubicBezTo>
              </a:path>
              <a:path w="1564" h="1365">
                <a:moveTo>
                  <a:pt x="7193" y="9971"/>
                </a:moveTo>
                <a:cubicBezTo>
                  <a:pt x="7193" y="9947"/>
                  <a:pt x="7193" y="9938"/>
                  <a:pt x="7193" y="9922"/>
                </a:cubicBezTo>
                <a:cubicBezTo>
                  <a:pt x="7237" y="9937"/>
                  <a:pt x="7218" y="9993"/>
                  <a:pt x="7218" y="10046"/>
                </a:cubicBezTo>
                <a:cubicBezTo>
                  <a:pt x="7218" y="10173"/>
                  <a:pt x="7251" y="10272"/>
                  <a:pt x="7268" y="10393"/>
                </a:cubicBezTo>
                <a:cubicBezTo>
                  <a:pt x="7276" y="10450"/>
                  <a:pt x="7282" y="10489"/>
                  <a:pt x="7293" y="10542"/>
                </a:cubicBezTo>
              </a:path>
              <a:path w="1564" h="1365">
                <a:moveTo>
                  <a:pt x="7218" y="10120"/>
                </a:moveTo>
                <a:cubicBezTo>
                  <a:pt x="7218" y="10072"/>
                  <a:pt x="7223" y="10010"/>
                  <a:pt x="7243" y="9971"/>
                </a:cubicBezTo>
                <a:cubicBezTo>
                  <a:pt x="7276" y="9907"/>
                  <a:pt x="7259" y="9879"/>
                  <a:pt x="7342" y="9872"/>
                </a:cubicBezTo>
                <a:cubicBezTo>
                  <a:pt x="7401" y="9867"/>
                  <a:pt x="7415" y="9978"/>
                  <a:pt x="7417" y="10021"/>
                </a:cubicBezTo>
                <a:cubicBezTo>
                  <a:pt x="7422" y="10105"/>
                  <a:pt x="7430" y="10138"/>
                  <a:pt x="7342" y="10145"/>
                </a:cubicBezTo>
                <a:cubicBezTo>
                  <a:pt x="7334" y="10145"/>
                  <a:pt x="7325" y="10145"/>
                  <a:pt x="7317" y="10145"/>
                </a:cubicBezTo>
              </a:path>
              <a:path w="1564" h="1365">
                <a:moveTo>
                  <a:pt x="7342" y="11013"/>
                </a:moveTo>
                <a:cubicBezTo>
                  <a:pt x="7334" y="11013"/>
                  <a:pt x="7325" y="11013"/>
                  <a:pt x="7317" y="11013"/>
                </a:cubicBezTo>
                <a:cubicBezTo>
                  <a:pt x="7317" y="10978"/>
                  <a:pt x="7298" y="10877"/>
                  <a:pt x="7342" y="10864"/>
                </a:cubicBezTo>
                <a:cubicBezTo>
                  <a:pt x="7390" y="10849"/>
                  <a:pt x="7465" y="10864"/>
                  <a:pt x="7516" y="10864"/>
                </a:cubicBezTo>
              </a:path>
              <a:path w="1564" h="1365">
                <a:moveTo>
                  <a:pt x="6995" y="9723"/>
                </a:moveTo>
                <a:cubicBezTo>
                  <a:pt x="7023" y="9723"/>
                  <a:pt x="7034" y="9721"/>
                  <a:pt x="7045" y="9699"/>
                </a:cubicBezTo>
                <a:cubicBezTo>
                  <a:pt x="7045" y="9754"/>
                  <a:pt x="7040" y="9770"/>
                  <a:pt x="7020" y="9823"/>
                </a:cubicBezTo>
                <a:cubicBezTo>
                  <a:pt x="6977" y="9941"/>
                  <a:pt x="6932" y="10069"/>
                  <a:pt x="6921" y="10195"/>
                </a:cubicBezTo>
                <a:cubicBezTo>
                  <a:pt x="6907" y="10353"/>
                  <a:pt x="6959" y="10522"/>
                  <a:pt x="7020" y="10666"/>
                </a:cubicBezTo>
                <a:cubicBezTo>
                  <a:pt x="7054" y="10745"/>
                  <a:pt x="7125" y="10884"/>
                  <a:pt x="7193" y="10939"/>
                </a:cubicBezTo>
                <a:cubicBezTo>
                  <a:pt x="7201" y="10939"/>
                  <a:pt x="7210" y="10939"/>
                  <a:pt x="7218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84320" y="3554280"/>
            <a:ext cx="277920" cy="366840"/>
          </a:xfrm>
          <a:custGeom>
            <a:avLst/>
            <a:gdLst/>
            <a:ahLst/>
            <a:rect l="l" t="t" r="r" b="b"/>
            <a:pathLst>
              <a:path w="770" h="1018">
                <a:moveTo>
                  <a:pt x="8086" y="9947"/>
                </a:moveTo>
                <a:cubicBezTo>
                  <a:pt x="8114" y="9910"/>
                  <a:pt x="8125" y="9904"/>
                  <a:pt x="8136" y="9872"/>
                </a:cubicBezTo>
                <a:cubicBezTo>
                  <a:pt x="8092" y="9916"/>
                  <a:pt x="8029" y="9958"/>
                  <a:pt x="8012" y="10021"/>
                </a:cubicBezTo>
                <a:cubicBezTo>
                  <a:pt x="8012" y="10063"/>
                  <a:pt x="8012" y="10071"/>
                  <a:pt x="8012" y="10096"/>
                </a:cubicBezTo>
                <a:cubicBezTo>
                  <a:pt x="8058" y="10096"/>
                  <a:pt x="8084" y="10089"/>
                  <a:pt x="8111" y="10046"/>
                </a:cubicBezTo>
                <a:cubicBezTo>
                  <a:pt x="8146" y="9991"/>
                  <a:pt x="8118" y="9985"/>
                  <a:pt x="8161" y="9971"/>
                </a:cubicBezTo>
                <a:cubicBezTo>
                  <a:pt x="8185" y="9979"/>
                  <a:pt x="8207" y="10022"/>
                  <a:pt x="8210" y="10046"/>
                </a:cubicBezTo>
                <a:cubicBezTo>
                  <a:pt x="8221" y="10134"/>
                  <a:pt x="8199" y="10213"/>
                  <a:pt x="8186" y="10294"/>
                </a:cubicBezTo>
                <a:cubicBezTo>
                  <a:pt x="8181" y="10323"/>
                  <a:pt x="8186" y="10362"/>
                  <a:pt x="8186" y="10393"/>
                </a:cubicBezTo>
                <a:cubicBezTo>
                  <a:pt x="8230" y="10382"/>
                  <a:pt x="8265" y="10343"/>
                  <a:pt x="8310" y="10319"/>
                </a:cubicBezTo>
                <a:cubicBezTo>
                  <a:pt x="8365" y="10289"/>
                  <a:pt x="8410" y="10273"/>
                  <a:pt x="8458" y="10244"/>
                </a:cubicBezTo>
              </a:path>
              <a:path w="770" h="1018">
                <a:moveTo>
                  <a:pt x="8235" y="10691"/>
                </a:moveTo>
                <a:cubicBezTo>
                  <a:pt x="8255" y="10650"/>
                  <a:pt x="8264" y="10644"/>
                  <a:pt x="8260" y="10616"/>
                </a:cubicBezTo>
                <a:cubicBezTo>
                  <a:pt x="8212" y="10628"/>
                  <a:pt x="8204" y="10672"/>
                  <a:pt x="8161" y="10691"/>
                </a:cubicBezTo>
                <a:cubicBezTo>
                  <a:pt x="8136" y="10691"/>
                  <a:pt x="8128" y="10691"/>
                  <a:pt x="8136" y="10716"/>
                </a:cubicBezTo>
                <a:cubicBezTo>
                  <a:pt x="8175" y="10744"/>
                  <a:pt x="8223" y="10740"/>
                  <a:pt x="8260" y="10765"/>
                </a:cubicBezTo>
                <a:cubicBezTo>
                  <a:pt x="8283" y="10780"/>
                  <a:pt x="8301" y="10836"/>
                  <a:pt x="8285" y="10864"/>
                </a:cubicBezTo>
                <a:cubicBezTo>
                  <a:pt x="8262" y="10887"/>
                  <a:pt x="8258" y="10895"/>
                  <a:pt x="8235" y="10889"/>
                </a:cubicBezTo>
              </a:path>
              <a:path w="770" h="1018">
                <a:moveTo>
                  <a:pt x="8607" y="9872"/>
                </a:moveTo>
                <a:cubicBezTo>
                  <a:pt x="8648" y="9913"/>
                  <a:pt x="8678" y="9944"/>
                  <a:pt x="8706" y="9996"/>
                </a:cubicBezTo>
                <a:cubicBezTo>
                  <a:pt x="8763" y="10105"/>
                  <a:pt x="8778" y="10197"/>
                  <a:pt x="8781" y="10319"/>
                </a:cubicBezTo>
                <a:cubicBezTo>
                  <a:pt x="8784" y="10446"/>
                  <a:pt x="8784" y="10594"/>
                  <a:pt x="8756" y="10716"/>
                </a:cubicBezTo>
                <a:cubicBezTo>
                  <a:pt x="8739" y="10787"/>
                  <a:pt x="8706" y="10822"/>
                  <a:pt x="8657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402000" y="3687840"/>
            <a:ext cx="71280" cy="81000"/>
          </a:xfrm>
          <a:custGeom>
            <a:avLst/>
            <a:gdLst/>
            <a:ahLst/>
            <a:rect l="l" t="t" r="r" b="b"/>
            <a:pathLst>
              <a:path w="199" h="225">
                <a:moveTo>
                  <a:pt x="9525" y="10244"/>
                </a:moveTo>
                <a:cubicBezTo>
                  <a:pt x="9578" y="10244"/>
                  <a:pt x="9562" y="10256"/>
                  <a:pt x="9599" y="10269"/>
                </a:cubicBezTo>
                <a:cubicBezTo>
                  <a:pt x="9575" y="10275"/>
                  <a:pt x="9521" y="10282"/>
                  <a:pt x="9500" y="10294"/>
                </a:cubicBezTo>
                <a:cubicBezTo>
                  <a:pt x="9478" y="10316"/>
                  <a:pt x="9473" y="10325"/>
                  <a:pt x="9451" y="10319"/>
                </a:cubicBezTo>
              </a:path>
              <a:path w="199" h="225">
                <a:moveTo>
                  <a:pt x="9575" y="10418"/>
                </a:moveTo>
                <a:cubicBezTo>
                  <a:pt x="9600" y="10422"/>
                  <a:pt x="9675" y="10443"/>
                  <a:pt x="9624" y="10443"/>
                </a:cubicBezTo>
                <a:cubicBezTo>
                  <a:pt x="9580" y="10443"/>
                  <a:pt x="9585" y="10441"/>
                  <a:pt x="9550" y="10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643200" y="3456000"/>
            <a:ext cx="241560" cy="608040"/>
          </a:xfrm>
          <a:custGeom>
            <a:avLst/>
            <a:gdLst/>
            <a:ahLst/>
            <a:rect l="l" t="t" r="r" b="b"/>
            <a:pathLst>
              <a:path w="671" h="1688">
                <a:moveTo>
                  <a:pt x="10666" y="9847"/>
                </a:moveTo>
                <a:cubicBezTo>
                  <a:pt x="10637" y="9810"/>
                  <a:pt x="10641" y="9796"/>
                  <a:pt x="10641" y="9748"/>
                </a:cubicBezTo>
                <a:cubicBezTo>
                  <a:pt x="10641" y="9740"/>
                  <a:pt x="10641" y="9731"/>
                  <a:pt x="10641" y="9723"/>
                </a:cubicBezTo>
                <a:cubicBezTo>
                  <a:pt x="10591" y="9757"/>
                  <a:pt x="10632" y="9828"/>
                  <a:pt x="10616" y="9897"/>
                </a:cubicBezTo>
                <a:cubicBezTo>
                  <a:pt x="10603" y="9955"/>
                  <a:pt x="10592" y="9983"/>
                  <a:pt x="10592" y="10046"/>
                </a:cubicBezTo>
              </a:path>
              <a:path w="671" h="1688">
                <a:moveTo>
                  <a:pt x="10716" y="10468"/>
                </a:moveTo>
                <a:cubicBezTo>
                  <a:pt x="10678" y="10495"/>
                  <a:pt x="10664" y="10492"/>
                  <a:pt x="10616" y="10492"/>
                </a:cubicBezTo>
                <a:cubicBezTo>
                  <a:pt x="10616" y="10431"/>
                  <a:pt x="10603" y="10366"/>
                  <a:pt x="10641" y="10319"/>
                </a:cubicBezTo>
                <a:cubicBezTo>
                  <a:pt x="10671" y="10281"/>
                  <a:pt x="10736" y="10278"/>
                  <a:pt x="10765" y="10319"/>
                </a:cubicBezTo>
                <a:cubicBezTo>
                  <a:pt x="10797" y="10364"/>
                  <a:pt x="10805" y="10463"/>
                  <a:pt x="10790" y="10517"/>
                </a:cubicBezTo>
                <a:cubicBezTo>
                  <a:pt x="10776" y="10567"/>
                  <a:pt x="10755" y="10624"/>
                  <a:pt x="10691" y="10592"/>
                </a:cubicBezTo>
                <a:cubicBezTo>
                  <a:pt x="10657" y="10575"/>
                  <a:pt x="10648" y="10500"/>
                  <a:pt x="10641" y="10468"/>
                </a:cubicBezTo>
              </a:path>
              <a:path w="671" h="1688">
                <a:moveTo>
                  <a:pt x="10319" y="9649"/>
                </a:moveTo>
                <a:cubicBezTo>
                  <a:pt x="10350" y="9628"/>
                  <a:pt x="10347" y="9631"/>
                  <a:pt x="10368" y="9599"/>
                </a:cubicBezTo>
                <a:cubicBezTo>
                  <a:pt x="10336" y="9632"/>
                  <a:pt x="10329" y="9661"/>
                  <a:pt x="10294" y="9723"/>
                </a:cubicBezTo>
                <a:cubicBezTo>
                  <a:pt x="10215" y="9864"/>
                  <a:pt x="10195" y="10009"/>
                  <a:pt x="10170" y="10170"/>
                </a:cubicBezTo>
                <a:cubicBezTo>
                  <a:pt x="10133" y="10405"/>
                  <a:pt x="10120" y="10627"/>
                  <a:pt x="10120" y="10864"/>
                </a:cubicBezTo>
                <a:cubicBezTo>
                  <a:pt x="10120" y="11005"/>
                  <a:pt x="10160" y="11126"/>
                  <a:pt x="10170" y="11261"/>
                </a:cubicBezTo>
                <a:cubicBezTo>
                  <a:pt x="10170" y="11269"/>
                  <a:pt x="10170" y="11278"/>
                  <a:pt x="10170" y="11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90960" y="3483000"/>
            <a:ext cx="196920" cy="339840"/>
          </a:xfrm>
          <a:custGeom>
            <a:avLst/>
            <a:gdLst/>
            <a:ahLst/>
            <a:rect l="l" t="t" r="r" b="b"/>
            <a:pathLst>
              <a:path w="546" h="943">
                <a:moveTo>
                  <a:pt x="11162" y="10170"/>
                </a:moveTo>
                <a:cubicBezTo>
                  <a:pt x="11139" y="10193"/>
                  <a:pt x="11135" y="10201"/>
                  <a:pt x="11112" y="10195"/>
                </a:cubicBezTo>
                <a:cubicBezTo>
                  <a:pt x="11112" y="10149"/>
                  <a:pt x="11110" y="10126"/>
                  <a:pt x="11162" y="10120"/>
                </a:cubicBezTo>
                <a:cubicBezTo>
                  <a:pt x="11225" y="10113"/>
                  <a:pt x="11253" y="10225"/>
                  <a:pt x="11261" y="10269"/>
                </a:cubicBezTo>
                <a:cubicBezTo>
                  <a:pt x="11276" y="10349"/>
                  <a:pt x="11260" y="10408"/>
                  <a:pt x="11212" y="10468"/>
                </a:cubicBezTo>
                <a:cubicBezTo>
                  <a:pt x="11161" y="10455"/>
                  <a:pt x="11101" y="10403"/>
                  <a:pt x="11088" y="10344"/>
                </a:cubicBezTo>
                <a:cubicBezTo>
                  <a:pt x="11088" y="10269"/>
                  <a:pt x="11088" y="10245"/>
                  <a:pt x="11088" y="10195"/>
                </a:cubicBezTo>
              </a:path>
              <a:path w="546" h="943">
                <a:moveTo>
                  <a:pt x="11137" y="10220"/>
                </a:moveTo>
                <a:cubicBezTo>
                  <a:pt x="11137" y="10288"/>
                  <a:pt x="11133" y="10176"/>
                  <a:pt x="11137" y="10170"/>
                </a:cubicBezTo>
                <a:cubicBezTo>
                  <a:pt x="11187" y="10080"/>
                  <a:pt x="11187" y="10251"/>
                  <a:pt x="11187" y="10269"/>
                </a:cubicBezTo>
                <a:cubicBezTo>
                  <a:pt x="11187" y="10351"/>
                  <a:pt x="11168" y="10415"/>
                  <a:pt x="11162" y="10492"/>
                </a:cubicBezTo>
                <a:cubicBezTo>
                  <a:pt x="11162" y="10500"/>
                  <a:pt x="11162" y="10509"/>
                  <a:pt x="11162" y="10517"/>
                </a:cubicBezTo>
                <a:cubicBezTo>
                  <a:pt x="11162" y="10407"/>
                  <a:pt x="11148" y="10296"/>
                  <a:pt x="11187" y="10195"/>
                </a:cubicBezTo>
                <a:cubicBezTo>
                  <a:pt x="11187" y="10127"/>
                  <a:pt x="11187" y="10302"/>
                  <a:pt x="11187" y="10319"/>
                </a:cubicBezTo>
                <a:cubicBezTo>
                  <a:pt x="11187" y="10341"/>
                  <a:pt x="11187" y="10501"/>
                  <a:pt x="11187" y="10443"/>
                </a:cubicBezTo>
                <a:cubicBezTo>
                  <a:pt x="11187" y="10372"/>
                  <a:pt x="11165" y="10314"/>
                  <a:pt x="11162" y="10244"/>
                </a:cubicBezTo>
                <a:cubicBezTo>
                  <a:pt x="11160" y="10203"/>
                  <a:pt x="11162" y="10161"/>
                  <a:pt x="11162" y="10120"/>
                </a:cubicBezTo>
                <a:cubicBezTo>
                  <a:pt x="11198" y="10144"/>
                  <a:pt x="11187" y="10187"/>
                  <a:pt x="11187" y="10244"/>
                </a:cubicBezTo>
                <a:cubicBezTo>
                  <a:pt x="11187" y="10294"/>
                  <a:pt x="11187" y="10343"/>
                  <a:pt x="11187" y="10393"/>
                </a:cubicBezTo>
                <a:cubicBezTo>
                  <a:pt x="11152" y="10346"/>
                  <a:pt x="11162" y="10306"/>
                  <a:pt x="11162" y="10244"/>
                </a:cubicBezTo>
                <a:cubicBezTo>
                  <a:pt x="11162" y="10221"/>
                  <a:pt x="11181" y="10116"/>
                  <a:pt x="11187" y="10195"/>
                </a:cubicBezTo>
                <a:cubicBezTo>
                  <a:pt x="11193" y="10277"/>
                  <a:pt x="11187" y="10361"/>
                  <a:pt x="11187" y="10443"/>
                </a:cubicBezTo>
              </a:path>
              <a:path w="546" h="943">
                <a:moveTo>
                  <a:pt x="11162" y="9872"/>
                </a:moveTo>
                <a:cubicBezTo>
                  <a:pt x="11120" y="9817"/>
                  <a:pt x="11144" y="9827"/>
                  <a:pt x="11162" y="9773"/>
                </a:cubicBezTo>
                <a:cubicBezTo>
                  <a:pt x="11174" y="9736"/>
                  <a:pt x="11196" y="9712"/>
                  <a:pt x="11237" y="9699"/>
                </a:cubicBezTo>
                <a:cubicBezTo>
                  <a:pt x="11295" y="9680"/>
                  <a:pt x="11314" y="9732"/>
                  <a:pt x="11336" y="9773"/>
                </a:cubicBezTo>
                <a:cubicBezTo>
                  <a:pt x="11379" y="9854"/>
                  <a:pt x="11362" y="9923"/>
                  <a:pt x="11311" y="9996"/>
                </a:cubicBezTo>
                <a:cubicBezTo>
                  <a:pt x="11264" y="10063"/>
                  <a:pt x="11218" y="10005"/>
                  <a:pt x="11187" y="9971"/>
                </a:cubicBezTo>
                <a:cubicBezTo>
                  <a:pt x="11158" y="9943"/>
                  <a:pt x="11150" y="9930"/>
                  <a:pt x="11162" y="9897"/>
                </a:cubicBezTo>
              </a:path>
              <a:path w="546" h="943">
                <a:moveTo>
                  <a:pt x="11485" y="9674"/>
                </a:moveTo>
                <a:cubicBezTo>
                  <a:pt x="11531" y="9674"/>
                  <a:pt x="11548" y="9668"/>
                  <a:pt x="11584" y="9699"/>
                </a:cubicBezTo>
                <a:cubicBezTo>
                  <a:pt x="11630" y="9739"/>
                  <a:pt x="11631" y="9813"/>
                  <a:pt x="11633" y="9872"/>
                </a:cubicBezTo>
                <a:cubicBezTo>
                  <a:pt x="11638" y="10034"/>
                  <a:pt x="11597" y="10196"/>
                  <a:pt x="11534" y="10344"/>
                </a:cubicBezTo>
                <a:cubicBezTo>
                  <a:pt x="11495" y="10435"/>
                  <a:pt x="11444" y="10516"/>
                  <a:pt x="11385" y="10592"/>
                </a:cubicBezTo>
                <a:cubicBezTo>
                  <a:pt x="11377" y="10600"/>
                  <a:pt x="11369" y="10608"/>
                  <a:pt x="11361" y="106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5000" y="4473720"/>
            <a:ext cx="206280" cy="447480"/>
          </a:xfrm>
          <a:custGeom>
            <a:avLst/>
            <a:gdLst/>
            <a:ahLst/>
            <a:rect l="l" t="t" r="r" b="b"/>
            <a:pathLst>
              <a:path w="572" h="1241">
                <a:moveTo>
                  <a:pt x="3225" y="12675"/>
                </a:moveTo>
                <a:cubicBezTo>
                  <a:pt x="3215" y="12636"/>
                  <a:pt x="3200" y="12621"/>
                  <a:pt x="3200" y="12576"/>
                </a:cubicBezTo>
                <a:cubicBezTo>
                  <a:pt x="3200" y="12641"/>
                  <a:pt x="3217" y="12687"/>
                  <a:pt x="3225" y="12750"/>
                </a:cubicBezTo>
              </a:path>
              <a:path w="572" h="1241">
                <a:moveTo>
                  <a:pt x="3175" y="13320"/>
                </a:moveTo>
                <a:cubicBezTo>
                  <a:pt x="3175" y="13312"/>
                  <a:pt x="3175" y="13303"/>
                  <a:pt x="3175" y="13295"/>
                </a:cubicBezTo>
                <a:cubicBezTo>
                  <a:pt x="3137" y="13308"/>
                  <a:pt x="3150" y="13325"/>
                  <a:pt x="3150" y="13370"/>
                </a:cubicBezTo>
                <a:cubicBezTo>
                  <a:pt x="3150" y="13414"/>
                  <a:pt x="3147" y="13428"/>
                  <a:pt x="3175" y="13444"/>
                </a:cubicBezTo>
              </a:path>
              <a:path w="572" h="1241">
                <a:moveTo>
                  <a:pt x="3274" y="13345"/>
                </a:moveTo>
                <a:cubicBezTo>
                  <a:pt x="3293" y="13288"/>
                  <a:pt x="3284" y="13263"/>
                  <a:pt x="3324" y="13271"/>
                </a:cubicBezTo>
                <a:cubicBezTo>
                  <a:pt x="3356" y="13313"/>
                  <a:pt x="3347" y="13349"/>
                  <a:pt x="3373" y="13395"/>
                </a:cubicBezTo>
              </a:path>
              <a:path w="572" h="1241">
                <a:moveTo>
                  <a:pt x="3101" y="13593"/>
                </a:moveTo>
                <a:cubicBezTo>
                  <a:pt x="3148" y="13609"/>
                  <a:pt x="3119" y="13638"/>
                  <a:pt x="3076" y="13643"/>
                </a:cubicBezTo>
                <a:cubicBezTo>
                  <a:pt x="3023" y="13649"/>
                  <a:pt x="3026" y="13687"/>
                  <a:pt x="2977" y="13643"/>
                </a:cubicBezTo>
                <a:cubicBezTo>
                  <a:pt x="2938" y="13609"/>
                  <a:pt x="2894" y="13569"/>
                  <a:pt x="2877" y="13519"/>
                </a:cubicBezTo>
                <a:cubicBezTo>
                  <a:pt x="2855" y="13453"/>
                  <a:pt x="2876" y="13329"/>
                  <a:pt x="2902" y="13271"/>
                </a:cubicBezTo>
                <a:cubicBezTo>
                  <a:pt x="2947" y="13171"/>
                  <a:pt x="2970" y="13139"/>
                  <a:pt x="3051" y="13072"/>
                </a:cubicBezTo>
                <a:cubicBezTo>
                  <a:pt x="3112" y="13021"/>
                  <a:pt x="3166" y="13001"/>
                  <a:pt x="3249" y="12998"/>
                </a:cubicBezTo>
                <a:cubicBezTo>
                  <a:pt x="3356" y="12993"/>
                  <a:pt x="3385" y="13026"/>
                  <a:pt x="3423" y="13122"/>
                </a:cubicBezTo>
                <a:cubicBezTo>
                  <a:pt x="3464" y="13225"/>
                  <a:pt x="3459" y="13340"/>
                  <a:pt x="3423" y="13444"/>
                </a:cubicBezTo>
                <a:cubicBezTo>
                  <a:pt x="3395" y="13523"/>
                  <a:pt x="3342" y="13577"/>
                  <a:pt x="3274" y="13618"/>
                </a:cubicBezTo>
                <a:cubicBezTo>
                  <a:pt x="3258" y="13626"/>
                  <a:pt x="3241" y="13635"/>
                  <a:pt x="3225" y="13643"/>
                </a:cubicBezTo>
              </a:path>
              <a:path w="572" h="1241">
                <a:moveTo>
                  <a:pt x="3175" y="12799"/>
                </a:moveTo>
                <a:cubicBezTo>
                  <a:pt x="3194" y="12855"/>
                  <a:pt x="3194" y="12810"/>
                  <a:pt x="3175" y="12849"/>
                </a:cubicBezTo>
                <a:cubicBezTo>
                  <a:pt x="3149" y="12902"/>
                  <a:pt x="3144" y="12898"/>
                  <a:pt x="3076" y="12898"/>
                </a:cubicBezTo>
                <a:cubicBezTo>
                  <a:pt x="3028" y="12898"/>
                  <a:pt x="2983" y="12893"/>
                  <a:pt x="2952" y="12849"/>
                </a:cubicBezTo>
                <a:cubicBezTo>
                  <a:pt x="2919" y="12803"/>
                  <a:pt x="2905" y="12729"/>
                  <a:pt x="2902" y="12675"/>
                </a:cubicBezTo>
                <a:cubicBezTo>
                  <a:pt x="2898" y="12605"/>
                  <a:pt x="2954" y="12552"/>
                  <a:pt x="3001" y="12502"/>
                </a:cubicBezTo>
                <a:cubicBezTo>
                  <a:pt x="3057" y="12442"/>
                  <a:pt x="3115" y="12408"/>
                  <a:pt x="3200" y="12427"/>
                </a:cubicBezTo>
                <a:cubicBezTo>
                  <a:pt x="3303" y="12450"/>
                  <a:pt x="3354" y="12526"/>
                  <a:pt x="3373" y="12626"/>
                </a:cubicBezTo>
                <a:cubicBezTo>
                  <a:pt x="3390" y="12715"/>
                  <a:pt x="3330" y="12790"/>
                  <a:pt x="3274" y="12849"/>
                </a:cubicBezTo>
                <a:cubicBezTo>
                  <a:pt x="3258" y="12865"/>
                  <a:pt x="3241" y="12882"/>
                  <a:pt x="3225" y="12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724040" y="4483080"/>
            <a:ext cx="222120" cy="231840"/>
          </a:xfrm>
          <a:custGeom>
            <a:avLst/>
            <a:gdLst/>
            <a:ahLst/>
            <a:rect l="l" t="t" r="r" b="b"/>
            <a:pathLst>
              <a:path w="621" h="646">
                <a:moveTo>
                  <a:pt x="4911" y="12551"/>
                </a:moveTo>
                <a:cubicBezTo>
                  <a:pt x="4940" y="12513"/>
                  <a:pt x="4936" y="12500"/>
                  <a:pt x="4936" y="12452"/>
                </a:cubicBezTo>
                <a:cubicBezTo>
                  <a:pt x="4875" y="12467"/>
                  <a:pt x="4843" y="12520"/>
                  <a:pt x="4812" y="12576"/>
                </a:cubicBezTo>
                <a:cubicBezTo>
                  <a:pt x="4791" y="12614"/>
                  <a:pt x="4750" y="12751"/>
                  <a:pt x="4812" y="12774"/>
                </a:cubicBezTo>
                <a:cubicBezTo>
                  <a:pt x="4880" y="12800"/>
                  <a:pt x="4925" y="12700"/>
                  <a:pt x="4936" y="12650"/>
                </a:cubicBezTo>
                <a:cubicBezTo>
                  <a:pt x="4936" y="12609"/>
                  <a:pt x="4928" y="12593"/>
                  <a:pt x="4961" y="12601"/>
                </a:cubicBezTo>
                <a:cubicBezTo>
                  <a:pt x="5022" y="12616"/>
                  <a:pt x="5032" y="12669"/>
                  <a:pt x="5060" y="12725"/>
                </a:cubicBezTo>
                <a:cubicBezTo>
                  <a:pt x="5080" y="12765"/>
                  <a:pt x="5089" y="12771"/>
                  <a:pt x="5085" y="12799"/>
                </a:cubicBezTo>
              </a:path>
              <a:path w="621" h="646">
                <a:moveTo>
                  <a:pt x="5159" y="12675"/>
                </a:moveTo>
                <a:cubicBezTo>
                  <a:pt x="5179" y="12615"/>
                  <a:pt x="5178" y="12600"/>
                  <a:pt x="5209" y="12576"/>
                </a:cubicBezTo>
                <a:cubicBezTo>
                  <a:pt x="5224" y="12648"/>
                  <a:pt x="5252" y="12722"/>
                  <a:pt x="5259" y="12799"/>
                </a:cubicBezTo>
                <a:cubicBezTo>
                  <a:pt x="5268" y="12904"/>
                  <a:pt x="5275" y="12999"/>
                  <a:pt x="5308" y="13097"/>
                </a:cubicBezTo>
              </a:path>
              <a:path w="621" h="646">
                <a:moveTo>
                  <a:pt x="5283" y="12700"/>
                </a:moveTo>
                <a:cubicBezTo>
                  <a:pt x="5249" y="12618"/>
                  <a:pt x="5263" y="12632"/>
                  <a:pt x="5283" y="12551"/>
                </a:cubicBezTo>
                <a:cubicBezTo>
                  <a:pt x="5291" y="12517"/>
                  <a:pt x="5303" y="12446"/>
                  <a:pt x="5358" y="12477"/>
                </a:cubicBezTo>
                <a:cubicBezTo>
                  <a:pt x="5414" y="12508"/>
                  <a:pt x="5423" y="12622"/>
                  <a:pt x="5407" y="12675"/>
                </a:cubicBezTo>
                <a:cubicBezTo>
                  <a:pt x="5387" y="12742"/>
                  <a:pt x="5345" y="12750"/>
                  <a:pt x="5283" y="12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08160" y="4340160"/>
            <a:ext cx="741240" cy="214200"/>
          </a:xfrm>
          <a:custGeom>
            <a:avLst/>
            <a:gdLst/>
            <a:ahLst/>
            <a:rect l="l" t="t" r="r" b="b"/>
            <a:pathLst>
              <a:path w="2060" h="596">
                <a:moveTo>
                  <a:pt x="6003" y="12502"/>
                </a:moveTo>
                <a:cubicBezTo>
                  <a:pt x="6052" y="12480"/>
                  <a:pt x="6054" y="12477"/>
                  <a:pt x="6102" y="12477"/>
                </a:cubicBezTo>
                <a:cubicBezTo>
                  <a:pt x="6062" y="12501"/>
                  <a:pt x="6003" y="12514"/>
                  <a:pt x="5953" y="12526"/>
                </a:cubicBezTo>
                <a:cubicBezTo>
                  <a:pt x="5923" y="12533"/>
                  <a:pt x="5885" y="12526"/>
                  <a:pt x="5854" y="12526"/>
                </a:cubicBezTo>
              </a:path>
              <a:path w="2060" h="596">
                <a:moveTo>
                  <a:pt x="5928" y="12402"/>
                </a:moveTo>
                <a:cubicBezTo>
                  <a:pt x="5928" y="12346"/>
                  <a:pt x="5952" y="12502"/>
                  <a:pt x="5953" y="12526"/>
                </a:cubicBezTo>
                <a:cubicBezTo>
                  <a:pt x="5953" y="12543"/>
                  <a:pt x="5953" y="12559"/>
                  <a:pt x="5953" y="12576"/>
                </a:cubicBezTo>
              </a:path>
              <a:path w="2060" h="596">
                <a:moveTo>
                  <a:pt x="6449" y="12303"/>
                </a:moveTo>
                <a:cubicBezTo>
                  <a:pt x="6449" y="12225"/>
                  <a:pt x="6436" y="12143"/>
                  <a:pt x="6474" y="12080"/>
                </a:cubicBezTo>
                <a:cubicBezTo>
                  <a:pt x="6474" y="12006"/>
                  <a:pt x="6474" y="12204"/>
                  <a:pt x="6474" y="12204"/>
                </a:cubicBezTo>
                <a:cubicBezTo>
                  <a:pt x="6490" y="12317"/>
                  <a:pt x="6499" y="12412"/>
                  <a:pt x="6499" y="12526"/>
                </a:cubicBezTo>
                <a:cubicBezTo>
                  <a:pt x="6499" y="12534"/>
                  <a:pt x="6499" y="12543"/>
                  <a:pt x="6499" y="12551"/>
                </a:cubicBezTo>
                <a:cubicBezTo>
                  <a:pt x="6532" y="12507"/>
                  <a:pt x="6533" y="12474"/>
                  <a:pt x="6598" y="12452"/>
                </a:cubicBezTo>
                <a:cubicBezTo>
                  <a:pt x="6662" y="12431"/>
                  <a:pt x="6691" y="12473"/>
                  <a:pt x="6697" y="12526"/>
                </a:cubicBezTo>
                <a:cubicBezTo>
                  <a:pt x="6705" y="12594"/>
                  <a:pt x="6693" y="12627"/>
                  <a:pt x="6623" y="12650"/>
                </a:cubicBezTo>
                <a:cubicBezTo>
                  <a:pt x="6582" y="12663"/>
                  <a:pt x="6551" y="12623"/>
                  <a:pt x="6524" y="12601"/>
                </a:cubicBezTo>
              </a:path>
              <a:path w="2060" h="596">
                <a:moveTo>
                  <a:pt x="6896" y="12551"/>
                </a:moveTo>
                <a:cubicBezTo>
                  <a:pt x="6904" y="12559"/>
                  <a:pt x="6913" y="12568"/>
                  <a:pt x="6921" y="12576"/>
                </a:cubicBezTo>
                <a:cubicBezTo>
                  <a:pt x="6921" y="12482"/>
                  <a:pt x="6902" y="12433"/>
                  <a:pt x="6970" y="12378"/>
                </a:cubicBezTo>
                <a:cubicBezTo>
                  <a:pt x="7016" y="12341"/>
                  <a:pt x="7061" y="12353"/>
                  <a:pt x="7119" y="12353"/>
                </a:cubicBezTo>
              </a:path>
              <a:path w="2060" h="596">
                <a:moveTo>
                  <a:pt x="7466" y="12328"/>
                </a:moveTo>
                <a:cubicBezTo>
                  <a:pt x="7508" y="12328"/>
                  <a:pt x="7516" y="12328"/>
                  <a:pt x="7541" y="12328"/>
                </a:cubicBezTo>
                <a:cubicBezTo>
                  <a:pt x="7491" y="12298"/>
                  <a:pt x="7454" y="12303"/>
                  <a:pt x="7392" y="12303"/>
                </a:cubicBezTo>
                <a:cubicBezTo>
                  <a:pt x="7367" y="12303"/>
                  <a:pt x="7359" y="12303"/>
                  <a:pt x="7342" y="12303"/>
                </a:cubicBezTo>
              </a:path>
              <a:path w="2060" h="596">
                <a:moveTo>
                  <a:pt x="7541" y="12452"/>
                </a:moveTo>
                <a:cubicBezTo>
                  <a:pt x="7565" y="12452"/>
                  <a:pt x="7574" y="12452"/>
                  <a:pt x="7590" y="12452"/>
                </a:cubicBezTo>
                <a:cubicBezTo>
                  <a:pt x="7551" y="12442"/>
                  <a:pt x="7515" y="12411"/>
                  <a:pt x="7466" y="12427"/>
                </a:cubicBezTo>
                <a:cubicBezTo>
                  <a:pt x="7426" y="12447"/>
                  <a:pt x="7420" y="12456"/>
                  <a:pt x="7392" y="12452"/>
                </a:cubicBezTo>
              </a:path>
              <a:path w="2060" h="596">
                <a:moveTo>
                  <a:pt x="7838" y="12204"/>
                </a:moveTo>
                <a:cubicBezTo>
                  <a:pt x="7838" y="12179"/>
                  <a:pt x="7838" y="12154"/>
                  <a:pt x="7838" y="12129"/>
                </a:cubicBezTo>
                <a:cubicBezTo>
                  <a:pt x="7915" y="12168"/>
                  <a:pt x="7873" y="12224"/>
                  <a:pt x="7888" y="12303"/>
                </a:cubicBezTo>
                <a:cubicBezTo>
                  <a:pt x="7902" y="12375"/>
                  <a:pt x="7913" y="12427"/>
                  <a:pt x="7913" y="125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16160" y="4303800"/>
            <a:ext cx="563760" cy="144360"/>
          </a:xfrm>
          <a:custGeom>
            <a:avLst/>
            <a:gdLst/>
            <a:ahLst/>
            <a:rect l="l" t="t" r="r" b="b"/>
            <a:pathLst>
              <a:path w="1564" h="398">
                <a:moveTo>
                  <a:pt x="8682" y="12353"/>
                </a:moveTo>
                <a:cubicBezTo>
                  <a:pt x="8700" y="12317"/>
                  <a:pt x="8701" y="12330"/>
                  <a:pt x="8731" y="12303"/>
                </a:cubicBezTo>
                <a:cubicBezTo>
                  <a:pt x="8757" y="12279"/>
                  <a:pt x="8785" y="12287"/>
                  <a:pt x="8830" y="12254"/>
                </a:cubicBezTo>
                <a:cubicBezTo>
                  <a:pt x="8866" y="12227"/>
                  <a:pt x="8955" y="12190"/>
                  <a:pt x="9004" y="12179"/>
                </a:cubicBezTo>
                <a:cubicBezTo>
                  <a:pt x="9067" y="12165"/>
                  <a:pt x="9141" y="12171"/>
                  <a:pt x="9203" y="12154"/>
                </a:cubicBezTo>
                <a:cubicBezTo>
                  <a:pt x="9269" y="12136"/>
                  <a:pt x="9336" y="12146"/>
                  <a:pt x="9401" y="12129"/>
                </a:cubicBezTo>
                <a:cubicBezTo>
                  <a:pt x="9489" y="12106"/>
                  <a:pt x="9584" y="12085"/>
                  <a:pt x="9674" y="12080"/>
                </a:cubicBezTo>
                <a:cubicBezTo>
                  <a:pt x="9794" y="12073"/>
                  <a:pt x="9914" y="12076"/>
                  <a:pt x="10021" y="12055"/>
                </a:cubicBezTo>
                <a:cubicBezTo>
                  <a:pt x="10075" y="12044"/>
                  <a:pt x="10155" y="12048"/>
                  <a:pt x="10195" y="12080"/>
                </a:cubicBezTo>
                <a:cubicBezTo>
                  <a:pt x="10216" y="12097"/>
                  <a:pt x="10231" y="12106"/>
                  <a:pt x="10220" y="12154"/>
                </a:cubicBezTo>
                <a:cubicBezTo>
                  <a:pt x="10212" y="12188"/>
                  <a:pt x="10161" y="12276"/>
                  <a:pt x="10145" y="12303"/>
                </a:cubicBezTo>
                <a:cubicBezTo>
                  <a:pt x="10129" y="12330"/>
                  <a:pt x="10095" y="12333"/>
                  <a:pt x="10071" y="12353"/>
                </a:cubicBezTo>
                <a:cubicBezTo>
                  <a:pt x="10078" y="12294"/>
                  <a:pt x="10098" y="12261"/>
                  <a:pt x="10120" y="12204"/>
                </a:cubicBezTo>
                <a:cubicBezTo>
                  <a:pt x="10135" y="12164"/>
                  <a:pt x="10188" y="12121"/>
                  <a:pt x="10195" y="12105"/>
                </a:cubicBezTo>
                <a:cubicBezTo>
                  <a:pt x="10213" y="12066"/>
                  <a:pt x="10174" y="12024"/>
                  <a:pt x="10145" y="12005"/>
                </a:cubicBezTo>
                <a:cubicBezTo>
                  <a:pt x="10093" y="11972"/>
                  <a:pt x="10053" y="11963"/>
                  <a:pt x="9996" y="119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62240" y="4268880"/>
            <a:ext cx="385920" cy="268200"/>
          </a:xfrm>
          <a:custGeom>
            <a:avLst/>
            <a:gdLst/>
            <a:ahLst/>
            <a:rect l="l" t="t" r="r" b="b"/>
            <a:pathLst>
              <a:path w="1068" h="745">
                <a:moveTo>
                  <a:pt x="11286" y="12254"/>
                </a:moveTo>
                <a:cubicBezTo>
                  <a:pt x="11330" y="12225"/>
                  <a:pt x="11355" y="12210"/>
                  <a:pt x="11361" y="12154"/>
                </a:cubicBezTo>
                <a:cubicBezTo>
                  <a:pt x="11361" y="12129"/>
                  <a:pt x="11361" y="12121"/>
                  <a:pt x="11361" y="12105"/>
                </a:cubicBezTo>
                <a:cubicBezTo>
                  <a:pt x="11310" y="12154"/>
                  <a:pt x="11292" y="12182"/>
                  <a:pt x="11286" y="12254"/>
                </a:cubicBezTo>
                <a:cubicBezTo>
                  <a:pt x="11282" y="12302"/>
                  <a:pt x="11282" y="12309"/>
                  <a:pt x="11311" y="12328"/>
                </a:cubicBezTo>
                <a:cubicBezTo>
                  <a:pt x="11356" y="12305"/>
                  <a:pt x="11359" y="12267"/>
                  <a:pt x="11385" y="12229"/>
                </a:cubicBezTo>
                <a:cubicBezTo>
                  <a:pt x="11393" y="12221"/>
                  <a:pt x="11402" y="12212"/>
                  <a:pt x="11410" y="12204"/>
                </a:cubicBezTo>
                <a:cubicBezTo>
                  <a:pt x="11443" y="12237"/>
                  <a:pt x="11476" y="12270"/>
                  <a:pt x="11509" y="12303"/>
                </a:cubicBezTo>
              </a:path>
              <a:path w="1068" h="745">
                <a:moveTo>
                  <a:pt x="11757" y="12154"/>
                </a:moveTo>
                <a:cubicBezTo>
                  <a:pt x="11765" y="12138"/>
                  <a:pt x="11774" y="12121"/>
                  <a:pt x="11782" y="12105"/>
                </a:cubicBezTo>
                <a:cubicBezTo>
                  <a:pt x="11732" y="12105"/>
                  <a:pt x="11733" y="12110"/>
                  <a:pt x="11708" y="12154"/>
                </a:cubicBezTo>
                <a:cubicBezTo>
                  <a:pt x="11674" y="12214"/>
                  <a:pt x="11677" y="12227"/>
                  <a:pt x="11708" y="12278"/>
                </a:cubicBezTo>
                <a:cubicBezTo>
                  <a:pt x="11790" y="12278"/>
                  <a:pt x="11779" y="12230"/>
                  <a:pt x="11782" y="12154"/>
                </a:cubicBezTo>
                <a:cubicBezTo>
                  <a:pt x="11786" y="12054"/>
                  <a:pt x="11778" y="11972"/>
                  <a:pt x="11757" y="11881"/>
                </a:cubicBezTo>
                <a:cubicBezTo>
                  <a:pt x="11757" y="11873"/>
                  <a:pt x="11757" y="11865"/>
                  <a:pt x="11757" y="11857"/>
                </a:cubicBezTo>
                <a:cubicBezTo>
                  <a:pt x="11800" y="11909"/>
                  <a:pt x="11827" y="11969"/>
                  <a:pt x="11857" y="12030"/>
                </a:cubicBezTo>
                <a:cubicBezTo>
                  <a:pt x="11883" y="12082"/>
                  <a:pt x="11935" y="12131"/>
                  <a:pt x="11956" y="12179"/>
                </a:cubicBezTo>
                <a:cubicBezTo>
                  <a:pt x="11956" y="12187"/>
                  <a:pt x="11956" y="12196"/>
                  <a:pt x="11956" y="12204"/>
                </a:cubicBezTo>
              </a:path>
              <a:path w="1068" h="745">
                <a:moveTo>
                  <a:pt x="12105" y="12154"/>
                </a:moveTo>
                <a:cubicBezTo>
                  <a:pt x="12105" y="12113"/>
                  <a:pt x="12105" y="12105"/>
                  <a:pt x="12105" y="12080"/>
                </a:cubicBezTo>
                <a:cubicBezTo>
                  <a:pt x="12138" y="12137"/>
                  <a:pt x="12133" y="12209"/>
                  <a:pt x="12154" y="12278"/>
                </a:cubicBezTo>
                <a:cubicBezTo>
                  <a:pt x="12183" y="12372"/>
                  <a:pt x="12200" y="12458"/>
                  <a:pt x="12229" y="12551"/>
                </a:cubicBezTo>
                <a:cubicBezTo>
                  <a:pt x="12229" y="12576"/>
                  <a:pt x="12229" y="12584"/>
                  <a:pt x="12229" y="12601"/>
                </a:cubicBezTo>
              </a:path>
              <a:path w="1068" h="745">
                <a:moveTo>
                  <a:pt x="12204" y="12353"/>
                </a:moveTo>
                <a:cubicBezTo>
                  <a:pt x="12179" y="12285"/>
                  <a:pt x="12133" y="12205"/>
                  <a:pt x="12154" y="12129"/>
                </a:cubicBezTo>
                <a:cubicBezTo>
                  <a:pt x="12167" y="12084"/>
                  <a:pt x="12208" y="12033"/>
                  <a:pt x="12254" y="12030"/>
                </a:cubicBezTo>
                <a:cubicBezTo>
                  <a:pt x="12322" y="12025"/>
                  <a:pt x="12349" y="12091"/>
                  <a:pt x="12353" y="12154"/>
                </a:cubicBezTo>
                <a:cubicBezTo>
                  <a:pt x="12358" y="12228"/>
                  <a:pt x="12319" y="12241"/>
                  <a:pt x="12254" y="122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06920" y="4187880"/>
            <a:ext cx="984240" cy="223920"/>
          </a:xfrm>
          <a:custGeom>
            <a:avLst/>
            <a:gdLst/>
            <a:ahLst/>
            <a:rect l="l" t="t" r="r" b="b"/>
            <a:pathLst>
              <a:path w="2730" h="622">
                <a:moveTo>
                  <a:pt x="13097" y="12129"/>
                </a:moveTo>
                <a:cubicBezTo>
                  <a:pt x="13105" y="12129"/>
                  <a:pt x="13114" y="12129"/>
                  <a:pt x="13122" y="12129"/>
                </a:cubicBezTo>
                <a:cubicBezTo>
                  <a:pt x="13064" y="12129"/>
                  <a:pt x="13019" y="12145"/>
                  <a:pt x="12973" y="12154"/>
                </a:cubicBezTo>
                <a:cubicBezTo>
                  <a:pt x="12921" y="12164"/>
                  <a:pt x="12853" y="12154"/>
                  <a:pt x="12799" y="12154"/>
                </a:cubicBezTo>
              </a:path>
              <a:path w="2730" h="622">
                <a:moveTo>
                  <a:pt x="12948" y="12030"/>
                </a:moveTo>
                <a:cubicBezTo>
                  <a:pt x="12956" y="12022"/>
                  <a:pt x="12965" y="12013"/>
                  <a:pt x="12973" y="12005"/>
                </a:cubicBezTo>
                <a:cubicBezTo>
                  <a:pt x="13003" y="12074"/>
                  <a:pt x="12998" y="12127"/>
                  <a:pt x="12998" y="12204"/>
                </a:cubicBezTo>
                <a:cubicBezTo>
                  <a:pt x="12998" y="12221"/>
                  <a:pt x="12998" y="12237"/>
                  <a:pt x="12998" y="12254"/>
                </a:cubicBezTo>
              </a:path>
              <a:path w="2730" h="622">
                <a:moveTo>
                  <a:pt x="13469" y="11757"/>
                </a:moveTo>
                <a:cubicBezTo>
                  <a:pt x="13469" y="11706"/>
                  <a:pt x="13454" y="11671"/>
                  <a:pt x="13494" y="11658"/>
                </a:cubicBezTo>
                <a:cubicBezTo>
                  <a:pt x="13494" y="11584"/>
                  <a:pt x="13494" y="11780"/>
                  <a:pt x="13494" y="11782"/>
                </a:cubicBezTo>
                <a:cubicBezTo>
                  <a:pt x="13494" y="11877"/>
                  <a:pt x="13519" y="11959"/>
                  <a:pt x="13519" y="12055"/>
                </a:cubicBezTo>
                <a:cubicBezTo>
                  <a:pt x="13519" y="12096"/>
                  <a:pt x="13519" y="12104"/>
                  <a:pt x="13519" y="12129"/>
                </a:cubicBezTo>
                <a:cubicBezTo>
                  <a:pt x="13519" y="12170"/>
                  <a:pt x="13519" y="12096"/>
                  <a:pt x="13519" y="12055"/>
                </a:cubicBezTo>
                <a:cubicBezTo>
                  <a:pt x="13519" y="11995"/>
                  <a:pt x="13553" y="11925"/>
                  <a:pt x="13618" y="11906"/>
                </a:cubicBezTo>
                <a:cubicBezTo>
                  <a:pt x="13686" y="11886"/>
                  <a:pt x="13747" y="11947"/>
                  <a:pt x="13767" y="12005"/>
                </a:cubicBezTo>
                <a:cubicBezTo>
                  <a:pt x="13788" y="12066"/>
                  <a:pt x="13753" y="12115"/>
                  <a:pt x="13692" y="12129"/>
                </a:cubicBezTo>
                <a:cubicBezTo>
                  <a:pt x="13630" y="12143"/>
                  <a:pt x="13588" y="12116"/>
                  <a:pt x="13543" y="12080"/>
                </a:cubicBezTo>
              </a:path>
              <a:path w="2730" h="622">
                <a:moveTo>
                  <a:pt x="14015" y="11981"/>
                </a:moveTo>
                <a:cubicBezTo>
                  <a:pt x="14023" y="11981"/>
                  <a:pt x="14031" y="11981"/>
                  <a:pt x="14039" y="11981"/>
                </a:cubicBezTo>
                <a:cubicBezTo>
                  <a:pt x="14031" y="11958"/>
                  <a:pt x="13981" y="11928"/>
                  <a:pt x="13965" y="11981"/>
                </a:cubicBezTo>
                <a:cubicBezTo>
                  <a:pt x="13948" y="12037"/>
                  <a:pt x="13964" y="12112"/>
                  <a:pt x="13990" y="12154"/>
                </a:cubicBezTo>
                <a:cubicBezTo>
                  <a:pt x="14071" y="12133"/>
                  <a:pt x="14050" y="12077"/>
                  <a:pt x="14064" y="12005"/>
                </a:cubicBezTo>
                <a:cubicBezTo>
                  <a:pt x="14083" y="11909"/>
                  <a:pt x="14089" y="11830"/>
                  <a:pt x="14089" y="11733"/>
                </a:cubicBezTo>
                <a:cubicBezTo>
                  <a:pt x="14089" y="11692"/>
                  <a:pt x="14089" y="11766"/>
                  <a:pt x="14089" y="11807"/>
                </a:cubicBezTo>
                <a:cubicBezTo>
                  <a:pt x="14089" y="11882"/>
                  <a:pt x="14102" y="11936"/>
                  <a:pt x="14114" y="12005"/>
                </a:cubicBezTo>
                <a:cubicBezTo>
                  <a:pt x="14118" y="12029"/>
                  <a:pt x="14131" y="12131"/>
                  <a:pt x="14188" y="12105"/>
                </a:cubicBezTo>
                <a:cubicBezTo>
                  <a:pt x="14222" y="12090"/>
                  <a:pt x="14230" y="12080"/>
                  <a:pt x="14238" y="12055"/>
                </a:cubicBezTo>
              </a:path>
              <a:path w="2730" h="622">
                <a:moveTo>
                  <a:pt x="14263" y="12105"/>
                </a:moveTo>
                <a:cubicBezTo>
                  <a:pt x="14263" y="12113"/>
                  <a:pt x="14263" y="12121"/>
                  <a:pt x="14263" y="12129"/>
                </a:cubicBezTo>
                <a:cubicBezTo>
                  <a:pt x="14263" y="12071"/>
                  <a:pt x="14239" y="11950"/>
                  <a:pt x="14288" y="11906"/>
                </a:cubicBezTo>
                <a:cubicBezTo>
                  <a:pt x="14305" y="11890"/>
                  <a:pt x="14416" y="11906"/>
                  <a:pt x="14436" y="11906"/>
                </a:cubicBezTo>
              </a:path>
              <a:path w="2730" h="622">
                <a:moveTo>
                  <a:pt x="14833" y="11956"/>
                </a:moveTo>
                <a:cubicBezTo>
                  <a:pt x="14841" y="11948"/>
                  <a:pt x="14850" y="11939"/>
                  <a:pt x="14858" y="11931"/>
                </a:cubicBezTo>
                <a:cubicBezTo>
                  <a:pt x="14817" y="11931"/>
                  <a:pt x="14775" y="11931"/>
                  <a:pt x="14734" y="11931"/>
                </a:cubicBezTo>
              </a:path>
              <a:path w="2730" h="622">
                <a:moveTo>
                  <a:pt x="14883" y="12030"/>
                </a:moveTo>
                <a:cubicBezTo>
                  <a:pt x="14951" y="12030"/>
                  <a:pt x="14853" y="12055"/>
                  <a:pt x="14833" y="12055"/>
                </a:cubicBezTo>
              </a:path>
              <a:path w="2730" h="622">
                <a:moveTo>
                  <a:pt x="15304" y="11981"/>
                </a:moveTo>
                <a:cubicBezTo>
                  <a:pt x="15304" y="11956"/>
                  <a:pt x="15304" y="11948"/>
                  <a:pt x="15304" y="11931"/>
                </a:cubicBezTo>
                <a:cubicBezTo>
                  <a:pt x="15265" y="11941"/>
                  <a:pt x="15233" y="11960"/>
                  <a:pt x="15230" y="12005"/>
                </a:cubicBezTo>
                <a:cubicBezTo>
                  <a:pt x="15224" y="12093"/>
                  <a:pt x="15219" y="12117"/>
                  <a:pt x="15304" y="12129"/>
                </a:cubicBezTo>
                <a:cubicBezTo>
                  <a:pt x="15344" y="12103"/>
                  <a:pt x="15352" y="12021"/>
                  <a:pt x="15354" y="11956"/>
                </a:cubicBezTo>
                <a:cubicBezTo>
                  <a:pt x="15357" y="11852"/>
                  <a:pt x="15379" y="11762"/>
                  <a:pt x="15379" y="11658"/>
                </a:cubicBezTo>
                <a:cubicBezTo>
                  <a:pt x="15379" y="11650"/>
                  <a:pt x="15379" y="11641"/>
                  <a:pt x="15379" y="11633"/>
                </a:cubicBezTo>
                <a:cubicBezTo>
                  <a:pt x="15379" y="11722"/>
                  <a:pt x="15378" y="11795"/>
                  <a:pt x="15404" y="11881"/>
                </a:cubicBezTo>
                <a:cubicBezTo>
                  <a:pt x="15433" y="11979"/>
                  <a:pt x="15457" y="12034"/>
                  <a:pt x="15528" y="121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071720" y="5089680"/>
            <a:ext cx="142560" cy="80640"/>
          </a:xfrm>
          <a:custGeom>
            <a:avLst/>
            <a:gdLst/>
            <a:ahLst/>
            <a:rect l="l" t="t" r="r" b="b"/>
            <a:pathLst>
              <a:path w="397" h="224">
                <a:moveTo>
                  <a:pt x="2977" y="14163"/>
                </a:moveTo>
                <a:cubicBezTo>
                  <a:pt x="2977" y="14155"/>
                  <a:pt x="2977" y="14147"/>
                  <a:pt x="2977" y="14139"/>
                </a:cubicBezTo>
                <a:cubicBezTo>
                  <a:pt x="3024" y="14155"/>
                  <a:pt x="2985" y="14169"/>
                  <a:pt x="3001" y="14213"/>
                </a:cubicBezTo>
                <a:cubicBezTo>
                  <a:pt x="3021" y="14268"/>
                  <a:pt x="3018" y="14318"/>
                  <a:pt x="3051" y="14362"/>
                </a:cubicBezTo>
              </a:path>
              <a:path w="397" h="224">
                <a:moveTo>
                  <a:pt x="3125" y="14188"/>
                </a:moveTo>
                <a:cubicBezTo>
                  <a:pt x="3125" y="14180"/>
                  <a:pt x="3125" y="14171"/>
                  <a:pt x="3125" y="14163"/>
                </a:cubicBezTo>
                <a:cubicBezTo>
                  <a:pt x="3175" y="14176"/>
                  <a:pt x="3186" y="14217"/>
                  <a:pt x="3200" y="14263"/>
                </a:cubicBezTo>
                <a:cubicBezTo>
                  <a:pt x="3200" y="14288"/>
                  <a:pt x="3200" y="14296"/>
                  <a:pt x="3200" y="14312"/>
                </a:cubicBezTo>
              </a:path>
              <a:path w="397" h="224">
                <a:moveTo>
                  <a:pt x="3249" y="14163"/>
                </a:moveTo>
                <a:cubicBezTo>
                  <a:pt x="3282" y="14139"/>
                  <a:pt x="3332" y="14128"/>
                  <a:pt x="3349" y="14188"/>
                </a:cubicBezTo>
                <a:cubicBezTo>
                  <a:pt x="3364" y="14241"/>
                  <a:pt x="3353" y="14282"/>
                  <a:pt x="3373" y="143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24040" y="4616280"/>
            <a:ext cx="1892160" cy="393840"/>
          </a:xfrm>
          <a:custGeom>
            <a:avLst/>
            <a:gdLst/>
            <a:ahLst/>
            <a:rect l="l" t="t" r="r" b="b"/>
            <a:pathLst>
              <a:path w="5260" h="1092">
                <a:moveTo>
                  <a:pt x="4911" y="13419"/>
                </a:moveTo>
                <a:cubicBezTo>
                  <a:pt x="4911" y="13375"/>
                  <a:pt x="4926" y="13359"/>
                  <a:pt x="4936" y="13320"/>
                </a:cubicBezTo>
                <a:cubicBezTo>
                  <a:pt x="4879" y="13334"/>
                  <a:pt x="4843" y="13366"/>
                  <a:pt x="4812" y="13419"/>
                </a:cubicBezTo>
                <a:cubicBezTo>
                  <a:pt x="4785" y="13464"/>
                  <a:pt x="4767" y="13504"/>
                  <a:pt x="4812" y="13519"/>
                </a:cubicBezTo>
                <a:cubicBezTo>
                  <a:pt x="4846" y="13496"/>
                  <a:pt x="4840" y="13432"/>
                  <a:pt x="4887" y="13395"/>
                </a:cubicBezTo>
                <a:cubicBezTo>
                  <a:pt x="4930" y="13361"/>
                  <a:pt x="4987" y="13445"/>
                  <a:pt x="5011" y="13469"/>
                </a:cubicBezTo>
                <a:cubicBezTo>
                  <a:pt x="5035" y="13494"/>
                  <a:pt x="5043" y="13503"/>
                  <a:pt x="5060" y="13519"/>
                </a:cubicBezTo>
              </a:path>
              <a:path w="5260" h="1092">
                <a:moveTo>
                  <a:pt x="5333" y="13345"/>
                </a:moveTo>
                <a:cubicBezTo>
                  <a:pt x="5355" y="13295"/>
                  <a:pt x="5358" y="13294"/>
                  <a:pt x="5358" y="13246"/>
                </a:cubicBezTo>
                <a:cubicBezTo>
                  <a:pt x="5310" y="13246"/>
                  <a:pt x="5272" y="13269"/>
                  <a:pt x="5259" y="13320"/>
                </a:cubicBezTo>
                <a:cubicBezTo>
                  <a:pt x="5250" y="13356"/>
                  <a:pt x="5259" y="13407"/>
                  <a:pt x="5259" y="13444"/>
                </a:cubicBezTo>
                <a:cubicBezTo>
                  <a:pt x="5302" y="13433"/>
                  <a:pt x="5325" y="13403"/>
                  <a:pt x="5358" y="13370"/>
                </a:cubicBezTo>
                <a:cubicBezTo>
                  <a:pt x="5397" y="13435"/>
                  <a:pt x="5383" y="13513"/>
                  <a:pt x="5383" y="13593"/>
                </a:cubicBezTo>
                <a:cubicBezTo>
                  <a:pt x="5383" y="13641"/>
                  <a:pt x="5351" y="13813"/>
                  <a:pt x="5407" y="13841"/>
                </a:cubicBezTo>
                <a:cubicBezTo>
                  <a:pt x="5471" y="13873"/>
                  <a:pt x="5519" y="13804"/>
                  <a:pt x="5556" y="13767"/>
                </a:cubicBezTo>
                <a:cubicBezTo>
                  <a:pt x="5604" y="13719"/>
                  <a:pt x="5641" y="13717"/>
                  <a:pt x="5705" y="13717"/>
                </a:cubicBezTo>
              </a:path>
              <a:path w="5260" h="1092">
                <a:moveTo>
                  <a:pt x="6176" y="13271"/>
                </a:moveTo>
                <a:cubicBezTo>
                  <a:pt x="6184" y="13271"/>
                  <a:pt x="6193" y="13271"/>
                  <a:pt x="6201" y="13271"/>
                </a:cubicBezTo>
                <a:cubicBezTo>
                  <a:pt x="6160" y="13281"/>
                  <a:pt x="6115" y="13312"/>
                  <a:pt x="6077" y="13320"/>
                </a:cubicBezTo>
                <a:cubicBezTo>
                  <a:pt x="6041" y="13327"/>
                  <a:pt x="5991" y="13320"/>
                  <a:pt x="5953" y="13320"/>
                </a:cubicBezTo>
              </a:path>
              <a:path w="5260" h="1092">
                <a:moveTo>
                  <a:pt x="6052" y="13221"/>
                </a:moveTo>
                <a:cubicBezTo>
                  <a:pt x="6072" y="13180"/>
                  <a:pt x="6070" y="13164"/>
                  <a:pt x="6102" y="13171"/>
                </a:cubicBezTo>
                <a:cubicBezTo>
                  <a:pt x="6102" y="13254"/>
                  <a:pt x="6102" y="13336"/>
                  <a:pt x="6102" y="13419"/>
                </a:cubicBezTo>
              </a:path>
              <a:path w="5260" h="1092">
                <a:moveTo>
                  <a:pt x="6449" y="12948"/>
                </a:moveTo>
                <a:cubicBezTo>
                  <a:pt x="6449" y="12931"/>
                  <a:pt x="6449" y="12915"/>
                  <a:pt x="6449" y="12898"/>
                </a:cubicBezTo>
                <a:cubicBezTo>
                  <a:pt x="6449" y="13022"/>
                  <a:pt x="6449" y="13147"/>
                  <a:pt x="6449" y="13271"/>
                </a:cubicBezTo>
                <a:cubicBezTo>
                  <a:pt x="6476" y="13238"/>
                  <a:pt x="6497" y="13204"/>
                  <a:pt x="6524" y="13171"/>
                </a:cubicBezTo>
                <a:cubicBezTo>
                  <a:pt x="6588" y="13187"/>
                  <a:pt x="6593" y="13231"/>
                  <a:pt x="6598" y="13295"/>
                </a:cubicBezTo>
                <a:cubicBezTo>
                  <a:pt x="6603" y="13355"/>
                  <a:pt x="6543" y="13366"/>
                  <a:pt x="6499" y="13370"/>
                </a:cubicBezTo>
                <a:cubicBezTo>
                  <a:pt x="6474" y="13370"/>
                  <a:pt x="6466" y="13370"/>
                  <a:pt x="6449" y="13370"/>
                </a:cubicBezTo>
              </a:path>
              <a:path w="5260" h="1092">
                <a:moveTo>
                  <a:pt x="6772" y="13072"/>
                </a:moveTo>
                <a:cubicBezTo>
                  <a:pt x="6832" y="13020"/>
                  <a:pt x="6808" y="13022"/>
                  <a:pt x="6871" y="13022"/>
                </a:cubicBezTo>
                <a:cubicBezTo>
                  <a:pt x="6843" y="13050"/>
                  <a:pt x="6804" y="13076"/>
                  <a:pt x="6821" y="13122"/>
                </a:cubicBezTo>
                <a:cubicBezTo>
                  <a:pt x="6847" y="13193"/>
                  <a:pt x="6891" y="13205"/>
                  <a:pt x="6945" y="13246"/>
                </a:cubicBezTo>
                <a:cubicBezTo>
                  <a:pt x="6991" y="13281"/>
                  <a:pt x="6969" y="13315"/>
                  <a:pt x="6921" y="13320"/>
                </a:cubicBezTo>
                <a:cubicBezTo>
                  <a:pt x="6896" y="13320"/>
                  <a:pt x="6888" y="13320"/>
                  <a:pt x="6871" y="13320"/>
                </a:cubicBezTo>
              </a:path>
              <a:path w="5260" h="1092">
                <a:moveTo>
                  <a:pt x="7590" y="13022"/>
                </a:moveTo>
                <a:cubicBezTo>
                  <a:pt x="7647" y="13013"/>
                  <a:pt x="7666" y="13016"/>
                  <a:pt x="7615" y="13022"/>
                </a:cubicBezTo>
                <a:cubicBezTo>
                  <a:pt x="7576" y="13027"/>
                  <a:pt x="7547" y="13048"/>
                  <a:pt x="7516" y="13072"/>
                </a:cubicBezTo>
              </a:path>
              <a:path w="5260" h="1092">
                <a:moveTo>
                  <a:pt x="7640" y="13122"/>
                </a:moveTo>
                <a:cubicBezTo>
                  <a:pt x="7665" y="13122"/>
                  <a:pt x="7673" y="13122"/>
                  <a:pt x="7689" y="13122"/>
                </a:cubicBezTo>
                <a:cubicBezTo>
                  <a:pt x="7677" y="13157"/>
                  <a:pt x="7653" y="13155"/>
                  <a:pt x="7615" y="13171"/>
                </a:cubicBezTo>
                <a:cubicBezTo>
                  <a:pt x="7598" y="13179"/>
                  <a:pt x="7582" y="13188"/>
                  <a:pt x="7565" y="13196"/>
                </a:cubicBezTo>
              </a:path>
              <a:path w="5260" h="1092">
                <a:moveTo>
                  <a:pt x="7938" y="13097"/>
                </a:moveTo>
                <a:cubicBezTo>
                  <a:pt x="7938" y="13031"/>
                  <a:pt x="7923" y="12956"/>
                  <a:pt x="7962" y="12898"/>
                </a:cubicBezTo>
                <a:cubicBezTo>
                  <a:pt x="7995" y="12848"/>
                  <a:pt x="8015" y="12803"/>
                  <a:pt x="8086" y="12824"/>
                </a:cubicBezTo>
                <a:cubicBezTo>
                  <a:pt x="8191" y="12855"/>
                  <a:pt x="8183" y="12986"/>
                  <a:pt x="8186" y="13072"/>
                </a:cubicBezTo>
                <a:cubicBezTo>
                  <a:pt x="8188" y="13139"/>
                  <a:pt x="8158" y="13271"/>
                  <a:pt x="8062" y="13271"/>
                </a:cubicBezTo>
                <a:cubicBezTo>
                  <a:pt x="7956" y="13271"/>
                  <a:pt x="7945" y="13171"/>
                  <a:pt x="7938" y="13097"/>
                </a:cubicBezTo>
              </a:path>
              <a:path w="5260" h="1092">
                <a:moveTo>
                  <a:pt x="8706" y="13146"/>
                </a:moveTo>
                <a:cubicBezTo>
                  <a:pt x="8804" y="13146"/>
                  <a:pt x="8893" y="13138"/>
                  <a:pt x="8979" y="13122"/>
                </a:cubicBezTo>
                <a:cubicBezTo>
                  <a:pt x="9043" y="13110"/>
                  <a:pt x="9116" y="13107"/>
                  <a:pt x="9178" y="13097"/>
                </a:cubicBezTo>
                <a:cubicBezTo>
                  <a:pt x="9238" y="13087"/>
                  <a:pt x="9288" y="13075"/>
                  <a:pt x="9351" y="13072"/>
                </a:cubicBezTo>
                <a:cubicBezTo>
                  <a:pt x="9425" y="13068"/>
                  <a:pt x="9482" y="13059"/>
                  <a:pt x="9550" y="13047"/>
                </a:cubicBezTo>
                <a:cubicBezTo>
                  <a:pt x="9645" y="13031"/>
                  <a:pt x="9763" y="13035"/>
                  <a:pt x="9847" y="13022"/>
                </a:cubicBezTo>
                <a:cubicBezTo>
                  <a:pt x="9910" y="13013"/>
                  <a:pt x="9982" y="13022"/>
                  <a:pt x="10046" y="13022"/>
                </a:cubicBezTo>
                <a:cubicBezTo>
                  <a:pt x="10039" y="13073"/>
                  <a:pt x="10008" y="13080"/>
                  <a:pt x="9996" y="13122"/>
                </a:cubicBezTo>
                <a:cubicBezTo>
                  <a:pt x="9979" y="13181"/>
                  <a:pt x="9969" y="13219"/>
                  <a:pt x="9922" y="13271"/>
                </a:cubicBezTo>
                <a:cubicBezTo>
                  <a:pt x="9884" y="13313"/>
                  <a:pt x="9874" y="13313"/>
                  <a:pt x="9823" y="13320"/>
                </a:cubicBezTo>
                <a:cubicBezTo>
                  <a:pt x="9830" y="13268"/>
                  <a:pt x="9831" y="13262"/>
                  <a:pt x="9872" y="13221"/>
                </a:cubicBezTo>
                <a:cubicBezTo>
                  <a:pt x="9911" y="13182"/>
                  <a:pt x="10024" y="13103"/>
                  <a:pt x="10021" y="13047"/>
                </a:cubicBezTo>
                <a:cubicBezTo>
                  <a:pt x="10020" y="13022"/>
                  <a:pt x="9977" y="12954"/>
                  <a:pt x="9947" y="12948"/>
                </a:cubicBezTo>
                <a:cubicBezTo>
                  <a:pt x="9896" y="12937"/>
                  <a:pt x="9848" y="12937"/>
                  <a:pt x="9798" y="12923"/>
                </a:cubicBezTo>
              </a:path>
              <a:path w="5260" h="1092">
                <a:moveTo>
                  <a:pt x="8582" y="13915"/>
                </a:moveTo>
                <a:cubicBezTo>
                  <a:pt x="8632" y="13915"/>
                  <a:pt x="8668" y="13924"/>
                  <a:pt x="8706" y="13891"/>
                </a:cubicBezTo>
                <a:cubicBezTo>
                  <a:pt x="8742" y="13859"/>
                  <a:pt x="8786" y="13859"/>
                  <a:pt x="8830" y="13841"/>
                </a:cubicBezTo>
                <a:cubicBezTo>
                  <a:pt x="8910" y="13809"/>
                  <a:pt x="8972" y="13836"/>
                  <a:pt x="9054" y="13816"/>
                </a:cubicBezTo>
                <a:cubicBezTo>
                  <a:pt x="9116" y="13801"/>
                  <a:pt x="9193" y="13787"/>
                  <a:pt x="9252" y="13767"/>
                </a:cubicBezTo>
                <a:cubicBezTo>
                  <a:pt x="9327" y="13742"/>
                  <a:pt x="9401" y="13738"/>
                  <a:pt x="9475" y="13717"/>
                </a:cubicBezTo>
                <a:cubicBezTo>
                  <a:pt x="9547" y="13696"/>
                  <a:pt x="9595" y="13692"/>
                  <a:pt x="9674" y="13692"/>
                </a:cubicBezTo>
                <a:cubicBezTo>
                  <a:pt x="9732" y="13692"/>
                  <a:pt x="9760" y="13667"/>
                  <a:pt x="9823" y="13667"/>
                </a:cubicBezTo>
                <a:cubicBezTo>
                  <a:pt x="9848" y="13667"/>
                  <a:pt x="9872" y="13667"/>
                  <a:pt x="9897" y="13667"/>
                </a:cubicBezTo>
                <a:cubicBezTo>
                  <a:pt x="9897" y="13718"/>
                  <a:pt x="9906" y="13753"/>
                  <a:pt x="9872" y="13791"/>
                </a:cubicBezTo>
                <a:cubicBezTo>
                  <a:pt x="9833" y="13834"/>
                  <a:pt x="9790" y="13874"/>
                  <a:pt x="9748" y="13915"/>
                </a:cubicBezTo>
                <a:cubicBezTo>
                  <a:pt x="9790" y="13874"/>
                  <a:pt x="9813" y="13837"/>
                  <a:pt x="9847" y="13791"/>
                </a:cubicBezTo>
                <a:cubicBezTo>
                  <a:pt x="9873" y="13757"/>
                  <a:pt x="9915" y="13717"/>
                  <a:pt x="9897" y="13667"/>
                </a:cubicBezTo>
                <a:cubicBezTo>
                  <a:pt x="9875" y="13605"/>
                  <a:pt x="9806" y="13597"/>
                  <a:pt x="9748" y="135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10040" y="4803840"/>
            <a:ext cx="1554120" cy="331560"/>
          </a:xfrm>
          <a:custGeom>
            <a:avLst/>
            <a:gdLst/>
            <a:ahLst/>
            <a:rect l="l" t="t" r="r" b="b"/>
            <a:pathLst>
              <a:path w="4317" h="919">
                <a:moveTo>
                  <a:pt x="11137" y="13568"/>
                </a:moveTo>
                <a:cubicBezTo>
                  <a:pt x="11137" y="13543"/>
                  <a:pt x="11137" y="13535"/>
                  <a:pt x="11137" y="13519"/>
                </a:cubicBezTo>
                <a:cubicBezTo>
                  <a:pt x="11137" y="13599"/>
                  <a:pt x="11153" y="13666"/>
                  <a:pt x="11162" y="13742"/>
                </a:cubicBezTo>
                <a:cubicBezTo>
                  <a:pt x="11170" y="13814"/>
                  <a:pt x="11162" y="13892"/>
                  <a:pt x="11162" y="13965"/>
                </a:cubicBezTo>
                <a:cubicBezTo>
                  <a:pt x="11177" y="13889"/>
                  <a:pt x="11184" y="13885"/>
                  <a:pt x="11237" y="13841"/>
                </a:cubicBezTo>
                <a:cubicBezTo>
                  <a:pt x="11312" y="13779"/>
                  <a:pt x="11347" y="13847"/>
                  <a:pt x="11385" y="13915"/>
                </a:cubicBezTo>
                <a:cubicBezTo>
                  <a:pt x="11411" y="13963"/>
                  <a:pt x="11424" y="14011"/>
                  <a:pt x="11361" y="14039"/>
                </a:cubicBezTo>
                <a:cubicBezTo>
                  <a:pt x="11310" y="14061"/>
                  <a:pt x="11256" y="14026"/>
                  <a:pt x="11212" y="14015"/>
                </a:cubicBezTo>
                <a:cubicBezTo>
                  <a:pt x="11204" y="14015"/>
                  <a:pt x="11195" y="14015"/>
                  <a:pt x="11187" y="14015"/>
                </a:cubicBezTo>
              </a:path>
              <a:path w="4317" h="919">
                <a:moveTo>
                  <a:pt x="11584" y="13841"/>
                </a:moveTo>
                <a:cubicBezTo>
                  <a:pt x="11616" y="13792"/>
                  <a:pt x="11618" y="13780"/>
                  <a:pt x="11658" y="13767"/>
                </a:cubicBezTo>
                <a:cubicBezTo>
                  <a:pt x="11630" y="13774"/>
                  <a:pt x="11569" y="13806"/>
                  <a:pt x="11559" y="13841"/>
                </a:cubicBezTo>
                <a:cubicBezTo>
                  <a:pt x="11540" y="13906"/>
                  <a:pt x="11569" y="13958"/>
                  <a:pt x="11584" y="14015"/>
                </a:cubicBezTo>
                <a:cubicBezTo>
                  <a:pt x="11604" y="14094"/>
                  <a:pt x="11662" y="14015"/>
                  <a:pt x="11683" y="13990"/>
                </a:cubicBezTo>
                <a:cubicBezTo>
                  <a:pt x="11691" y="13982"/>
                  <a:pt x="11700" y="13973"/>
                  <a:pt x="11708" y="13965"/>
                </a:cubicBezTo>
              </a:path>
              <a:path w="4317" h="919">
                <a:moveTo>
                  <a:pt x="11857" y="13866"/>
                </a:moveTo>
                <a:cubicBezTo>
                  <a:pt x="11857" y="13858"/>
                  <a:pt x="11857" y="13849"/>
                  <a:pt x="11857" y="13841"/>
                </a:cubicBezTo>
                <a:cubicBezTo>
                  <a:pt x="11912" y="13869"/>
                  <a:pt x="11906" y="13902"/>
                  <a:pt x="11906" y="13965"/>
                </a:cubicBezTo>
                <a:cubicBezTo>
                  <a:pt x="11906" y="14049"/>
                  <a:pt x="11925" y="14109"/>
                  <a:pt x="11931" y="14188"/>
                </a:cubicBezTo>
                <a:cubicBezTo>
                  <a:pt x="11933" y="14213"/>
                  <a:pt x="11931" y="14238"/>
                  <a:pt x="11931" y="14263"/>
                </a:cubicBezTo>
              </a:path>
              <a:path w="4317" h="919">
                <a:moveTo>
                  <a:pt x="11881" y="13965"/>
                </a:moveTo>
                <a:cubicBezTo>
                  <a:pt x="11881" y="13879"/>
                  <a:pt x="11874" y="13860"/>
                  <a:pt x="11931" y="13816"/>
                </a:cubicBezTo>
                <a:cubicBezTo>
                  <a:pt x="11972" y="13784"/>
                  <a:pt x="11989" y="13779"/>
                  <a:pt x="12030" y="13816"/>
                </a:cubicBezTo>
                <a:cubicBezTo>
                  <a:pt x="12063" y="13845"/>
                  <a:pt x="12114" y="13945"/>
                  <a:pt x="12080" y="13990"/>
                </a:cubicBezTo>
                <a:cubicBezTo>
                  <a:pt x="12064" y="14011"/>
                  <a:pt x="12005" y="14033"/>
                  <a:pt x="11981" y="14039"/>
                </a:cubicBezTo>
              </a:path>
              <a:path w="4317" h="919">
                <a:moveTo>
                  <a:pt x="12576" y="13791"/>
                </a:moveTo>
                <a:cubicBezTo>
                  <a:pt x="12601" y="13791"/>
                  <a:pt x="12609" y="13791"/>
                  <a:pt x="12626" y="13791"/>
                </a:cubicBezTo>
                <a:cubicBezTo>
                  <a:pt x="12551" y="13791"/>
                  <a:pt x="12477" y="13791"/>
                  <a:pt x="12402" y="13791"/>
                </a:cubicBezTo>
              </a:path>
              <a:path w="4317" h="919">
                <a:moveTo>
                  <a:pt x="12477" y="13667"/>
                </a:moveTo>
                <a:cubicBezTo>
                  <a:pt x="12509" y="13606"/>
                  <a:pt x="12502" y="13738"/>
                  <a:pt x="12502" y="13767"/>
                </a:cubicBezTo>
                <a:cubicBezTo>
                  <a:pt x="12502" y="13821"/>
                  <a:pt x="12520" y="13862"/>
                  <a:pt x="12526" y="13915"/>
                </a:cubicBezTo>
              </a:path>
              <a:path w="4317" h="919">
                <a:moveTo>
                  <a:pt x="13072" y="13494"/>
                </a:moveTo>
                <a:cubicBezTo>
                  <a:pt x="13072" y="13452"/>
                  <a:pt x="13072" y="13444"/>
                  <a:pt x="13072" y="13419"/>
                </a:cubicBezTo>
                <a:cubicBezTo>
                  <a:pt x="13072" y="13568"/>
                  <a:pt x="13072" y="13965"/>
                  <a:pt x="13072" y="13816"/>
                </a:cubicBezTo>
                <a:cubicBezTo>
                  <a:pt x="13102" y="13766"/>
                  <a:pt x="13102" y="13716"/>
                  <a:pt x="13146" y="13667"/>
                </a:cubicBezTo>
                <a:cubicBezTo>
                  <a:pt x="13189" y="13620"/>
                  <a:pt x="13240" y="13644"/>
                  <a:pt x="13271" y="13692"/>
                </a:cubicBezTo>
                <a:cubicBezTo>
                  <a:pt x="13287" y="13717"/>
                  <a:pt x="13322" y="13839"/>
                  <a:pt x="13295" y="13866"/>
                </a:cubicBezTo>
                <a:cubicBezTo>
                  <a:pt x="13266" y="13895"/>
                  <a:pt x="13183" y="13903"/>
                  <a:pt x="13146" y="13891"/>
                </a:cubicBezTo>
                <a:cubicBezTo>
                  <a:pt x="13130" y="13883"/>
                  <a:pt x="13113" y="13874"/>
                  <a:pt x="13097" y="13866"/>
                </a:cubicBezTo>
              </a:path>
              <a:path w="4317" h="919">
                <a:moveTo>
                  <a:pt x="13519" y="13717"/>
                </a:moveTo>
                <a:cubicBezTo>
                  <a:pt x="13532" y="13677"/>
                  <a:pt x="13530" y="13707"/>
                  <a:pt x="13543" y="13667"/>
                </a:cubicBezTo>
                <a:cubicBezTo>
                  <a:pt x="13503" y="13677"/>
                  <a:pt x="13472" y="13696"/>
                  <a:pt x="13469" y="13742"/>
                </a:cubicBezTo>
                <a:cubicBezTo>
                  <a:pt x="13465" y="13798"/>
                  <a:pt x="13464" y="13801"/>
                  <a:pt x="13494" y="13841"/>
                </a:cubicBezTo>
                <a:cubicBezTo>
                  <a:pt x="13569" y="13822"/>
                  <a:pt x="13565" y="13764"/>
                  <a:pt x="13568" y="13692"/>
                </a:cubicBezTo>
                <a:cubicBezTo>
                  <a:pt x="13571" y="13610"/>
                  <a:pt x="13568" y="13526"/>
                  <a:pt x="13568" y="13444"/>
                </a:cubicBezTo>
                <a:cubicBezTo>
                  <a:pt x="13568" y="13402"/>
                  <a:pt x="13556" y="13479"/>
                  <a:pt x="13568" y="13519"/>
                </a:cubicBezTo>
                <a:cubicBezTo>
                  <a:pt x="13592" y="13600"/>
                  <a:pt x="13630" y="13690"/>
                  <a:pt x="13667" y="13767"/>
                </a:cubicBezTo>
                <a:cubicBezTo>
                  <a:pt x="13697" y="13831"/>
                  <a:pt x="13710" y="13858"/>
                  <a:pt x="13767" y="13816"/>
                </a:cubicBezTo>
              </a:path>
              <a:path w="4317" h="919">
                <a:moveTo>
                  <a:pt x="13915" y="13742"/>
                </a:moveTo>
                <a:cubicBezTo>
                  <a:pt x="13915" y="13767"/>
                  <a:pt x="13915" y="13775"/>
                  <a:pt x="13940" y="13767"/>
                </a:cubicBezTo>
                <a:cubicBezTo>
                  <a:pt x="13931" y="13729"/>
                  <a:pt x="13895" y="13691"/>
                  <a:pt x="13915" y="13643"/>
                </a:cubicBezTo>
                <a:cubicBezTo>
                  <a:pt x="13941" y="13580"/>
                  <a:pt x="14010" y="13593"/>
                  <a:pt x="14064" y="13593"/>
                </a:cubicBezTo>
                <a:cubicBezTo>
                  <a:pt x="14081" y="13593"/>
                  <a:pt x="14097" y="13593"/>
                  <a:pt x="14114" y="13593"/>
                </a:cubicBezTo>
              </a:path>
              <a:path w="4317" h="919">
                <a:moveTo>
                  <a:pt x="14808" y="13593"/>
                </a:moveTo>
                <a:cubicBezTo>
                  <a:pt x="14816" y="13593"/>
                  <a:pt x="14825" y="13593"/>
                  <a:pt x="14833" y="13593"/>
                </a:cubicBezTo>
                <a:cubicBezTo>
                  <a:pt x="14765" y="13593"/>
                  <a:pt x="14716" y="13599"/>
                  <a:pt x="14660" y="13618"/>
                </a:cubicBezTo>
                <a:cubicBezTo>
                  <a:pt x="14652" y="13618"/>
                  <a:pt x="14643" y="13618"/>
                  <a:pt x="14635" y="13618"/>
                </a:cubicBezTo>
              </a:path>
              <a:path w="4317" h="919">
                <a:moveTo>
                  <a:pt x="14808" y="13692"/>
                </a:moveTo>
                <a:cubicBezTo>
                  <a:pt x="14831" y="13715"/>
                  <a:pt x="14839" y="13719"/>
                  <a:pt x="14833" y="13742"/>
                </a:cubicBezTo>
                <a:cubicBezTo>
                  <a:pt x="14800" y="13742"/>
                  <a:pt x="14767" y="13742"/>
                  <a:pt x="14734" y="13742"/>
                </a:cubicBezTo>
              </a:path>
              <a:path w="4317" h="919">
                <a:moveTo>
                  <a:pt x="15230" y="13618"/>
                </a:moveTo>
                <a:cubicBezTo>
                  <a:pt x="15219" y="13592"/>
                  <a:pt x="15186" y="13528"/>
                  <a:pt x="15205" y="13494"/>
                </a:cubicBezTo>
                <a:cubicBezTo>
                  <a:pt x="15233" y="13444"/>
                  <a:pt x="15236" y="13415"/>
                  <a:pt x="15280" y="13370"/>
                </a:cubicBezTo>
                <a:cubicBezTo>
                  <a:pt x="15320" y="13329"/>
                  <a:pt x="15365" y="13335"/>
                  <a:pt x="15404" y="13370"/>
                </a:cubicBezTo>
                <a:cubicBezTo>
                  <a:pt x="15463" y="13422"/>
                  <a:pt x="15469" y="13519"/>
                  <a:pt x="15453" y="13593"/>
                </a:cubicBezTo>
                <a:cubicBezTo>
                  <a:pt x="15437" y="13667"/>
                  <a:pt x="15377" y="13726"/>
                  <a:pt x="15304" y="13742"/>
                </a:cubicBezTo>
                <a:cubicBezTo>
                  <a:pt x="15265" y="13751"/>
                  <a:pt x="15163" y="13724"/>
                  <a:pt x="15180" y="13667"/>
                </a:cubicBezTo>
                <a:cubicBezTo>
                  <a:pt x="15196" y="13611"/>
                  <a:pt x="15235" y="13550"/>
                  <a:pt x="15255" y="13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81840" y="5027760"/>
            <a:ext cx="241200" cy="115920"/>
          </a:xfrm>
          <a:custGeom>
            <a:avLst/>
            <a:gdLst/>
            <a:ahLst/>
            <a:rect l="l" t="t" r="r" b="b"/>
            <a:pathLst>
              <a:path w="671" h="324">
                <a:moveTo>
                  <a:pt x="17016" y="14015"/>
                </a:moveTo>
                <a:cubicBezTo>
                  <a:pt x="17024" y="14007"/>
                  <a:pt x="17033" y="13998"/>
                  <a:pt x="17041" y="13990"/>
                </a:cubicBezTo>
                <a:cubicBezTo>
                  <a:pt x="16989" y="13990"/>
                  <a:pt x="16923" y="13984"/>
                  <a:pt x="16892" y="14039"/>
                </a:cubicBezTo>
                <a:cubicBezTo>
                  <a:pt x="16869" y="14080"/>
                  <a:pt x="16916" y="14099"/>
                  <a:pt x="16942" y="14114"/>
                </a:cubicBezTo>
                <a:cubicBezTo>
                  <a:pt x="16991" y="14142"/>
                  <a:pt x="17063" y="14127"/>
                  <a:pt x="17090" y="14188"/>
                </a:cubicBezTo>
                <a:cubicBezTo>
                  <a:pt x="17105" y="14224"/>
                  <a:pt x="17073" y="14274"/>
                  <a:pt x="17041" y="14288"/>
                </a:cubicBezTo>
                <a:cubicBezTo>
                  <a:pt x="17025" y="14295"/>
                  <a:pt x="16984" y="14288"/>
                  <a:pt x="16966" y="14288"/>
                </a:cubicBezTo>
              </a:path>
              <a:path w="671" h="324">
                <a:moveTo>
                  <a:pt x="17512" y="14015"/>
                </a:moveTo>
                <a:cubicBezTo>
                  <a:pt x="17535" y="13992"/>
                  <a:pt x="17543" y="13988"/>
                  <a:pt x="17537" y="13965"/>
                </a:cubicBezTo>
                <a:cubicBezTo>
                  <a:pt x="17490" y="13965"/>
                  <a:pt x="17458" y="13985"/>
                  <a:pt x="17413" y="13990"/>
                </a:cubicBezTo>
                <a:cubicBezTo>
                  <a:pt x="17405" y="13990"/>
                  <a:pt x="17396" y="13990"/>
                  <a:pt x="17388" y="13990"/>
                </a:cubicBezTo>
              </a:path>
              <a:path w="671" h="324">
                <a:moveTo>
                  <a:pt x="17512" y="14039"/>
                </a:moveTo>
                <a:cubicBezTo>
                  <a:pt x="17554" y="14039"/>
                  <a:pt x="17570" y="14031"/>
                  <a:pt x="17562" y="14064"/>
                </a:cubicBezTo>
                <a:cubicBezTo>
                  <a:pt x="17548" y="14106"/>
                  <a:pt x="17513" y="14089"/>
                  <a:pt x="17462" y="140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589800" y="4848120"/>
            <a:ext cx="625320" cy="366840"/>
          </a:xfrm>
          <a:custGeom>
            <a:avLst/>
            <a:gdLst/>
            <a:ahLst/>
            <a:rect l="l" t="t" r="r" b="b"/>
            <a:pathLst>
              <a:path w="1737" h="1018">
                <a:moveTo>
                  <a:pt x="18976" y="13568"/>
                </a:moveTo>
                <a:cubicBezTo>
                  <a:pt x="19011" y="13516"/>
                  <a:pt x="19025" y="13527"/>
                  <a:pt x="19025" y="13469"/>
                </a:cubicBezTo>
                <a:cubicBezTo>
                  <a:pt x="18944" y="13485"/>
                  <a:pt x="18930" y="13512"/>
                  <a:pt x="18926" y="13593"/>
                </a:cubicBezTo>
                <a:cubicBezTo>
                  <a:pt x="18923" y="13653"/>
                  <a:pt x="18917" y="13697"/>
                  <a:pt x="18951" y="13742"/>
                </a:cubicBezTo>
                <a:cubicBezTo>
                  <a:pt x="18982" y="13703"/>
                  <a:pt x="18991" y="13623"/>
                  <a:pt x="19025" y="13593"/>
                </a:cubicBezTo>
                <a:cubicBezTo>
                  <a:pt x="19033" y="13593"/>
                  <a:pt x="19042" y="13593"/>
                  <a:pt x="19050" y="13593"/>
                </a:cubicBezTo>
                <a:cubicBezTo>
                  <a:pt x="19098" y="13617"/>
                  <a:pt x="19121" y="13679"/>
                  <a:pt x="19174" y="13717"/>
                </a:cubicBezTo>
              </a:path>
              <a:path w="1737" h="1018">
                <a:moveTo>
                  <a:pt x="19968" y="13816"/>
                </a:moveTo>
                <a:cubicBezTo>
                  <a:pt x="20051" y="13816"/>
                  <a:pt x="20051" y="13816"/>
                  <a:pt x="19968" y="13816"/>
                </a:cubicBezTo>
                <a:cubicBezTo>
                  <a:pt x="19860" y="13816"/>
                  <a:pt x="19756" y="13841"/>
                  <a:pt x="19645" y="13841"/>
                </a:cubicBezTo>
                <a:cubicBezTo>
                  <a:pt x="19462" y="13841"/>
                  <a:pt x="19278" y="13826"/>
                  <a:pt x="19100" y="13866"/>
                </a:cubicBezTo>
                <a:cubicBezTo>
                  <a:pt x="18979" y="13893"/>
                  <a:pt x="18871" y="13900"/>
                  <a:pt x="18752" y="13940"/>
                </a:cubicBezTo>
                <a:cubicBezTo>
                  <a:pt x="18676" y="13965"/>
                  <a:pt x="18580" y="13980"/>
                  <a:pt x="18504" y="13990"/>
                </a:cubicBezTo>
                <a:cubicBezTo>
                  <a:pt x="18427" y="14000"/>
                  <a:pt x="18369" y="13977"/>
                  <a:pt x="18306" y="14015"/>
                </a:cubicBezTo>
              </a:path>
              <a:path w="1737" h="1018">
                <a:moveTo>
                  <a:pt x="18479" y="14288"/>
                </a:moveTo>
                <a:cubicBezTo>
                  <a:pt x="18487" y="14280"/>
                  <a:pt x="18496" y="14271"/>
                  <a:pt x="18504" y="14263"/>
                </a:cubicBezTo>
                <a:cubicBezTo>
                  <a:pt x="18490" y="14316"/>
                  <a:pt x="18460" y="14324"/>
                  <a:pt x="18455" y="14387"/>
                </a:cubicBezTo>
                <a:cubicBezTo>
                  <a:pt x="18453" y="14411"/>
                  <a:pt x="18455" y="14437"/>
                  <a:pt x="18455" y="14461"/>
                </a:cubicBezTo>
                <a:cubicBezTo>
                  <a:pt x="18493" y="14448"/>
                  <a:pt x="18481" y="14421"/>
                  <a:pt x="18504" y="14387"/>
                </a:cubicBezTo>
                <a:cubicBezTo>
                  <a:pt x="18527" y="14364"/>
                  <a:pt x="18531" y="14356"/>
                  <a:pt x="18554" y="14362"/>
                </a:cubicBezTo>
                <a:cubicBezTo>
                  <a:pt x="18565" y="14419"/>
                  <a:pt x="18588" y="14445"/>
                  <a:pt x="18628" y="14486"/>
                </a:cubicBezTo>
              </a:path>
              <a:path w="1737" h="1018">
                <a:moveTo>
                  <a:pt x="18777" y="14337"/>
                </a:moveTo>
                <a:cubicBezTo>
                  <a:pt x="18777" y="14278"/>
                  <a:pt x="18755" y="14399"/>
                  <a:pt x="18752" y="14412"/>
                </a:cubicBezTo>
                <a:cubicBezTo>
                  <a:pt x="18743" y="14449"/>
                  <a:pt x="18757" y="14459"/>
                  <a:pt x="18777" y="14486"/>
                </a:cubicBezTo>
                <a:cubicBezTo>
                  <a:pt x="18831" y="14432"/>
                  <a:pt x="18849" y="14391"/>
                  <a:pt x="18852" y="14312"/>
                </a:cubicBezTo>
                <a:cubicBezTo>
                  <a:pt x="18854" y="14255"/>
                  <a:pt x="18852" y="14197"/>
                  <a:pt x="18852" y="14139"/>
                </a:cubicBezTo>
                <a:cubicBezTo>
                  <a:pt x="18865" y="14203"/>
                  <a:pt x="18877" y="14274"/>
                  <a:pt x="18901" y="14337"/>
                </a:cubicBezTo>
                <a:cubicBezTo>
                  <a:pt x="18919" y="14384"/>
                  <a:pt x="18945" y="14423"/>
                  <a:pt x="18976" y="14461"/>
                </a:cubicBezTo>
              </a:path>
              <a:path w="1737" h="1018">
                <a:moveTo>
                  <a:pt x="19149" y="14337"/>
                </a:moveTo>
                <a:cubicBezTo>
                  <a:pt x="19182" y="14337"/>
                  <a:pt x="19215" y="14337"/>
                  <a:pt x="19248" y="14337"/>
                </a:cubicBezTo>
              </a:path>
              <a:path w="1737" h="1018">
                <a:moveTo>
                  <a:pt x="19496" y="14089"/>
                </a:moveTo>
                <a:cubicBezTo>
                  <a:pt x="19496" y="14072"/>
                  <a:pt x="19496" y="14056"/>
                  <a:pt x="19496" y="14039"/>
                </a:cubicBezTo>
                <a:cubicBezTo>
                  <a:pt x="19537" y="14107"/>
                  <a:pt x="19499" y="14156"/>
                  <a:pt x="19496" y="14238"/>
                </a:cubicBezTo>
                <a:cubicBezTo>
                  <a:pt x="19494" y="14287"/>
                  <a:pt x="19496" y="14337"/>
                  <a:pt x="19496" y="14387"/>
                </a:cubicBezTo>
                <a:cubicBezTo>
                  <a:pt x="19537" y="14373"/>
                  <a:pt x="19517" y="14324"/>
                  <a:pt x="19571" y="14312"/>
                </a:cubicBezTo>
                <a:cubicBezTo>
                  <a:pt x="19624" y="14300"/>
                  <a:pt x="19621" y="14353"/>
                  <a:pt x="19621" y="14387"/>
                </a:cubicBezTo>
                <a:cubicBezTo>
                  <a:pt x="19621" y="14440"/>
                  <a:pt x="19567" y="14449"/>
                  <a:pt x="19521" y="14436"/>
                </a:cubicBezTo>
                <a:cubicBezTo>
                  <a:pt x="19505" y="14428"/>
                  <a:pt x="19488" y="14420"/>
                  <a:pt x="19472" y="14412"/>
                </a:cubicBezTo>
              </a:path>
              <a:path w="1737" h="1018">
                <a:moveTo>
                  <a:pt x="19695" y="14288"/>
                </a:moveTo>
                <a:cubicBezTo>
                  <a:pt x="19703" y="14280"/>
                  <a:pt x="19712" y="14271"/>
                  <a:pt x="19720" y="14263"/>
                </a:cubicBezTo>
                <a:cubicBezTo>
                  <a:pt x="19720" y="14319"/>
                  <a:pt x="19710" y="14368"/>
                  <a:pt x="19745" y="14412"/>
                </a:cubicBezTo>
                <a:cubicBezTo>
                  <a:pt x="19795" y="14474"/>
                  <a:pt x="19824" y="14466"/>
                  <a:pt x="19893" y="14436"/>
                </a:cubicBezTo>
                <a:cubicBezTo>
                  <a:pt x="19910" y="14428"/>
                  <a:pt x="19926" y="14420"/>
                  <a:pt x="19943" y="144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82800" y="5045040"/>
            <a:ext cx="276120" cy="241200"/>
          </a:xfrm>
          <a:custGeom>
            <a:avLst/>
            <a:gdLst/>
            <a:ahLst/>
            <a:rect l="l" t="t" r="r" b="b"/>
            <a:pathLst>
              <a:path w="769" h="670">
                <a:moveTo>
                  <a:pt x="3200" y="14610"/>
                </a:moveTo>
                <a:cubicBezTo>
                  <a:pt x="3200" y="14635"/>
                  <a:pt x="3200" y="14643"/>
                  <a:pt x="3200" y="14660"/>
                </a:cubicBezTo>
                <a:cubicBezTo>
                  <a:pt x="3144" y="14660"/>
                  <a:pt x="3122" y="14669"/>
                  <a:pt x="3076" y="14684"/>
                </a:cubicBezTo>
                <a:cubicBezTo>
                  <a:pt x="3034" y="14697"/>
                  <a:pt x="2983" y="14684"/>
                  <a:pt x="2952" y="14660"/>
                </a:cubicBezTo>
                <a:cubicBezTo>
                  <a:pt x="2913" y="14629"/>
                  <a:pt x="2870" y="14587"/>
                  <a:pt x="2828" y="14560"/>
                </a:cubicBezTo>
                <a:cubicBezTo>
                  <a:pt x="2777" y="14528"/>
                  <a:pt x="2758" y="14506"/>
                  <a:pt x="2753" y="14436"/>
                </a:cubicBezTo>
                <a:cubicBezTo>
                  <a:pt x="2749" y="14378"/>
                  <a:pt x="2729" y="14350"/>
                  <a:pt x="2729" y="14288"/>
                </a:cubicBezTo>
                <a:cubicBezTo>
                  <a:pt x="2729" y="14234"/>
                  <a:pt x="2740" y="14204"/>
                  <a:pt x="2778" y="14163"/>
                </a:cubicBezTo>
                <a:cubicBezTo>
                  <a:pt x="2819" y="14118"/>
                  <a:pt x="2869" y="14058"/>
                  <a:pt x="2927" y="14039"/>
                </a:cubicBezTo>
                <a:cubicBezTo>
                  <a:pt x="2969" y="14025"/>
                  <a:pt x="3032" y="14017"/>
                  <a:pt x="3076" y="14015"/>
                </a:cubicBezTo>
                <a:cubicBezTo>
                  <a:pt x="3132" y="14012"/>
                  <a:pt x="3197" y="14041"/>
                  <a:pt x="3249" y="14064"/>
                </a:cubicBezTo>
                <a:cubicBezTo>
                  <a:pt x="3323" y="14097"/>
                  <a:pt x="3366" y="14131"/>
                  <a:pt x="3423" y="14188"/>
                </a:cubicBezTo>
                <a:cubicBezTo>
                  <a:pt x="3467" y="14232"/>
                  <a:pt x="3494" y="14278"/>
                  <a:pt x="3497" y="14337"/>
                </a:cubicBezTo>
                <a:cubicBezTo>
                  <a:pt x="3501" y="14401"/>
                  <a:pt x="3450" y="14471"/>
                  <a:pt x="3398" y="14511"/>
                </a:cubicBezTo>
                <a:cubicBezTo>
                  <a:pt x="3358" y="14531"/>
                  <a:pt x="3352" y="14540"/>
                  <a:pt x="3324" y="145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24040" y="5045040"/>
            <a:ext cx="231840" cy="196920"/>
          </a:xfrm>
          <a:custGeom>
            <a:avLst/>
            <a:gdLst/>
            <a:ahLst/>
            <a:rect l="l" t="t" r="r" b="b"/>
            <a:pathLst>
              <a:path w="646" h="546">
                <a:moveTo>
                  <a:pt x="4862" y="14064"/>
                </a:moveTo>
                <a:cubicBezTo>
                  <a:pt x="4870" y="14056"/>
                  <a:pt x="4879" y="14047"/>
                  <a:pt x="4887" y="14039"/>
                </a:cubicBezTo>
                <a:cubicBezTo>
                  <a:pt x="4847" y="14071"/>
                  <a:pt x="4791" y="14085"/>
                  <a:pt x="4787" y="14139"/>
                </a:cubicBezTo>
                <a:cubicBezTo>
                  <a:pt x="4784" y="14185"/>
                  <a:pt x="4776" y="14270"/>
                  <a:pt x="4837" y="14288"/>
                </a:cubicBezTo>
                <a:cubicBezTo>
                  <a:pt x="4889" y="14288"/>
                  <a:pt x="4907" y="14287"/>
                  <a:pt x="4936" y="14263"/>
                </a:cubicBezTo>
              </a:path>
              <a:path w="646" h="546">
                <a:moveTo>
                  <a:pt x="5159" y="14163"/>
                </a:moveTo>
                <a:cubicBezTo>
                  <a:pt x="5159" y="14122"/>
                  <a:pt x="5151" y="14106"/>
                  <a:pt x="5184" y="14114"/>
                </a:cubicBezTo>
                <a:cubicBezTo>
                  <a:pt x="5224" y="14127"/>
                  <a:pt x="5209" y="14162"/>
                  <a:pt x="5209" y="14213"/>
                </a:cubicBezTo>
                <a:cubicBezTo>
                  <a:pt x="5209" y="14301"/>
                  <a:pt x="5229" y="14376"/>
                  <a:pt x="5234" y="14461"/>
                </a:cubicBezTo>
                <a:cubicBezTo>
                  <a:pt x="5237" y="14523"/>
                  <a:pt x="5225" y="14516"/>
                  <a:pt x="5259" y="14560"/>
                </a:cubicBezTo>
              </a:path>
              <a:path w="646" h="546">
                <a:moveTo>
                  <a:pt x="5259" y="14188"/>
                </a:moveTo>
                <a:cubicBezTo>
                  <a:pt x="5274" y="14135"/>
                  <a:pt x="5286" y="13983"/>
                  <a:pt x="5383" y="14015"/>
                </a:cubicBezTo>
                <a:cubicBezTo>
                  <a:pt x="5437" y="14033"/>
                  <a:pt x="5444" y="14145"/>
                  <a:pt x="5432" y="14188"/>
                </a:cubicBezTo>
                <a:cubicBezTo>
                  <a:pt x="5410" y="14232"/>
                  <a:pt x="5407" y="14243"/>
                  <a:pt x="5383" y="142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43080" y="4946760"/>
            <a:ext cx="384120" cy="152280"/>
          </a:xfrm>
          <a:custGeom>
            <a:avLst/>
            <a:gdLst/>
            <a:ahLst/>
            <a:rect l="l" t="t" r="r" b="b"/>
            <a:pathLst>
              <a:path w="1068" h="422">
                <a:moveTo>
                  <a:pt x="6176" y="13990"/>
                </a:moveTo>
                <a:cubicBezTo>
                  <a:pt x="6176" y="14015"/>
                  <a:pt x="6176" y="14023"/>
                  <a:pt x="6201" y="14015"/>
                </a:cubicBezTo>
                <a:cubicBezTo>
                  <a:pt x="6144" y="14015"/>
                  <a:pt x="6098" y="14030"/>
                  <a:pt x="6052" y="14039"/>
                </a:cubicBezTo>
                <a:cubicBezTo>
                  <a:pt x="6024" y="14044"/>
                  <a:pt x="5983" y="14039"/>
                  <a:pt x="5953" y="14039"/>
                </a:cubicBezTo>
              </a:path>
              <a:path w="1068" h="422">
                <a:moveTo>
                  <a:pt x="6003" y="13965"/>
                </a:moveTo>
                <a:cubicBezTo>
                  <a:pt x="6011" y="13948"/>
                  <a:pt x="6020" y="13932"/>
                  <a:pt x="6028" y="13915"/>
                </a:cubicBezTo>
                <a:cubicBezTo>
                  <a:pt x="6060" y="13960"/>
                  <a:pt x="6074" y="14005"/>
                  <a:pt x="6077" y="14064"/>
                </a:cubicBezTo>
                <a:cubicBezTo>
                  <a:pt x="6077" y="14116"/>
                  <a:pt x="6078" y="14134"/>
                  <a:pt x="6102" y="14163"/>
                </a:cubicBezTo>
              </a:path>
              <a:path w="1068" h="422">
                <a:moveTo>
                  <a:pt x="6524" y="13990"/>
                </a:moveTo>
                <a:cubicBezTo>
                  <a:pt x="6499" y="13939"/>
                  <a:pt x="6477" y="14028"/>
                  <a:pt x="6474" y="14064"/>
                </a:cubicBezTo>
                <a:cubicBezTo>
                  <a:pt x="6469" y="14126"/>
                  <a:pt x="6497" y="14139"/>
                  <a:pt x="6548" y="14139"/>
                </a:cubicBezTo>
                <a:cubicBezTo>
                  <a:pt x="6578" y="14048"/>
                  <a:pt x="6573" y="13964"/>
                  <a:pt x="6573" y="13866"/>
                </a:cubicBezTo>
                <a:cubicBezTo>
                  <a:pt x="6573" y="13816"/>
                  <a:pt x="6573" y="13800"/>
                  <a:pt x="6573" y="13767"/>
                </a:cubicBezTo>
                <a:cubicBezTo>
                  <a:pt x="6573" y="13716"/>
                  <a:pt x="6590" y="13816"/>
                  <a:pt x="6598" y="13866"/>
                </a:cubicBezTo>
                <a:cubicBezTo>
                  <a:pt x="6610" y="13944"/>
                  <a:pt x="6625" y="14021"/>
                  <a:pt x="6672" y="14089"/>
                </a:cubicBezTo>
                <a:cubicBezTo>
                  <a:pt x="6694" y="14121"/>
                  <a:pt x="6715" y="14131"/>
                  <a:pt x="6747" y="14139"/>
                </a:cubicBezTo>
              </a:path>
              <a:path w="1068" h="422">
                <a:moveTo>
                  <a:pt x="6896" y="14015"/>
                </a:moveTo>
                <a:cubicBezTo>
                  <a:pt x="6896" y="14039"/>
                  <a:pt x="6896" y="14048"/>
                  <a:pt x="6896" y="14064"/>
                </a:cubicBezTo>
                <a:cubicBezTo>
                  <a:pt x="6885" y="14008"/>
                  <a:pt x="6871" y="13974"/>
                  <a:pt x="6871" y="13915"/>
                </a:cubicBezTo>
                <a:cubicBezTo>
                  <a:pt x="6871" y="13875"/>
                  <a:pt x="6935" y="13825"/>
                  <a:pt x="6970" y="13816"/>
                </a:cubicBezTo>
                <a:cubicBezTo>
                  <a:pt x="6987" y="13816"/>
                  <a:pt x="7003" y="13816"/>
                  <a:pt x="7020" y="138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52840" y="4973760"/>
            <a:ext cx="79200" cy="63360"/>
          </a:xfrm>
          <a:custGeom>
            <a:avLst/>
            <a:gdLst/>
            <a:ahLst/>
            <a:rect l="l" t="t" r="r" b="b"/>
            <a:pathLst>
              <a:path w="224" h="175">
                <a:moveTo>
                  <a:pt x="7516" y="13841"/>
                </a:moveTo>
                <a:cubicBezTo>
                  <a:pt x="7560" y="13808"/>
                  <a:pt x="7567" y="13784"/>
                  <a:pt x="7491" y="13816"/>
                </a:cubicBezTo>
                <a:cubicBezTo>
                  <a:pt x="7444" y="13835"/>
                  <a:pt x="7427" y="13841"/>
                  <a:pt x="7367" y="13841"/>
                </a:cubicBezTo>
              </a:path>
              <a:path w="224" h="175">
                <a:moveTo>
                  <a:pt x="7541" y="13965"/>
                </a:moveTo>
                <a:cubicBezTo>
                  <a:pt x="7565" y="13965"/>
                  <a:pt x="7574" y="13965"/>
                  <a:pt x="7590" y="13965"/>
                </a:cubicBezTo>
                <a:cubicBezTo>
                  <a:pt x="7542" y="13965"/>
                  <a:pt x="7529" y="13961"/>
                  <a:pt x="7491" y="139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867040" y="4875120"/>
            <a:ext cx="98280" cy="142920"/>
          </a:xfrm>
          <a:custGeom>
            <a:avLst/>
            <a:gdLst/>
            <a:ahLst/>
            <a:rect l="l" t="t" r="r" b="b"/>
            <a:pathLst>
              <a:path w="274" h="398">
                <a:moveTo>
                  <a:pt x="7987" y="13742"/>
                </a:moveTo>
                <a:cubicBezTo>
                  <a:pt x="7987" y="13696"/>
                  <a:pt x="7967" y="13683"/>
                  <a:pt x="7962" y="13643"/>
                </a:cubicBezTo>
                <a:cubicBezTo>
                  <a:pt x="7955" y="13583"/>
                  <a:pt x="7976" y="13592"/>
                  <a:pt x="8012" y="13568"/>
                </a:cubicBezTo>
                <a:cubicBezTo>
                  <a:pt x="8049" y="13543"/>
                  <a:pt x="8092" y="13521"/>
                  <a:pt x="8136" y="13568"/>
                </a:cubicBezTo>
                <a:cubicBezTo>
                  <a:pt x="8199" y="13636"/>
                  <a:pt x="8231" y="13699"/>
                  <a:pt x="8235" y="13791"/>
                </a:cubicBezTo>
                <a:cubicBezTo>
                  <a:pt x="8239" y="13882"/>
                  <a:pt x="8258" y="13932"/>
                  <a:pt x="8161" y="13940"/>
                </a:cubicBezTo>
                <a:cubicBezTo>
                  <a:pt x="8113" y="13944"/>
                  <a:pt x="8026" y="13893"/>
                  <a:pt x="7987" y="13866"/>
                </a:cubicBezTo>
                <a:cubicBezTo>
                  <a:pt x="7954" y="13843"/>
                  <a:pt x="7962" y="13826"/>
                  <a:pt x="7962" y="137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62000" y="5303880"/>
            <a:ext cx="162000" cy="162000"/>
          </a:xfrm>
          <a:custGeom>
            <a:avLst/>
            <a:gdLst/>
            <a:ahLst/>
            <a:rect l="l" t="t" r="r" b="b"/>
            <a:pathLst>
              <a:path w="447" h="447">
                <a:moveTo>
                  <a:pt x="3076" y="14982"/>
                </a:moveTo>
                <a:cubicBezTo>
                  <a:pt x="3076" y="14974"/>
                  <a:pt x="3076" y="14965"/>
                  <a:pt x="3076" y="14957"/>
                </a:cubicBezTo>
                <a:cubicBezTo>
                  <a:pt x="3076" y="15031"/>
                  <a:pt x="3076" y="15106"/>
                  <a:pt x="3076" y="15180"/>
                </a:cubicBezTo>
              </a:path>
              <a:path w="447" h="447">
                <a:moveTo>
                  <a:pt x="3125" y="14932"/>
                </a:moveTo>
                <a:cubicBezTo>
                  <a:pt x="3155" y="14984"/>
                  <a:pt x="3183" y="15014"/>
                  <a:pt x="3225" y="15056"/>
                </a:cubicBezTo>
                <a:cubicBezTo>
                  <a:pt x="3233" y="15064"/>
                  <a:pt x="3241" y="15073"/>
                  <a:pt x="3249" y="15081"/>
                </a:cubicBezTo>
                <a:cubicBezTo>
                  <a:pt x="3287" y="15018"/>
                  <a:pt x="3277" y="14979"/>
                  <a:pt x="3299" y="14908"/>
                </a:cubicBezTo>
                <a:cubicBezTo>
                  <a:pt x="3319" y="14867"/>
                  <a:pt x="3328" y="14861"/>
                  <a:pt x="3324" y="14833"/>
                </a:cubicBezTo>
              </a:path>
              <a:path w="447" h="447">
                <a:moveTo>
                  <a:pt x="3076" y="15081"/>
                </a:moveTo>
                <a:cubicBezTo>
                  <a:pt x="3029" y="15081"/>
                  <a:pt x="3012" y="15087"/>
                  <a:pt x="2977" y="15056"/>
                </a:cubicBezTo>
                <a:cubicBezTo>
                  <a:pt x="2943" y="15026"/>
                  <a:pt x="2952" y="15000"/>
                  <a:pt x="2952" y="14957"/>
                </a:cubicBezTo>
                <a:cubicBezTo>
                  <a:pt x="2952" y="14921"/>
                  <a:pt x="2959" y="14885"/>
                  <a:pt x="2977" y="14858"/>
                </a:cubicBezTo>
                <a:cubicBezTo>
                  <a:pt x="3016" y="14798"/>
                  <a:pt x="3085" y="14739"/>
                  <a:pt x="3150" y="14734"/>
                </a:cubicBezTo>
                <a:cubicBezTo>
                  <a:pt x="3213" y="14729"/>
                  <a:pt x="3248" y="14747"/>
                  <a:pt x="3299" y="14784"/>
                </a:cubicBezTo>
                <a:cubicBezTo>
                  <a:pt x="3343" y="14816"/>
                  <a:pt x="3386" y="14880"/>
                  <a:pt x="3398" y="14932"/>
                </a:cubicBezTo>
                <a:cubicBezTo>
                  <a:pt x="3413" y="15000"/>
                  <a:pt x="3387" y="15075"/>
                  <a:pt x="3349" y="15131"/>
                </a:cubicBezTo>
                <a:cubicBezTo>
                  <a:pt x="3308" y="15191"/>
                  <a:pt x="3237" y="15180"/>
                  <a:pt x="3175" y="15180"/>
                </a:cubicBezTo>
                <a:cubicBezTo>
                  <a:pt x="3111" y="15180"/>
                  <a:pt x="3023" y="15190"/>
                  <a:pt x="2977" y="15131"/>
                </a:cubicBezTo>
                <a:cubicBezTo>
                  <a:pt x="2977" y="15123"/>
                  <a:pt x="2977" y="15114"/>
                  <a:pt x="2977" y="151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70040" y="5313240"/>
            <a:ext cx="312840" cy="169920"/>
          </a:xfrm>
          <a:custGeom>
            <a:avLst/>
            <a:gdLst/>
            <a:ahLst/>
            <a:rect l="l" t="t" r="r" b="b"/>
            <a:pathLst>
              <a:path w="870" h="472">
                <a:moveTo>
                  <a:pt x="4738" y="14784"/>
                </a:moveTo>
                <a:cubicBezTo>
                  <a:pt x="4723" y="14754"/>
                  <a:pt x="4681" y="14785"/>
                  <a:pt x="4663" y="14833"/>
                </a:cubicBezTo>
                <a:cubicBezTo>
                  <a:pt x="4650" y="14867"/>
                  <a:pt x="4621" y="14941"/>
                  <a:pt x="4638" y="14982"/>
                </a:cubicBezTo>
                <a:cubicBezTo>
                  <a:pt x="4657" y="15027"/>
                  <a:pt x="4719" y="15047"/>
                  <a:pt x="4762" y="15032"/>
                </a:cubicBezTo>
                <a:cubicBezTo>
                  <a:pt x="4779" y="15024"/>
                  <a:pt x="4795" y="15015"/>
                  <a:pt x="4812" y="15007"/>
                </a:cubicBezTo>
              </a:path>
              <a:path w="870" h="472">
                <a:moveTo>
                  <a:pt x="5135" y="14883"/>
                </a:moveTo>
                <a:cubicBezTo>
                  <a:pt x="5162" y="14845"/>
                  <a:pt x="5159" y="14831"/>
                  <a:pt x="5159" y="14784"/>
                </a:cubicBezTo>
                <a:cubicBezTo>
                  <a:pt x="5104" y="14784"/>
                  <a:pt x="5104" y="14788"/>
                  <a:pt x="5085" y="14833"/>
                </a:cubicBezTo>
                <a:cubicBezTo>
                  <a:pt x="5066" y="14877"/>
                  <a:pt x="5040" y="14969"/>
                  <a:pt x="5085" y="15007"/>
                </a:cubicBezTo>
                <a:cubicBezTo>
                  <a:pt x="5093" y="15007"/>
                  <a:pt x="5102" y="15007"/>
                  <a:pt x="5110" y="15007"/>
                </a:cubicBezTo>
                <a:cubicBezTo>
                  <a:pt x="5136" y="14974"/>
                  <a:pt x="5157" y="14941"/>
                  <a:pt x="5184" y="14908"/>
                </a:cubicBezTo>
                <a:cubicBezTo>
                  <a:pt x="5210" y="14925"/>
                  <a:pt x="5227" y="15029"/>
                  <a:pt x="5234" y="15081"/>
                </a:cubicBezTo>
                <a:cubicBezTo>
                  <a:pt x="5241" y="15129"/>
                  <a:pt x="5234" y="15182"/>
                  <a:pt x="5234" y="15230"/>
                </a:cubicBezTo>
                <a:cubicBezTo>
                  <a:pt x="5293" y="15230"/>
                  <a:pt x="5330" y="15206"/>
                  <a:pt x="5383" y="15180"/>
                </a:cubicBezTo>
                <a:cubicBezTo>
                  <a:pt x="5443" y="15150"/>
                  <a:pt x="5443" y="15140"/>
                  <a:pt x="5507" y="151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98800" y="5322960"/>
            <a:ext cx="81000" cy="7920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6003" y="14858"/>
                </a:moveTo>
                <a:cubicBezTo>
                  <a:pt x="6057" y="14858"/>
                  <a:pt x="6057" y="14858"/>
                  <a:pt x="6003" y="14858"/>
                </a:cubicBezTo>
                <a:cubicBezTo>
                  <a:pt x="5935" y="14858"/>
                  <a:pt x="5884" y="14850"/>
                  <a:pt x="5829" y="14883"/>
                </a:cubicBezTo>
              </a:path>
              <a:path w="224" h="224">
                <a:moveTo>
                  <a:pt x="5904" y="14784"/>
                </a:moveTo>
                <a:cubicBezTo>
                  <a:pt x="5935" y="14826"/>
                  <a:pt x="5950" y="14852"/>
                  <a:pt x="5953" y="14908"/>
                </a:cubicBezTo>
                <a:cubicBezTo>
                  <a:pt x="5953" y="14959"/>
                  <a:pt x="5954" y="14978"/>
                  <a:pt x="5978" y="15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03640" y="5214960"/>
            <a:ext cx="80640" cy="179280"/>
          </a:xfrm>
          <a:custGeom>
            <a:avLst/>
            <a:gdLst/>
            <a:ahLst/>
            <a:rect l="l" t="t" r="r" b="b"/>
            <a:pathLst>
              <a:path w="224" h="497">
                <a:moveTo>
                  <a:pt x="6424" y="14833"/>
                </a:moveTo>
                <a:cubicBezTo>
                  <a:pt x="6446" y="14811"/>
                  <a:pt x="6455" y="14806"/>
                  <a:pt x="6449" y="14784"/>
                </a:cubicBezTo>
                <a:cubicBezTo>
                  <a:pt x="6423" y="14792"/>
                  <a:pt x="6388" y="14838"/>
                  <a:pt x="6400" y="14883"/>
                </a:cubicBezTo>
                <a:cubicBezTo>
                  <a:pt x="6408" y="14899"/>
                  <a:pt x="6416" y="14916"/>
                  <a:pt x="6424" y="14932"/>
                </a:cubicBezTo>
                <a:cubicBezTo>
                  <a:pt x="6498" y="14914"/>
                  <a:pt x="6474" y="14854"/>
                  <a:pt x="6474" y="14784"/>
                </a:cubicBezTo>
                <a:cubicBezTo>
                  <a:pt x="6474" y="14693"/>
                  <a:pt x="6474" y="14602"/>
                  <a:pt x="6474" y="14511"/>
                </a:cubicBezTo>
                <a:cubicBezTo>
                  <a:pt x="6474" y="14456"/>
                  <a:pt x="6493" y="14655"/>
                  <a:pt x="6499" y="14684"/>
                </a:cubicBezTo>
                <a:cubicBezTo>
                  <a:pt x="6516" y="14772"/>
                  <a:pt x="6541" y="14888"/>
                  <a:pt x="6598" y="14957"/>
                </a:cubicBezTo>
                <a:cubicBezTo>
                  <a:pt x="6606" y="14965"/>
                  <a:pt x="6615" y="14974"/>
                  <a:pt x="6623" y="149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90840" y="5276880"/>
            <a:ext cx="54000" cy="98280"/>
          </a:xfrm>
          <a:custGeom>
            <a:avLst/>
            <a:gdLst/>
            <a:ahLst/>
            <a:rect l="l" t="t" r="r" b="b"/>
            <a:pathLst>
              <a:path w="149" h="273">
                <a:moveTo>
                  <a:pt x="6970" y="14709"/>
                </a:moveTo>
                <a:cubicBezTo>
                  <a:pt x="6970" y="14693"/>
                  <a:pt x="6970" y="14676"/>
                  <a:pt x="6970" y="14660"/>
                </a:cubicBezTo>
                <a:cubicBezTo>
                  <a:pt x="6935" y="14703"/>
                  <a:pt x="6921" y="14729"/>
                  <a:pt x="6921" y="14784"/>
                </a:cubicBezTo>
                <a:cubicBezTo>
                  <a:pt x="6921" y="14832"/>
                  <a:pt x="6979" y="14848"/>
                  <a:pt x="7020" y="14858"/>
                </a:cubicBezTo>
                <a:cubicBezTo>
                  <a:pt x="7045" y="14858"/>
                  <a:pt x="7053" y="14858"/>
                  <a:pt x="7069" y="14858"/>
                </a:cubicBezTo>
                <a:cubicBezTo>
                  <a:pt x="7069" y="14939"/>
                  <a:pt x="7058" y="14883"/>
                  <a:pt x="6995" y="14908"/>
                </a:cubicBezTo>
                <a:cubicBezTo>
                  <a:pt x="6987" y="14916"/>
                  <a:pt x="6978" y="14924"/>
                  <a:pt x="6970" y="149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678040" y="5268960"/>
            <a:ext cx="73080" cy="61920"/>
          </a:xfrm>
          <a:custGeom>
            <a:avLst/>
            <a:gdLst/>
            <a:ahLst/>
            <a:rect l="l" t="t" r="r" b="b"/>
            <a:pathLst>
              <a:path w="200" h="174">
                <a:moveTo>
                  <a:pt x="7590" y="14684"/>
                </a:moveTo>
                <a:cubicBezTo>
                  <a:pt x="7590" y="14643"/>
                  <a:pt x="7582" y="14627"/>
                  <a:pt x="7615" y="14635"/>
                </a:cubicBezTo>
                <a:cubicBezTo>
                  <a:pt x="7555" y="14635"/>
                  <a:pt x="7516" y="14645"/>
                  <a:pt x="7466" y="14660"/>
                </a:cubicBezTo>
                <a:cubicBezTo>
                  <a:pt x="7458" y="14660"/>
                  <a:pt x="7449" y="14660"/>
                  <a:pt x="7441" y="14660"/>
                </a:cubicBezTo>
              </a:path>
              <a:path w="200" h="174">
                <a:moveTo>
                  <a:pt x="7615" y="14784"/>
                </a:moveTo>
                <a:cubicBezTo>
                  <a:pt x="7623" y="14792"/>
                  <a:pt x="7632" y="14800"/>
                  <a:pt x="7640" y="14808"/>
                </a:cubicBezTo>
                <a:cubicBezTo>
                  <a:pt x="7627" y="14772"/>
                  <a:pt x="7609" y="14784"/>
                  <a:pt x="7565" y="14784"/>
                </a:cubicBezTo>
                <a:cubicBezTo>
                  <a:pt x="7557" y="14784"/>
                  <a:pt x="7549" y="14784"/>
                  <a:pt x="7541" y="147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894040" y="5180040"/>
            <a:ext cx="44280" cy="123840"/>
          </a:xfrm>
          <a:custGeom>
            <a:avLst/>
            <a:gdLst/>
            <a:ahLst/>
            <a:rect l="l" t="t" r="r" b="b"/>
            <a:pathLst>
              <a:path w="125" h="348">
                <a:moveTo>
                  <a:pt x="8037" y="14412"/>
                </a:moveTo>
                <a:cubicBezTo>
                  <a:pt x="8059" y="14390"/>
                  <a:pt x="8064" y="14381"/>
                  <a:pt x="8086" y="14387"/>
                </a:cubicBezTo>
                <a:cubicBezTo>
                  <a:pt x="8086" y="14474"/>
                  <a:pt x="8123" y="14530"/>
                  <a:pt x="8136" y="14610"/>
                </a:cubicBezTo>
                <a:cubicBezTo>
                  <a:pt x="8136" y="14678"/>
                  <a:pt x="8133" y="14697"/>
                  <a:pt x="8161" y="147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73680" y="5224320"/>
            <a:ext cx="1670040" cy="204840"/>
          </a:xfrm>
          <a:custGeom>
            <a:avLst/>
            <a:gdLst/>
            <a:ahLst/>
            <a:rect l="l" t="t" r="r" b="b"/>
            <a:pathLst>
              <a:path w="4640" h="571">
                <a:moveTo>
                  <a:pt x="15627" y="14536"/>
                </a:moveTo>
                <a:cubicBezTo>
                  <a:pt x="15627" y="14533"/>
                  <a:pt x="15711" y="14501"/>
                  <a:pt x="15652" y="14511"/>
                </a:cubicBezTo>
                <a:cubicBezTo>
                  <a:pt x="15607" y="14518"/>
                  <a:pt x="15560" y="14534"/>
                  <a:pt x="15503" y="14536"/>
                </a:cubicBezTo>
                <a:cubicBezTo>
                  <a:pt x="15345" y="14540"/>
                  <a:pt x="15186" y="14551"/>
                  <a:pt x="15032" y="14560"/>
                </a:cubicBezTo>
                <a:cubicBezTo>
                  <a:pt x="14842" y="14571"/>
                  <a:pt x="14644" y="14532"/>
                  <a:pt x="14461" y="14585"/>
                </a:cubicBezTo>
                <a:cubicBezTo>
                  <a:pt x="14367" y="14612"/>
                  <a:pt x="14280" y="14653"/>
                  <a:pt x="14188" y="14684"/>
                </a:cubicBezTo>
                <a:cubicBezTo>
                  <a:pt x="14056" y="14729"/>
                  <a:pt x="13926" y="14758"/>
                  <a:pt x="13791" y="14784"/>
                </a:cubicBezTo>
                <a:cubicBezTo>
                  <a:pt x="13692" y="14803"/>
                  <a:pt x="13593" y="14810"/>
                  <a:pt x="13494" y="14833"/>
                </a:cubicBezTo>
                <a:cubicBezTo>
                  <a:pt x="13394" y="14856"/>
                  <a:pt x="13297" y="14866"/>
                  <a:pt x="13196" y="14883"/>
                </a:cubicBezTo>
                <a:cubicBezTo>
                  <a:pt x="13088" y="14901"/>
                  <a:pt x="12985" y="14923"/>
                  <a:pt x="12874" y="14932"/>
                </a:cubicBezTo>
                <a:cubicBezTo>
                  <a:pt x="12748" y="14942"/>
                  <a:pt x="12629" y="14954"/>
                  <a:pt x="12502" y="14957"/>
                </a:cubicBezTo>
                <a:cubicBezTo>
                  <a:pt x="12380" y="14960"/>
                  <a:pt x="12273" y="14960"/>
                  <a:pt x="12154" y="14982"/>
                </a:cubicBezTo>
                <a:cubicBezTo>
                  <a:pt x="12057" y="15000"/>
                  <a:pt x="11955" y="14991"/>
                  <a:pt x="11857" y="15007"/>
                </a:cubicBezTo>
                <a:cubicBezTo>
                  <a:pt x="11762" y="15023"/>
                  <a:pt x="11682" y="15030"/>
                  <a:pt x="11584" y="15032"/>
                </a:cubicBezTo>
                <a:cubicBezTo>
                  <a:pt x="11497" y="15034"/>
                  <a:pt x="11420" y="15051"/>
                  <a:pt x="11336" y="15056"/>
                </a:cubicBezTo>
                <a:cubicBezTo>
                  <a:pt x="11232" y="15062"/>
                  <a:pt x="11127" y="15065"/>
                  <a:pt x="11038" y="15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017960" y="5545080"/>
            <a:ext cx="331920" cy="268200"/>
          </a:xfrm>
          <a:custGeom>
            <a:avLst/>
            <a:gdLst/>
            <a:ahLst/>
            <a:rect l="l" t="t" r="r" b="b"/>
            <a:pathLst>
              <a:path w="919" h="745">
                <a:moveTo>
                  <a:pt x="11261" y="15751"/>
                </a:moveTo>
                <a:cubicBezTo>
                  <a:pt x="11283" y="15713"/>
                  <a:pt x="11302" y="15689"/>
                  <a:pt x="11311" y="15652"/>
                </a:cubicBezTo>
                <a:cubicBezTo>
                  <a:pt x="11277" y="15652"/>
                  <a:pt x="11204" y="15668"/>
                  <a:pt x="11187" y="15701"/>
                </a:cubicBezTo>
                <a:cubicBezTo>
                  <a:pt x="11154" y="15767"/>
                  <a:pt x="11170" y="15839"/>
                  <a:pt x="11212" y="15900"/>
                </a:cubicBezTo>
                <a:cubicBezTo>
                  <a:pt x="11220" y="15908"/>
                  <a:pt x="11229" y="15917"/>
                  <a:pt x="11237" y="15925"/>
                </a:cubicBezTo>
                <a:cubicBezTo>
                  <a:pt x="11281" y="15902"/>
                  <a:pt x="11302" y="15833"/>
                  <a:pt x="11311" y="15776"/>
                </a:cubicBezTo>
                <a:cubicBezTo>
                  <a:pt x="11311" y="15731"/>
                  <a:pt x="11308" y="15718"/>
                  <a:pt x="11336" y="15701"/>
                </a:cubicBezTo>
                <a:cubicBezTo>
                  <a:pt x="11368" y="15758"/>
                  <a:pt x="11386" y="15777"/>
                  <a:pt x="11435" y="15825"/>
                </a:cubicBezTo>
              </a:path>
              <a:path w="919" h="745">
                <a:moveTo>
                  <a:pt x="11658" y="15701"/>
                </a:moveTo>
                <a:cubicBezTo>
                  <a:pt x="11638" y="15661"/>
                  <a:pt x="11629" y="15655"/>
                  <a:pt x="11633" y="15627"/>
                </a:cubicBezTo>
                <a:cubicBezTo>
                  <a:pt x="11602" y="15670"/>
                  <a:pt x="11587" y="15695"/>
                  <a:pt x="11584" y="15751"/>
                </a:cubicBezTo>
                <a:cubicBezTo>
                  <a:pt x="11581" y="15810"/>
                  <a:pt x="11595" y="15812"/>
                  <a:pt x="11633" y="15850"/>
                </a:cubicBezTo>
                <a:cubicBezTo>
                  <a:pt x="11648" y="15773"/>
                  <a:pt x="11658" y="15710"/>
                  <a:pt x="11658" y="15627"/>
                </a:cubicBezTo>
                <a:cubicBezTo>
                  <a:pt x="11658" y="15547"/>
                  <a:pt x="11672" y="15469"/>
                  <a:pt x="11633" y="15404"/>
                </a:cubicBezTo>
                <a:cubicBezTo>
                  <a:pt x="11642" y="15475"/>
                  <a:pt x="11659" y="15535"/>
                  <a:pt x="11683" y="15602"/>
                </a:cubicBezTo>
                <a:cubicBezTo>
                  <a:pt x="11705" y="15664"/>
                  <a:pt x="11728" y="15717"/>
                  <a:pt x="11757" y="15776"/>
                </a:cubicBezTo>
              </a:path>
              <a:path w="919" h="745">
                <a:moveTo>
                  <a:pt x="11906" y="15701"/>
                </a:moveTo>
                <a:cubicBezTo>
                  <a:pt x="11906" y="15685"/>
                  <a:pt x="11906" y="15668"/>
                  <a:pt x="11906" y="15652"/>
                </a:cubicBezTo>
                <a:cubicBezTo>
                  <a:pt x="11942" y="15723"/>
                  <a:pt x="11972" y="15796"/>
                  <a:pt x="11981" y="15875"/>
                </a:cubicBezTo>
                <a:cubicBezTo>
                  <a:pt x="11992" y="15966"/>
                  <a:pt x="11995" y="16057"/>
                  <a:pt x="12005" y="16148"/>
                </a:cubicBezTo>
              </a:path>
              <a:path w="919" h="745">
                <a:moveTo>
                  <a:pt x="11931" y="15776"/>
                </a:moveTo>
                <a:cubicBezTo>
                  <a:pt x="11931" y="15691"/>
                  <a:pt x="11922" y="15642"/>
                  <a:pt x="11981" y="15577"/>
                </a:cubicBezTo>
                <a:cubicBezTo>
                  <a:pt x="12012" y="15543"/>
                  <a:pt x="12037" y="15553"/>
                  <a:pt x="12080" y="15553"/>
                </a:cubicBezTo>
                <a:cubicBezTo>
                  <a:pt x="12080" y="15626"/>
                  <a:pt x="12111" y="15769"/>
                  <a:pt x="12055" y="15825"/>
                </a:cubicBezTo>
                <a:cubicBezTo>
                  <a:pt x="12011" y="15847"/>
                  <a:pt x="12000" y="15850"/>
                  <a:pt x="11981" y="15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73720" y="5634000"/>
            <a:ext cx="117360" cy="36720"/>
          </a:xfrm>
          <a:custGeom>
            <a:avLst/>
            <a:gdLst/>
            <a:ahLst/>
            <a:rect l="l" t="t" r="r" b="b"/>
            <a:pathLst>
              <a:path w="324" h="100">
                <a:moveTo>
                  <a:pt x="12427" y="15751"/>
                </a:moveTo>
                <a:cubicBezTo>
                  <a:pt x="12438" y="15705"/>
                  <a:pt x="12462" y="15700"/>
                  <a:pt x="12502" y="15677"/>
                </a:cubicBezTo>
                <a:cubicBezTo>
                  <a:pt x="12565" y="15641"/>
                  <a:pt x="12629" y="15652"/>
                  <a:pt x="12700" y="15652"/>
                </a:cubicBezTo>
                <a:cubicBezTo>
                  <a:pt x="12725" y="15652"/>
                  <a:pt x="12733" y="15652"/>
                  <a:pt x="12750" y="1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70280" y="5411880"/>
            <a:ext cx="347760" cy="303120"/>
          </a:xfrm>
          <a:custGeom>
            <a:avLst/>
            <a:gdLst/>
            <a:ahLst/>
            <a:rect l="l" t="t" r="r" b="b"/>
            <a:pathLst>
              <a:path w="968" h="844">
                <a:moveTo>
                  <a:pt x="12973" y="15156"/>
                </a:moveTo>
                <a:cubicBezTo>
                  <a:pt x="12973" y="15098"/>
                  <a:pt x="12973" y="15023"/>
                  <a:pt x="12973" y="15081"/>
                </a:cubicBezTo>
                <a:cubicBezTo>
                  <a:pt x="12973" y="15222"/>
                  <a:pt x="12973" y="15594"/>
                  <a:pt x="12973" y="15453"/>
                </a:cubicBezTo>
                <a:cubicBezTo>
                  <a:pt x="12973" y="15410"/>
                  <a:pt x="13005" y="15327"/>
                  <a:pt x="13072" y="15354"/>
                </a:cubicBezTo>
                <a:cubicBezTo>
                  <a:pt x="13140" y="15381"/>
                  <a:pt x="13146" y="15442"/>
                  <a:pt x="13146" y="15503"/>
                </a:cubicBezTo>
                <a:cubicBezTo>
                  <a:pt x="13146" y="15545"/>
                  <a:pt x="13112" y="15574"/>
                  <a:pt x="13072" y="15577"/>
                </a:cubicBezTo>
                <a:cubicBezTo>
                  <a:pt x="13031" y="15577"/>
                  <a:pt x="13023" y="15577"/>
                  <a:pt x="12998" y="15577"/>
                </a:cubicBezTo>
              </a:path>
              <a:path w="968" h="844">
                <a:moveTo>
                  <a:pt x="13395" y="15379"/>
                </a:moveTo>
                <a:cubicBezTo>
                  <a:pt x="13415" y="15338"/>
                  <a:pt x="13423" y="15332"/>
                  <a:pt x="13419" y="15304"/>
                </a:cubicBezTo>
                <a:cubicBezTo>
                  <a:pt x="13374" y="15350"/>
                  <a:pt x="13370" y="15363"/>
                  <a:pt x="13370" y="15429"/>
                </a:cubicBezTo>
                <a:cubicBezTo>
                  <a:pt x="13370" y="15487"/>
                  <a:pt x="13413" y="15522"/>
                  <a:pt x="13469" y="15528"/>
                </a:cubicBezTo>
                <a:cubicBezTo>
                  <a:pt x="13497" y="15528"/>
                  <a:pt x="13508" y="15526"/>
                  <a:pt x="13519" y="15503"/>
                </a:cubicBezTo>
              </a:path>
              <a:path w="968" h="844">
                <a:moveTo>
                  <a:pt x="13667" y="15453"/>
                </a:moveTo>
                <a:cubicBezTo>
                  <a:pt x="13667" y="15412"/>
                  <a:pt x="13659" y="15396"/>
                  <a:pt x="13692" y="15404"/>
                </a:cubicBezTo>
                <a:cubicBezTo>
                  <a:pt x="13717" y="15421"/>
                  <a:pt x="13736" y="15526"/>
                  <a:pt x="13742" y="15577"/>
                </a:cubicBezTo>
                <a:cubicBezTo>
                  <a:pt x="13752" y="15663"/>
                  <a:pt x="13753" y="15744"/>
                  <a:pt x="13767" y="15825"/>
                </a:cubicBezTo>
                <a:cubicBezTo>
                  <a:pt x="13767" y="15842"/>
                  <a:pt x="13767" y="15858"/>
                  <a:pt x="13767" y="15875"/>
                </a:cubicBezTo>
              </a:path>
              <a:path w="968" h="844">
                <a:moveTo>
                  <a:pt x="13667" y="15553"/>
                </a:moveTo>
                <a:cubicBezTo>
                  <a:pt x="13676" y="15401"/>
                  <a:pt x="13663" y="15393"/>
                  <a:pt x="13791" y="15329"/>
                </a:cubicBezTo>
                <a:cubicBezTo>
                  <a:pt x="13835" y="15307"/>
                  <a:pt x="13915" y="15283"/>
                  <a:pt x="13940" y="15354"/>
                </a:cubicBezTo>
                <a:cubicBezTo>
                  <a:pt x="13963" y="15419"/>
                  <a:pt x="13923" y="15479"/>
                  <a:pt x="13866" y="15503"/>
                </a:cubicBezTo>
                <a:cubicBezTo>
                  <a:pt x="13833" y="15503"/>
                  <a:pt x="13816" y="15503"/>
                  <a:pt x="13791" y="155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60960" y="5518080"/>
            <a:ext cx="63360" cy="36720"/>
          </a:xfrm>
          <a:custGeom>
            <a:avLst/>
            <a:gdLst/>
            <a:ahLst/>
            <a:rect l="l" t="t" r="r" b="b"/>
            <a:pathLst>
              <a:path w="175" h="101">
                <a:moveTo>
                  <a:pt x="14436" y="15329"/>
                </a:moveTo>
                <a:cubicBezTo>
                  <a:pt x="14461" y="15329"/>
                  <a:pt x="14469" y="15329"/>
                  <a:pt x="14486" y="15329"/>
                </a:cubicBezTo>
                <a:cubicBezTo>
                  <a:pt x="14436" y="15329"/>
                  <a:pt x="14387" y="15329"/>
                  <a:pt x="14337" y="15329"/>
                </a:cubicBezTo>
              </a:path>
              <a:path w="175" h="101">
                <a:moveTo>
                  <a:pt x="14486" y="15429"/>
                </a:moveTo>
                <a:cubicBezTo>
                  <a:pt x="14553" y="15429"/>
                  <a:pt x="14469" y="15429"/>
                  <a:pt x="14461" y="154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27800" y="5392800"/>
            <a:ext cx="108000" cy="189000"/>
          </a:xfrm>
          <a:custGeom>
            <a:avLst/>
            <a:gdLst/>
            <a:ahLst/>
            <a:rect l="l" t="t" r="r" b="b"/>
            <a:pathLst>
              <a:path w="299" h="522">
                <a:moveTo>
                  <a:pt x="15404" y="15329"/>
                </a:moveTo>
                <a:cubicBezTo>
                  <a:pt x="15439" y="15302"/>
                  <a:pt x="15442" y="15312"/>
                  <a:pt x="15453" y="15280"/>
                </a:cubicBezTo>
                <a:cubicBezTo>
                  <a:pt x="15425" y="15287"/>
                  <a:pt x="15364" y="15319"/>
                  <a:pt x="15354" y="15354"/>
                </a:cubicBezTo>
                <a:cubicBezTo>
                  <a:pt x="15335" y="15422"/>
                  <a:pt x="15360" y="15459"/>
                  <a:pt x="15404" y="15503"/>
                </a:cubicBezTo>
                <a:cubicBezTo>
                  <a:pt x="15475" y="15452"/>
                  <a:pt x="15516" y="15374"/>
                  <a:pt x="15528" y="15280"/>
                </a:cubicBezTo>
                <a:cubicBezTo>
                  <a:pt x="15539" y="15192"/>
                  <a:pt x="15528" y="15096"/>
                  <a:pt x="15528" y="15007"/>
                </a:cubicBezTo>
                <a:cubicBezTo>
                  <a:pt x="15528" y="14968"/>
                  <a:pt x="15534" y="15159"/>
                  <a:pt x="15553" y="15205"/>
                </a:cubicBezTo>
                <a:cubicBezTo>
                  <a:pt x="15587" y="15289"/>
                  <a:pt x="15618" y="15370"/>
                  <a:pt x="15652" y="154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919680" y="5776920"/>
            <a:ext cx="1331640" cy="376200"/>
          </a:xfrm>
          <a:custGeom>
            <a:avLst/>
            <a:gdLst/>
            <a:ahLst/>
            <a:rect l="l" t="t" r="r" b="b"/>
            <a:pathLst>
              <a:path w="3697" h="1042">
                <a:moveTo>
                  <a:pt x="10964" y="16619"/>
                </a:moveTo>
                <a:cubicBezTo>
                  <a:pt x="10964" y="16594"/>
                  <a:pt x="10964" y="16586"/>
                  <a:pt x="10964" y="16570"/>
                </a:cubicBezTo>
                <a:cubicBezTo>
                  <a:pt x="10964" y="16665"/>
                  <a:pt x="10978" y="16750"/>
                  <a:pt x="10988" y="16842"/>
                </a:cubicBezTo>
                <a:cubicBezTo>
                  <a:pt x="10997" y="16923"/>
                  <a:pt x="10988" y="17008"/>
                  <a:pt x="10988" y="17090"/>
                </a:cubicBezTo>
              </a:path>
              <a:path w="3697" h="1042">
                <a:moveTo>
                  <a:pt x="10889" y="16644"/>
                </a:moveTo>
                <a:cubicBezTo>
                  <a:pt x="10895" y="16567"/>
                  <a:pt x="10890" y="16474"/>
                  <a:pt x="10964" y="16421"/>
                </a:cubicBezTo>
                <a:cubicBezTo>
                  <a:pt x="11021" y="16380"/>
                  <a:pt x="11073" y="16384"/>
                  <a:pt x="11112" y="16446"/>
                </a:cubicBezTo>
                <a:cubicBezTo>
                  <a:pt x="11137" y="16486"/>
                  <a:pt x="11112" y="16605"/>
                  <a:pt x="11088" y="16644"/>
                </a:cubicBezTo>
                <a:cubicBezTo>
                  <a:pt x="11065" y="16681"/>
                  <a:pt x="11025" y="16687"/>
                  <a:pt x="10988" y="16694"/>
                </a:cubicBezTo>
              </a:path>
              <a:path w="3697" h="1042">
                <a:moveTo>
                  <a:pt x="11559" y="16297"/>
                </a:moveTo>
                <a:cubicBezTo>
                  <a:pt x="11587" y="16232"/>
                  <a:pt x="11589" y="16201"/>
                  <a:pt x="11559" y="16272"/>
                </a:cubicBezTo>
                <a:cubicBezTo>
                  <a:pt x="11524" y="16355"/>
                  <a:pt x="11520" y="16480"/>
                  <a:pt x="11534" y="16570"/>
                </a:cubicBezTo>
                <a:cubicBezTo>
                  <a:pt x="11546" y="16643"/>
                  <a:pt x="11573" y="16737"/>
                  <a:pt x="11633" y="16768"/>
                </a:cubicBezTo>
              </a:path>
              <a:path w="3697" h="1042">
                <a:moveTo>
                  <a:pt x="12055" y="16669"/>
                </a:moveTo>
                <a:cubicBezTo>
                  <a:pt x="12055" y="16652"/>
                  <a:pt x="12055" y="16636"/>
                  <a:pt x="12055" y="16619"/>
                </a:cubicBezTo>
                <a:cubicBezTo>
                  <a:pt x="12044" y="16662"/>
                  <a:pt x="12013" y="16696"/>
                  <a:pt x="12005" y="16743"/>
                </a:cubicBezTo>
                <a:cubicBezTo>
                  <a:pt x="12000" y="16772"/>
                  <a:pt x="12005" y="16812"/>
                  <a:pt x="12005" y="16842"/>
                </a:cubicBezTo>
                <a:cubicBezTo>
                  <a:pt x="12040" y="16796"/>
                  <a:pt x="12032" y="16743"/>
                  <a:pt x="12055" y="16694"/>
                </a:cubicBezTo>
                <a:cubicBezTo>
                  <a:pt x="12075" y="16651"/>
                  <a:pt x="12132" y="16663"/>
                  <a:pt x="12154" y="16694"/>
                </a:cubicBezTo>
                <a:cubicBezTo>
                  <a:pt x="12182" y="16734"/>
                  <a:pt x="12195" y="16759"/>
                  <a:pt x="12229" y="16793"/>
                </a:cubicBezTo>
              </a:path>
              <a:path w="3697" h="1042">
                <a:moveTo>
                  <a:pt x="12378" y="16594"/>
                </a:moveTo>
                <a:cubicBezTo>
                  <a:pt x="12354" y="16548"/>
                  <a:pt x="12334" y="16657"/>
                  <a:pt x="12328" y="16694"/>
                </a:cubicBezTo>
                <a:cubicBezTo>
                  <a:pt x="12328" y="16710"/>
                  <a:pt x="12328" y="16727"/>
                  <a:pt x="12328" y="16743"/>
                </a:cubicBezTo>
                <a:cubicBezTo>
                  <a:pt x="12415" y="16808"/>
                  <a:pt x="12400" y="16684"/>
                  <a:pt x="12402" y="16619"/>
                </a:cubicBezTo>
                <a:cubicBezTo>
                  <a:pt x="12405" y="16537"/>
                  <a:pt x="12402" y="16453"/>
                  <a:pt x="12402" y="16371"/>
                </a:cubicBezTo>
                <a:cubicBezTo>
                  <a:pt x="12402" y="16309"/>
                  <a:pt x="12424" y="16461"/>
                  <a:pt x="12427" y="16470"/>
                </a:cubicBezTo>
                <a:cubicBezTo>
                  <a:pt x="12449" y="16540"/>
                  <a:pt x="12499" y="16691"/>
                  <a:pt x="12551" y="16743"/>
                </a:cubicBezTo>
                <a:cubicBezTo>
                  <a:pt x="12568" y="16751"/>
                  <a:pt x="12584" y="16760"/>
                  <a:pt x="12601" y="16768"/>
                </a:cubicBezTo>
              </a:path>
              <a:path w="3697" h="1042">
                <a:moveTo>
                  <a:pt x="12948" y="16594"/>
                </a:moveTo>
                <a:cubicBezTo>
                  <a:pt x="12925" y="16572"/>
                  <a:pt x="12917" y="16567"/>
                  <a:pt x="12923" y="16545"/>
                </a:cubicBezTo>
                <a:cubicBezTo>
                  <a:pt x="12968" y="16534"/>
                  <a:pt x="12993" y="16520"/>
                  <a:pt x="13047" y="16520"/>
                </a:cubicBezTo>
                <a:cubicBezTo>
                  <a:pt x="13089" y="16520"/>
                  <a:pt x="13097" y="16520"/>
                  <a:pt x="13122" y="16520"/>
                </a:cubicBezTo>
              </a:path>
              <a:path w="3697" h="1042">
                <a:moveTo>
                  <a:pt x="13419" y="16272"/>
                </a:moveTo>
                <a:cubicBezTo>
                  <a:pt x="13419" y="16194"/>
                  <a:pt x="13404" y="16176"/>
                  <a:pt x="13444" y="16148"/>
                </a:cubicBezTo>
                <a:cubicBezTo>
                  <a:pt x="13444" y="16084"/>
                  <a:pt x="13422" y="16282"/>
                  <a:pt x="13419" y="16297"/>
                </a:cubicBezTo>
                <a:cubicBezTo>
                  <a:pt x="13400" y="16382"/>
                  <a:pt x="13395" y="16457"/>
                  <a:pt x="13395" y="16545"/>
                </a:cubicBezTo>
                <a:cubicBezTo>
                  <a:pt x="13426" y="16514"/>
                  <a:pt x="13450" y="16473"/>
                  <a:pt x="13494" y="16470"/>
                </a:cubicBezTo>
                <a:cubicBezTo>
                  <a:pt x="13563" y="16465"/>
                  <a:pt x="13568" y="16487"/>
                  <a:pt x="13568" y="16545"/>
                </a:cubicBezTo>
                <a:cubicBezTo>
                  <a:pt x="13568" y="16586"/>
                  <a:pt x="13533" y="16616"/>
                  <a:pt x="13494" y="16619"/>
                </a:cubicBezTo>
                <a:cubicBezTo>
                  <a:pt x="13477" y="16619"/>
                  <a:pt x="13461" y="16619"/>
                  <a:pt x="13444" y="16619"/>
                </a:cubicBezTo>
              </a:path>
              <a:path w="3697" h="1042">
                <a:moveTo>
                  <a:pt x="13618" y="16520"/>
                </a:moveTo>
                <a:cubicBezTo>
                  <a:pt x="13676" y="16462"/>
                  <a:pt x="13684" y="16454"/>
                  <a:pt x="13717" y="16421"/>
                </a:cubicBezTo>
                <a:cubicBezTo>
                  <a:pt x="13683" y="16466"/>
                  <a:pt x="13679" y="16497"/>
                  <a:pt x="13717" y="16545"/>
                </a:cubicBezTo>
                <a:cubicBezTo>
                  <a:pt x="13746" y="16582"/>
                  <a:pt x="13774" y="16570"/>
                  <a:pt x="13816" y="16570"/>
                </a:cubicBezTo>
              </a:path>
              <a:path w="3697" h="1042">
                <a:moveTo>
                  <a:pt x="13742" y="16148"/>
                </a:moveTo>
                <a:cubicBezTo>
                  <a:pt x="13841" y="16065"/>
                  <a:pt x="13904" y="16006"/>
                  <a:pt x="14015" y="16123"/>
                </a:cubicBezTo>
                <a:cubicBezTo>
                  <a:pt x="14109" y="16222"/>
                  <a:pt x="14098" y="16352"/>
                  <a:pt x="14064" y="16470"/>
                </a:cubicBezTo>
                <a:cubicBezTo>
                  <a:pt x="14036" y="16553"/>
                  <a:pt x="14022" y="16584"/>
                  <a:pt x="13965" y="16619"/>
                </a:cubicBezTo>
              </a:path>
              <a:path w="3697" h="1042">
                <a:moveTo>
                  <a:pt x="14560" y="16272"/>
                </a:moveTo>
                <a:cubicBezTo>
                  <a:pt x="14534" y="16272"/>
                  <a:pt x="14473" y="16280"/>
                  <a:pt x="14461" y="16297"/>
                </a:cubicBezTo>
                <a:cubicBezTo>
                  <a:pt x="14461" y="16305"/>
                  <a:pt x="14461" y="16313"/>
                  <a:pt x="14461" y="16321"/>
                </a:cubicBezTo>
              </a:path>
              <a:path w="3697" h="1042">
                <a:moveTo>
                  <a:pt x="14560" y="16396"/>
                </a:moveTo>
                <a:cubicBezTo>
                  <a:pt x="14627" y="16396"/>
                  <a:pt x="14522" y="16396"/>
                  <a:pt x="14511" y="163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5705640"/>
            <a:ext cx="134640" cy="215640"/>
          </a:xfrm>
          <a:custGeom>
            <a:avLst/>
            <a:gdLst/>
            <a:ahLst/>
            <a:rect l="l" t="t" r="r" b="b"/>
            <a:pathLst>
              <a:path w="373" h="597">
                <a:moveTo>
                  <a:pt x="15503" y="16247"/>
                </a:moveTo>
                <a:cubicBezTo>
                  <a:pt x="15528" y="16247"/>
                  <a:pt x="15536" y="16247"/>
                  <a:pt x="15553" y="16247"/>
                </a:cubicBezTo>
                <a:cubicBezTo>
                  <a:pt x="15553" y="16200"/>
                  <a:pt x="15535" y="16161"/>
                  <a:pt x="15478" y="16222"/>
                </a:cubicBezTo>
                <a:cubicBezTo>
                  <a:pt x="15454" y="16248"/>
                  <a:pt x="15431" y="16367"/>
                  <a:pt x="15453" y="16396"/>
                </a:cubicBezTo>
                <a:cubicBezTo>
                  <a:pt x="15470" y="16404"/>
                  <a:pt x="15486" y="16413"/>
                  <a:pt x="15503" y="16421"/>
                </a:cubicBezTo>
                <a:cubicBezTo>
                  <a:pt x="15593" y="16330"/>
                  <a:pt x="15597" y="16275"/>
                  <a:pt x="15627" y="16148"/>
                </a:cubicBezTo>
                <a:cubicBezTo>
                  <a:pt x="15652" y="16045"/>
                  <a:pt x="15652" y="15955"/>
                  <a:pt x="15652" y="15850"/>
                </a:cubicBezTo>
                <a:cubicBezTo>
                  <a:pt x="15652" y="15959"/>
                  <a:pt x="15661" y="16069"/>
                  <a:pt x="15701" y="16173"/>
                </a:cubicBezTo>
                <a:cubicBezTo>
                  <a:pt x="15737" y="16266"/>
                  <a:pt x="15790" y="16352"/>
                  <a:pt x="15825" y="16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286680" y="5776920"/>
            <a:ext cx="517320" cy="250920"/>
          </a:xfrm>
          <a:custGeom>
            <a:avLst/>
            <a:gdLst/>
            <a:ahLst/>
            <a:rect l="l" t="t" r="r" b="b"/>
            <a:pathLst>
              <a:path w="1440" h="695">
                <a:moveTo>
                  <a:pt x="17462" y="16619"/>
                </a:moveTo>
                <a:cubicBezTo>
                  <a:pt x="17462" y="16663"/>
                  <a:pt x="17461" y="16659"/>
                  <a:pt x="17487" y="16694"/>
                </a:cubicBezTo>
                <a:cubicBezTo>
                  <a:pt x="17487" y="16620"/>
                  <a:pt x="17496" y="16540"/>
                  <a:pt x="17512" y="16470"/>
                </a:cubicBezTo>
                <a:cubicBezTo>
                  <a:pt x="17529" y="16395"/>
                  <a:pt x="17549" y="16323"/>
                  <a:pt x="17562" y="16247"/>
                </a:cubicBezTo>
                <a:cubicBezTo>
                  <a:pt x="17627" y="16247"/>
                  <a:pt x="17637" y="16284"/>
                  <a:pt x="17661" y="16346"/>
                </a:cubicBezTo>
                <a:cubicBezTo>
                  <a:pt x="17698" y="16440"/>
                  <a:pt x="17718" y="16569"/>
                  <a:pt x="17735" y="16669"/>
                </a:cubicBezTo>
                <a:cubicBezTo>
                  <a:pt x="17735" y="16710"/>
                  <a:pt x="17735" y="16718"/>
                  <a:pt x="17735" y="16743"/>
                </a:cubicBezTo>
              </a:path>
              <a:path w="1440" h="695">
                <a:moveTo>
                  <a:pt x="17735" y="16619"/>
                </a:moveTo>
                <a:cubicBezTo>
                  <a:pt x="17709" y="16571"/>
                  <a:pt x="17693" y="16474"/>
                  <a:pt x="17636" y="16470"/>
                </a:cubicBezTo>
                <a:cubicBezTo>
                  <a:pt x="17595" y="16470"/>
                  <a:pt x="17587" y="16470"/>
                  <a:pt x="17562" y="16470"/>
                </a:cubicBezTo>
              </a:path>
              <a:path w="1440" h="695">
                <a:moveTo>
                  <a:pt x="17884" y="16247"/>
                </a:moveTo>
                <a:cubicBezTo>
                  <a:pt x="17884" y="16239"/>
                  <a:pt x="17884" y="16230"/>
                  <a:pt x="17884" y="16222"/>
                </a:cubicBezTo>
                <a:cubicBezTo>
                  <a:pt x="17958" y="16222"/>
                  <a:pt x="18033" y="16222"/>
                  <a:pt x="18107" y="16222"/>
                </a:cubicBezTo>
              </a:path>
              <a:path w="1440" h="695">
                <a:moveTo>
                  <a:pt x="18182" y="16098"/>
                </a:moveTo>
                <a:cubicBezTo>
                  <a:pt x="18182" y="16082"/>
                  <a:pt x="18182" y="16065"/>
                  <a:pt x="18182" y="16049"/>
                </a:cubicBezTo>
                <a:cubicBezTo>
                  <a:pt x="18231" y="16065"/>
                  <a:pt x="18228" y="16111"/>
                  <a:pt x="18231" y="16173"/>
                </a:cubicBezTo>
                <a:cubicBezTo>
                  <a:pt x="18231" y="16189"/>
                  <a:pt x="18231" y="16206"/>
                  <a:pt x="18231" y="16222"/>
                </a:cubicBezTo>
              </a:path>
              <a:path w="1440" h="695">
                <a:moveTo>
                  <a:pt x="18852" y="16371"/>
                </a:moveTo>
                <a:cubicBezTo>
                  <a:pt x="18860" y="16363"/>
                  <a:pt x="18868" y="16354"/>
                  <a:pt x="18876" y="16346"/>
                </a:cubicBezTo>
                <a:cubicBezTo>
                  <a:pt x="18831" y="16346"/>
                  <a:pt x="18817" y="16368"/>
                  <a:pt x="18777" y="16371"/>
                </a:cubicBezTo>
                <a:cubicBezTo>
                  <a:pt x="18720" y="16375"/>
                  <a:pt x="18717" y="16354"/>
                  <a:pt x="18703" y="16396"/>
                </a:cubicBezTo>
              </a:path>
              <a:path w="1440" h="695">
                <a:moveTo>
                  <a:pt x="18876" y="16470"/>
                </a:moveTo>
                <a:cubicBezTo>
                  <a:pt x="18884" y="16470"/>
                  <a:pt x="18893" y="16470"/>
                  <a:pt x="18901" y="16470"/>
                </a:cubicBezTo>
                <a:cubicBezTo>
                  <a:pt x="18883" y="16525"/>
                  <a:pt x="18856" y="16472"/>
                  <a:pt x="18802" y="16495"/>
                </a:cubicBezTo>
                <a:cubicBezTo>
                  <a:pt x="18779" y="16518"/>
                  <a:pt x="18775" y="16526"/>
                  <a:pt x="18752" y="165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045200" y="5545080"/>
            <a:ext cx="608040" cy="447840"/>
          </a:xfrm>
          <a:custGeom>
            <a:avLst/>
            <a:gdLst/>
            <a:ahLst/>
            <a:rect l="l" t="t" r="r" b="b"/>
            <a:pathLst>
              <a:path w="1688" h="1241">
                <a:moveTo>
                  <a:pt x="20241" y="15751"/>
                </a:moveTo>
                <a:cubicBezTo>
                  <a:pt x="20275" y="15739"/>
                  <a:pt x="20265" y="15743"/>
                  <a:pt x="20265" y="15701"/>
                </a:cubicBezTo>
                <a:cubicBezTo>
                  <a:pt x="20211" y="15701"/>
                  <a:pt x="20181" y="15713"/>
                  <a:pt x="20166" y="15776"/>
                </a:cubicBezTo>
                <a:cubicBezTo>
                  <a:pt x="20153" y="15829"/>
                  <a:pt x="20167" y="15885"/>
                  <a:pt x="20191" y="15925"/>
                </a:cubicBezTo>
                <a:cubicBezTo>
                  <a:pt x="20278" y="15862"/>
                  <a:pt x="20322" y="15764"/>
                  <a:pt x="20340" y="15652"/>
                </a:cubicBezTo>
                <a:cubicBezTo>
                  <a:pt x="20353" y="15572"/>
                  <a:pt x="20365" y="15486"/>
                  <a:pt x="20365" y="15404"/>
                </a:cubicBezTo>
                <a:cubicBezTo>
                  <a:pt x="20365" y="15516"/>
                  <a:pt x="20363" y="15618"/>
                  <a:pt x="20389" y="15726"/>
                </a:cubicBezTo>
              </a:path>
              <a:path w="1688" h="1241">
                <a:moveTo>
                  <a:pt x="21183" y="16049"/>
                </a:moveTo>
                <a:cubicBezTo>
                  <a:pt x="21225" y="16049"/>
                  <a:pt x="21233" y="16049"/>
                  <a:pt x="21258" y="16049"/>
                </a:cubicBezTo>
                <a:cubicBezTo>
                  <a:pt x="21184" y="16024"/>
                  <a:pt x="21142" y="16024"/>
                  <a:pt x="21059" y="16024"/>
                </a:cubicBezTo>
                <a:cubicBezTo>
                  <a:pt x="20841" y="16024"/>
                  <a:pt x="20630" y="16013"/>
                  <a:pt x="20414" y="15999"/>
                </a:cubicBezTo>
                <a:cubicBezTo>
                  <a:pt x="20265" y="15990"/>
                  <a:pt x="20136" y="16008"/>
                  <a:pt x="19993" y="16049"/>
                </a:cubicBezTo>
                <a:cubicBezTo>
                  <a:pt x="19896" y="16077"/>
                  <a:pt x="19819" y="16118"/>
                  <a:pt x="19720" y="16123"/>
                </a:cubicBezTo>
                <a:cubicBezTo>
                  <a:pt x="19666" y="16126"/>
                  <a:pt x="19624" y="16141"/>
                  <a:pt x="19571" y="16148"/>
                </a:cubicBezTo>
              </a:path>
              <a:path w="1688" h="1241">
                <a:moveTo>
                  <a:pt x="19745" y="16470"/>
                </a:moveTo>
                <a:cubicBezTo>
                  <a:pt x="19745" y="16462"/>
                  <a:pt x="19745" y="16454"/>
                  <a:pt x="19745" y="16446"/>
                </a:cubicBezTo>
                <a:cubicBezTo>
                  <a:pt x="19699" y="16457"/>
                  <a:pt x="19658" y="16492"/>
                  <a:pt x="19645" y="16545"/>
                </a:cubicBezTo>
                <a:cubicBezTo>
                  <a:pt x="19633" y="16595"/>
                  <a:pt x="19645" y="16610"/>
                  <a:pt x="19670" y="16644"/>
                </a:cubicBezTo>
                <a:cubicBezTo>
                  <a:pt x="19725" y="16630"/>
                  <a:pt x="19731" y="16588"/>
                  <a:pt x="19769" y="16545"/>
                </a:cubicBezTo>
                <a:cubicBezTo>
                  <a:pt x="19777" y="16537"/>
                  <a:pt x="19786" y="16528"/>
                  <a:pt x="19794" y="16520"/>
                </a:cubicBezTo>
                <a:cubicBezTo>
                  <a:pt x="19828" y="16562"/>
                  <a:pt x="19840" y="16605"/>
                  <a:pt x="19869" y="16644"/>
                </a:cubicBezTo>
              </a:path>
              <a:path w="1688" h="1241">
                <a:moveTo>
                  <a:pt x="20017" y="16545"/>
                </a:moveTo>
                <a:cubicBezTo>
                  <a:pt x="20037" y="16504"/>
                  <a:pt x="20056" y="16488"/>
                  <a:pt x="20017" y="16495"/>
                </a:cubicBezTo>
                <a:cubicBezTo>
                  <a:pt x="20010" y="16508"/>
                  <a:pt x="19963" y="16620"/>
                  <a:pt x="20017" y="16594"/>
                </a:cubicBezTo>
                <a:cubicBezTo>
                  <a:pt x="20082" y="16562"/>
                  <a:pt x="20089" y="16453"/>
                  <a:pt x="20092" y="16396"/>
                </a:cubicBezTo>
                <a:cubicBezTo>
                  <a:pt x="20092" y="16344"/>
                  <a:pt x="20093" y="16326"/>
                  <a:pt x="20117" y="16297"/>
                </a:cubicBezTo>
                <a:cubicBezTo>
                  <a:pt x="20117" y="16228"/>
                  <a:pt x="20113" y="16406"/>
                  <a:pt x="20117" y="16421"/>
                </a:cubicBezTo>
                <a:cubicBezTo>
                  <a:pt x="20137" y="16496"/>
                  <a:pt x="20141" y="16557"/>
                  <a:pt x="20191" y="16619"/>
                </a:cubicBezTo>
              </a:path>
              <a:path w="1688" h="1241">
                <a:moveTo>
                  <a:pt x="20365" y="16520"/>
                </a:moveTo>
                <a:cubicBezTo>
                  <a:pt x="20365" y="16512"/>
                  <a:pt x="20365" y="16503"/>
                  <a:pt x="20365" y="16495"/>
                </a:cubicBezTo>
                <a:cubicBezTo>
                  <a:pt x="20409" y="16495"/>
                  <a:pt x="20425" y="16480"/>
                  <a:pt x="20464" y="16470"/>
                </a:cubicBezTo>
              </a:path>
              <a:path w="1688" h="1241">
                <a:moveTo>
                  <a:pt x="20613" y="16272"/>
                </a:moveTo>
                <a:cubicBezTo>
                  <a:pt x="20641" y="16179"/>
                  <a:pt x="20638" y="16145"/>
                  <a:pt x="20638" y="16247"/>
                </a:cubicBezTo>
                <a:cubicBezTo>
                  <a:pt x="20638" y="16321"/>
                  <a:pt x="20638" y="16396"/>
                  <a:pt x="20638" y="16470"/>
                </a:cubicBezTo>
                <a:cubicBezTo>
                  <a:pt x="20661" y="16447"/>
                  <a:pt x="20707" y="16383"/>
                  <a:pt x="20712" y="16446"/>
                </a:cubicBezTo>
                <a:cubicBezTo>
                  <a:pt x="20715" y="16487"/>
                  <a:pt x="20715" y="16555"/>
                  <a:pt x="20662" y="16570"/>
                </a:cubicBezTo>
                <a:cubicBezTo>
                  <a:pt x="20614" y="16584"/>
                  <a:pt x="20595" y="16569"/>
                  <a:pt x="20563" y="16545"/>
                </a:cubicBezTo>
              </a:path>
              <a:path w="1688" h="1241">
                <a:moveTo>
                  <a:pt x="20662" y="16495"/>
                </a:moveTo>
                <a:cubicBezTo>
                  <a:pt x="20727" y="16460"/>
                  <a:pt x="20768" y="16421"/>
                  <a:pt x="20836" y="16421"/>
                </a:cubicBezTo>
                <a:cubicBezTo>
                  <a:pt x="20808" y="16366"/>
                  <a:pt x="20800" y="16463"/>
                  <a:pt x="20811" y="16495"/>
                </a:cubicBezTo>
                <a:cubicBezTo>
                  <a:pt x="20831" y="16553"/>
                  <a:pt x="20870" y="16592"/>
                  <a:pt x="20935" y="16570"/>
                </a:cubicBezTo>
                <a:cubicBezTo>
                  <a:pt x="20952" y="16562"/>
                  <a:pt x="20968" y="16553"/>
                  <a:pt x="20985" y="165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45280" y="5537160"/>
            <a:ext cx="866880" cy="990720"/>
          </a:xfrm>
          <a:custGeom>
            <a:avLst/>
            <a:gdLst/>
            <a:ahLst/>
            <a:rect l="l" t="t" r="r" b="b"/>
            <a:pathLst>
              <a:path w="2407" h="2754">
                <a:moveTo>
                  <a:pt x="22870" y="15726"/>
                </a:moveTo>
                <a:cubicBezTo>
                  <a:pt x="22842" y="15726"/>
                  <a:pt x="22831" y="15728"/>
                  <a:pt x="22820" y="15751"/>
                </a:cubicBezTo>
                <a:cubicBezTo>
                  <a:pt x="22858" y="15780"/>
                  <a:pt x="22871" y="15776"/>
                  <a:pt x="22920" y="15776"/>
                </a:cubicBezTo>
                <a:cubicBezTo>
                  <a:pt x="22953" y="15776"/>
                  <a:pt x="22969" y="15776"/>
                  <a:pt x="22994" y="15776"/>
                </a:cubicBezTo>
              </a:path>
              <a:path w="2407" h="2754">
                <a:moveTo>
                  <a:pt x="23341" y="15404"/>
                </a:moveTo>
                <a:cubicBezTo>
                  <a:pt x="23341" y="15350"/>
                  <a:pt x="23295" y="15530"/>
                  <a:pt x="23292" y="15553"/>
                </a:cubicBezTo>
                <a:cubicBezTo>
                  <a:pt x="23282" y="15620"/>
                  <a:pt x="23248" y="15722"/>
                  <a:pt x="23292" y="15751"/>
                </a:cubicBezTo>
                <a:cubicBezTo>
                  <a:pt x="23324" y="15710"/>
                  <a:pt x="23349" y="15644"/>
                  <a:pt x="23416" y="15677"/>
                </a:cubicBezTo>
                <a:cubicBezTo>
                  <a:pt x="23475" y="15706"/>
                  <a:pt x="23475" y="15757"/>
                  <a:pt x="23440" y="15801"/>
                </a:cubicBezTo>
                <a:cubicBezTo>
                  <a:pt x="23412" y="15837"/>
                  <a:pt x="23385" y="15825"/>
                  <a:pt x="23341" y="15825"/>
                </a:cubicBezTo>
              </a:path>
              <a:path w="2407" h="2754">
                <a:moveTo>
                  <a:pt x="24358" y="15999"/>
                </a:moveTo>
                <a:cubicBezTo>
                  <a:pt x="24305" y="15992"/>
                  <a:pt x="24263" y="15976"/>
                  <a:pt x="24209" y="15974"/>
                </a:cubicBezTo>
                <a:cubicBezTo>
                  <a:pt x="24068" y="15968"/>
                  <a:pt x="23928" y="15957"/>
                  <a:pt x="23788" y="15949"/>
                </a:cubicBezTo>
                <a:cubicBezTo>
                  <a:pt x="23605" y="15938"/>
                  <a:pt x="23424" y="15912"/>
                  <a:pt x="23242" y="15900"/>
                </a:cubicBezTo>
                <a:cubicBezTo>
                  <a:pt x="23087" y="15890"/>
                  <a:pt x="22967" y="15932"/>
                  <a:pt x="22820" y="15949"/>
                </a:cubicBezTo>
                <a:cubicBezTo>
                  <a:pt x="22718" y="15961"/>
                  <a:pt x="22597" y="15951"/>
                  <a:pt x="22498" y="15974"/>
                </a:cubicBezTo>
                <a:cubicBezTo>
                  <a:pt x="22443" y="15987"/>
                  <a:pt x="22406" y="16017"/>
                  <a:pt x="22349" y="16024"/>
                </a:cubicBezTo>
              </a:path>
              <a:path w="2407" h="2754">
                <a:moveTo>
                  <a:pt x="22374" y="16396"/>
                </a:moveTo>
                <a:cubicBezTo>
                  <a:pt x="22412" y="16357"/>
                  <a:pt x="22429" y="16355"/>
                  <a:pt x="22423" y="16321"/>
                </a:cubicBezTo>
                <a:cubicBezTo>
                  <a:pt x="22414" y="16313"/>
                  <a:pt x="22362" y="16365"/>
                  <a:pt x="22349" y="16421"/>
                </a:cubicBezTo>
                <a:cubicBezTo>
                  <a:pt x="22349" y="16470"/>
                  <a:pt x="22349" y="16487"/>
                  <a:pt x="22349" y="16520"/>
                </a:cubicBezTo>
                <a:cubicBezTo>
                  <a:pt x="22396" y="16508"/>
                  <a:pt x="22423" y="16477"/>
                  <a:pt x="22448" y="16446"/>
                </a:cubicBezTo>
                <a:cubicBezTo>
                  <a:pt x="22456" y="16438"/>
                  <a:pt x="22465" y="16429"/>
                  <a:pt x="22473" y="16421"/>
                </a:cubicBezTo>
                <a:cubicBezTo>
                  <a:pt x="22516" y="16435"/>
                  <a:pt x="22499" y="16478"/>
                  <a:pt x="22523" y="16520"/>
                </a:cubicBezTo>
                <a:cubicBezTo>
                  <a:pt x="22531" y="16528"/>
                  <a:pt x="22539" y="16537"/>
                  <a:pt x="22547" y="16545"/>
                </a:cubicBezTo>
              </a:path>
              <a:path w="2407" h="2754">
                <a:moveTo>
                  <a:pt x="22696" y="16470"/>
                </a:moveTo>
                <a:cubicBezTo>
                  <a:pt x="22718" y="16427"/>
                  <a:pt x="22722" y="16415"/>
                  <a:pt x="22746" y="16396"/>
                </a:cubicBezTo>
                <a:cubicBezTo>
                  <a:pt x="22712" y="16441"/>
                  <a:pt x="22704" y="16462"/>
                  <a:pt x="22696" y="16520"/>
                </a:cubicBezTo>
                <a:cubicBezTo>
                  <a:pt x="22764" y="16571"/>
                  <a:pt x="22785" y="16494"/>
                  <a:pt x="22796" y="16421"/>
                </a:cubicBezTo>
                <a:cubicBezTo>
                  <a:pt x="22809" y="16339"/>
                  <a:pt x="22820" y="16257"/>
                  <a:pt x="22820" y="16173"/>
                </a:cubicBezTo>
                <a:cubicBezTo>
                  <a:pt x="22820" y="16109"/>
                  <a:pt x="22843" y="16260"/>
                  <a:pt x="22845" y="16272"/>
                </a:cubicBezTo>
                <a:cubicBezTo>
                  <a:pt x="22858" y="16374"/>
                  <a:pt x="22848" y="16426"/>
                  <a:pt x="22895" y="16520"/>
                </a:cubicBezTo>
              </a:path>
              <a:path w="2407" h="2754">
                <a:moveTo>
                  <a:pt x="23143" y="16421"/>
                </a:moveTo>
                <a:cubicBezTo>
                  <a:pt x="23143" y="16413"/>
                  <a:pt x="23143" y="16404"/>
                  <a:pt x="23143" y="16396"/>
                </a:cubicBezTo>
                <a:cubicBezTo>
                  <a:pt x="23187" y="16387"/>
                  <a:pt x="23220" y="16371"/>
                  <a:pt x="23267" y="16371"/>
                </a:cubicBezTo>
                <a:cubicBezTo>
                  <a:pt x="23308" y="16371"/>
                  <a:pt x="23316" y="16371"/>
                  <a:pt x="23341" y="16371"/>
                </a:cubicBezTo>
              </a:path>
              <a:path w="2407" h="2754">
                <a:moveTo>
                  <a:pt x="23490" y="16173"/>
                </a:moveTo>
                <a:cubicBezTo>
                  <a:pt x="23490" y="16115"/>
                  <a:pt x="23473" y="16090"/>
                  <a:pt x="23515" y="16098"/>
                </a:cubicBezTo>
                <a:cubicBezTo>
                  <a:pt x="23515" y="16176"/>
                  <a:pt x="23494" y="16243"/>
                  <a:pt x="23490" y="16321"/>
                </a:cubicBezTo>
                <a:cubicBezTo>
                  <a:pt x="23487" y="16382"/>
                  <a:pt x="23465" y="16434"/>
                  <a:pt x="23465" y="16495"/>
                </a:cubicBezTo>
                <a:cubicBezTo>
                  <a:pt x="23465" y="16503"/>
                  <a:pt x="23465" y="16512"/>
                  <a:pt x="23465" y="16520"/>
                </a:cubicBezTo>
                <a:cubicBezTo>
                  <a:pt x="23465" y="16475"/>
                  <a:pt x="23480" y="16460"/>
                  <a:pt x="23490" y="16421"/>
                </a:cubicBezTo>
                <a:cubicBezTo>
                  <a:pt x="23443" y="16437"/>
                  <a:pt x="23471" y="16491"/>
                  <a:pt x="23490" y="16446"/>
                </a:cubicBezTo>
                <a:cubicBezTo>
                  <a:pt x="23506" y="16410"/>
                  <a:pt x="23517" y="16421"/>
                  <a:pt x="23564" y="16421"/>
                </a:cubicBezTo>
                <a:cubicBezTo>
                  <a:pt x="23625" y="16421"/>
                  <a:pt x="23635" y="16472"/>
                  <a:pt x="23639" y="16520"/>
                </a:cubicBezTo>
                <a:cubicBezTo>
                  <a:pt x="23644" y="16580"/>
                  <a:pt x="23584" y="16590"/>
                  <a:pt x="23540" y="16594"/>
                </a:cubicBezTo>
                <a:cubicBezTo>
                  <a:pt x="23515" y="16594"/>
                  <a:pt x="23507" y="16594"/>
                  <a:pt x="23490" y="16594"/>
                </a:cubicBezTo>
              </a:path>
              <a:path w="2407" h="2754">
                <a:moveTo>
                  <a:pt x="23688" y="16470"/>
                </a:moveTo>
                <a:cubicBezTo>
                  <a:pt x="23696" y="16454"/>
                  <a:pt x="23705" y="16437"/>
                  <a:pt x="23713" y="16421"/>
                </a:cubicBezTo>
                <a:cubicBezTo>
                  <a:pt x="23682" y="16462"/>
                  <a:pt x="23680" y="16513"/>
                  <a:pt x="23738" y="16545"/>
                </a:cubicBezTo>
                <a:cubicBezTo>
                  <a:pt x="23772" y="16564"/>
                  <a:pt x="23873" y="16545"/>
                  <a:pt x="23912" y="16545"/>
                </a:cubicBezTo>
              </a:path>
              <a:path w="2407" h="2754">
                <a:moveTo>
                  <a:pt x="24408" y="15404"/>
                </a:moveTo>
                <a:cubicBezTo>
                  <a:pt x="24445" y="15431"/>
                  <a:pt x="24461" y="15431"/>
                  <a:pt x="24482" y="15478"/>
                </a:cubicBezTo>
                <a:cubicBezTo>
                  <a:pt x="24501" y="15520"/>
                  <a:pt x="24513" y="15560"/>
                  <a:pt x="24532" y="15602"/>
                </a:cubicBezTo>
                <a:cubicBezTo>
                  <a:pt x="24560" y="15666"/>
                  <a:pt x="24593" y="15755"/>
                  <a:pt x="24606" y="15825"/>
                </a:cubicBezTo>
                <a:cubicBezTo>
                  <a:pt x="24619" y="15896"/>
                  <a:pt x="24634" y="15980"/>
                  <a:pt x="24656" y="16049"/>
                </a:cubicBezTo>
                <a:cubicBezTo>
                  <a:pt x="24679" y="16120"/>
                  <a:pt x="24683" y="16202"/>
                  <a:pt x="24705" y="16272"/>
                </a:cubicBezTo>
                <a:cubicBezTo>
                  <a:pt x="24730" y="16350"/>
                  <a:pt x="24751" y="16411"/>
                  <a:pt x="24755" y="16495"/>
                </a:cubicBezTo>
                <a:cubicBezTo>
                  <a:pt x="24764" y="16679"/>
                  <a:pt x="24753" y="16866"/>
                  <a:pt x="24730" y="17041"/>
                </a:cubicBezTo>
                <a:cubicBezTo>
                  <a:pt x="24718" y="17131"/>
                  <a:pt x="24728" y="17226"/>
                  <a:pt x="24705" y="17314"/>
                </a:cubicBezTo>
                <a:cubicBezTo>
                  <a:pt x="24683" y="17398"/>
                  <a:pt x="24656" y="17478"/>
                  <a:pt x="24631" y="17562"/>
                </a:cubicBezTo>
                <a:cubicBezTo>
                  <a:pt x="24604" y="17654"/>
                  <a:pt x="24582" y="17748"/>
                  <a:pt x="24557" y="17835"/>
                </a:cubicBezTo>
                <a:cubicBezTo>
                  <a:pt x="24540" y="17893"/>
                  <a:pt x="24492" y="17956"/>
                  <a:pt x="24482" y="18008"/>
                </a:cubicBezTo>
                <a:cubicBezTo>
                  <a:pt x="24475" y="18045"/>
                  <a:pt x="24476" y="18076"/>
                  <a:pt x="24457" y="18107"/>
                </a:cubicBezTo>
                <a:cubicBezTo>
                  <a:pt x="24449" y="18115"/>
                  <a:pt x="24441" y="18124"/>
                  <a:pt x="24433" y="181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30840" y="6081840"/>
            <a:ext cx="1241280" cy="490320"/>
          </a:xfrm>
          <a:custGeom>
            <a:avLst/>
            <a:gdLst/>
            <a:ahLst/>
            <a:rect l="l" t="t" r="r" b="b"/>
            <a:pathLst>
              <a:path w="3449" h="1365">
                <a:moveTo>
                  <a:pt x="13519" y="17884"/>
                </a:moveTo>
                <a:cubicBezTo>
                  <a:pt x="13519" y="17779"/>
                  <a:pt x="13519" y="17820"/>
                  <a:pt x="13519" y="17909"/>
                </a:cubicBezTo>
                <a:cubicBezTo>
                  <a:pt x="13519" y="18014"/>
                  <a:pt x="13499" y="18105"/>
                  <a:pt x="13494" y="18207"/>
                </a:cubicBezTo>
                <a:cubicBezTo>
                  <a:pt x="13494" y="18223"/>
                  <a:pt x="13494" y="18240"/>
                  <a:pt x="13494" y="18256"/>
                </a:cubicBezTo>
              </a:path>
              <a:path w="3449" h="1365">
                <a:moveTo>
                  <a:pt x="13419" y="17909"/>
                </a:moveTo>
                <a:cubicBezTo>
                  <a:pt x="13429" y="17780"/>
                  <a:pt x="13430" y="17778"/>
                  <a:pt x="13543" y="17735"/>
                </a:cubicBezTo>
                <a:cubicBezTo>
                  <a:pt x="13623" y="17705"/>
                  <a:pt x="13659" y="17690"/>
                  <a:pt x="13667" y="17785"/>
                </a:cubicBezTo>
                <a:cubicBezTo>
                  <a:pt x="13673" y="17854"/>
                  <a:pt x="13653" y="17894"/>
                  <a:pt x="13593" y="17934"/>
                </a:cubicBezTo>
                <a:cubicBezTo>
                  <a:pt x="13576" y="17942"/>
                  <a:pt x="13560" y="17951"/>
                  <a:pt x="13543" y="17959"/>
                </a:cubicBezTo>
              </a:path>
              <a:path w="3449" h="1365">
                <a:moveTo>
                  <a:pt x="14436" y="17686"/>
                </a:moveTo>
                <a:cubicBezTo>
                  <a:pt x="14444" y="17686"/>
                  <a:pt x="14453" y="17686"/>
                  <a:pt x="14461" y="17686"/>
                </a:cubicBezTo>
                <a:cubicBezTo>
                  <a:pt x="14403" y="17686"/>
                  <a:pt x="14346" y="17686"/>
                  <a:pt x="14288" y="17686"/>
                </a:cubicBezTo>
              </a:path>
              <a:path w="3449" h="1365">
                <a:moveTo>
                  <a:pt x="14412" y="17760"/>
                </a:moveTo>
                <a:cubicBezTo>
                  <a:pt x="14434" y="17783"/>
                  <a:pt x="14439" y="17791"/>
                  <a:pt x="14461" y="17785"/>
                </a:cubicBezTo>
                <a:cubicBezTo>
                  <a:pt x="14449" y="17820"/>
                  <a:pt x="14454" y="17810"/>
                  <a:pt x="14412" y="17810"/>
                </a:cubicBezTo>
              </a:path>
              <a:path w="3449" h="1365">
                <a:moveTo>
                  <a:pt x="15751" y="17239"/>
                </a:moveTo>
                <a:cubicBezTo>
                  <a:pt x="15757" y="17221"/>
                  <a:pt x="15806" y="17166"/>
                  <a:pt x="15751" y="17214"/>
                </a:cubicBezTo>
                <a:cubicBezTo>
                  <a:pt x="15715" y="17245"/>
                  <a:pt x="15666" y="17314"/>
                  <a:pt x="15677" y="17363"/>
                </a:cubicBezTo>
                <a:cubicBezTo>
                  <a:pt x="15685" y="17380"/>
                  <a:pt x="15693" y="17396"/>
                  <a:pt x="15701" y="17413"/>
                </a:cubicBezTo>
                <a:cubicBezTo>
                  <a:pt x="15772" y="17395"/>
                  <a:pt x="15805" y="17336"/>
                  <a:pt x="15825" y="17264"/>
                </a:cubicBezTo>
                <a:cubicBezTo>
                  <a:pt x="15857" y="17148"/>
                  <a:pt x="15850" y="17035"/>
                  <a:pt x="15850" y="16917"/>
                </a:cubicBezTo>
                <a:cubicBezTo>
                  <a:pt x="15850" y="16843"/>
                  <a:pt x="15850" y="17041"/>
                  <a:pt x="15850" y="17041"/>
                </a:cubicBezTo>
                <a:cubicBezTo>
                  <a:pt x="15871" y="17173"/>
                  <a:pt x="15927" y="17290"/>
                  <a:pt x="15974" y="17413"/>
                </a:cubicBezTo>
              </a:path>
              <a:path w="3449" h="1365">
                <a:moveTo>
                  <a:pt x="16694" y="17462"/>
                </a:moveTo>
                <a:cubicBezTo>
                  <a:pt x="16716" y="17440"/>
                  <a:pt x="16721" y="17432"/>
                  <a:pt x="16743" y="17438"/>
                </a:cubicBezTo>
                <a:cubicBezTo>
                  <a:pt x="16403" y="17438"/>
                  <a:pt x="16064" y="17437"/>
                  <a:pt x="15726" y="17462"/>
                </a:cubicBezTo>
                <a:cubicBezTo>
                  <a:pt x="15592" y="17472"/>
                  <a:pt x="15481" y="17494"/>
                  <a:pt x="15354" y="17537"/>
                </a:cubicBezTo>
                <a:cubicBezTo>
                  <a:pt x="15270" y="17565"/>
                  <a:pt x="15192" y="17646"/>
                  <a:pt x="15106" y="17661"/>
                </a:cubicBezTo>
                <a:cubicBezTo>
                  <a:pt x="15045" y="17672"/>
                  <a:pt x="15012" y="17671"/>
                  <a:pt x="14982" y="17686"/>
                </a:cubicBezTo>
              </a:path>
              <a:path w="3449" h="1365">
                <a:moveTo>
                  <a:pt x="15131" y="18008"/>
                </a:moveTo>
                <a:cubicBezTo>
                  <a:pt x="15139" y="17992"/>
                  <a:pt x="15148" y="17975"/>
                  <a:pt x="15156" y="17959"/>
                </a:cubicBezTo>
                <a:cubicBezTo>
                  <a:pt x="15121" y="18002"/>
                  <a:pt x="15106" y="18027"/>
                  <a:pt x="15106" y="18083"/>
                </a:cubicBezTo>
                <a:cubicBezTo>
                  <a:pt x="15106" y="18091"/>
                  <a:pt x="15106" y="18099"/>
                  <a:pt x="15106" y="18107"/>
                </a:cubicBezTo>
                <a:cubicBezTo>
                  <a:pt x="15159" y="18107"/>
                  <a:pt x="15167" y="18096"/>
                  <a:pt x="15205" y="18058"/>
                </a:cubicBezTo>
                <a:cubicBezTo>
                  <a:pt x="15241" y="18022"/>
                  <a:pt x="15281" y="18031"/>
                  <a:pt x="15304" y="18083"/>
                </a:cubicBezTo>
                <a:cubicBezTo>
                  <a:pt x="15304" y="18107"/>
                  <a:pt x="15304" y="18115"/>
                  <a:pt x="15329" y="18107"/>
                </a:cubicBezTo>
              </a:path>
              <a:path w="3449" h="1365">
                <a:moveTo>
                  <a:pt x="15404" y="18008"/>
                </a:moveTo>
                <a:cubicBezTo>
                  <a:pt x="15412" y="18000"/>
                  <a:pt x="15421" y="17991"/>
                  <a:pt x="15429" y="17983"/>
                </a:cubicBezTo>
                <a:cubicBezTo>
                  <a:pt x="15429" y="18041"/>
                  <a:pt x="15420" y="18086"/>
                  <a:pt x="15453" y="18132"/>
                </a:cubicBezTo>
                <a:cubicBezTo>
                  <a:pt x="15503" y="18108"/>
                  <a:pt x="15543" y="18024"/>
                  <a:pt x="15553" y="17959"/>
                </a:cubicBezTo>
                <a:cubicBezTo>
                  <a:pt x="15565" y="17881"/>
                  <a:pt x="15539" y="17826"/>
                  <a:pt x="15577" y="17760"/>
                </a:cubicBezTo>
                <a:cubicBezTo>
                  <a:pt x="15577" y="17825"/>
                  <a:pt x="15587" y="17897"/>
                  <a:pt x="15602" y="17959"/>
                </a:cubicBezTo>
                <a:cubicBezTo>
                  <a:pt x="15617" y="18024"/>
                  <a:pt x="15637" y="18091"/>
                  <a:pt x="15701" y="18107"/>
                </a:cubicBezTo>
              </a:path>
              <a:path w="3449" h="1365">
                <a:moveTo>
                  <a:pt x="15949" y="18033"/>
                </a:moveTo>
                <a:cubicBezTo>
                  <a:pt x="15949" y="17988"/>
                  <a:pt x="15947" y="17963"/>
                  <a:pt x="15999" y="17959"/>
                </a:cubicBezTo>
                <a:cubicBezTo>
                  <a:pt x="16040" y="17956"/>
                  <a:pt x="16082" y="17959"/>
                  <a:pt x="16123" y="17959"/>
                </a:cubicBezTo>
              </a:path>
              <a:path w="3449" h="1365">
                <a:moveTo>
                  <a:pt x="16371" y="17636"/>
                </a:moveTo>
                <a:cubicBezTo>
                  <a:pt x="16371" y="17578"/>
                  <a:pt x="16355" y="17554"/>
                  <a:pt x="16396" y="17562"/>
                </a:cubicBezTo>
                <a:cubicBezTo>
                  <a:pt x="16396" y="17645"/>
                  <a:pt x="16358" y="17705"/>
                  <a:pt x="16346" y="17785"/>
                </a:cubicBezTo>
                <a:cubicBezTo>
                  <a:pt x="16335" y="17859"/>
                  <a:pt x="16321" y="17933"/>
                  <a:pt x="16321" y="18008"/>
                </a:cubicBezTo>
                <a:cubicBezTo>
                  <a:pt x="16348" y="17988"/>
                  <a:pt x="16389" y="17948"/>
                  <a:pt x="16421" y="17934"/>
                </a:cubicBezTo>
                <a:cubicBezTo>
                  <a:pt x="16429" y="17934"/>
                  <a:pt x="16438" y="17934"/>
                  <a:pt x="16446" y="17934"/>
                </a:cubicBezTo>
                <a:cubicBezTo>
                  <a:pt x="16463" y="17957"/>
                  <a:pt x="16488" y="18000"/>
                  <a:pt x="16470" y="18033"/>
                </a:cubicBezTo>
                <a:cubicBezTo>
                  <a:pt x="16450" y="18071"/>
                  <a:pt x="16406" y="18058"/>
                  <a:pt x="16371" y="18058"/>
                </a:cubicBezTo>
              </a:path>
              <a:path w="3449" h="1365">
                <a:moveTo>
                  <a:pt x="16619" y="17909"/>
                </a:moveTo>
                <a:cubicBezTo>
                  <a:pt x="16636" y="17901"/>
                  <a:pt x="16652" y="17892"/>
                  <a:pt x="16669" y="17884"/>
                </a:cubicBezTo>
                <a:cubicBezTo>
                  <a:pt x="16627" y="17894"/>
                  <a:pt x="16574" y="17925"/>
                  <a:pt x="16594" y="17983"/>
                </a:cubicBezTo>
                <a:cubicBezTo>
                  <a:pt x="16611" y="18034"/>
                  <a:pt x="16697" y="18066"/>
                  <a:pt x="16743" y="18058"/>
                </a:cubicBezTo>
                <a:cubicBezTo>
                  <a:pt x="16810" y="18036"/>
                  <a:pt x="16828" y="18031"/>
                  <a:pt x="16867" y="180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13720" y="5554800"/>
            <a:ext cx="214200" cy="1054080"/>
          </a:xfrm>
          <a:custGeom>
            <a:avLst/>
            <a:gdLst/>
            <a:ahLst/>
            <a:rect l="l" t="t" r="r" b="b"/>
            <a:pathLst>
              <a:path w="596" h="2927">
                <a:moveTo>
                  <a:pt x="19521" y="15429"/>
                </a:moveTo>
                <a:cubicBezTo>
                  <a:pt x="19520" y="15430"/>
                  <a:pt x="19488" y="15445"/>
                  <a:pt x="19472" y="15453"/>
                </a:cubicBezTo>
                <a:cubicBezTo>
                  <a:pt x="19456" y="15484"/>
                  <a:pt x="19445" y="15486"/>
                  <a:pt x="19422" y="15528"/>
                </a:cubicBezTo>
                <a:cubicBezTo>
                  <a:pt x="19406" y="15558"/>
                  <a:pt x="19388" y="15594"/>
                  <a:pt x="19372" y="15627"/>
                </a:cubicBezTo>
                <a:cubicBezTo>
                  <a:pt x="19357" y="15657"/>
                  <a:pt x="19361" y="15695"/>
                  <a:pt x="19348" y="15726"/>
                </a:cubicBezTo>
                <a:cubicBezTo>
                  <a:pt x="19327" y="15774"/>
                  <a:pt x="19318" y="15827"/>
                  <a:pt x="19298" y="15875"/>
                </a:cubicBezTo>
                <a:cubicBezTo>
                  <a:pt x="19283" y="15910"/>
                  <a:pt x="19262" y="15938"/>
                  <a:pt x="19248" y="15974"/>
                </a:cubicBezTo>
                <a:cubicBezTo>
                  <a:pt x="19230" y="16020"/>
                  <a:pt x="19215" y="16072"/>
                  <a:pt x="19199" y="16123"/>
                </a:cubicBezTo>
                <a:cubicBezTo>
                  <a:pt x="19187" y="16161"/>
                  <a:pt x="19189" y="16209"/>
                  <a:pt x="19174" y="16247"/>
                </a:cubicBezTo>
                <a:cubicBezTo>
                  <a:pt x="19158" y="16287"/>
                  <a:pt x="19141" y="16325"/>
                  <a:pt x="19124" y="16371"/>
                </a:cubicBezTo>
                <a:cubicBezTo>
                  <a:pt x="19112" y="16404"/>
                  <a:pt x="19114" y="16438"/>
                  <a:pt x="19100" y="16470"/>
                </a:cubicBezTo>
                <a:cubicBezTo>
                  <a:pt x="19078" y="16520"/>
                  <a:pt x="19065" y="16573"/>
                  <a:pt x="19050" y="16619"/>
                </a:cubicBezTo>
                <a:cubicBezTo>
                  <a:pt x="19039" y="16652"/>
                  <a:pt x="19005" y="16714"/>
                  <a:pt x="19000" y="16743"/>
                </a:cubicBezTo>
                <a:cubicBezTo>
                  <a:pt x="18990" y="16800"/>
                  <a:pt x="18995" y="16840"/>
                  <a:pt x="18976" y="16892"/>
                </a:cubicBezTo>
                <a:cubicBezTo>
                  <a:pt x="18963" y="16929"/>
                  <a:pt x="18956" y="16949"/>
                  <a:pt x="18951" y="16991"/>
                </a:cubicBezTo>
                <a:cubicBezTo>
                  <a:pt x="18945" y="17045"/>
                  <a:pt x="18930" y="17124"/>
                  <a:pt x="18926" y="17165"/>
                </a:cubicBezTo>
                <a:cubicBezTo>
                  <a:pt x="18908" y="17363"/>
                  <a:pt x="18889" y="17651"/>
                  <a:pt x="18951" y="17835"/>
                </a:cubicBezTo>
                <a:cubicBezTo>
                  <a:pt x="18968" y="17886"/>
                  <a:pt x="18981" y="17937"/>
                  <a:pt x="19000" y="17983"/>
                </a:cubicBezTo>
                <a:cubicBezTo>
                  <a:pt x="19027" y="18047"/>
                  <a:pt x="19043" y="18096"/>
                  <a:pt x="19075" y="18157"/>
                </a:cubicBezTo>
                <a:cubicBezTo>
                  <a:pt x="19100" y="18205"/>
                  <a:pt x="19105" y="18258"/>
                  <a:pt x="19124" y="18306"/>
                </a:cubicBezTo>
                <a:cubicBezTo>
                  <a:pt x="19124" y="18334"/>
                  <a:pt x="19126" y="18345"/>
                  <a:pt x="19149" y="183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045280" y="6259680"/>
            <a:ext cx="536760" cy="322200"/>
          </a:xfrm>
          <a:custGeom>
            <a:avLst/>
            <a:gdLst/>
            <a:ahLst/>
            <a:rect l="l" t="t" r="r" b="b"/>
            <a:pathLst>
              <a:path w="1489" h="894">
                <a:moveTo>
                  <a:pt x="22820" y="17388"/>
                </a:moveTo>
                <a:cubicBezTo>
                  <a:pt x="22833" y="17418"/>
                  <a:pt x="22856" y="17480"/>
                  <a:pt x="22870" y="17487"/>
                </a:cubicBezTo>
                <a:cubicBezTo>
                  <a:pt x="22878" y="17487"/>
                  <a:pt x="22887" y="17487"/>
                  <a:pt x="22895" y="17487"/>
                </a:cubicBezTo>
                <a:cubicBezTo>
                  <a:pt x="22924" y="17477"/>
                  <a:pt x="22936" y="17467"/>
                  <a:pt x="22969" y="17438"/>
                </a:cubicBezTo>
                <a:cubicBezTo>
                  <a:pt x="22992" y="17415"/>
                  <a:pt x="23000" y="17411"/>
                  <a:pt x="22994" y="17388"/>
                </a:cubicBezTo>
                <a:cubicBezTo>
                  <a:pt x="22940" y="17402"/>
                  <a:pt x="22922" y="17435"/>
                  <a:pt x="22895" y="17487"/>
                </a:cubicBezTo>
                <a:cubicBezTo>
                  <a:pt x="22884" y="17507"/>
                  <a:pt x="22838" y="17647"/>
                  <a:pt x="22920" y="17611"/>
                </a:cubicBezTo>
                <a:cubicBezTo>
                  <a:pt x="22955" y="17596"/>
                  <a:pt x="22978" y="17541"/>
                  <a:pt x="22994" y="17512"/>
                </a:cubicBezTo>
                <a:cubicBezTo>
                  <a:pt x="23028" y="17512"/>
                  <a:pt x="23048" y="17576"/>
                  <a:pt x="23068" y="17611"/>
                </a:cubicBezTo>
              </a:path>
              <a:path w="1489" h="894">
                <a:moveTo>
                  <a:pt x="23763" y="17760"/>
                </a:moveTo>
                <a:cubicBezTo>
                  <a:pt x="23804" y="17760"/>
                  <a:pt x="23812" y="17760"/>
                  <a:pt x="23837" y="17760"/>
                </a:cubicBezTo>
                <a:cubicBezTo>
                  <a:pt x="23595" y="17760"/>
                  <a:pt x="23357" y="17751"/>
                  <a:pt x="23118" y="17735"/>
                </a:cubicBezTo>
                <a:cubicBezTo>
                  <a:pt x="22976" y="17726"/>
                  <a:pt x="22839" y="17711"/>
                  <a:pt x="22696" y="17711"/>
                </a:cubicBezTo>
                <a:cubicBezTo>
                  <a:pt x="22614" y="17711"/>
                  <a:pt x="22548" y="17728"/>
                  <a:pt x="22473" y="17735"/>
                </a:cubicBezTo>
                <a:cubicBezTo>
                  <a:pt x="22449" y="17737"/>
                  <a:pt x="22423" y="17735"/>
                  <a:pt x="22399" y="17735"/>
                </a:cubicBezTo>
              </a:path>
              <a:path w="1489" h="894">
                <a:moveTo>
                  <a:pt x="22473" y="18182"/>
                </a:moveTo>
                <a:cubicBezTo>
                  <a:pt x="22494" y="18133"/>
                  <a:pt x="22498" y="18131"/>
                  <a:pt x="22498" y="18083"/>
                </a:cubicBezTo>
                <a:cubicBezTo>
                  <a:pt x="22444" y="18083"/>
                  <a:pt x="22415" y="18095"/>
                  <a:pt x="22374" y="18132"/>
                </a:cubicBezTo>
                <a:cubicBezTo>
                  <a:pt x="22336" y="18166"/>
                  <a:pt x="22349" y="18209"/>
                  <a:pt x="22349" y="18256"/>
                </a:cubicBezTo>
                <a:cubicBezTo>
                  <a:pt x="22409" y="18256"/>
                  <a:pt x="22399" y="18228"/>
                  <a:pt x="22448" y="18207"/>
                </a:cubicBezTo>
                <a:cubicBezTo>
                  <a:pt x="22468" y="18198"/>
                  <a:pt x="22533" y="18247"/>
                  <a:pt x="22547" y="18256"/>
                </a:cubicBezTo>
                <a:cubicBezTo>
                  <a:pt x="22555" y="18264"/>
                  <a:pt x="22564" y="18273"/>
                  <a:pt x="22572" y="18281"/>
                </a:cubicBezTo>
              </a:path>
              <a:path w="1489" h="894">
                <a:moveTo>
                  <a:pt x="22746" y="18182"/>
                </a:moveTo>
                <a:cubicBezTo>
                  <a:pt x="22746" y="18174"/>
                  <a:pt x="22746" y="18165"/>
                  <a:pt x="22746" y="18157"/>
                </a:cubicBezTo>
                <a:cubicBezTo>
                  <a:pt x="22697" y="18169"/>
                  <a:pt x="22696" y="18181"/>
                  <a:pt x="22696" y="18231"/>
                </a:cubicBezTo>
                <a:cubicBezTo>
                  <a:pt x="22696" y="18259"/>
                  <a:pt x="22698" y="18270"/>
                  <a:pt x="22721" y="18281"/>
                </a:cubicBezTo>
                <a:cubicBezTo>
                  <a:pt x="22775" y="18227"/>
                  <a:pt x="22793" y="18186"/>
                  <a:pt x="22796" y="18107"/>
                </a:cubicBezTo>
                <a:cubicBezTo>
                  <a:pt x="22799" y="18046"/>
                  <a:pt x="22809" y="18015"/>
                  <a:pt x="22820" y="17959"/>
                </a:cubicBezTo>
                <a:cubicBezTo>
                  <a:pt x="22820" y="18023"/>
                  <a:pt x="22826" y="18098"/>
                  <a:pt x="22845" y="18157"/>
                </a:cubicBezTo>
                <a:cubicBezTo>
                  <a:pt x="22867" y="18201"/>
                  <a:pt x="22870" y="18212"/>
                  <a:pt x="22895" y="18231"/>
                </a:cubicBezTo>
              </a:path>
              <a:path w="1489" h="894">
                <a:moveTo>
                  <a:pt x="23068" y="18157"/>
                </a:moveTo>
                <a:cubicBezTo>
                  <a:pt x="23068" y="18149"/>
                  <a:pt x="23068" y="18140"/>
                  <a:pt x="23068" y="18132"/>
                </a:cubicBezTo>
                <a:cubicBezTo>
                  <a:pt x="23134" y="18132"/>
                  <a:pt x="23188" y="18139"/>
                  <a:pt x="23242" y="18107"/>
                </a:cubicBezTo>
              </a:path>
              <a:path w="1489" h="894">
                <a:moveTo>
                  <a:pt x="23416" y="17983"/>
                </a:moveTo>
                <a:cubicBezTo>
                  <a:pt x="23431" y="17925"/>
                  <a:pt x="23433" y="17880"/>
                  <a:pt x="23465" y="17859"/>
                </a:cubicBezTo>
                <a:cubicBezTo>
                  <a:pt x="23452" y="17925"/>
                  <a:pt x="23426" y="17989"/>
                  <a:pt x="23416" y="18058"/>
                </a:cubicBezTo>
                <a:cubicBezTo>
                  <a:pt x="23409" y="18111"/>
                  <a:pt x="23411" y="18137"/>
                  <a:pt x="23440" y="18157"/>
                </a:cubicBezTo>
                <a:cubicBezTo>
                  <a:pt x="23478" y="18144"/>
                  <a:pt x="23461" y="18132"/>
                  <a:pt x="23515" y="18132"/>
                </a:cubicBezTo>
                <a:cubicBezTo>
                  <a:pt x="23515" y="18168"/>
                  <a:pt x="23510" y="18218"/>
                  <a:pt x="23465" y="18231"/>
                </a:cubicBezTo>
                <a:cubicBezTo>
                  <a:pt x="23418" y="18244"/>
                  <a:pt x="23398" y="18230"/>
                  <a:pt x="23366" y="18207"/>
                </a:cubicBezTo>
              </a:path>
              <a:path w="1489" h="894">
                <a:moveTo>
                  <a:pt x="23540" y="18157"/>
                </a:moveTo>
                <a:cubicBezTo>
                  <a:pt x="23587" y="18124"/>
                  <a:pt x="23616" y="18095"/>
                  <a:pt x="23664" y="18083"/>
                </a:cubicBezTo>
                <a:cubicBezTo>
                  <a:pt x="23650" y="18102"/>
                  <a:pt x="23602" y="18156"/>
                  <a:pt x="23614" y="18182"/>
                </a:cubicBezTo>
                <a:cubicBezTo>
                  <a:pt x="23635" y="18229"/>
                  <a:pt x="23721" y="18254"/>
                  <a:pt x="23763" y="18256"/>
                </a:cubicBezTo>
                <a:cubicBezTo>
                  <a:pt x="23788" y="18256"/>
                  <a:pt x="23812" y="18256"/>
                  <a:pt x="23837" y="182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26120" y="3741840"/>
            <a:ext cx="1125720" cy="822240"/>
          </a:xfrm>
          <a:custGeom>
            <a:avLst/>
            <a:gdLst/>
            <a:ahLst/>
            <a:rect l="l" t="t" r="r" b="b"/>
            <a:pathLst>
              <a:path w="3126" h="2283">
                <a:moveTo>
                  <a:pt x="17314" y="10691"/>
                </a:moveTo>
                <a:cubicBezTo>
                  <a:pt x="17342" y="10662"/>
                  <a:pt x="17354" y="10652"/>
                  <a:pt x="17363" y="10616"/>
                </a:cubicBezTo>
                <a:cubicBezTo>
                  <a:pt x="17329" y="10591"/>
                  <a:pt x="17286" y="10579"/>
                  <a:pt x="17239" y="10592"/>
                </a:cubicBezTo>
                <a:cubicBezTo>
                  <a:pt x="17172" y="10611"/>
                  <a:pt x="17144" y="10680"/>
                  <a:pt x="17140" y="10740"/>
                </a:cubicBezTo>
                <a:cubicBezTo>
                  <a:pt x="17136" y="10812"/>
                  <a:pt x="17190" y="10840"/>
                  <a:pt x="17239" y="10889"/>
                </a:cubicBezTo>
                <a:cubicBezTo>
                  <a:pt x="17262" y="10912"/>
                  <a:pt x="17341" y="10965"/>
                  <a:pt x="17314" y="11013"/>
                </a:cubicBezTo>
                <a:cubicBezTo>
                  <a:pt x="17284" y="11066"/>
                  <a:pt x="17278" y="11063"/>
                  <a:pt x="17214" y="11063"/>
                </a:cubicBezTo>
                <a:cubicBezTo>
                  <a:pt x="17189" y="11063"/>
                  <a:pt x="17165" y="11063"/>
                  <a:pt x="17140" y="11063"/>
                </a:cubicBezTo>
              </a:path>
              <a:path w="3126" h="2283">
                <a:moveTo>
                  <a:pt x="17413" y="10964"/>
                </a:moveTo>
                <a:cubicBezTo>
                  <a:pt x="17462" y="10942"/>
                  <a:pt x="17464" y="10939"/>
                  <a:pt x="17512" y="10939"/>
                </a:cubicBezTo>
                <a:cubicBezTo>
                  <a:pt x="17523" y="10981"/>
                  <a:pt x="17530" y="10989"/>
                  <a:pt x="17537" y="11038"/>
                </a:cubicBezTo>
              </a:path>
              <a:path w="3126" h="2283">
                <a:moveTo>
                  <a:pt x="17438" y="10765"/>
                </a:moveTo>
                <a:cubicBezTo>
                  <a:pt x="17477" y="10677"/>
                  <a:pt x="17455" y="10691"/>
                  <a:pt x="17537" y="10691"/>
                </a:cubicBezTo>
              </a:path>
              <a:path w="3126" h="2283">
                <a:moveTo>
                  <a:pt x="17611" y="10889"/>
                </a:moveTo>
                <a:cubicBezTo>
                  <a:pt x="17624" y="10942"/>
                  <a:pt x="17636" y="10974"/>
                  <a:pt x="17636" y="11038"/>
                </a:cubicBezTo>
                <a:cubicBezTo>
                  <a:pt x="17636" y="11088"/>
                  <a:pt x="17638" y="10993"/>
                  <a:pt x="17661" y="10964"/>
                </a:cubicBezTo>
                <a:cubicBezTo>
                  <a:pt x="17703" y="10913"/>
                  <a:pt x="17725" y="10953"/>
                  <a:pt x="17760" y="10988"/>
                </a:cubicBezTo>
                <a:cubicBezTo>
                  <a:pt x="17797" y="11024"/>
                  <a:pt x="17770" y="11025"/>
                  <a:pt x="17810" y="11038"/>
                </a:cubicBezTo>
                <a:cubicBezTo>
                  <a:pt x="17819" y="11002"/>
                  <a:pt x="17836" y="10948"/>
                  <a:pt x="17859" y="10914"/>
                </a:cubicBezTo>
                <a:cubicBezTo>
                  <a:pt x="17867" y="10906"/>
                  <a:pt x="17876" y="10897"/>
                  <a:pt x="17884" y="10889"/>
                </a:cubicBezTo>
                <a:cubicBezTo>
                  <a:pt x="17929" y="10900"/>
                  <a:pt x="17949" y="10930"/>
                  <a:pt x="17983" y="10964"/>
                </a:cubicBezTo>
                <a:cubicBezTo>
                  <a:pt x="18006" y="10986"/>
                  <a:pt x="18014" y="10991"/>
                  <a:pt x="18008" y="11013"/>
                </a:cubicBezTo>
              </a:path>
              <a:path w="3126" h="2283">
                <a:moveTo>
                  <a:pt x="18058" y="10914"/>
                </a:moveTo>
                <a:cubicBezTo>
                  <a:pt x="18078" y="10874"/>
                  <a:pt x="18076" y="10857"/>
                  <a:pt x="18107" y="10864"/>
                </a:cubicBezTo>
                <a:cubicBezTo>
                  <a:pt x="18120" y="10918"/>
                  <a:pt x="18152" y="10926"/>
                  <a:pt x="18157" y="10988"/>
                </a:cubicBezTo>
                <a:cubicBezTo>
                  <a:pt x="18157" y="10996"/>
                  <a:pt x="18157" y="11005"/>
                  <a:pt x="18157" y="11013"/>
                </a:cubicBezTo>
              </a:path>
              <a:path w="3126" h="2283">
                <a:moveTo>
                  <a:pt x="18132" y="10840"/>
                </a:moveTo>
                <a:cubicBezTo>
                  <a:pt x="18132" y="10747"/>
                  <a:pt x="18115" y="10746"/>
                  <a:pt x="18157" y="10691"/>
                </a:cubicBezTo>
              </a:path>
              <a:path w="3126" h="2283">
                <a:moveTo>
                  <a:pt x="18256" y="10542"/>
                </a:moveTo>
                <a:cubicBezTo>
                  <a:pt x="18264" y="10534"/>
                  <a:pt x="18273" y="10525"/>
                  <a:pt x="18281" y="10517"/>
                </a:cubicBezTo>
                <a:cubicBezTo>
                  <a:pt x="18281" y="10589"/>
                  <a:pt x="18291" y="10671"/>
                  <a:pt x="18306" y="10740"/>
                </a:cubicBezTo>
                <a:cubicBezTo>
                  <a:pt x="18323" y="10817"/>
                  <a:pt x="18337" y="10887"/>
                  <a:pt x="18355" y="10964"/>
                </a:cubicBezTo>
              </a:path>
              <a:path w="3126" h="2283">
                <a:moveTo>
                  <a:pt x="18579" y="10765"/>
                </a:moveTo>
                <a:cubicBezTo>
                  <a:pt x="18579" y="10740"/>
                  <a:pt x="18579" y="10732"/>
                  <a:pt x="18579" y="10716"/>
                </a:cubicBezTo>
                <a:cubicBezTo>
                  <a:pt x="18528" y="10728"/>
                  <a:pt x="18508" y="10758"/>
                  <a:pt x="18504" y="10815"/>
                </a:cubicBezTo>
                <a:cubicBezTo>
                  <a:pt x="18502" y="10847"/>
                  <a:pt x="18504" y="10881"/>
                  <a:pt x="18504" y="10914"/>
                </a:cubicBezTo>
                <a:cubicBezTo>
                  <a:pt x="18579" y="10914"/>
                  <a:pt x="18653" y="10914"/>
                  <a:pt x="18728" y="10914"/>
                </a:cubicBezTo>
              </a:path>
              <a:path w="3126" h="2283">
                <a:moveTo>
                  <a:pt x="18802" y="10939"/>
                </a:moveTo>
                <a:cubicBezTo>
                  <a:pt x="18802" y="11006"/>
                  <a:pt x="18802" y="10855"/>
                  <a:pt x="18802" y="10840"/>
                </a:cubicBezTo>
                <a:cubicBezTo>
                  <a:pt x="18802" y="10807"/>
                  <a:pt x="18802" y="10773"/>
                  <a:pt x="18802" y="10740"/>
                </a:cubicBezTo>
                <a:cubicBezTo>
                  <a:pt x="18858" y="10740"/>
                  <a:pt x="18884" y="10733"/>
                  <a:pt x="18926" y="10765"/>
                </a:cubicBezTo>
              </a:path>
              <a:path w="3126" h="2283">
                <a:moveTo>
                  <a:pt x="19075" y="10492"/>
                </a:moveTo>
                <a:cubicBezTo>
                  <a:pt x="19075" y="10434"/>
                  <a:pt x="19075" y="10426"/>
                  <a:pt x="19075" y="10393"/>
                </a:cubicBezTo>
                <a:cubicBezTo>
                  <a:pt x="19035" y="10406"/>
                  <a:pt x="19050" y="10441"/>
                  <a:pt x="19050" y="10492"/>
                </a:cubicBezTo>
                <a:cubicBezTo>
                  <a:pt x="19050" y="10633"/>
                  <a:pt x="19050" y="10773"/>
                  <a:pt x="19050" y="10914"/>
                </a:cubicBezTo>
              </a:path>
              <a:path w="3126" h="2283">
                <a:moveTo>
                  <a:pt x="19100" y="10790"/>
                </a:moveTo>
                <a:cubicBezTo>
                  <a:pt x="19144" y="10759"/>
                  <a:pt x="19134" y="10812"/>
                  <a:pt x="19174" y="10864"/>
                </a:cubicBezTo>
                <a:cubicBezTo>
                  <a:pt x="19197" y="10895"/>
                  <a:pt x="19215" y="10906"/>
                  <a:pt x="19248" y="10914"/>
                </a:cubicBezTo>
                <a:cubicBezTo>
                  <a:pt x="19260" y="10894"/>
                  <a:pt x="19307" y="10773"/>
                  <a:pt x="19348" y="10790"/>
                </a:cubicBezTo>
                <a:cubicBezTo>
                  <a:pt x="19443" y="10829"/>
                  <a:pt x="19468" y="11032"/>
                  <a:pt x="19472" y="11112"/>
                </a:cubicBezTo>
                <a:cubicBezTo>
                  <a:pt x="19481" y="11279"/>
                  <a:pt x="19393" y="11320"/>
                  <a:pt x="19248" y="11361"/>
                </a:cubicBezTo>
                <a:cubicBezTo>
                  <a:pt x="19215" y="11369"/>
                  <a:pt x="19182" y="11377"/>
                  <a:pt x="19149" y="11385"/>
                </a:cubicBezTo>
              </a:path>
              <a:path w="3126" h="2283">
                <a:moveTo>
                  <a:pt x="17165" y="12030"/>
                </a:moveTo>
                <a:cubicBezTo>
                  <a:pt x="17194" y="12001"/>
                  <a:pt x="17205" y="11993"/>
                  <a:pt x="17214" y="11956"/>
                </a:cubicBezTo>
                <a:cubicBezTo>
                  <a:pt x="17183" y="11948"/>
                  <a:pt x="17153" y="11917"/>
                  <a:pt x="17115" y="11931"/>
                </a:cubicBezTo>
                <a:cubicBezTo>
                  <a:pt x="17028" y="11962"/>
                  <a:pt x="17020" y="12050"/>
                  <a:pt x="17016" y="12129"/>
                </a:cubicBezTo>
                <a:cubicBezTo>
                  <a:pt x="17016" y="12174"/>
                  <a:pt x="17013" y="12187"/>
                  <a:pt x="17041" y="12204"/>
                </a:cubicBezTo>
                <a:cubicBezTo>
                  <a:pt x="17094" y="12191"/>
                  <a:pt x="17123" y="12136"/>
                  <a:pt x="17140" y="12080"/>
                </a:cubicBezTo>
                <a:cubicBezTo>
                  <a:pt x="17140" y="12055"/>
                  <a:pt x="17140" y="12047"/>
                  <a:pt x="17165" y="12055"/>
                </a:cubicBezTo>
                <a:cubicBezTo>
                  <a:pt x="17165" y="12140"/>
                  <a:pt x="17202" y="12219"/>
                  <a:pt x="17190" y="12303"/>
                </a:cubicBezTo>
                <a:cubicBezTo>
                  <a:pt x="17186" y="12331"/>
                  <a:pt x="17133" y="12470"/>
                  <a:pt x="17165" y="12502"/>
                </a:cubicBezTo>
                <a:cubicBezTo>
                  <a:pt x="17223" y="12560"/>
                  <a:pt x="17266" y="12506"/>
                  <a:pt x="17314" y="12477"/>
                </a:cubicBezTo>
                <a:cubicBezTo>
                  <a:pt x="17370" y="12443"/>
                  <a:pt x="17414" y="12464"/>
                  <a:pt x="17462" y="12427"/>
                </a:cubicBezTo>
              </a:path>
              <a:path w="3126" h="2283">
                <a:moveTo>
                  <a:pt x="17711" y="11956"/>
                </a:moveTo>
                <a:cubicBezTo>
                  <a:pt x="17719" y="11956"/>
                  <a:pt x="17727" y="11956"/>
                  <a:pt x="17735" y="11956"/>
                </a:cubicBezTo>
                <a:cubicBezTo>
                  <a:pt x="17683" y="11956"/>
                  <a:pt x="17653" y="11968"/>
                  <a:pt x="17611" y="11981"/>
                </a:cubicBezTo>
                <a:cubicBezTo>
                  <a:pt x="17587" y="11981"/>
                  <a:pt x="17578" y="11981"/>
                  <a:pt x="17562" y="11981"/>
                </a:cubicBezTo>
              </a:path>
              <a:path w="3126" h="2283">
                <a:moveTo>
                  <a:pt x="17735" y="12080"/>
                </a:moveTo>
                <a:cubicBezTo>
                  <a:pt x="17775" y="12093"/>
                  <a:pt x="17745" y="12092"/>
                  <a:pt x="17785" y="12105"/>
                </a:cubicBezTo>
                <a:cubicBezTo>
                  <a:pt x="17744" y="12105"/>
                  <a:pt x="17702" y="12105"/>
                  <a:pt x="17661" y="12105"/>
                </a:cubicBezTo>
              </a:path>
              <a:path w="3126" h="2283">
                <a:moveTo>
                  <a:pt x="18653" y="11832"/>
                </a:moveTo>
                <a:cubicBezTo>
                  <a:pt x="18653" y="11840"/>
                  <a:pt x="18653" y="11849"/>
                  <a:pt x="18653" y="11857"/>
                </a:cubicBezTo>
                <a:cubicBezTo>
                  <a:pt x="18699" y="11857"/>
                  <a:pt x="18712" y="11837"/>
                  <a:pt x="18752" y="11832"/>
                </a:cubicBezTo>
                <a:cubicBezTo>
                  <a:pt x="18776" y="11829"/>
                  <a:pt x="18803" y="11832"/>
                  <a:pt x="18827" y="11832"/>
                </a:cubicBezTo>
              </a:path>
              <a:path w="3126" h="2283">
                <a:moveTo>
                  <a:pt x="19199" y="11410"/>
                </a:moveTo>
                <a:cubicBezTo>
                  <a:pt x="19221" y="11388"/>
                  <a:pt x="19226" y="11379"/>
                  <a:pt x="19248" y="11385"/>
                </a:cubicBezTo>
                <a:cubicBezTo>
                  <a:pt x="19248" y="11497"/>
                  <a:pt x="19238" y="11599"/>
                  <a:pt x="19224" y="11708"/>
                </a:cubicBezTo>
                <a:cubicBezTo>
                  <a:pt x="19224" y="11757"/>
                  <a:pt x="19224" y="11774"/>
                  <a:pt x="19224" y="11807"/>
                </a:cubicBezTo>
                <a:cubicBezTo>
                  <a:pt x="19280" y="11778"/>
                  <a:pt x="19260" y="11723"/>
                  <a:pt x="19323" y="11683"/>
                </a:cubicBezTo>
                <a:cubicBezTo>
                  <a:pt x="19381" y="11646"/>
                  <a:pt x="19424" y="11718"/>
                  <a:pt x="19447" y="11757"/>
                </a:cubicBezTo>
                <a:cubicBezTo>
                  <a:pt x="19476" y="11805"/>
                  <a:pt x="19485" y="11854"/>
                  <a:pt x="19422" y="11881"/>
                </a:cubicBezTo>
                <a:cubicBezTo>
                  <a:pt x="19392" y="11894"/>
                  <a:pt x="19330" y="11881"/>
                  <a:pt x="19298" y="11881"/>
                </a:cubicBezTo>
              </a:path>
              <a:path w="3126" h="2283">
                <a:moveTo>
                  <a:pt x="20092" y="11981"/>
                </a:moveTo>
                <a:cubicBezTo>
                  <a:pt x="20108" y="11981"/>
                  <a:pt x="20125" y="11981"/>
                  <a:pt x="20141" y="11981"/>
                </a:cubicBezTo>
                <a:cubicBezTo>
                  <a:pt x="19915" y="11981"/>
                  <a:pt x="19695" y="11973"/>
                  <a:pt x="19472" y="11956"/>
                </a:cubicBezTo>
                <a:cubicBezTo>
                  <a:pt x="19312" y="11944"/>
                  <a:pt x="19155" y="11964"/>
                  <a:pt x="19000" y="11981"/>
                </a:cubicBezTo>
                <a:cubicBezTo>
                  <a:pt x="18913" y="11990"/>
                  <a:pt x="18834" y="12016"/>
                  <a:pt x="18752" y="12030"/>
                </a:cubicBezTo>
                <a:cubicBezTo>
                  <a:pt x="18705" y="12038"/>
                  <a:pt x="18669" y="12050"/>
                  <a:pt x="18628" y="12055"/>
                </a:cubicBezTo>
                <a:cubicBezTo>
                  <a:pt x="18620" y="12055"/>
                  <a:pt x="18612" y="12055"/>
                  <a:pt x="18604" y="12055"/>
                </a:cubicBezTo>
              </a:path>
              <a:path w="3126" h="2283">
                <a:moveTo>
                  <a:pt x="18504" y="12526"/>
                </a:moveTo>
                <a:cubicBezTo>
                  <a:pt x="18464" y="12536"/>
                  <a:pt x="18433" y="12555"/>
                  <a:pt x="18430" y="12601"/>
                </a:cubicBezTo>
                <a:cubicBezTo>
                  <a:pt x="18430" y="12617"/>
                  <a:pt x="18430" y="12634"/>
                  <a:pt x="18430" y="12650"/>
                </a:cubicBezTo>
                <a:cubicBezTo>
                  <a:pt x="18475" y="12650"/>
                  <a:pt x="18494" y="12656"/>
                  <a:pt x="18529" y="12626"/>
                </a:cubicBezTo>
                <a:cubicBezTo>
                  <a:pt x="18572" y="12588"/>
                  <a:pt x="18546" y="12557"/>
                  <a:pt x="18579" y="12601"/>
                </a:cubicBezTo>
                <a:cubicBezTo>
                  <a:pt x="18587" y="12609"/>
                  <a:pt x="18596" y="12618"/>
                  <a:pt x="18604" y="12626"/>
                </a:cubicBezTo>
              </a:path>
              <a:path w="3126" h="2283">
                <a:moveTo>
                  <a:pt x="18752" y="12576"/>
                </a:moveTo>
                <a:cubicBezTo>
                  <a:pt x="18765" y="12536"/>
                  <a:pt x="18764" y="12566"/>
                  <a:pt x="18777" y="12526"/>
                </a:cubicBezTo>
                <a:cubicBezTo>
                  <a:pt x="18745" y="12559"/>
                  <a:pt x="18702" y="12597"/>
                  <a:pt x="18728" y="12650"/>
                </a:cubicBezTo>
                <a:cubicBezTo>
                  <a:pt x="18750" y="12673"/>
                  <a:pt x="18755" y="12681"/>
                  <a:pt x="18777" y="12675"/>
                </a:cubicBezTo>
                <a:cubicBezTo>
                  <a:pt x="18808" y="12594"/>
                  <a:pt x="18824" y="12515"/>
                  <a:pt x="18827" y="12427"/>
                </a:cubicBezTo>
                <a:cubicBezTo>
                  <a:pt x="18830" y="12358"/>
                  <a:pt x="18833" y="12330"/>
                  <a:pt x="18802" y="12278"/>
                </a:cubicBezTo>
                <a:cubicBezTo>
                  <a:pt x="18802" y="12359"/>
                  <a:pt x="18799" y="12425"/>
                  <a:pt x="18827" y="12502"/>
                </a:cubicBezTo>
                <a:cubicBezTo>
                  <a:pt x="18846" y="12555"/>
                  <a:pt x="18871" y="12605"/>
                  <a:pt x="18901" y="12650"/>
                </a:cubicBezTo>
              </a:path>
              <a:path w="3126" h="2283">
                <a:moveTo>
                  <a:pt x="19124" y="12576"/>
                </a:moveTo>
                <a:cubicBezTo>
                  <a:pt x="19124" y="12568"/>
                  <a:pt x="19124" y="12559"/>
                  <a:pt x="19124" y="12551"/>
                </a:cubicBezTo>
                <a:cubicBezTo>
                  <a:pt x="19163" y="12541"/>
                  <a:pt x="19179" y="12526"/>
                  <a:pt x="19224" y="12526"/>
                </a:cubicBezTo>
                <a:cubicBezTo>
                  <a:pt x="19232" y="12526"/>
                  <a:pt x="19240" y="12526"/>
                  <a:pt x="19248" y="12526"/>
                </a:cubicBezTo>
              </a:path>
              <a:path w="3126" h="2283">
                <a:moveTo>
                  <a:pt x="19496" y="12303"/>
                </a:moveTo>
                <a:cubicBezTo>
                  <a:pt x="19498" y="12296"/>
                  <a:pt x="19521" y="12141"/>
                  <a:pt x="19521" y="12204"/>
                </a:cubicBezTo>
                <a:cubicBezTo>
                  <a:pt x="19521" y="12269"/>
                  <a:pt x="19510" y="12387"/>
                  <a:pt x="19496" y="12452"/>
                </a:cubicBezTo>
                <a:cubicBezTo>
                  <a:pt x="19483" y="12512"/>
                  <a:pt x="19449" y="12519"/>
                  <a:pt x="19496" y="12551"/>
                </a:cubicBezTo>
                <a:cubicBezTo>
                  <a:pt x="19532" y="12542"/>
                  <a:pt x="19577" y="12478"/>
                  <a:pt x="19621" y="12502"/>
                </a:cubicBezTo>
                <a:cubicBezTo>
                  <a:pt x="19671" y="12529"/>
                  <a:pt x="19648" y="12596"/>
                  <a:pt x="19621" y="12626"/>
                </a:cubicBezTo>
                <a:cubicBezTo>
                  <a:pt x="19582" y="12669"/>
                  <a:pt x="19516" y="12655"/>
                  <a:pt x="19472" y="12626"/>
                </a:cubicBezTo>
                <a:cubicBezTo>
                  <a:pt x="19464" y="12618"/>
                  <a:pt x="19455" y="12609"/>
                  <a:pt x="19447" y="12601"/>
                </a:cubicBezTo>
              </a:path>
              <a:path w="3126" h="2283">
                <a:moveTo>
                  <a:pt x="19819" y="12502"/>
                </a:moveTo>
                <a:cubicBezTo>
                  <a:pt x="19827" y="12494"/>
                  <a:pt x="19836" y="12485"/>
                  <a:pt x="19844" y="12477"/>
                </a:cubicBezTo>
                <a:cubicBezTo>
                  <a:pt x="19833" y="12522"/>
                  <a:pt x="19819" y="12547"/>
                  <a:pt x="19819" y="12601"/>
                </a:cubicBezTo>
                <a:cubicBezTo>
                  <a:pt x="19819" y="12664"/>
                  <a:pt x="19899" y="12650"/>
                  <a:pt x="19943" y="126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643880" y="4089240"/>
            <a:ext cx="1143000" cy="492120"/>
          </a:xfrm>
          <a:custGeom>
            <a:avLst/>
            <a:gdLst/>
            <a:ahLst/>
            <a:rect l="l" t="t" r="r" b="b"/>
            <a:pathLst>
              <a:path w="3176" h="1365">
                <a:moveTo>
                  <a:pt x="21307" y="11981"/>
                </a:moveTo>
                <a:cubicBezTo>
                  <a:pt x="21307" y="12017"/>
                  <a:pt x="21323" y="12084"/>
                  <a:pt x="21282" y="12105"/>
                </a:cubicBezTo>
                <a:cubicBezTo>
                  <a:pt x="21274" y="12105"/>
                  <a:pt x="21266" y="12105"/>
                  <a:pt x="21258" y="12105"/>
                </a:cubicBezTo>
                <a:cubicBezTo>
                  <a:pt x="21258" y="12045"/>
                  <a:pt x="21210" y="11960"/>
                  <a:pt x="21233" y="11906"/>
                </a:cubicBezTo>
                <a:cubicBezTo>
                  <a:pt x="21254" y="11857"/>
                  <a:pt x="21333" y="11810"/>
                  <a:pt x="21382" y="11807"/>
                </a:cubicBezTo>
                <a:cubicBezTo>
                  <a:pt x="21426" y="11807"/>
                  <a:pt x="21440" y="11804"/>
                  <a:pt x="21456" y="11832"/>
                </a:cubicBezTo>
              </a:path>
              <a:path w="3176" h="1365">
                <a:moveTo>
                  <a:pt x="21927" y="11832"/>
                </a:moveTo>
                <a:cubicBezTo>
                  <a:pt x="21882" y="11832"/>
                  <a:pt x="21868" y="11853"/>
                  <a:pt x="21828" y="11857"/>
                </a:cubicBezTo>
                <a:cubicBezTo>
                  <a:pt x="21820" y="11857"/>
                  <a:pt x="21811" y="11857"/>
                  <a:pt x="21803" y="11857"/>
                </a:cubicBezTo>
              </a:path>
              <a:path w="3176" h="1365">
                <a:moveTo>
                  <a:pt x="21927" y="11931"/>
                </a:moveTo>
                <a:cubicBezTo>
                  <a:pt x="21935" y="11931"/>
                  <a:pt x="21944" y="11931"/>
                  <a:pt x="21952" y="11931"/>
                </a:cubicBezTo>
                <a:cubicBezTo>
                  <a:pt x="21940" y="11980"/>
                  <a:pt x="21928" y="11981"/>
                  <a:pt x="21878" y="11981"/>
                </a:cubicBezTo>
                <a:cubicBezTo>
                  <a:pt x="21853" y="11981"/>
                  <a:pt x="21845" y="11981"/>
                  <a:pt x="21828" y="11981"/>
                </a:cubicBezTo>
              </a:path>
              <a:path w="3176" h="1365">
                <a:moveTo>
                  <a:pt x="23068" y="11584"/>
                </a:moveTo>
                <a:cubicBezTo>
                  <a:pt x="23052" y="11584"/>
                  <a:pt x="23035" y="11584"/>
                  <a:pt x="23019" y="11584"/>
                </a:cubicBezTo>
                <a:cubicBezTo>
                  <a:pt x="23032" y="11544"/>
                  <a:pt x="23066" y="11537"/>
                  <a:pt x="23118" y="11534"/>
                </a:cubicBezTo>
                <a:cubicBezTo>
                  <a:pt x="23175" y="11531"/>
                  <a:pt x="23234" y="11534"/>
                  <a:pt x="23292" y="11534"/>
                </a:cubicBezTo>
              </a:path>
              <a:path w="3176" h="1365">
                <a:moveTo>
                  <a:pt x="23564" y="11410"/>
                </a:moveTo>
                <a:cubicBezTo>
                  <a:pt x="23581" y="11394"/>
                  <a:pt x="23597" y="11377"/>
                  <a:pt x="23614" y="11361"/>
                </a:cubicBezTo>
                <a:cubicBezTo>
                  <a:pt x="23563" y="11401"/>
                  <a:pt x="23524" y="11429"/>
                  <a:pt x="23490" y="11485"/>
                </a:cubicBezTo>
                <a:cubicBezTo>
                  <a:pt x="23435" y="11576"/>
                  <a:pt x="23475" y="11603"/>
                  <a:pt x="23540" y="11658"/>
                </a:cubicBezTo>
                <a:cubicBezTo>
                  <a:pt x="23581" y="11693"/>
                  <a:pt x="23610" y="11683"/>
                  <a:pt x="23664" y="11683"/>
                </a:cubicBezTo>
              </a:path>
              <a:path w="3176" h="1365">
                <a:moveTo>
                  <a:pt x="24383" y="12030"/>
                </a:moveTo>
                <a:cubicBezTo>
                  <a:pt x="24403" y="12004"/>
                  <a:pt x="24400" y="12031"/>
                  <a:pt x="24408" y="11981"/>
                </a:cubicBezTo>
                <a:cubicBezTo>
                  <a:pt x="24390" y="11969"/>
                  <a:pt x="24358" y="11939"/>
                  <a:pt x="24309" y="11931"/>
                </a:cubicBezTo>
                <a:cubicBezTo>
                  <a:pt x="23929" y="11867"/>
                  <a:pt x="23471" y="11929"/>
                  <a:pt x="23093" y="11956"/>
                </a:cubicBezTo>
                <a:cubicBezTo>
                  <a:pt x="22960" y="11966"/>
                  <a:pt x="22826" y="11969"/>
                  <a:pt x="22696" y="11981"/>
                </a:cubicBezTo>
                <a:cubicBezTo>
                  <a:pt x="22605" y="11989"/>
                  <a:pt x="22526" y="11967"/>
                  <a:pt x="22448" y="12005"/>
                </a:cubicBezTo>
              </a:path>
              <a:path w="3176" h="1365">
                <a:moveTo>
                  <a:pt x="22523" y="12502"/>
                </a:moveTo>
                <a:cubicBezTo>
                  <a:pt x="22550" y="12464"/>
                  <a:pt x="22547" y="12450"/>
                  <a:pt x="22547" y="12402"/>
                </a:cubicBezTo>
                <a:cubicBezTo>
                  <a:pt x="22500" y="12414"/>
                  <a:pt x="22467" y="12425"/>
                  <a:pt x="22448" y="12477"/>
                </a:cubicBezTo>
                <a:cubicBezTo>
                  <a:pt x="22431" y="12523"/>
                  <a:pt x="22448" y="12568"/>
                  <a:pt x="22473" y="12601"/>
                </a:cubicBezTo>
                <a:cubicBezTo>
                  <a:pt x="22526" y="12575"/>
                  <a:pt x="22539" y="12537"/>
                  <a:pt x="22547" y="12477"/>
                </a:cubicBezTo>
                <a:cubicBezTo>
                  <a:pt x="22613" y="12477"/>
                  <a:pt x="22613" y="12493"/>
                  <a:pt x="22647" y="12551"/>
                </a:cubicBezTo>
              </a:path>
              <a:path w="3176" h="1365">
                <a:moveTo>
                  <a:pt x="22895" y="12551"/>
                </a:moveTo>
                <a:cubicBezTo>
                  <a:pt x="22848" y="12516"/>
                  <a:pt x="22845" y="12519"/>
                  <a:pt x="22845" y="12576"/>
                </a:cubicBezTo>
                <a:cubicBezTo>
                  <a:pt x="22845" y="12601"/>
                  <a:pt x="22845" y="12625"/>
                  <a:pt x="22845" y="12650"/>
                </a:cubicBezTo>
                <a:cubicBezTo>
                  <a:pt x="22929" y="12650"/>
                  <a:pt x="22916" y="12603"/>
                  <a:pt x="22920" y="12526"/>
                </a:cubicBezTo>
                <a:cubicBezTo>
                  <a:pt x="22922" y="12491"/>
                  <a:pt x="22920" y="12229"/>
                  <a:pt x="22920" y="12353"/>
                </a:cubicBezTo>
                <a:cubicBezTo>
                  <a:pt x="22920" y="12442"/>
                  <a:pt x="22924" y="12520"/>
                  <a:pt x="22969" y="12601"/>
                </a:cubicBezTo>
                <a:cubicBezTo>
                  <a:pt x="22977" y="12609"/>
                  <a:pt x="22986" y="12618"/>
                  <a:pt x="22994" y="12626"/>
                </a:cubicBezTo>
              </a:path>
              <a:path w="3176" h="1365">
                <a:moveTo>
                  <a:pt x="23242" y="12601"/>
                </a:moveTo>
                <a:cubicBezTo>
                  <a:pt x="23242" y="12593"/>
                  <a:pt x="23242" y="12584"/>
                  <a:pt x="23242" y="12576"/>
                </a:cubicBezTo>
                <a:cubicBezTo>
                  <a:pt x="23280" y="12563"/>
                  <a:pt x="23263" y="12551"/>
                  <a:pt x="23316" y="12551"/>
                </a:cubicBezTo>
                <a:cubicBezTo>
                  <a:pt x="23341" y="12551"/>
                  <a:pt x="23366" y="12551"/>
                  <a:pt x="23391" y="12551"/>
                </a:cubicBezTo>
              </a:path>
              <a:path w="3176" h="1365">
                <a:moveTo>
                  <a:pt x="23614" y="12328"/>
                </a:moveTo>
                <a:cubicBezTo>
                  <a:pt x="23614" y="12270"/>
                  <a:pt x="23614" y="12262"/>
                  <a:pt x="23614" y="12229"/>
                </a:cubicBezTo>
                <a:cubicBezTo>
                  <a:pt x="23583" y="12310"/>
                  <a:pt x="23567" y="12389"/>
                  <a:pt x="23564" y="12477"/>
                </a:cubicBezTo>
                <a:cubicBezTo>
                  <a:pt x="23562" y="12526"/>
                  <a:pt x="23564" y="12576"/>
                  <a:pt x="23564" y="12626"/>
                </a:cubicBezTo>
                <a:cubicBezTo>
                  <a:pt x="23584" y="12606"/>
                  <a:pt x="23631" y="12536"/>
                  <a:pt x="23664" y="12551"/>
                </a:cubicBezTo>
                <a:cubicBezTo>
                  <a:pt x="23704" y="12569"/>
                  <a:pt x="23733" y="12635"/>
                  <a:pt x="23713" y="12675"/>
                </a:cubicBezTo>
                <a:cubicBezTo>
                  <a:pt x="23683" y="12734"/>
                  <a:pt x="23639" y="12733"/>
                  <a:pt x="23589" y="12700"/>
                </a:cubicBezTo>
                <a:cubicBezTo>
                  <a:pt x="23581" y="12692"/>
                  <a:pt x="23572" y="12683"/>
                  <a:pt x="23564" y="12675"/>
                </a:cubicBezTo>
              </a:path>
              <a:path w="3176" h="1365">
                <a:moveTo>
                  <a:pt x="23912" y="12526"/>
                </a:moveTo>
                <a:cubicBezTo>
                  <a:pt x="23912" y="12518"/>
                  <a:pt x="23912" y="12510"/>
                  <a:pt x="23912" y="12502"/>
                </a:cubicBezTo>
                <a:cubicBezTo>
                  <a:pt x="23886" y="12510"/>
                  <a:pt x="23852" y="12564"/>
                  <a:pt x="23837" y="12601"/>
                </a:cubicBezTo>
                <a:cubicBezTo>
                  <a:pt x="23837" y="12609"/>
                  <a:pt x="23837" y="12618"/>
                  <a:pt x="23837" y="12626"/>
                </a:cubicBezTo>
                <a:cubicBezTo>
                  <a:pt x="23904" y="12663"/>
                  <a:pt x="23953" y="12693"/>
                  <a:pt x="24036" y="12675"/>
                </a:cubicBezTo>
                <a:cubicBezTo>
                  <a:pt x="24103" y="12652"/>
                  <a:pt x="24121" y="12647"/>
                  <a:pt x="24160" y="12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126200" y="6296040"/>
            <a:ext cx="61920" cy="27000"/>
          </a:xfrm>
          <a:custGeom>
            <a:avLst/>
            <a:gdLst/>
            <a:ahLst/>
            <a:rect l="l" t="t" r="r" b="b"/>
            <a:pathLst>
              <a:path w="175" h="76">
                <a:moveTo>
                  <a:pt x="19943" y="17487"/>
                </a:moveTo>
                <a:cubicBezTo>
                  <a:pt x="19943" y="17512"/>
                  <a:pt x="19943" y="17520"/>
                  <a:pt x="19968" y="17512"/>
                </a:cubicBezTo>
                <a:cubicBezTo>
                  <a:pt x="19922" y="17512"/>
                  <a:pt x="19909" y="17532"/>
                  <a:pt x="19869" y="17537"/>
                </a:cubicBezTo>
                <a:cubicBezTo>
                  <a:pt x="19824" y="17542"/>
                  <a:pt x="19833" y="17533"/>
                  <a:pt x="19794" y="175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232760" y="6242040"/>
            <a:ext cx="63360" cy="115920"/>
          </a:xfrm>
          <a:custGeom>
            <a:avLst/>
            <a:gdLst/>
            <a:ahLst/>
            <a:rect l="l" t="t" r="r" b="b"/>
            <a:pathLst>
              <a:path w="174" h="324">
                <a:moveTo>
                  <a:pt x="20166" y="17363"/>
                </a:moveTo>
                <a:cubicBezTo>
                  <a:pt x="20240" y="17351"/>
                  <a:pt x="20217" y="17335"/>
                  <a:pt x="20216" y="17338"/>
                </a:cubicBezTo>
                <a:cubicBezTo>
                  <a:pt x="20198" y="17382"/>
                  <a:pt x="20146" y="17407"/>
                  <a:pt x="20117" y="17462"/>
                </a:cubicBezTo>
                <a:cubicBezTo>
                  <a:pt x="20095" y="17503"/>
                  <a:pt x="20060" y="17625"/>
                  <a:pt x="20117" y="17661"/>
                </a:cubicBezTo>
                <a:cubicBezTo>
                  <a:pt x="20141" y="17676"/>
                  <a:pt x="20236" y="17661"/>
                  <a:pt x="20265" y="176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973920" y="6384960"/>
            <a:ext cx="598320" cy="54000"/>
          </a:xfrm>
          <a:custGeom>
            <a:avLst/>
            <a:gdLst/>
            <a:ahLst/>
            <a:rect l="l" t="t" r="r" b="b"/>
            <a:pathLst>
              <a:path w="1663" h="150">
                <a:moveTo>
                  <a:pt x="21010" y="17735"/>
                </a:moveTo>
                <a:cubicBezTo>
                  <a:pt x="20977" y="17735"/>
                  <a:pt x="20993" y="17735"/>
                  <a:pt x="20960" y="17735"/>
                </a:cubicBezTo>
                <a:cubicBezTo>
                  <a:pt x="20858" y="17735"/>
                  <a:pt x="20769" y="17760"/>
                  <a:pt x="20662" y="17760"/>
                </a:cubicBezTo>
                <a:cubicBezTo>
                  <a:pt x="20512" y="17760"/>
                  <a:pt x="20368" y="17785"/>
                  <a:pt x="20216" y="17785"/>
                </a:cubicBezTo>
                <a:cubicBezTo>
                  <a:pt x="20078" y="17785"/>
                  <a:pt x="19954" y="17805"/>
                  <a:pt x="19819" y="17810"/>
                </a:cubicBezTo>
                <a:cubicBezTo>
                  <a:pt x="19689" y="17814"/>
                  <a:pt x="19569" y="17814"/>
                  <a:pt x="19447" y="17835"/>
                </a:cubicBezTo>
                <a:cubicBezTo>
                  <a:pt x="19386" y="17845"/>
                  <a:pt x="19406" y="17844"/>
                  <a:pt x="19372" y="178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10280" y="6545160"/>
            <a:ext cx="98640" cy="63720"/>
          </a:xfrm>
          <a:custGeom>
            <a:avLst/>
            <a:gdLst/>
            <a:ahLst/>
            <a:rect l="l" t="t" r="r" b="b"/>
            <a:pathLst>
              <a:path w="274" h="174">
                <a:moveTo>
                  <a:pt x="19496" y="18231"/>
                </a:moveTo>
                <a:cubicBezTo>
                  <a:pt x="19521" y="18207"/>
                  <a:pt x="19530" y="18199"/>
                  <a:pt x="19546" y="18182"/>
                </a:cubicBezTo>
                <a:cubicBezTo>
                  <a:pt x="19490" y="18182"/>
                  <a:pt x="19476" y="18194"/>
                  <a:pt x="19472" y="18256"/>
                </a:cubicBezTo>
                <a:cubicBezTo>
                  <a:pt x="19470" y="18288"/>
                  <a:pt x="19472" y="18322"/>
                  <a:pt x="19472" y="18355"/>
                </a:cubicBezTo>
                <a:cubicBezTo>
                  <a:pt x="19504" y="18347"/>
                  <a:pt x="19555" y="18317"/>
                  <a:pt x="19571" y="18281"/>
                </a:cubicBezTo>
                <a:cubicBezTo>
                  <a:pt x="19571" y="18256"/>
                  <a:pt x="19571" y="18248"/>
                  <a:pt x="19596" y="18256"/>
                </a:cubicBezTo>
                <a:cubicBezTo>
                  <a:pt x="19628" y="18288"/>
                  <a:pt x="19651" y="18326"/>
                  <a:pt x="19695" y="18331"/>
                </a:cubicBezTo>
                <a:cubicBezTo>
                  <a:pt x="19720" y="18331"/>
                  <a:pt x="19728" y="18331"/>
                  <a:pt x="19745" y="183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134120" y="6500880"/>
            <a:ext cx="73080" cy="108000"/>
          </a:xfrm>
          <a:custGeom>
            <a:avLst/>
            <a:gdLst/>
            <a:ahLst/>
            <a:rect l="l" t="t" r="r" b="b"/>
            <a:pathLst>
              <a:path w="199" h="298">
                <a:moveTo>
                  <a:pt x="19819" y="18306"/>
                </a:moveTo>
                <a:cubicBezTo>
                  <a:pt x="19839" y="18265"/>
                  <a:pt x="19848" y="18259"/>
                  <a:pt x="19844" y="18231"/>
                </a:cubicBezTo>
                <a:cubicBezTo>
                  <a:pt x="19811" y="18275"/>
                  <a:pt x="19819" y="18297"/>
                  <a:pt x="19819" y="18355"/>
                </a:cubicBezTo>
                <a:cubicBezTo>
                  <a:pt x="19873" y="18355"/>
                  <a:pt x="19903" y="18344"/>
                  <a:pt x="19918" y="18281"/>
                </a:cubicBezTo>
                <a:cubicBezTo>
                  <a:pt x="19934" y="18213"/>
                  <a:pt x="19918" y="18128"/>
                  <a:pt x="19918" y="18058"/>
                </a:cubicBezTo>
                <a:cubicBezTo>
                  <a:pt x="19918" y="18117"/>
                  <a:pt x="19941" y="18154"/>
                  <a:pt x="19968" y="18207"/>
                </a:cubicBezTo>
                <a:cubicBezTo>
                  <a:pt x="19990" y="18250"/>
                  <a:pt x="19994" y="18261"/>
                  <a:pt x="20017" y="182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269120" y="6545160"/>
            <a:ext cx="44640" cy="9720"/>
          </a:xfrm>
          <a:custGeom>
            <a:avLst/>
            <a:gdLst/>
            <a:ahLst/>
            <a:rect l="l" t="t" r="r" b="b"/>
            <a:pathLst>
              <a:path w="125" h="26">
                <a:moveTo>
                  <a:pt x="20216" y="18207"/>
                </a:moveTo>
                <a:cubicBezTo>
                  <a:pt x="20208" y="18207"/>
                  <a:pt x="20199" y="18207"/>
                  <a:pt x="20191" y="18207"/>
                </a:cubicBezTo>
                <a:cubicBezTo>
                  <a:pt x="20238" y="18207"/>
                  <a:pt x="20271" y="18191"/>
                  <a:pt x="20315" y="181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67760" y="6456240"/>
            <a:ext cx="71280" cy="152640"/>
          </a:xfrm>
          <a:custGeom>
            <a:avLst/>
            <a:gdLst/>
            <a:ahLst/>
            <a:rect l="l" t="t" r="r" b="b"/>
            <a:pathLst>
              <a:path w="199" h="422">
                <a:moveTo>
                  <a:pt x="20464" y="17983"/>
                </a:moveTo>
                <a:cubicBezTo>
                  <a:pt x="20464" y="17942"/>
                  <a:pt x="20456" y="17926"/>
                  <a:pt x="20489" y="17934"/>
                </a:cubicBezTo>
                <a:cubicBezTo>
                  <a:pt x="20489" y="18041"/>
                  <a:pt x="20489" y="18149"/>
                  <a:pt x="20489" y="18256"/>
                </a:cubicBezTo>
                <a:cubicBezTo>
                  <a:pt x="20539" y="18243"/>
                  <a:pt x="20552" y="18231"/>
                  <a:pt x="20613" y="18231"/>
                </a:cubicBezTo>
                <a:cubicBezTo>
                  <a:pt x="20633" y="18231"/>
                  <a:pt x="20675" y="18276"/>
                  <a:pt x="20662" y="18306"/>
                </a:cubicBezTo>
                <a:cubicBezTo>
                  <a:pt x="20638" y="18361"/>
                  <a:pt x="20586" y="18355"/>
                  <a:pt x="20538" y="18355"/>
                </a:cubicBezTo>
                <a:cubicBezTo>
                  <a:pt x="20510" y="18355"/>
                  <a:pt x="20500" y="18353"/>
                  <a:pt x="20489" y="183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456320" y="6527880"/>
            <a:ext cx="98640" cy="71280"/>
          </a:xfrm>
          <a:custGeom>
            <a:avLst/>
            <a:gdLst/>
            <a:ahLst/>
            <a:rect l="l" t="t" r="r" b="b"/>
            <a:pathLst>
              <a:path w="274" h="200">
                <a:moveTo>
                  <a:pt x="20712" y="18182"/>
                </a:moveTo>
                <a:cubicBezTo>
                  <a:pt x="20847" y="18100"/>
                  <a:pt x="20782" y="18115"/>
                  <a:pt x="20762" y="18157"/>
                </a:cubicBezTo>
                <a:cubicBezTo>
                  <a:pt x="20739" y="18204"/>
                  <a:pt x="20725" y="18234"/>
                  <a:pt x="20762" y="18281"/>
                </a:cubicBezTo>
                <a:cubicBezTo>
                  <a:pt x="20814" y="18347"/>
                  <a:pt x="20869" y="18336"/>
                  <a:pt x="20935" y="18306"/>
                </a:cubicBezTo>
                <a:cubicBezTo>
                  <a:pt x="20952" y="18298"/>
                  <a:pt x="20968" y="18289"/>
                  <a:pt x="20985" y="182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inverse and determinants of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the inverse of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x A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76160" y="3027240"/>
            <a:ext cx="358920" cy="268560"/>
          </a:xfrm>
          <a:custGeom>
            <a:avLst/>
            <a:gdLst/>
            <a:ahLst/>
            <a:rect l="l" t="t" r="r" b="b"/>
            <a:pathLst>
              <a:path w="993" h="745">
                <a:moveTo>
                  <a:pt x="2158" y="8632"/>
                </a:moveTo>
                <a:cubicBezTo>
                  <a:pt x="2158" y="8657"/>
                  <a:pt x="2158" y="8681"/>
                  <a:pt x="2158" y="8706"/>
                </a:cubicBezTo>
                <a:cubicBezTo>
                  <a:pt x="2196" y="8706"/>
                  <a:pt x="2232" y="8717"/>
                  <a:pt x="2257" y="8682"/>
                </a:cubicBezTo>
                <a:cubicBezTo>
                  <a:pt x="2296" y="8627"/>
                  <a:pt x="2347" y="8526"/>
                  <a:pt x="2332" y="8458"/>
                </a:cubicBezTo>
                <a:cubicBezTo>
                  <a:pt x="2324" y="8442"/>
                  <a:pt x="2315" y="8425"/>
                  <a:pt x="2307" y="8409"/>
                </a:cubicBezTo>
                <a:cubicBezTo>
                  <a:pt x="2238" y="8409"/>
                  <a:pt x="2211" y="8444"/>
                  <a:pt x="2183" y="8508"/>
                </a:cubicBezTo>
                <a:cubicBezTo>
                  <a:pt x="2145" y="8594"/>
                  <a:pt x="2133" y="8745"/>
                  <a:pt x="2183" y="8830"/>
                </a:cubicBezTo>
                <a:cubicBezTo>
                  <a:pt x="2225" y="8902"/>
                  <a:pt x="2277" y="8888"/>
                  <a:pt x="2332" y="8855"/>
                </a:cubicBezTo>
              </a:path>
              <a:path w="993" h="745">
                <a:moveTo>
                  <a:pt x="2456" y="8706"/>
                </a:moveTo>
                <a:cubicBezTo>
                  <a:pt x="2489" y="8678"/>
                  <a:pt x="2542" y="8628"/>
                  <a:pt x="2580" y="8682"/>
                </a:cubicBezTo>
                <a:cubicBezTo>
                  <a:pt x="2580" y="8690"/>
                  <a:pt x="2580" y="8698"/>
                  <a:pt x="2580" y="8706"/>
                </a:cubicBezTo>
              </a:path>
              <a:path w="993" h="745">
                <a:moveTo>
                  <a:pt x="2704" y="8582"/>
                </a:moveTo>
                <a:cubicBezTo>
                  <a:pt x="2712" y="8525"/>
                  <a:pt x="2730" y="8521"/>
                  <a:pt x="2704" y="8508"/>
                </a:cubicBezTo>
                <a:cubicBezTo>
                  <a:pt x="2679" y="8575"/>
                  <a:pt x="2663" y="8635"/>
                  <a:pt x="2654" y="8706"/>
                </a:cubicBezTo>
                <a:cubicBezTo>
                  <a:pt x="2701" y="8691"/>
                  <a:pt x="2685" y="8622"/>
                  <a:pt x="2729" y="8582"/>
                </a:cubicBezTo>
                <a:cubicBezTo>
                  <a:pt x="2831" y="8487"/>
                  <a:pt x="2891" y="8639"/>
                  <a:pt x="2927" y="8706"/>
                </a:cubicBezTo>
                <a:cubicBezTo>
                  <a:pt x="2984" y="8813"/>
                  <a:pt x="3031" y="8955"/>
                  <a:pt x="3001" y="9079"/>
                </a:cubicBezTo>
                <a:cubicBezTo>
                  <a:pt x="2976" y="9182"/>
                  <a:pt x="2856" y="9153"/>
                  <a:pt x="2778" y="9153"/>
                </a:cubicBezTo>
                <a:cubicBezTo>
                  <a:pt x="2681" y="9153"/>
                  <a:pt x="2662" y="9146"/>
                  <a:pt x="2604" y="9079"/>
                </a:cubicBezTo>
              </a:path>
              <a:path w="993" h="745">
                <a:moveTo>
                  <a:pt x="3026" y="8756"/>
                </a:moveTo>
                <a:cubicBezTo>
                  <a:pt x="3091" y="8734"/>
                  <a:pt x="3106" y="8726"/>
                  <a:pt x="3150" y="8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608120" y="2963880"/>
            <a:ext cx="115920" cy="233280"/>
          </a:xfrm>
          <a:custGeom>
            <a:avLst/>
            <a:gdLst/>
            <a:ahLst/>
            <a:rect l="l" t="t" r="r" b="b"/>
            <a:pathLst>
              <a:path w="323" h="646">
                <a:moveTo>
                  <a:pt x="4465" y="8781"/>
                </a:moveTo>
                <a:cubicBezTo>
                  <a:pt x="4465" y="8840"/>
                  <a:pt x="4458" y="8837"/>
                  <a:pt x="4490" y="8880"/>
                </a:cubicBezTo>
                <a:cubicBezTo>
                  <a:pt x="4490" y="8817"/>
                  <a:pt x="4507" y="8768"/>
                  <a:pt x="4514" y="8706"/>
                </a:cubicBezTo>
                <a:cubicBezTo>
                  <a:pt x="4526" y="8601"/>
                  <a:pt x="4542" y="8487"/>
                  <a:pt x="4564" y="8384"/>
                </a:cubicBezTo>
                <a:cubicBezTo>
                  <a:pt x="4577" y="8323"/>
                  <a:pt x="4601" y="8286"/>
                  <a:pt x="4614" y="8235"/>
                </a:cubicBezTo>
                <a:cubicBezTo>
                  <a:pt x="4668" y="8290"/>
                  <a:pt x="4668" y="8331"/>
                  <a:pt x="4688" y="8409"/>
                </a:cubicBezTo>
                <a:cubicBezTo>
                  <a:pt x="4715" y="8514"/>
                  <a:pt x="4734" y="8630"/>
                  <a:pt x="4762" y="8731"/>
                </a:cubicBezTo>
                <a:cubicBezTo>
                  <a:pt x="4770" y="8748"/>
                  <a:pt x="4779" y="8764"/>
                  <a:pt x="4787" y="8781"/>
                </a:cubicBezTo>
              </a:path>
              <a:path w="323" h="646">
                <a:moveTo>
                  <a:pt x="4787" y="8607"/>
                </a:moveTo>
                <a:cubicBezTo>
                  <a:pt x="4769" y="8580"/>
                  <a:pt x="4722" y="8475"/>
                  <a:pt x="4663" y="8508"/>
                </a:cubicBezTo>
                <a:cubicBezTo>
                  <a:pt x="4626" y="8529"/>
                  <a:pt x="4601" y="8536"/>
                  <a:pt x="4564" y="85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812960" y="3017880"/>
            <a:ext cx="88920" cy="71280"/>
          </a:xfrm>
          <a:custGeom>
            <a:avLst/>
            <a:gdLst/>
            <a:ahLst/>
            <a:rect l="l" t="t" r="r" b="b"/>
            <a:pathLst>
              <a:path w="249" h="199">
                <a:moveTo>
                  <a:pt x="5259" y="8434"/>
                </a:moveTo>
                <a:cubicBezTo>
                  <a:pt x="5259" y="8409"/>
                  <a:pt x="5259" y="8401"/>
                  <a:pt x="5259" y="8384"/>
                </a:cubicBezTo>
                <a:cubicBezTo>
                  <a:pt x="5215" y="8395"/>
                  <a:pt x="5184" y="8422"/>
                  <a:pt x="5135" y="8434"/>
                </a:cubicBezTo>
                <a:cubicBezTo>
                  <a:pt x="5102" y="8442"/>
                  <a:pt x="5069" y="8452"/>
                  <a:pt x="5035" y="8458"/>
                </a:cubicBezTo>
              </a:path>
              <a:path w="249" h="199">
                <a:moveTo>
                  <a:pt x="5259" y="8558"/>
                </a:moveTo>
                <a:cubicBezTo>
                  <a:pt x="5267" y="8558"/>
                  <a:pt x="5275" y="8558"/>
                  <a:pt x="5283" y="8558"/>
                </a:cubicBezTo>
                <a:cubicBezTo>
                  <a:pt x="5271" y="8594"/>
                  <a:pt x="5253" y="8582"/>
                  <a:pt x="5209" y="85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59000" y="2803680"/>
            <a:ext cx="277920" cy="455400"/>
          </a:xfrm>
          <a:custGeom>
            <a:avLst/>
            <a:gdLst/>
            <a:ahLst/>
            <a:rect l="l" t="t" r="r" b="b"/>
            <a:pathLst>
              <a:path w="770" h="1266">
                <a:moveTo>
                  <a:pt x="6821" y="8086"/>
                </a:moveTo>
                <a:cubicBezTo>
                  <a:pt x="6846" y="8086"/>
                  <a:pt x="6854" y="8086"/>
                  <a:pt x="6871" y="8086"/>
                </a:cubicBezTo>
                <a:cubicBezTo>
                  <a:pt x="6871" y="8045"/>
                  <a:pt x="6888" y="7992"/>
                  <a:pt x="6846" y="7987"/>
                </a:cubicBezTo>
                <a:cubicBezTo>
                  <a:pt x="6828" y="7985"/>
                  <a:pt x="6728" y="8049"/>
                  <a:pt x="6722" y="8062"/>
                </a:cubicBezTo>
                <a:cubicBezTo>
                  <a:pt x="6702" y="8101"/>
                  <a:pt x="6725" y="8183"/>
                  <a:pt x="6747" y="8210"/>
                </a:cubicBezTo>
                <a:cubicBezTo>
                  <a:pt x="6783" y="8255"/>
                  <a:pt x="6819" y="8228"/>
                  <a:pt x="6846" y="8186"/>
                </a:cubicBezTo>
                <a:cubicBezTo>
                  <a:pt x="6877" y="8138"/>
                  <a:pt x="6896" y="8093"/>
                  <a:pt x="6896" y="8037"/>
                </a:cubicBezTo>
                <a:cubicBezTo>
                  <a:pt x="6937" y="8078"/>
                  <a:pt x="6975" y="8102"/>
                  <a:pt x="7020" y="8136"/>
                </a:cubicBezTo>
                <a:cubicBezTo>
                  <a:pt x="7028" y="8144"/>
                  <a:pt x="7037" y="8153"/>
                  <a:pt x="7045" y="8161"/>
                </a:cubicBezTo>
              </a:path>
              <a:path w="770" h="1266">
                <a:moveTo>
                  <a:pt x="6821" y="8905"/>
                </a:moveTo>
                <a:cubicBezTo>
                  <a:pt x="6871" y="8872"/>
                  <a:pt x="6881" y="8863"/>
                  <a:pt x="6896" y="8806"/>
                </a:cubicBezTo>
                <a:cubicBezTo>
                  <a:pt x="6826" y="8823"/>
                  <a:pt x="6842" y="8847"/>
                  <a:pt x="6821" y="8905"/>
                </a:cubicBezTo>
                <a:cubicBezTo>
                  <a:pt x="6802" y="8959"/>
                  <a:pt x="6774" y="9014"/>
                  <a:pt x="6846" y="9054"/>
                </a:cubicBezTo>
                <a:cubicBezTo>
                  <a:pt x="6892" y="9080"/>
                  <a:pt x="6979" y="9044"/>
                  <a:pt x="7020" y="9029"/>
                </a:cubicBezTo>
              </a:path>
              <a:path w="770" h="1266">
                <a:moveTo>
                  <a:pt x="6400" y="7938"/>
                </a:moveTo>
                <a:cubicBezTo>
                  <a:pt x="6407" y="7887"/>
                  <a:pt x="6424" y="7864"/>
                  <a:pt x="6424" y="7813"/>
                </a:cubicBezTo>
                <a:cubicBezTo>
                  <a:pt x="6424" y="7805"/>
                  <a:pt x="6424" y="7797"/>
                  <a:pt x="6424" y="7789"/>
                </a:cubicBezTo>
                <a:cubicBezTo>
                  <a:pt x="6383" y="7859"/>
                  <a:pt x="6351" y="7925"/>
                  <a:pt x="6325" y="8012"/>
                </a:cubicBezTo>
                <a:cubicBezTo>
                  <a:pt x="6278" y="8171"/>
                  <a:pt x="6256" y="8319"/>
                  <a:pt x="6300" y="8483"/>
                </a:cubicBezTo>
                <a:cubicBezTo>
                  <a:pt x="6343" y="8641"/>
                  <a:pt x="6380" y="8804"/>
                  <a:pt x="6449" y="8954"/>
                </a:cubicBezTo>
                <a:cubicBezTo>
                  <a:pt x="6472" y="9004"/>
                  <a:pt x="6483" y="9034"/>
                  <a:pt x="6524" y="9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03680" y="2741760"/>
            <a:ext cx="206280" cy="465120"/>
          </a:xfrm>
          <a:custGeom>
            <a:avLst/>
            <a:gdLst/>
            <a:ahLst/>
            <a:rect l="l" t="t" r="r" b="b"/>
            <a:pathLst>
              <a:path w="571" h="1291">
                <a:moveTo>
                  <a:pt x="7789" y="7665"/>
                </a:moveTo>
                <a:cubicBezTo>
                  <a:pt x="7789" y="7657"/>
                  <a:pt x="7789" y="7573"/>
                  <a:pt x="7789" y="7640"/>
                </a:cubicBezTo>
                <a:cubicBezTo>
                  <a:pt x="7789" y="7744"/>
                  <a:pt x="7802" y="7838"/>
                  <a:pt x="7813" y="7938"/>
                </a:cubicBezTo>
                <a:cubicBezTo>
                  <a:pt x="7821" y="8010"/>
                  <a:pt x="7804" y="8030"/>
                  <a:pt x="7838" y="8086"/>
                </a:cubicBezTo>
                <a:cubicBezTo>
                  <a:pt x="7838" y="8127"/>
                  <a:pt x="7838" y="8053"/>
                  <a:pt x="7838" y="8012"/>
                </a:cubicBezTo>
                <a:cubicBezTo>
                  <a:pt x="7838" y="7953"/>
                  <a:pt x="7858" y="7940"/>
                  <a:pt x="7888" y="7888"/>
                </a:cubicBezTo>
                <a:cubicBezTo>
                  <a:pt x="7934" y="7888"/>
                  <a:pt x="7959" y="7895"/>
                  <a:pt x="7987" y="7938"/>
                </a:cubicBezTo>
                <a:cubicBezTo>
                  <a:pt x="8023" y="7993"/>
                  <a:pt x="8024" y="8056"/>
                  <a:pt x="7987" y="8111"/>
                </a:cubicBezTo>
                <a:cubicBezTo>
                  <a:pt x="7951" y="8164"/>
                  <a:pt x="7883" y="8131"/>
                  <a:pt x="7838" y="8111"/>
                </a:cubicBezTo>
                <a:cubicBezTo>
                  <a:pt x="7822" y="8103"/>
                  <a:pt x="7805" y="8094"/>
                  <a:pt x="7789" y="8086"/>
                </a:cubicBezTo>
              </a:path>
              <a:path w="571" h="1291">
                <a:moveTo>
                  <a:pt x="7813" y="8682"/>
                </a:moveTo>
                <a:cubicBezTo>
                  <a:pt x="7880" y="8703"/>
                  <a:pt x="7800" y="8715"/>
                  <a:pt x="7789" y="8756"/>
                </a:cubicBezTo>
                <a:cubicBezTo>
                  <a:pt x="7780" y="8789"/>
                  <a:pt x="7789" y="8845"/>
                  <a:pt x="7789" y="8880"/>
                </a:cubicBezTo>
                <a:cubicBezTo>
                  <a:pt x="7864" y="8861"/>
                  <a:pt x="7860" y="8803"/>
                  <a:pt x="7863" y="8731"/>
                </a:cubicBezTo>
                <a:cubicBezTo>
                  <a:pt x="7866" y="8645"/>
                  <a:pt x="7888" y="8570"/>
                  <a:pt x="7888" y="8483"/>
                </a:cubicBezTo>
                <a:cubicBezTo>
                  <a:pt x="7888" y="8467"/>
                  <a:pt x="7888" y="8450"/>
                  <a:pt x="7888" y="8434"/>
                </a:cubicBezTo>
                <a:cubicBezTo>
                  <a:pt x="7888" y="8524"/>
                  <a:pt x="7891" y="8595"/>
                  <a:pt x="7913" y="8682"/>
                </a:cubicBezTo>
                <a:cubicBezTo>
                  <a:pt x="7935" y="8770"/>
                  <a:pt x="7956" y="8835"/>
                  <a:pt x="8012" y="8905"/>
                </a:cubicBezTo>
              </a:path>
              <a:path w="571" h="1291">
                <a:moveTo>
                  <a:pt x="7938" y="7838"/>
                </a:moveTo>
                <a:cubicBezTo>
                  <a:pt x="7969" y="7814"/>
                  <a:pt x="7983" y="7791"/>
                  <a:pt x="8012" y="7789"/>
                </a:cubicBezTo>
                <a:cubicBezTo>
                  <a:pt x="8084" y="7784"/>
                  <a:pt x="8099" y="7805"/>
                  <a:pt x="8161" y="7838"/>
                </a:cubicBezTo>
                <a:cubicBezTo>
                  <a:pt x="8244" y="7882"/>
                  <a:pt x="8265" y="7959"/>
                  <a:pt x="8310" y="8037"/>
                </a:cubicBezTo>
                <a:cubicBezTo>
                  <a:pt x="8375" y="8150"/>
                  <a:pt x="8376" y="8301"/>
                  <a:pt x="8359" y="8434"/>
                </a:cubicBezTo>
                <a:cubicBezTo>
                  <a:pt x="8344" y="8552"/>
                  <a:pt x="8301" y="8694"/>
                  <a:pt x="8260" y="8806"/>
                </a:cubicBezTo>
                <a:cubicBezTo>
                  <a:pt x="8233" y="8859"/>
                  <a:pt x="8221" y="8879"/>
                  <a:pt x="8186" y="8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616200" y="2919240"/>
            <a:ext cx="268560" cy="233640"/>
          </a:xfrm>
          <a:custGeom>
            <a:avLst/>
            <a:gdLst/>
            <a:ahLst/>
            <a:rect l="l" t="t" r="r" b="b"/>
            <a:pathLst>
              <a:path w="745" h="646">
                <a:moveTo>
                  <a:pt x="10046" y="8607"/>
                </a:moveTo>
                <a:cubicBezTo>
                  <a:pt x="10046" y="8629"/>
                  <a:pt x="10046" y="8789"/>
                  <a:pt x="10046" y="8731"/>
                </a:cubicBezTo>
                <a:cubicBezTo>
                  <a:pt x="10046" y="8658"/>
                  <a:pt x="10068" y="8606"/>
                  <a:pt x="10071" y="8533"/>
                </a:cubicBezTo>
                <a:cubicBezTo>
                  <a:pt x="10074" y="8446"/>
                  <a:pt x="10094" y="8342"/>
                  <a:pt x="10120" y="8260"/>
                </a:cubicBezTo>
                <a:cubicBezTo>
                  <a:pt x="10142" y="8216"/>
                  <a:pt x="10145" y="8205"/>
                  <a:pt x="10170" y="8186"/>
                </a:cubicBezTo>
                <a:cubicBezTo>
                  <a:pt x="10228" y="8257"/>
                  <a:pt x="10227" y="8298"/>
                  <a:pt x="10244" y="8384"/>
                </a:cubicBezTo>
                <a:cubicBezTo>
                  <a:pt x="10266" y="8495"/>
                  <a:pt x="10318" y="8596"/>
                  <a:pt x="10344" y="8706"/>
                </a:cubicBezTo>
                <a:cubicBezTo>
                  <a:pt x="10344" y="8714"/>
                  <a:pt x="10344" y="8723"/>
                  <a:pt x="10344" y="8731"/>
                </a:cubicBezTo>
              </a:path>
              <a:path w="745" h="646">
                <a:moveTo>
                  <a:pt x="10344" y="8508"/>
                </a:moveTo>
                <a:cubicBezTo>
                  <a:pt x="10263" y="8438"/>
                  <a:pt x="10294" y="8458"/>
                  <a:pt x="10220" y="8483"/>
                </a:cubicBezTo>
                <a:cubicBezTo>
                  <a:pt x="10192" y="8493"/>
                  <a:pt x="10150" y="8483"/>
                  <a:pt x="10120" y="8483"/>
                </a:cubicBezTo>
              </a:path>
              <a:path w="745" h="646">
                <a:moveTo>
                  <a:pt x="10492" y="8235"/>
                </a:moveTo>
                <a:cubicBezTo>
                  <a:pt x="10484" y="8235"/>
                  <a:pt x="10476" y="8235"/>
                  <a:pt x="10468" y="8235"/>
                </a:cubicBezTo>
                <a:cubicBezTo>
                  <a:pt x="10513" y="8235"/>
                  <a:pt x="10527" y="8214"/>
                  <a:pt x="10567" y="8210"/>
                </a:cubicBezTo>
                <a:cubicBezTo>
                  <a:pt x="10599" y="8206"/>
                  <a:pt x="10611" y="8193"/>
                  <a:pt x="10641" y="8186"/>
                </a:cubicBezTo>
              </a:path>
              <a:path w="745" h="646">
                <a:moveTo>
                  <a:pt x="10740" y="8111"/>
                </a:moveTo>
                <a:cubicBezTo>
                  <a:pt x="10800" y="8126"/>
                  <a:pt x="10790" y="8149"/>
                  <a:pt x="10790" y="8210"/>
                </a:cubicBezTo>
                <a:cubicBezTo>
                  <a:pt x="10790" y="8251"/>
                  <a:pt x="10790" y="8293"/>
                  <a:pt x="10790" y="8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017960" y="3009960"/>
            <a:ext cx="73080" cy="61920"/>
          </a:xfrm>
          <a:custGeom>
            <a:avLst/>
            <a:gdLst/>
            <a:ahLst/>
            <a:rect l="l" t="t" r="r" b="b"/>
            <a:pathLst>
              <a:path w="200" h="175">
                <a:moveTo>
                  <a:pt x="11311" y="8359"/>
                </a:moveTo>
                <a:cubicBezTo>
                  <a:pt x="11319" y="8359"/>
                  <a:pt x="11328" y="8359"/>
                  <a:pt x="11336" y="8359"/>
                </a:cubicBezTo>
                <a:cubicBezTo>
                  <a:pt x="11323" y="8397"/>
                  <a:pt x="11306" y="8384"/>
                  <a:pt x="11261" y="8384"/>
                </a:cubicBezTo>
                <a:cubicBezTo>
                  <a:pt x="11209" y="8384"/>
                  <a:pt x="11205" y="8398"/>
                  <a:pt x="11162" y="8409"/>
                </a:cubicBezTo>
              </a:path>
              <a:path w="200" h="175">
                <a:moveTo>
                  <a:pt x="11336" y="8483"/>
                </a:moveTo>
                <a:cubicBezTo>
                  <a:pt x="11344" y="8491"/>
                  <a:pt x="11353" y="8500"/>
                  <a:pt x="11361" y="8508"/>
                </a:cubicBezTo>
                <a:cubicBezTo>
                  <a:pt x="11311" y="8538"/>
                  <a:pt x="11274" y="8533"/>
                  <a:pt x="11212" y="8533"/>
                </a:cubicBezTo>
                <a:cubicBezTo>
                  <a:pt x="11204" y="8533"/>
                  <a:pt x="11195" y="8533"/>
                  <a:pt x="11187" y="85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05160" y="2751120"/>
            <a:ext cx="196920" cy="473040"/>
          </a:xfrm>
          <a:custGeom>
            <a:avLst/>
            <a:gdLst/>
            <a:ahLst/>
            <a:rect l="l" t="t" r="r" b="b"/>
            <a:pathLst>
              <a:path w="547" h="1315">
                <a:moveTo>
                  <a:pt x="12030" y="7962"/>
                </a:moveTo>
                <a:cubicBezTo>
                  <a:pt x="12030" y="7938"/>
                  <a:pt x="12030" y="7930"/>
                  <a:pt x="12055" y="7938"/>
                </a:cubicBezTo>
                <a:cubicBezTo>
                  <a:pt x="12055" y="8043"/>
                  <a:pt x="12064" y="8137"/>
                  <a:pt x="12080" y="8235"/>
                </a:cubicBezTo>
                <a:cubicBezTo>
                  <a:pt x="12089" y="8293"/>
                  <a:pt x="12075" y="8310"/>
                  <a:pt x="12105" y="8359"/>
                </a:cubicBezTo>
              </a:path>
              <a:path w="547" h="1315">
                <a:moveTo>
                  <a:pt x="12055" y="8037"/>
                </a:moveTo>
                <a:cubicBezTo>
                  <a:pt x="12018" y="7988"/>
                  <a:pt x="12027" y="7986"/>
                  <a:pt x="12055" y="7938"/>
                </a:cubicBezTo>
                <a:cubicBezTo>
                  <a:pt x="12095" y="7869"/>
                  <a:pt x="12066" y="7845"/>
                  <a:pt x="12154" y="7838"/>
                </a:cubicBezTo>
                <a:cubicBezTo>
                  <a:pt x="12220" y="7832"/>
                  <a:pt x="12226" y="7915"/>
                  <a:pt x="12229" y="7962"/>
                </a:cubicBezTo>
                <a:cubicBezTo>
                  <a:pt x="12233" y="8033"/>
                  <a:pt x="12225" y="8050"/>
                  <a:pt x="12179" y="8086"/>
                </a:cubicBezTo>
                <a:cubicBezTo>
                  <a:pt x="12141" y="8115"/>
                  <a:pt x="12128" y="8111"/>
                  <a:pt x="12080" y="8111"/>
                </a:cubicBezTo>
              </a:path>
              <a:path w="547" h="1315">
                <a:moveTo>
                  <a:pt x="11981" y="8855"/>
                </a:moveTo>
                <a:cubicBezTo>
                  <a:pt x="11981" y="8888"/>
                  <a:pt x="11981" y="8921"/>
                  <a:pt x="11981" y="8954"/>
                </a:cubicBezTo>
                <a:cubicBezTo>
                  <a:pt x="11948" y="8943"/>
                  <a:pt x="11941" y="8900"/>
                  <a:pt x="11956" y="8855"/>
                </a:cubicBezTo>
                <a:cubicBezTo>
                  <a:pt x="11975" y="8800"/>
                  <a:pt x="11998" y="8754"/>
                  <a:pt x="12055" y="8731"/>
                </a:cubicBezTo>
                <a:cubicBezTo>
                  <a:pt x="12087" y="8718"/>
                  <a:pt x="12143" y="8731"/>
                  <a:pt x="12179" y="8731"/>
                </a:cubicBezTo>
              </a:path>
              <a:path w="547" h="1315">
                <a:moveTo>
                  <a:pt x="11832" y="7665"/>
                </a:moveTo>
                <a:cubicBezTo>
                  <a:pt x="11857" y="7665"/>
                  <a:pt x="11865" y="7665"/>
                  <a:pt x="11857" y="7640"/>
                </a:cubicBezTo>
                <a:cubicBezTo>
                  <a:pt x="11857" y="7676"/>
                  <a:pt x="11850" y="7712"/>
                  <a:pt x="11832" y="7739"/>
                </a:cubicBezTo>
                <a:cubicBezTo>
                  <a:pt x="11802" y="7783"/>
                  <a:pt x="11745" y="7834"/>
                  <a:pt x="11733" y="7888"/>
                </a:cubicBezTo>
                <a:cubicBezTo>
                  <a:pt x="11721" y="7942"/>
                  <a:pt x="11725" y="8011"/>
                  <a:pt x="11708" y="8062"/>
                </a:cubicBezTo>
                <a:cubicBezTo>
                  <a:pt x="11682" y="8139"/>
                  <a:pt x="11683" y="8201"/>
                  <a:pt x="11683" y="8285"/>
                </a:cubicBezTo>
                <a:cubicBezTo>
                  <a:pt x="11683" y="8462"/>
                  <a:pt x="11681" y="8637"/>
                  <a:pt x="11708" y="8806"/>
                </a:cubicBezTo>
                <a:cubicBezTo>
                  <a:pt x="11708" y="8857"/>
                  <a:pt x="11709" y="8876"/>
                  <a:pt x="11733" y="8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16280" y="2795760"/>
            <a:ext cx="268560" cy="446040"/>
          </a:xfrm>
          <a:custGeom>
            <a:avLst/>
            <a:gdLst/>
            <a:ahLst/>
            <a:rect l="l" t="t" r="r" b="b"/>
            <a:pathLst>
              <a:path w="745" h="1241">
                <a:moveTo>
                  <a:pt x="12973" y="7938"/>
                </a:moveTo>
                <a:cubicBezTo>
                  <a:pt x="12964" y="7911"/>
                  <a:pt x="12955" y="7892"/>
                  <a:pt x="12923" y="7888"/>
                </a:cubicBezTo>
                <a:cubicBezTo>
                  <a:pt x="12864" y="7881"/>
                  <a:pt x="12831" y="7943"/>
                  <a:pt x="12824" y="7987"/>
                </a:cubicBezTo>
                <a:cubicBezTo>
                  <a:pt x="12816" y="8034"/>
                  <a:pt x="12828" y="8051"/>
                  <a:pt x="12849" y="8086"/>
                </a:cubicBezTo>
                <a:cubicBezTo>
                  <a:pt x="12903" y="8073"/>
                  <a:pt x="12930" y="8018"/>
                  <a:pt x="12948" y="7962"/>
                </a:cubicBezTo>
                <a:cubicBezTo>
                  <a:pt x="12954" y="7942"/>
                  <a:pt x="12973" y="7858"/>
                  <a:pt x="12973" y="7913"/>
                </a:cubicBezTo>
                <a:cubicBezTo>
                  <a:pt x="12973" y="7987"/>
                  <a:pt x="12971" y="8042"/>
                  <a:pt x="12948" y="8111"/>
                </a:cubicBezTo>
                <a:cubicBezTo>
                  <a:pt x="12924" y="8184"/>
                  <a:pt x="12923" y="8235"/>
                  <a:pt x="12923" y="8310"/>
                </a:cubicBezTo>
                <a:cubicBezTo>
                  <a:pt x="12982" y="8310"/>
                  <a:pt x="13001" y="8311"/>
                  <a:pt x="13047" y="8285"/>
                </a:cubicBezTo>
                <a:cubicBezTo>
                  <a:pt x="13088" y="8261"/>
                  <a:pt x="13150" y="8240"/>
                  <a:pt x="13196" y="8235"/>
                </a:cubicBezTo>
                <a:cubicBezTo>
                  <a:pt x="13204" y="8235"/>
                  <a:pt x="13213" y="8235"/>
                  <a:pt x="13221" y="8235"/>
                </a:cubicBezTo>
              </a:path>
              <a:path w="745" h="1241">
                <a:moveTo>
                  <a:pt x="12923" y="8632"/>
                </a:moveTo>
                <a:cubicBezTo>
                  <a:pt x="12946" y="8609"/>
                  <a:pt x="12954" y="8605"/>
                  <a:pt x="12948" y="8582"/>
                </a:cubicBezTo>
                <a:cubicBezTo>
                  <a:pt x="12922" y="8588"/>
                  <a:pt x="12863" y="8603"/>
                  <a:pt x="12849" y="8632"/>
                </a:cubicBezTo>
                <a:cubicBezTo>
                  <a:pt x="12819" y="8692"/>
                  <a:pt x="12890" y="8693"/>
                  <a:pt x="12923" y="8706"/>
                </a:cubicBezTo>
                <a:cubicBezTo>
                  <a:pt x="12978" y="8728"/>
                  <a:pt x="13028" y="8772"/>
                  <a:pt x="13047" y="8830"/>
                </a:cubicBezTo>
                <a:cubicBezTo>
                  <a:pt x="13066" y="8887"/>
                  <a:pt x="12979" y="8903"/>
                  <a:pt x="12948" y="8905"/>
                </a:cubicBezTo>
                <a:cubicBezTo>
                  <a:pt x="12931" y="8905"/>
                  <a:pt x="12915" y="8905"/>
                  <a:pt x="12898" y="8905"/>
                </a:cubicBezTo>
              </a:path>
              <a:path w="745" h="1241">
                <a:moveTo>
                  <a:pt x="13295" y="7789"/>
                </a:moveTo>
                <a:cubicBezTo>
                  <a:pt x="13310" y="7744"/>
                  <a:pt x="13355" y="7757"/>
                  <a:pt x="13395" y="7789"/>
                </a:cubicBezTo>
                <a:cubicBezTo>
                  <a:pt x="13455" y="7837"/>
                  <a:pt x="13496" y="7888"/>
                  <a:pt x="13519" y="7962"/>
                </a:cubicBezTo>
                <a:cubicBezTo>
                  <a:pt x="13565" y="8106"/>
                  <a:pt x="13568" y="8235"/>
                  <a:pt x="13568" y="8384"/>
                </a:cubicBezTo>
                <a:cubicBezTo>
                  <a:pt x="13568" y="8537"/>
                  <a:pt x="13554" y="8736"/>
                  <a:pt x="13494" y="8880"/>
                </a:cubicBezTo>
                <a:cubicBezTo>
                  <a:pt x="13450" y="8945"/>
                  <a:pt x="13439" y="8959"/>
                  <a:pt x="13419" y="90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01800" y="3732120"/>
            <a:ext cx="206280" cy="196920"/>
          </a:xfrm>
          <a:custGeom>
            <a:avLst/>
            <a:gdLst/>
            <a:ahLst/>
            <a:rect l="l" t="t" r="r" b="b"/>
            <a:pathLst>
              <a:path w="572" h="547">
                <a:moveTo>
                  <a:pt x="2604" y="10393"/>
                </a:moveTo>
                <a:cubicBezTo>
                  <a:pt x="2632" y="10393"/>
                  <a:pt x="2643" y="10391"/>
                  <a:pt x="2654" y="10368"/>
                </a:cubicBezTo>
                <a:cubicBezTo>
                  <a:pt x="2593" y="10383"/>
                  <a:pt x="2592" y="10419"/>
                  <a:pt x="2555" y="10468"/>
                </a:cubicBezTo>
                <a:cubicBezTo>
                  <a:pt x="2533" y="10496"/>
                  <a:pt x="2480" y="10549"/>
                  <a:pt x="2505" y="10592"/>
                </a:cubicBezTo>
                <a:cubicBezTo>
                  <a:pt x="2524" y="10625"/>
                  <a:pt x="2598" y="10642"/>
                  <a:pt x="2629" y="10666"/>
                </a:cubicBezTo>
                <a:cubicBezTo>
                  <a:pt x="2666" y="10694"/>
                  <a:pt x="2715" y="10768"/>
                  <a:pt x="2704" y="10815"/>
                </a:cubicBezTo>
                <a:cubicBezTo>
                  <a:pt x="2686" y="10891"/>
                  <a:pt x="2674" y="10889"/>
                  <a:pt x="2604" y="10889"/>
                </a:cubicBezTo>
                <a:cubicBezTo>
                  <a:pt x="2553" y="10889"/>
                  <a:pt x="2518" y="10904"/>
                  <a:pt x="2505" y="10864"/>
                </a:cubicBezTo>
              </a:path>
              <a:path w="572" h="547">
                <a:moveTo>
                  <a:pt x="2902" y="10815"/>
                </a:moveTo>
                <a:cubicBezTo>
                  <a:pt x="2902" y="10772"/>
                  <a:pt x="2888" y="10718"/>
                  <a:pt x="2927" y="10691"/>
                </a:cubicBezTo>
                <a:cubicBezTo>
                  <a:pt x="2978" y="10656"/>
                  <a:pt x="3051" y="10705"/>
                  <a:pt x="3076" y="10765"/>
                </a:cubicBezTo>
                <a:cubicBezTo>
                  <a:pt x="3089" y="10796"/>
                  <a:pt x="3088" y="10896"/>
                  <a:pt x="3051" y="10914"/>
                </a:cubicBezTo>
                <a:cubicBezTo>
                  <a:pt x="3013" y="10933"/>
                  <a:pt x="2970" y="10892"/>
                  <a:pt x="2952" y="10864"/>
                </a:cubicBezTo>
                <a:cubicBezTo>
                  <a:pt x="2944" y="10848"/>
                  <a:pt x="2935" y="10831"/>
                  <a:pt x="2927" y="10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25760" y="3562200"/>
            <a:ext cx="223560" cy="474840"/>
          </a:xfrm>
          <a:custGeom>
            <a:avLst/>
            <a:gdLst/>
            <a:ahLst/>
            <a:rect l="l" t="t" r="r" b="b"/>
            <a:pathLst>
              <a:path w="622" h="1316">
                <a:moveTo>
                  <a:pt x="4911" y="10120"/>
                </a:moveTo>
                <a:cubicBezTo>
                  <a:pt x="4939" y="10084"/>
                  <a:pt x="4950" y="10078"/>
                  <a:pt x="4961" y="10046"/>
                </a:cubicBezTo>
                <a:cubicBezTo>
                  <a:pt x="4924" y="10055"/>
                  <a:pt x="4885" y="10084"/>
                  <a:pt x="4862" y="10120"/>
                </a:cubicBezTo>
                <a:cubicBezTo>
                  <a:pt x="4812" y="10198"/>
                  <a:pt x="4806" y="10236"/>
                  <a:pt x="4837" y="10319"/>
                </a:cubicBezTo>
                <a:cubicBezTo>
                  <a:pt x="4899" y="10281"/>
                  <a:pt x="4902" y="10227"/>
                  <a:pt x="4936" y="10170"/>
                </a:cubicBezTo>
                <a:cubicBezTo>
                  <a:pt x="4972" y="10110"/>
                  <a:pt x="5032" y="10158"/>
                  <a:pt x="5060" y="10195"/>
                </a:cubicBezTo>
                <a:cubicBezTo>
                  <a:pt x="5085" y="10244"/>
                  <a:pt x="5094" y="10261"/>
                  <a:pt x="5135" y="10269"/>
                </a:cubicBezTo>
              </a:path>
              <a:path w="622" h="1316">
                <a:moveTo>
                  <a:pt x="4936" y="11013"/>
                </a:moveTo>
                <a:cubicBezTo>
                  <a:pt x="4958" y="10991"/>
                  <a:pt x="4967" y="10986"/>
                  <a:pt x="4961" y="10964"/>
                </a:cubicBezTo>
                <a:cubicBezTo>
                  <a:pt x="4922" y="10973"/>
                  <a:pt x="4864" y="11001"/>
                  <a:pt x="4837" y="11038"/>
                </a:cubicBezTo>
                <a:cubicBezTo>
                  <a:pt x="4786" y="11109"/>
                  <a:pt x="4810" y="11179"/>
                  <a:pt x="4887" y="11212"/>
                </a:cubicBezTo>
                <a:cubicBezTo>
                  <a:pt x="4953" y="11240"/>
                  <a:pt x="5013" y="11200"/>
                  <a:pt x="5060" y="11162"/>
                </a:cubicBezTo>
              </a:path>
              <a:path w="622" h="1316">
                <a:moveTo>
                  <a:pt x="4614" y="9996"/>
                </a:moveTo>
                <a:cubicBezTo>
                  <a:pt x="4635" y="9959"/>
                  <a:pt x="4654" y="9934"/>
                  <a:pt x="4663" y="9897"/>
                </a:cubicBezTo>
                <a:cubicBezTo>
                  <a:pt x="4614" y="9996"/>
                  <a:pt x="4569" y="10088"/>
                  <a:pt x="4539" y="10195"/>
                </a:cubicBezTo>
                <a:cubicBezTo>
                  <a:pt x="4491" y="10368"/>
                  <a:pt x="4514" y="10568"/>
                  <a:pt x="4564" y="10740"/>
                </a:cubicBezTo>
                <a:cubicBezTo>
                  <a:pt x="4599" y="10862"/>
                  <a:pt x="4627" y="11023"/>
                  <a:pt x="4688" y="11137"/>
                </a:cubicBezTo>
                <a:cubicBezTo>
                  <a:pt x="4713" y="11162"/>
                  <a:pt x="4721" y="11170"/>
                  <a:pt x="4738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143080" y="3483000"/>
            <a:ext cx="563760" cy="490680"/>
          </a:xfrm>
          <a:custGeom>
            <a:avLst/>
            <a:gdLst/>
            <a:ahLst/>
            <a:rect l="l" t="t" r="r" b="b"/>
            <a:pathLst>
              <a:path w="1564" h="1365">
                <a:moveTo>
                  <a:pt x="6176" y="9748"/>
                </a:moveTo>
                <a:cubicBezTo>
                  <a:pt x="6168" y="9740"/>
                  <a:pt x="6160" y="9731"/>
                  <a:pt x="6152" y="9723"/>
                </a:cubicBezTo>
                <a:cubicBezTo>
                  <a:pt x="6152" y="9889"/>
                  <a:pt x="6152" y="10054"/>
                  <a:pt x="6152" y="10220"/>
                </a:cubicBezTo>
                <a:cubicBezTo>
                  <a:pt x="6177" y="10150"/>
                  <a:pt x="6177" y="10089"/>
                  <a:pt x="6251" y="10046"/>
                </a:cubicBezTo>
                <a:cubicBezTo>
                  <a:pt x="6276" y="10046"/>
                  <a:pt x="6284" y="10046"/>
                  <a:pt x="6300" y="10046"/>
                </a:cubicBezTo>
                <a:cubicBezTo>
                  <a:pt x="6315" y="10073"/>
                  <a:pt x="6385" y="10160"/>
                  <a:pt x="6350" y="10195"/>
                </a:cubicBezTo>
                <a:cubicBezTo>
                  <a:pt x="6299" y="10246"/>
                  <a:pt x="6242" y="10244"/>
                  <a:pt x="6176" y="10244"/>
                </a:cubicBezTo>
                <a:cubicBezTo>
                  <a:pt x="6160" y="10244"/>
                  <a:pt x="6143" y="10244"/>
                  <a:pt x="6127" y="10244"/>
                </a:cubicBezTo>
              </a:path>
              <a:path w="1564" h="1365">
                <a:moveTo>
                  <a:pt x="6028" y="10939"/>
                </a:moveTo>
                <a:cubicBezTo>
                  <a:pt x="6013" y="10895"/>
                  <a:pt x="5973" y="10921"/>
                  <a:pt x="5953" y="10964"/>
                </a:cubicBezTo>
                <a:cubicBezTo>
                  <a:pt x="5934" y="11005"/>
                  <a:pt x="5957" y="11024"/>
                  <a:pt x="5978" y="11038"/>
                </a:cubicBezTo>
                <a:cubicBezTo>
                  <a:pt x="6083" y="11008"/>
                  <a:pt x="6054" y="10943"/>
                  <a:pt x="6077" y="10840"/>
                </a:cubicBezTo>
                <a:cubicBezTo>
                  <a:pt x="6094" y="10765"/>
                  <a:pt x="6091" y="10676"/>
                  <a:pt x="6127" y="10616"/>
                </a:cubicBezTo>
                <a:cubicBezTo>
                  <a:pt x="6142" y="10690"/>
                  <a:pt x="6154" y="10765"/>
                  <a:pt x="6176" y="10840"/>
                </a:cubicBezTo>
                <a:cubicBezTo>
                  <a:pt x="6194" y="10902"/>
                  <a:pt x="6212" y="10940"/>
                  <a:pt x="6251" y="10988"/>
                </a:cubicBezTo>
              </a:path>
              <a:path w="1564" h="1365">
                <a:moveTo>
                  <a:pt x="6424" y="9674"/>
                </a:moveTo>
                <a:cubicBezTo>
                  <a:pt x="6474" y="9674"/>
                  <a:pt x="6506" y="9691"/>
                  <a:pt x="6548" y="9723"/>
                </a:cubicBezTo>
                <a:cubicBezTo>
                  <a:pt x="6621" y="9777"/>
                  <a:pt x="6652" y="9887"/>
                  <a:pt x="6672" y="9971"/>
                </a:cubicBezTo>
                <a:cubicBezTo>
                  <a:pt x="6710" y="10130"/>
                  <a:pt x="6704" y="10284"/>
                  <a:pt x="6672" y="10443"/>
                </a:cubicBezTo>
                <a:cubicBezTo>
                  <a:pt x="6645" y="10579"/>
                  <a:pt x="6600" y="10692"/>
                  <a:pt x="6548" y="10815"/>
                </a:cubicBezTo>
                <a:cubicBezTo>
                  <a:pt x="6540" y="10840"/>
                  <a:pt x="6532" y="10864"/>
                  <a:pt x="6524" y="10889"/>
                </a:cubicBezTo>
              </a:path>
              <a:path w="1564" h="1365">
                <a:moveTo>
                  <a:pt x="7193" y="9971"/>
                </a:moveTo>
                <a:cubicBezTo>
                  <a:pt x="7193" y="9947"/>
                  <a:pt x="7193" y="9938"/>
                  <a:pt x="7193" y="9922"/>
                </a:cubicBezTo>
                <a:cubicBezTo>
                  <a:pt x="7237" y="9937"/>
                  <a:pt x="7218" y="9993"/>
                  <a:pt x="7218" y="10046"/>
                </a:cubicBezTo>
                <a:cubicBezTo>
                  <a:pt x="7218" y="10173"/>
                  <a:pt x="7251" y="10272"/>
                  <a:pt x="7268" y="10393"/>
                </a:cubicBezTo>
                <a:cubicBezTo>
                  <a:pt x="7276" y="10450"/>
                  <a:pt x="7282" y="10489"/>
                  <a:pt x="7293" y="10542"/>
                </a:cubicBezTo>
              </a:path>
              <a:path w="1564" h="1365">
                <a:moveTo>
                  <a:pt x="7218" y="10120"/>
                </a:moveTo>
                <a:cubicBezTo>
                  <a:pt x="7218" y="10072"/>
                  <a:pt x="7223" y="10010"/>
                  <a:pt x="7243" y="9971"/>
                </a:cubicBezTo>
                <a:cubicBezTo>
                  <a:pt x="7276" y="9907"/>
                  <a:pt x="7259" y="9879"/>
                  <a:pt x="7342" y="9872"/>
                </a:cubicBezTo>
                <a:cubicBezTo>
                  <a:pt x="7401" y="9867"/>
                  <a:pt x="7415" y="9978"/>
                  <a:pt x="7417" y="10021"/>
                </a:cubicBezTo>
                <a:cubicBezTo>
                  <a:pt x="7422" y="10105"/>
                  <a:pt x="7430" y="10138"/>
                  <a:pt x="7342" y="10145"/>
                </a:cubicBezTo>
                <a:cubicBezTo>
                  <a:pt x="7334" y="10145"/>
                  <a:pt x="7325" y="10145"/>
                  <a:pt x="7317" y="10145"/>
                </a:cubicBezTo>
              </a:path>
              <a:path w="1564" h="1365">
                <a:moveTo>
                  <a:pt x="7342" y="11013"/>
                </a:moveTo>
                <a:cubicBezTo>
                  <a:pt x="7334" y="11013"/>
                  <a:pt x="7325" y="11013"/>
                  <a:pt x="7317" y="11013"/>
                </a:cubicBezTo>
                <a:cubicBezTo>
                  <a:pt x="7317" y="10978"/>
                  <a:pt x="7298" y="10877"/>
                  <a:pt x="7342" y="10864"/>
                </a:cubicBezTo>
                <a:cubicBezTo>
                  <a:pt x="7390" y="10849"/>
                  <a:pt x="7465" y="10864"/>
                  <a:pt x="7516" y="10864"/>
                </a:cubicBezTo>
              </a:path>
              <a:path w="1564" h="1365">
                <a:moveTo>
                  <a:pt x="6995" y="9723"/>
                </a:moveTo>
                <a:cubicBezTo>
                  <a:pt x="7023" y="9723"/>
                  <a:pt x="7034" y="9721"/>
                  <a:pt x="7045" y="9699"/>
                </a:cubicBezTo>
                <a:cubicBezTo>
                  <a:pt x="7045" y="9754"/>
                  <a:pt x="7040" y="9770"/>
                  <a:pt x="7020" y="9823"/>
                </a:cubicBezTo>
                <a:cubicBezTo>
                  <a:pt x="6977" y="9941"/>
                  <a:pt x="6932" y="10069"/>
                  <a:pt x="6921" y="10195"/>
                </a:cubicBezTo>
                <a:cubicBezTo>
                  <a:pt x="6907" y="10353"/>
                  <a:pt x="6959" y="10522"/>
                  <a:pt x="7020" y="10666"/>
                </a:cubicBezTo>
                <a:cubicBezTo>
                  <a:pt x="7054" y="10745"/>
                  <a:pt x="7125" y="10884"/>
                  <a:pt x="7193" y="10939"/>
                </a:cubicBezTo>
                <a:cubicBezTo>
                  <a:pt x="7201" y="10939"/>
                  <a:pt x="7210" y="10939"/>
                  <a:pt x="7218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884320" y="3554280"/>
            <a:ext cx="277920" cy="366840"/>
          </a:xfrm>
          <a:custGeom>
            <a:avLst/>
            <a:gdLst/>
            <a:ahLst/>
            <a:rect l="l" t="t" r="r" b="b"/>
            <a:pathLst>
              <a:path w="770" h="1018">
                <a:moveTo>
                  <a:pt x="8086" y="9947"/>
                </a:moveTo>
                <a:cubicBezTo>
                  <a:pt x="8114" y="9910"/>
                  <a:pt x="8125" y="9904"/>
                  <a:pt x="8136" y="9872"/>
                </a:cubicBezTo>
                <a:cubicBezTo>
                  <a:pt x="8092" y="9916"/>
                  <a:pt x="8029" y="9958"/>
                  <a:pt x="8012" y="10021"/>
                </a:cubicBezTo>
                <a:cubicBezTo>
                  <a:pt x="8012" y="10063"/>
                  <a:pt x="8012" y="10071"/>
                  <a:pt x="8012" y="10096"/>
                </a:cubicBezTo>
                <a:cubicBezTo>
                  <a:pt x="8058" y="10096"/>
                  <a:pt x="8084" y="10089"/>
                  <a:pt x="8111" y="10046"/>
                </a:cubicBezTo>
                <a:cubicBezTo>
                  <a:pt x="8146" y="9991"/>
                  <a:pt x="8118" y="9985"/>
                  <a:pt x="8161" y="9971"/>
                </a:cubicBezTo>
                <a:cubicBezTo>
                  <a:pt x="8185" y="9979"/>
                  <a:pt x="8207" y="10022"/>
                  <a:pt x="8210" y="10046"/>
                </a:cubicBezTo>
                <a:cubicBezTo>
                  <a:pt x="8221" y="10134"/>
                  <a:pt x="8199" y="10213"/>
                  <a:pt x="8186" y="10294"/>
                </a:cubicBezTo>
                <a:cubicBezTo>
                  <a:pt x="8181" y="10323"/>
                  <a:pt x="8186" y="10362"/>
                  <a:pt x="8186" y="10393"/>
                </a:cubicBezTo>
                <a:cubicBezTo>
                  <a:pt x="8230" y="10382"/>
                  <a:pt x="8265" y="10343"/>
                  <a:pt x="8310" y="10319"/>
                </a:cubicBezTo>
                <a:cubicBezTo>
                  <a:pt x="8365" y="10289"/>
                  <a:pt x="8410" y="10273"/>
                  <a:pt x="8458" y="10244"/>
                </a:cubicBezTo>
              </a:path>
              <a:path w="770" h="1018">
                <a:moveTo>
                  <a:pt x="8235" y="10691"/>
                </a:moveTo>
                <a:cubicBezTo>
                  <a:pt x="8255" y="10650"/>
                  <a:pt x="8264" y="10644"/>
                  <a:pt x="8260" y="10616"/>
                </a:cubicBezTo>
                <a:cubicBezTo>
                  <a:pt x="8212" y="10628"/>
                  <a:pt x="8204" y="10672"/>
                  <a:pt x="8161" y="10691"/>
                </a:cubicBezTo>
                <a:cubicBezTo>
                  <a:pt x="8136" y="10691"/>
                  <a:pt x="8128" y="10691"/>
                  <a:pt x="8136" y="10716"/>
                </a:cubicBezTo>
                <a:cubicBezTo>
                  <a:pt x="8175" y="10744"/>
                  <a:pt x="8223" y="10740"/>
                  <a:pt x="8260" y="10765"/>
                </a:cubicBezTo>
                <a:cubicBezTo>
                  <a:pt x="8283" y="10780"/>
                  <a:pt x="8301" y="10836"/>
                  <a:pt x="8285" y="10864"/>
                </a:cubicBezTo>
                <a:cubicBezTo>
                  <a:pt x="8262" y="10887"/>
                  <a:pt x="8258" y="10895"/>
                  <a:pt x="8235" y="10889"/>
                </a:cubicBezTo>
              </a:path>
              <a:path w="770" h="1018">
                <a:moveTo>
                  <a:pt x="8607" y="9872"/>
                </a:moveTo>
                <a:cubicBezTo>
                  <a:pt x="8648" y="9913"/>
                  <a:pt x="8678" y="9944"/>
                  <a:pt x="8706" y="9996"/>
                </a:cubicBezTo>
                <a:cubicBezTo>
                  <a:pt x="8763" y="10105"/>
                  <a:pt x="8778" y="10197"/>
                  <a:pt x="8781" y="10319"/>
                </a:cubicBezTo>
                <a:cubicBezTo>
                  <a:pt x="8784" y="10446"/>
                  <a:pt x="8784" y="10594"/>
                  <a:pt x="8756" y="10716"/>
                </a:cubicBezTo>
                <a:cubicBezTo>
                  <a:pt x="8739" y="10787"/>
                  <a:pt x="8706" y="10822"/>
                  <a:pt x="8657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402000" y="3687840"/>
            <a:ext cx="71280" cy="81000"/>
          </a:xfrm>
          <a:custGeom>
            <a:avLst/>
            <a:gdLst/>
            <a:ahLst/>
            <a:rect l="l" t="t" r="r" b="b"/>
            <a:pathLst>
              <a:path w="199" h="225">
                <a:moveTo>
                  <a:pt x="9525" y="10244"/>
                </a:moveTo>
                <a:cubicBezTo>
                  <a:pt x="9578" y="10244"/>
                  <a:pt x="9562" y="10256"/>
                  <a:pt x="9599" y="10269"/>
                </a:cubicBezTo>
                <a:cubicBezTo>
                  <a:pt x="9575" y="10275"/>
                  <a:pt x="9521" y="10282"/>
                  <a:pt x="9500" y="10294"/>
                </a:cubicBezTo>
                <a:cubicBezTo>
                  <a:pt x="9478" y="10316"/>
                  <a:pt x="9473" y="10325"/>
                  <a:pt x="9451" y="10319"/>
                </a:cubicBezTo>
              </a:path>
              <a:path w="199" h="225">
                <a:moveTo>
                  <a:pt x="9575" y="10418"/>
                </a:moveTo>
                <a:cubicBezTo>
                  <a:pt x="9600" y="10422"/>
                  <a:pt x="9675" y="10443"/>
                  <a:pt x="9624" y="10443"/>
                </a:cubicBezTo>
                <a:cubicBezTo>
                  <a:pt x="9580" y="10443"/>
                  <a:pt x="9585" y="10441"/>
                  <a:pt x="9550" y="10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43200" y="3456000"/>
            <a:ext cx="241560" cy="608040"/>
          </a:xfrm>
          <a:custGeom>
            <a:avLst/>
            <a:gdLst/>
            <a:ahLst/>
            <a:rect l="l" t="t" r="r" b="b"/>
            <a:pathLst>
              <a:path w="671" h="1688">
                <a:moveTo>
                  <a:pt x="10666" y="9847"/>
                </a:moveTo>
                <a:cubicBezTo>
                  <a:pt x="10637" y="9810"/>
                  <a:pt x="10641" y="9796"/>
                  <a:pt x="10641" y="9748"/>
                </a:cubicBezTo>
                <a:cubicBezTo>
                  <a:pt x="10641" y="9740"/>
                  <a:pt x="10641" y="9731"/>
                  <a:pt x="10641" y="9723"/>
                </a:cubicBezTo>
                <a:cubicBezTo>
                  <a:pt x="10591" y="9757"/>
                  <a:pt x="10632" y="9828"/>
                  <a:pt x="10616" y="9897"/>
                </a:cubicBezTo>
                <a:cubicBezTo>
                  <a:pt x="10603" y="9955"/>
                  <a:pt x="10592" y="9983"/>
                  <a:pt x="10592" y="10046"/>
                </a:cubicBezTo>
              </a:path>
              <a:path w="671" h="1688">
                <a:moveTo>
                  <a:pt x="10716" y="10468"/>
                </a:moveTo>
                <a:cubicBezTo>
                  <a:pt x="10678" y="10495"/>
                  <a:pt x="10664" y="10492"/>
                  <a:pt x="10616" y="10492"/>
                </a:cubicBezTo>
                <a:cubicBezTo>
                  <a:pt x="10616" y="10431"/>
                  <a:pt x="10603" y="10366"/>
                  <a:pt x="10641" y="10319"/>
                </a:cubicBezTo>
                <a:cubicBezTo>
                  <a:pt x="10671" y="10281"/>
                  <a:pt x="10736" y="10278"/>
                  <a:pt x="10765" y="10319"/>
                </a:cubicBezTo>
                <a:cubicBezTo>
                  <a:pt x="10797" y="10364"/>
                  <a:pt x="10805" y="10463"/>
                  <a:pt x="10790" y="10517"/>
                </a:cubicBezTo>
                <a:cubicBezTo>
                  <a:pt x="10776" y="10567"/>
                  <a:pt x="10755" y="10624"/>
                  <a:pt x="10691" y="10592"/>
                </a:cubicBezTo>
                <a:cubicBezTo>
                  <a:pt x="10657" y="10575"/>
                  <a:pt x="10648" y="10500"/>
                  <a:pt x="10641" y="10468"/>
                </a:cubicBezTo>
              </a:path>
              <a:path w="671" h="1688">
                <a:moveTo>
                  <a:pt x="10319" y="9649"/>
                </a:moveTo>
                <a:cubicBezTo>
                  <a:pt x="10350" y="9628"/>
                  <a:pt x="10347" y="9631"/>
                  <a:pt x="10368" y="9599"/>
                </a:cubicBezTo>
                <a:cubicBezTo>
                  <a:pt x="10336" y="9632"/>
                  <a:pt x="10329" y="9661"/>
                  <a:pt x="10294" y="9723"/>
                </a:cubicBezTo>
                <a:cubicBezTo>
                  <a:pt x="10215" y="9864"/>
                  <a:pt x="10195" y="10009"/>
                  <a:pt x="10170" y="10170"/>
                </a:cubicBezTo>
                <a:cubicBezTo>
                  <a:pt x="10133" y="10405"/>
                  <a:pt x="10120" y="10627"/>
                  <a:pt x="10120" y="10864"/>
                </a:cubicBezTo>
                <a:cubicBezTo>
                  <a:pt x="10120" y="11005"/>
                  <a:pt x="10160" y="11126"/>
                  <a:pt x="10170" y="11261"/>
                </a:cubicBezTo>
                <a:cubicBezTo>
                  <a:pt x="10170" y="11269"/>
                  <a:pt x="10170" y="11278"/>
                  <a:pt x="10170" y="11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990960" y="3483000"/>
            <a:ext cx="196920" cy="339840"/>
          </a:xfrm>
          <a:custGeom>
            <a:avLst/>
            <a:gdLst/>
            <a:ahLst/>
            <a:rect l="l" t="t" r="r" b="b"/>
            <a:pathLst>
              <a:path w="546" h="943">
                <a:moveTo>
                  <a:pt x="11162" y="10170"/>
                </a:moveTo>
                <a:cubicBezTo>
                  <a:pt x="11139" y="10193"/>
                  <a:pt x="11135" y="10201"/>
                  <a:pt x="11112" y="10195"/>
                </a:cubicBezTo>
                <a:cubicBezTo>
                  <a:pt x="11112" y="10149"/>
                  <a:pt x="11110" y="10126"/>
                  <a:pt x="11162" y="10120"/>
                </a:cubicBezTo>
                <a:cubicBezTo>
                  <a:pt x="11225" y="10113"/>
                  <a:pt x="11253" y="10225"/>
                  <a:pt x="11261" y="10269"/>
                </a:cubicBezTo>
                <a:cubicBezTo>
                  <a:pt x="11276" y="10349"/>
                  <a:pt x="11260" y="10408"/>
                  <a:pt x="11212" y="10468"/>
                </a:cubicBezTo>
                <a:cubicBezTo>
                  <a:pt x="11161" y="10455"/>
                  <a:pt x="11101" y="10403"/>
                  <a:pt x="11088" y="10344"/>
                </a:cubicBezTo>
                <a:cubicBezTo>
                  <a:pt x="11088" y="10269"/>
                  <a:pt x="11088" y="10245"/>
                  <a:pt x="11088" y="10195"/>
                </a:cubicBezTo>
              </a:path>
              <a:path w="546" h="943">
                <a:moveTo>
                  <a:pt x="11137" y="10220"/>
                </a:moveTo>
                <a:cubicBezTo>
                  <a:pt x="11137" y="10288"/>
                  <a:pt x="11133" y="10176"/>
                  <a:pt x="11137" y="10170"/>
                </a:cubicBezTo>
                <a:cubicBezTo>
                  <a:pt x="11187" y="10080"/>
                  <a:pt x="11187" y="10251"/>
                  <a:pt x="11187" y="10269"/>
                </a:cubicBezTo>
                <a:cubicBezTo>
                  <a:pt x="11187" y="10351"/>
                  <a:pt x="11168" y="10415"/>
                  <a:pt x="11162" y="10492"/>
                </a:cubicBezTo>
                <a:cubicBezTo>
                  <a:pt x="11162" y="10500"/>
                  <a:pt x="11162" y="10509"/>
                  <a:pt x="11162" y="10517"/>
                </a:cubicBezTo>
                <a:cubicBezTo>
                  <a:pt x="11162" y="10407"/>
                  <a:pt x="11148" y="10296"/>
                  <a:pt x="11187" y="10195"/>
                </a:cubicBezTo>
                <a:cubicBezTo>
                  <a:pt x="11187" y="10127"/>
                  <a:pt x="11187" y="10302"/>
                  <a:pt x="11187" y="10319"/>
                </a:cubicBezTo>
                <a:cubicBezTo>
                  <a:pt x="11187" y="10341"/>
                  <a:pt x="11187" y="10501"/>
                  <a:pt x="11187" y="10443"/>
                </a:cubicBezTo>
                <a:cubicBezTo>
                  <a:pt x="11187" y="10372"/>
                  <a:pt x="11165" y="10314"/>
                  <a:pt x="11162" y="10244"/>
                </a:cubicBezTo>
                <a:cubicBezTo>
                  <a:pt x="11160" y="10203"/>
                  <a:pt x="11162" y="10161"/>
                  <a:pt x="11162" y="10120"/>
                </a:cubicBezTo>
                <a:cubicBezTo>
                  <a:pt x="11198" y="10144"/>
                  <a:pt x="11187" y="10187"/>
                  <a:pt x="11187" y="10244"/>
                </a:cubicBezTo>
                <a:cubicBezTo>
                  <a:pt x="11187" y="10294"/>
                  <a:pt x="11187" y="10343"/>
                  <a:pt x="11187" y="10393"/>
                </a:cubicBezTo>
                <a:cubicBezTo>
                  <a:pt x="11152" y="10346"/>
                  <a:pt x="11162" y="10306"/>
                  <a:pt x="11162" y="10244"/>
                </a:cubicBezTo>
                <a:cubicBezTo>
                  <a:pt x="11162" y="10221"/>
                  <a:pt x="11181" y="10116"/>
                  <a:pt x="11187" y="10195"/>
                </a:cubicBezTo>
                <a:cubicBezTo>
                  <a:pt x="11193" y="10277"/>
                  <a:pt x="11187" y="10361"/>
                  <a:pt x="11187" y="10443"/>
                </a:cubicBezTo>
              </a:path>
              <a:path w="546" h="943">
                <a:moveTo>
                  <a:pt x="11162" y="9872"/>
                </a:moveTo>
                <a:cubicBezTo>
                  <a:pt x="11120" y="9817"/>
                  <a:pt x="11144" y="9827"/>
                  <a:pt x="11162" y="9773"/>
                </a:cubicBezTo>
                <a:cubicBezTo>
                  <a:pt x="11174" y="9736"/>
                  <a:pt x="11196" y="9712"/>
                  <a:pt x="11237" y="9699"/>
                </a:cubicBezTo>
                <a:cubicBezTo>
                  <a:pt x="11295" y="9680"/>
                  <a:pt x="11314" y="9732"/>
                  <a:pt x="11336" y="9773"/>
                </a:cubicBezTo>
                <a:cubicBezTo>
                  <a:pt x="11379" y="9854"/>
                  <a:pt x="11362" y="9923"/>
                  <a:pt x="11311" y="9996"/>
                </a:cubicBezTo>
                <a:cubicBezTo>
                  <a:pt x="11264" y="10063"/>
                  <a:pt x="11218" y="10005"/>
                  <a:pt x="11187" y="9971"/>
                </a:cubicBezTo>
                <a:cubicBezTo>
                  <a:pt x="11158" y="9943"/>
                  <a:pt x="11150" y="9930"/>
                  <a:pt x="11162" y="9897"/>
                </a:cubicBezTo>
              </a:path>
              <a:path w="546" h="943">
                <a:moveTo>
                  <a:pt x="11485" y="9674"/>
                </a:moveTo>
                <a:cubicBezTo>
                  <a:pt x="11531" y="9674"/>
                  <a:pt x="11548" y="9668"/>
                  <a:pt x="11584" y="9699"/>
                </a:cubicBezTo>
                <a:cubicBezTo>
                  <a:pt x="11630" y="9739"/>
                  <a:pt x="11631" y="9813"/>
                  <a:pt x="11633" y="9872"/>
                </a:cubicBezTo>
                <a:cubicBezTo>
                  <a:pt x="11638" y="10034"/>
                  <a:pt x="11597" y="10196"/>
                  <a:pt x="11534" y="10344"/>
                </a:cubicBezTo>
                <a:cubicBezTo>
                  <a:pt x="11495" y="10435"/>
                  <a:pt x="11444" y="10516"/>
                  <a:pt x="11385" y="10592"/>
                </a:cubicBezTo>
                <a:cubicBezTo>
                  <a:pt x="11377" y="10600"/>
                  <a:pt x="11369" y="10608"/>
                  <a:pt x="11361" y="106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035000" y="4473720"/>
            <a:ext cx="206280" cy="447480"/>
          </a:xfrm>
          <a:custGeom>
            <a:avLst/>
            <a:gdLst/>
            <a:ahLst/>
            <a:rect l="l" t="t" r="r" b="b"/>
            <a:pathLst>
              <a:path w="572" h="1241">
                <a:moveTo>
                  <a:pt x="3225" y="12675"/>
                </a:moveTo>
                <a:cubicBezTo>
                  <a:pt x="3215" y="12636"/>
                  <a:pt x="3200" y="12621"/>
                  <a:pt x="3200" y="12576"/>
                </a:cubicBezTo>
                <a:cubicBezTo>
                  <a:pt x="3200" y="12641"/>
                  <a:pt x="3217" y="12687"/>
                  <a:pt x="3225" y="12750"/>
                </a:cubicBezTo>
              </a:path>
              <a:path w="572" h="1241">
                <a:moveTo>
                  <a:pt x="3175" y="13320"/>
                </a:moveTo>
                <a:cubicBezTo>
                  <a:pt x="3175" y="13312"/>
                  <a:pt x="3175" y="13303"/>
                  <a:pt x="3175" y="13295"/>
                </a:cubicBezTo>
                <a:cubicBezTo>
                  <a:pt x="3137" y="13308"/>
                  <a:pt x="3150" y="13325"/>
                  <a:pt x="3150" y="13370"/>
                </a:cubicBezTo>
                <a:cubicBezTo>
                  <a:pt x="3150" y="13414"/>
                  <a:pt x="3147" y="13428"/>
                  <a:pt x="3175" y="13444"/>
                </a:cubicBezTo>
              </a:path>
              <a:path w="572" h="1241">
                <a:moveTo>
                  <a:pt x="3274" y="13345"/>
                </a:moveTo>
                <a:cubicBezTo>
                  <a:pt x="3293" y="13288"/>
                  <a:pt x="3284" y="13263"/>
                  <a:pt x="3324" y="13271"/>
                </a:cubicBezTo>
                <a:cubicBezTo>
                  <a:pt x="3356" y="13313"/>
                  <a:pt x="3347" y="13349"/>
                  <a:pt x="3373" y="13395"/>
                </a:cubicBezTo>
              </a:path>
              <a:path w="572" h="1241">
                <a:moveTo>
                  <a:pt x="3101" y="13593"/>
                </a:moveTo>
                <a:cubicBezTo>
                  <a:pt x="3148" y="13609"/>
                  <a:pt x="3119" y="13638"/>
                  <a:pt x="3076" y="13643"/>
                </a:cubicBezTo>
                <a:cubicBezTo>
                  <a:pt x="3023" y="13649"/>
                  <a:pt x="3026" y="13687"/>
                  <a:pt x="2977" y="13643"/>
                </a:cubicBezTo>
                <a:cubicBezTo>
                  <a:pt x="2938" y="13609"/>
                  <a:pt x="2894" y="13569"/>
                  <a:pt x="2877" y="13519"/>
                </a:cubicBezTo>
                <a:cubicBezTo>
                  <a:pt x="2855" y="13453"/>
                  <a:pt x="2876" y="13329"/>
                  <a:pt x="2902" y="13271"/>
                </a:cubicBezTo>
                <a:cubicBezTo>
                  <a:pt x="2947" y="13171"/>
                  <a:pt x="2970" y="13139"/>
                  <a:pt x="3051" y="13072"/>
                </a:cubicBezTo>
                <a:cubicBezTo>
                  <a:pt x="3112" y="13021"/>
                  <a:pt x="3166" y="13001"/>
                  <a:pt x="3249" y="12998"/>
                </a:cubicBezTo>
                <a:cubicBezTo>
                  <a:pt x="3356" y="12993"/>
                  <a:pt x="3385" y="13026"/>
                  <a:pt x="3423" y="13122"/>
                </a:cubicBezTo>
                <a:cubicBezTo>
                  <a:pt x="3464" y="13225"/>
                  <a:pt x="3459" y="13340"/>
                  <a:pt x="3423" y="13444"/>
                </a:cubicBezTo>
                <a:cubicBezTo>
                  <a:pt x="3395" y="13523"/>
                  <a:pt x="3342" y="13577"/>
                  <a:pt x="3274" y="13618"/>
                </a:cubicBezTo>
                <a:cubicBezTo>
                  <a:pt x="3258" y="13626"/>
                  <a:pt x="3241" y="13635"/>
                  <a:pt x="3225" y="13643"/>
                </a:cubicBezTo>
              </a:path>
              <a:path w="572" h="1241">
                <a:moveTo>
                  <a:pt x="3175" y="12799"/>
                </a:moveTo>
                <a:cubicBezTo>
                  <a:pt x="3194" y="12855"/>
                  <a:pt x="3194" y="12810"/>
                  <a:pt x="3175" y="12849"/>
                </a:cubicBezTo>
                <a:cubicBezTo>
                  <a:pt x="3149" y="12902"/>
                  <a:pt x="3144" y="12898"/>
                  <a:pt x="3076" y="12898"/>
                </a:cubicBezTo>
                <a:cubicBezTo>
                  <a:pt x="3028" y="12898"/>
                  <a:pt x="2983" y="12893"/>
                  <a:pt x="2952" y="12849"/>
                </a:cubicBezTo>
                <a:cubicBezTo>
                  <a:pt x="2919" y="12803"/>
                  <a:pt x="2905" y="12729"/>
                  <a:pt x="2902" y="12675"/>
                </a:cubicBezTo>
                <a:cubicBezTo>
                  <a:pt x="2898" y="12605"/>
                  <a:pt x="2954" y="12552"/>
                  <a:pt x="3001" y="12502"/>
                </a:cubicBezTo>
                <a:cubicBezTo>
                  <a:pt x="3057" y="12442"/>
                  <a:pt x="3115" y="12408"/>
                  <a:pt x="3200" y="12427"/>
                </a:cubicBezTo>
                <a:cubicBezTo>
                  <a:pt x="3303" y="12450"/>
                  <a:pt x="3354" y="12526"/>
                  <a:pt x="3373" y="12626"/>
                </a:cubicBezTo>
                <a:cubicBezTo>
                  <a:pt x="3390" y="12715"/>
                  <a:pt x="3330" y="12790"/>
                  <a:pt x="3274" y="12849"/>
                </a:cubicBezTo>
                <a:cubicBezTo>
                  <a:pt x="3258" y="12865"/>
                  <a:pt x="3241" y="12882"/>
                  <a:pt x="3225" y="12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724040" y="4483080"/>
            <a:ext cx="222120" cy="231840"/>
          </a:xfrm>
          <a:custGeom>
            <a:avLst/>
            <a:gdLst/>
            <a:ahLst/>
            <a:rect l="l" t="t" r="r" b="b"/>
            <a:pathLst>
              <a:path w="621" h="646">
                <a:moveTo>
                  <a:pt x="4911" y="12551"/>
                </a:moveTo>
                <a:cubicBezTo>
                  <a:pt x="4940" y="12513"/>
                  <a:pt x="4936" y="12500"/>
                  <a:pt x="4936" y="12452"/>
                </a:cubicBezTo>
                <a:cubicBezTo>
                  <a:pt x="4875" y="12467"/>
                  <a:pt x="4843" y="12520"/>
                  <a:pt x="4812" y="12576"/>
                </a:cubicBezTo>
                <a:cubicBezTo>
                  <a:pt x="4791" y="12614"/>
                  <a:pt x="4750" y="12751"/>
                  <a:pt x="4812" y="12774"/>
                </a:cubicBezTo>
                <a:cubicBezTo>
                  <a:pt x="4880" y="12800"/>
                  <a:pt x="4925" y="12700"/>
                  <a:pt x="4936" y="12650"/>
                </a:cubicBezTo>
                <a:cubicBezTo>
                  <a:pt x="4936" y="12609"/>
                  <a:pt x="4928" y="12593"/>
                  <a:pt x="4961" y="12601"/>
                </a:cubicBezTo>
                <a:cubicBezTo>
                  <a:pt x="5022" y="12616"/>
                  <a:pt x="5032" y="12669"/>
                  <a:pt x="5060" y="12725"/>
                </a:cubicBezTo>
                <a:cubicBezTo>
                  <a:pt x="5080" y="12765"/>
                  <a:pt x="5089" y="12771"/>
                  <a:pt x="5085" y="12799"/>
                </a:cubicBezTo>
              </a:path>
              <a:path w="621" h="646">
                <a:moveTo>
                  <a:pt x="5159" y="12675"/>
                </a:moveTo>
                <a:cubicBezTo>
                  <a:pt x="5179" y="12615"/>
                  <a:pt x="5178" y="12600"/>
                  <a:pt x="5209" y="12576"/>
                </a:cubicBezTo>
                <a:cubicBezTo>
                  <a:pt x="5224" y="12648"/>
                  <a:pt x="5252" y="12722"/>
                  <a:pt x="5259" y="12799"/>
                </a:cubicBezTo>
                <a:cubicBezTo>
                  <a:pt x="5268" y="12904"/>
                  <a:pt x="5275" y="12999"/>
                  <a:pt x="5308" y="13097"/>
                </a:cubicBezTo>
              </a:path>
              <a:path w="621" h="646">
                <a:moveTo>
                  <a:pt x="5283" y="12700"/>
                </a:moveTo>
                <a:cubicBezTo>
                  <a:pt x="5249" y="12618"/>
                  <a:pt x="5263" y="12632"/>
                  <a:pt x="5283" y="12551"/>
                </a:cubicBezTo>
                <a:cubicBezTo>
                  <a:pt x="5291" y="12517"/>
                  <a:pt x="5303" y="12446"/>
                  <a:pt x="5358" y="12477"/>
                </a:cubicBezTo>
                <a:cubicBezTo>
                  <a:pt x="5414" y="12508"/>
                  <a:pt x="5423" y="12622"/>
                  <a:pt x="5407" y="12675"/>
                </a:cubicBezTo>
                <a:cubicBezTo>
                  <a:pt x="5387" y="12742"/>
                  <a:pt x="5345" y="12750"/>
                  <a:pt x="5283" y="12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108160" y="4340160"/>
            <a:ext cx="741240" cy="214200"/>
          </a:xfrm>
          <a:custGeom>
            <a:avLst/>
            <a:gdLst/>
            <a:ahLst/>
            <a:rect l="l" t="t" r="r" b="b"/>
            <a:pathLst>
              <a:path w="2060" h="596">
                <a:moveTo>
                  <a:pt x="6003" y="12502"/>
                </a:moveTo>
                <a:cubicBezTo>
                  <a:pt x="6052" y="12480"/>
                  <a:pt x="6054" y="12477"/>
                  <a:pt x="6102" y="12477"/>
                </a:cubicBezTo>
                <a:cubicBezTo>
                  <a:pt x="6062" y="12501"/>
                  <a:pt x="6003" y="12514"/>
                  <a:pt x="5953" y="12526"/>
                </a:cubicBezTo>
                <a:cubicBezTo>
                  <a:pt x="5923" y="12533"/>
                  <a:pt x="5885" y="12526"/>
                  <a:pt x="5854" y="12526"/>
                </a:cubicBezTo>
              </a:path>
              <a:path w="2060" h="596">
                <a:moveTo>
                  <a:pt x="5928" y="12402"/>
                </a:moveTo>
                <a:cubicBezTo>
                  <a:pt x="5928" y="12346"/>
                  <a:pt x="5952" y="12502"/>
                  <a:pt x="5953" y="12526"/>
                </a:cubicBezTo>
                <a:cubicBezTo>
                  <a:pt x="5953" y="12543"/>
                  <a:pt x="5953" y="12559"/>
                  <a:pt x="5953" y="12576"/>
                </a:cubicBezTo>
              </a:path>
              <a:path w="2060" h="596">
                <a:moveTo>
                  <a:pt x="6449" y="12303"/>
                </a:moveTo>
                <a:cubicBezTo>
                  <a:pt x="6449" y="12225"/>
                  <a:pt x="6436" y="12143"/>
                  <a:pt x="6474" y="12080"/>
                </a:cubicBezTo>
                <a:cubicBezTo>
                  <a:pt x="6474" y="12006"/>
                  <a:pt x="6474" y="12204"/>
                  <a:pt x="6474" y="12204"/>
                </a:cubicBezTo>
                <a:cubicBezTo>
                  <a:pt x="6490" y="12317"/>
                  <a:pt x="6499" y="12412"/>
                  <a:pt x="6499" y="12526"/>
                </a:cubicBezTo>
                <a:cubicBezTo>
                  <a:pt x="6499" y="12534"/>
                  <a:pt x="6499" y="12543"/>
                  <a:pt x="6499" y="12551"/>
                </a:cubicBezTo>
                <a:cubicBezTo>
                  <a:pt x="6532" y="12507"/>
                  <a:pt x="6533" y="12474"/>
                  <a:pt x="6598" y="12452"/>
                </a:cubicBezTo>
                <a:cubicBezTo>
                  <a:pt x="6662" y="12431"/>
                  <a:pt x="6691" y="12473"/>
                  <a:pt x="6697" y="12526"/>
                </a:cubicBezTo>
                <a:cubicBezTo>
                  <a:pt x="6705" y="12594"/>
                  <a:pt x="6693" y="12627"/>
                  <a:pt x="6623" y="12650"/>
                </a:cubicBezTo>
                <a:cubicBezTo>
                  <a:pt x="6582" y="12663"/>
                  <a:pt x="6551" y="12623"/>
                  <a:pt x="6524" y="12601"/>
                </a:cubicBezTo>
              </a:path>
              <a:path w="2060" h="596">
                <a:moveTo>
                  <a:pt x="6896" y="12551"/>
                </a:moveTo>
                <a:cubicBezTo>
                  <a:pt x="6904" y="12559"/>
                  <a:pt x="6913" y="12568"/>
                  <a:pt x="6921" y="12576"/>
                </a:cubicBezTo>
                <a:cubicBezTo>
                  <a:pt x="6921" y="12482"/>
                  <a:pt x="6902" y="12433"/>
                  <a:pt x="6970" y="12378"/>
                </a:cubicBezTo>
                <a:cubicBezTo>
                  <a:pt x="7016" y="12341"/>
                  <a:pt x="7061" y="12353"/>
                  <a:pt x="7119" y="12353"/>
                </a:cubicBezTo>
              </a:path>
              <a:path w="2060" h="596">
                <a:moveTo>
                  <a:pt x="7466" y="12328"/>
                </a:moveTo>
                <a:cubicBezTo>
                  <a:pt x="7508" y="12328"/>
                  <a:pt x="7516" y="12328"/>
                  <a:pt x="7541" y="12328"/>
                </a:cubicBezTo>
                <a:cubicBezTo>
                  <a:pt x="7491" y="12298"/>
                  <a:pt x="7454" y="12303"/>
                  <a:pt x="7392" y="12303"/>
                </a:cubicBezTo>
                <a:cubicBezTo>
                  <a:pt x="7367" y="12303"/>
                  <a:pt x="7359" y="12303"/>
                  <a:pt x="7342" y="12303"/>
                </a:cubicBezTo>
              </a:path>
              <a:path w="2060" h="596">
                <a:moveTo>
                  <a:pt x="7541" y="12452"/>
                </a:moveTo>
                <a:cubicBezTo>
                  <a:pt x="7565" y="12452"/>
                  <a:pt x="7574" y="12452"/>
                  <a:pt x="7590" y="12452"/>
                </a:cubicBezTo>
                <a:cubicBezTo>
                  <a:pt x="7551" y="12442"/>
                  <a:pt x="7515" y="12411"/>
                  <a:pt x="7466" y="12427"/>
                </a:cubicBezTo>
                <a:cubicBezTo>
                  <a:pt x="7426" y="12447"/>
                  <a:pt x="7420" y="12456"/>
                  <a:pt x="7392" y="12452"/>
                </a:cubicBezTo>
              </a:path>
              <a:path w="2060" h="596">
                <a:moveTo>
                  <a:pt x="7838" y="12204"/>
                </a:moveTo>
                <a:cubicBezTo>
                  <a:pt x="7838" y="12179"/>
                  <a:pt x="7838" y="12154"/>
                  <a:pt x="7838" y="12129"/>
                </a:cubicBezTo>
                <a:cubicBezTo>
                  <a:pt x="7915" y="12168"/>
                  <a:pt x="7873" y="12224"/>
                  <a:pt x="7888" y="12303"/>
                </a:cubicBezTo>
                <a:cubicBezTo>
                  <a:pt x="7902" y="12375"/>
                  <a:pt x="7913" y="12427"/>
                  <a:pt x="7913" y="125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116160" y="4303800"/>
            <a:ext cx="563760" cy="144360"/>
          </a:xfrm>
          <a:custGeom>
            <a:avLst/>
            <a:gdLst/>
            <a:ahLst/>
            <a:rect l="l" t="t" r="r" b="b"/>
            <a:pathLst>
              <a:path w="1564" h="398">
                <a:moveTo>
                  <a:pt x="8682" y="12353"/>
                </a:moveTo>
                <a:cubicBezTo>
                  <a:pt x="8700" y="12317"/>
                  <a:pt x="8701" y="12330"/>
                  <a:pt x="8731" y="12303"/>
                </a:cubicBezTo>
                <a:cubicBezTo>
                  <a:pt x="8757" y="12279"/>
                  <a:pt x="8785" y="12287"/>
                  <a:pt x="8830" y="12254"/>
                </a:cubicBezTo>
                <a:cubicBezTo>
                  <a:pt x="8866" y="12227"/>
                  <a:pt x="8955" y="12190"/>
                  <a:pt x="9004" y="12179"/>
                </a:cubicBezTo>
                <a:cubicBezTo>
                  <a:pt x="9067" y="12165"/>
                  <a:pt x="9141" y="12171"/>
                  <a:pt x="9203" y="12154"/>
                </a:cubicBezTo>
                <a:cubicBezTo>
                  <a:pt x="9269" y="12136"/>
                  <a:pt x="9336" y="12146"/>
                  <a:pt x="9401" y="12129"/>
                </a:cubicBezTo>
                <a:cubicBezTo>
                  <a:pt x="9489" y="12106"/>
                  <a:pt x="9584" y="12085"/>
                  <a:pt x="9674" y="12080"/>
                </a:cubicBezTo>
                <a:cubicBezTo>
                  <a:pt x="9794" y="12073"/>
                  <a:pt x="9914" y="12076"/>
                  <a:pt x="10021" y="12055"/>
                </a:cubicBezTo>
                <a:cubicBezTo>
                  <a:pt x="10075" y="12044"/>
                  <a:pt x="10155" y="12048"/>
                  <a:pt x="10195" y="12080"/>
                </a:cubicBezTo>
                <a:cubicBezTo>
                  <a:pt x="10216" y="12097"/>
                  <a:pt x="10231" y="12106"/>
                  <a:pt x="10220" y="12154"/>
                </a:cubicBezTo>
                <a:cubicBezTo>
                  <a:pt x="10212" y="12188"/>
                  <a:pt x="10161" y="12276"/>
                  <a:pt x="10145" y="12303"/>
                </a:cubicBezTo>
                <a:cubicBezTo>
                  <a:pt x="10129" y="12330"/>
                  <a:pt x="10095" y="12333"/>
                  <a:pt x="10071" y="12353"/>
                </a:cubicBezTo>
                <a:cubicBezTo>
                  <a:pt x="10078" y="12294"/>
                  <a:pt x="10098" y="12261"/>
                  <a:pt x="10120" y="12204"/>
                </a:cubicBezTo>
                <a:cubicBezTo>
                  <a:pt x="10135" y="12164"/>
                  <a:pt x="10188" y="12121"/>
                  <a:pt x="10195" y="12105"/>
                </a:cubicBezTo>
                <a:cubicBezTo>
                  <a:pt x="10213" y="12066"/>
                  <a:pt x="10174" y="12024"/>
                  <a:pt x="10145" y="12005"/>
                </a:cubicBezTo>
                <a:cubicBezTo>
                  <a:pt x="10093" y="11972"/>
                  <a:pt x="10053" y="11963"/>
                  <a:pt x="9996" y="119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062240" y="4268880"/>
            <a:ext cx="385920" cy="268200"/>
          </a:xfrm>
          <a:custGeom>
            <a:avLst/>
            <a:gdLst/>
            <a:ahLst/>
            <a:rect l="l" t="t" r="r" b="b"/>
            <a:pathLst>
              <a:path w="1068" h="745">
                <a:moveTo>
                  <a:pt x="11286" y="12254"/>
                </a:moveTo>
                <a:cubicBezTo>
                  <a:pt x="11330" y="12225"/>
                  <a:pt x="11355" y="12210"/>
                  <a:pt x="11361" y="12154"/>
                </a:cubicBezTo>
                <a:cubicBezTo>
                  <a:pt x="11361" y="12129"/>
                  <a:pt x="11361" y="12121"/>
                  <a:pt x="11361" y="12105"/>
                </a:cubicBezTo>
                <a:cubicBezTo>
                  <a:pt x="11310" y="12154"/>
                  <a:pt x="11292" y="12182"/>
                  <a:pt x="11286" y="12254"/>
                </a:cubicBezTo>
                <a:cubicBezTo>
                  <a:pt x="11282" y="12302"/>
                  <a:pt x="11282" y="12309"/>
                  <a:pt x="11311" y="12328"/>
                </a:cubicBezTo>
                <a:cubicBezTo>
                  <a:pt x="11356" y="12305"/>
                  <a:pt x="11359" y="12267"/>
                  <a:pt x="11385" y="12229"/>
                </a:cubicBezTo>
                <a:cubicBezTo>
                  <a:pt x="11393" y="12221"/>
                  <a:pt x="11402" y="12212"/>
                  <a:pt x="11410" y="12204"/>
                </a:cubicBezTo>
                <a:cubicBezTo>
                  <a:pt x="11443" y="12237"/>
                  <a:pt x="11476" y="12270"/>
                  <a:pt x="11509" y="12303"/>
                </a:cubicBezTo>
              </a:path>
              <a:path w="1068" h="745">
                <a:moveTo>
                  <a:pt x="11757" y="12154"/>
                </a:moveTo>
                <a:cubicBezTo>
                  <a:pt x="11765" y="12138"/>
                  <a:pt x="11774" y="12121"/>
                  <a:pt x="11782" y="12105"/>
                </a:cubicBezTo>
                <a:cubicBezTo>
                  <a:pt x="11732" y="12105"/>
                  <a:pt x="11733" y="12110"/>
                  <a:pt x="11708" y="12154"/>
                </a:cubicBezTo>
                <a:cubicBezTo>
                  <a:pt x="11674" y="12214"/>
                  <a:pt x="11677" y="12227"/>
                  <a:pt x="11708" y="12278"/>
                </a:cubicBezTo>
                <a:cubicBezTo>
                  <a:pt x="11790" y="12278"/>
                  <a:pt x="11779" y="12230"/>
                  <a:pt x="11782" y="12154"/>
                </a:cubicBezTo>
                <a:cubicBezTo>
                  <a:pt x="11786" y="12054"/>
                  <a:pt x="11778" y="11972"/>
                  <a:pt x="11757" y="11881"/>
                </a:cubicBezTo>
                <a:cubicBezTo>
                  <a:pt x="11757" y="11873"/>
                  <a:pt x="11757" y="11865"/>
                  <a:pt x="11757" y="11857"/>
                </a:cubicBezTo>
                <a:cubicBezTo>
                  <a:pt x="11800" y="11909"/>
                  <a:pt x="11827" y="11969"/>
                  <a:pt x="11857" y="12030"/>
                </a:cubicBezTo>
                <a:cubicBezTo>
                  <a:pt x="11883" y="12082"/>
                  <a:pt x="11935" y="12131"/>
                  <a:pt x="11956" y="12179"/>
                </a:cubicBezTo>
                <a:cubicBezTo>
                  <a:pt x="11956" y="12187"/>
                  <a:pt x="11956" y="12196"/>
                  <a:pt x="11956" y="12204"/>
                </a:cubicBezTo>
              </a:path>
              <a:path w="1068" h="745">
                <a:moveTo>
                  <a:pt x="12105" y="12154"/>
                </a:moveTo>
                <a:cubicBezTo>
                  <a:pt x="12105" y="12113"/>
                  <a:pt x="12105" y="12105"/>
                  <a:pt x="12105" y="12080"/>
                </a:cubicBezTo>
                <a:cubicBezTo>
                  <a:pt x="12138" y="12137"/>
                  <a:pt x="12133" y="12209"/>
                  <a:pt x="12154" y="12278"/>
                </a:cubicBezTo>
                <a:cubicBezTo>
                  <a:pt x="12183" y="12372"/>
                  <a:pt x="12200" y="12458"/>
                  <a:pt x="12229" y="12551"/>
                </a:cubicBezTo>
                <a:cubicBezTo>
                  <a:pt x="12229" y="12576"/>
                  <a:pt x="12229" y="12584"/>
                  <a:pt x="12229" y="12601"/>
                </a:cubicBezTo>
              </a:path>
              <a:path w="1068" h="745">
                <a:moveTo>
                  <a:pt x="12204" y="12353"/>
                </a:moveTo>
                <a:cubicBezTo>
                  <a:pt x="12179" y="12285"/>
                  <a:pt x="12133" y="12205"/>
                  <a:pt x="12154" y="12129"/>
                </a:cubicBezTo>
                <a:cubicBezTo>
                  <a:pt x="12167" y="12084"/>
                  <a:pt x="12208" y="12033"/>
                  <a:pt x="12254" y="12030"/>
                </a:cubicBezTo>
                <a:cubicBezTo>
                  <a:pt x="12322" y="12025"/>
                  <a:pt x="12349" y="12091"/>
                  <a:pt x="12353" y="12154"/>
                </a:cubicBezTo>
                <a:cubicBezTo>
                  <a:pt x="12358" y="12228"/>
                  <a:pt x="12319" y="12241"/>
                  <a:pt x="12254" y="122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06920" y="4187880"/>
            <a:ext cx="984240" cy="223920"/>
          </a:xfrm>
          <a:custGeom>
            <a:avLst/>
            <a:gdLst/>
            <a:ahLst/>
            <a:rect l="l" t="t" r="r" b="b"/>
            <a:pathLst>
              <a:path w="2730" h="622">
                <a:moveTo>
                  <a:pt x="13097" y="12129"/>
                </a:moveTo>
                <a:cubicBezTo>
                  <a:pt x="13105" y="12129"/>
                  <a:pt x="13114" y="12129"/>
                  <a:pt x="13122" y="12129"/>
                </a:cubicBezTo>
                <a:cubicBezTo>
                  <a:pt x="13064" y="12129"/>
                  <a:pt x="13019" y="12145"/>
                  <a:pt x="12973" y="12154"/>
                </a:cubicBezTo>
                <a:cubicBezTo>
                  <a:pt x="12921" y="12164"/>
                  <a:pt x="12853" y="12154"/>
                  <a:pt x="12799" y="12154"/>
                </a:cubicBezTo>
              </a:path>
              <a:path w="2730" h="622">
                <a:moveTo>
                  <a:pt x="12948" y="12030"/>
                </a:moveTo>
                <a:cubicBezTo>
                  <a:pt x="12956" y="12022"/>
                  <a:pt x="12965" y="12013"/>
                  <a:pt x="12973" y="12005"/>
                </a:cubicBezTo>
                <a:cubicBezTo>
                  <a:pt x="13003" y="12074"/>
                  <a:pt x="12998" y="12127"/>
                  <a:pt x="12998" y="12204"/>
                </a:cubicBezTo>
                <a:cubicBezTo>
                  <a:pt x="12998" y="12221"/>
                  <a:pt x="12998" y="12237"/>
                  <a:pt x="12998" y="12254"/>
                </a:cubicBezTo>
              </a:path>
              <a:path w="2730" h="622">
                <a:moveTo>
                  <a:pt x="13469" y="11757"/>
                </a:moveTo>
                <a:cubicBezTo>
                  <a:pt x="13469" y="11706"/>
                  <a:pt x="13454" y="11671"/>
                  <a:pt x="13494" y="11658"/>
                </a:cubicBezTo>
                <a:cubicBezTo>
                  <a:pt x="13494" y="11584"/>
                  <a:pt x="13494" y="11780"/>
                  <a:pt x="13494" y="11782"/>
                </a:cubicBezTo>
                <a:cubicBezTo>
                  <a:pt x="13494" y="11877"/>
                  <a:pt x="13519" y="11959"/>
                  <a:pt x="13519" y="12055"/>
                </a:cubicBezTo>
                <a:cubicBezTo>
                  <a:pt x="13519" y="12096"/>
                  <a:pt x="13519" y="12104"/>
                  <a:pt x="13519" y="12129"/>
                </a:cubicBezTo>
                <a:cubicBezTo>
                  <a:pt x="13519" y="12170"/>
                  <a:pt x="13519" y="12096"/>
                  <a:pt x="13519" y="12055"/>
                </a:cubicBezTo>
                <a:cubicBezTo>
                  <a:pt x="13519" y="11995"/>
                  <a:pt x="13553" y="11925"/>
                  <a:pt x="13618" y="11906"/>
                </a:cubicBezTo>
                <a:cubicBezTo>
                  <a:pt x="13686" y="11886"/>
                  <a:pt x="13747" y="11947"/>
                  <a:pt x="13767" y="12005"/>
                </a:cubicBezTo>
                <a:cubicBezTo>
                  <a:pt x="13788" y="12066"/>
                  <a:pt x="13753" y="12115"/>
                  <a:pt x="13692" y="12129"/>
                </a:cubicBezTo>
                <a:cubicBezTo>
                  <a:pt x="13630" y="12143"/>
                  <a:pt x="13588" y="12116"/>
                  <a:pt x="13543" y="12080"/>
                </a:cubicBezTo>
              </a:path>
              <a:path w="2730" h="622">
                <a:moveTo>
                  <a:pt x="14015" y="11981"/>
                </a:moveTo>
                <a:cubicBezTo>
                  <a:pt x="14023" y="11981"/>
                  <a:pt x="14031" y="11981"/>
                  <a:pt x="14039" y="11981"/>
                </a:cubicBezTo>
                <a:cubicBezTo>
                  <a:pt x="14031" y="11958"/>
                  <a:pt x="13981" y="11928"/>
                  <a:pt x="13965" y="11981"/>
                </a:cubicBezTo>
                <a:cubicBezTo>
                  <a:pt x="13948" y="12037"/>
                  <a:pt x="13964" y="12112"/>
                  <a:pt x="13990" y="12154"/>
                </a:cubicBezTo>
                <a:cubicBezTo>
                  <a:pt x="14071" y="12133"/>
                  <a:pt x="14050" y="12077"/>
                  <a:pt x="14064" y="12005"/>
                </a:cubicBezTo>
                <a:cubicBezTo>
                  <a:pt x="14083" y="11909"/>
                  <a:pt x="14089" y="11830"/>
                  <a:pt x="14089" y="11733"/>
                </a:cubicBezTo>
                <a:cubicBezTo>
                  <a:pt x="14089" y="11692"/>
                  <a:pt x="14089" y="11766"/>
                  <a:pt x="14089" y="11807"/>
                </a:cubicBezTo>
                <a:cubicBezTo>
                  <a:pt x="14089" y="11882"/>
                  <a:pt x="14102" y="11936"/>
                  <a:pt x="14114" y="12005"/>
                </a:cubicBezTo>
                <a:cubicBezTo>
                  <a:pt x="14118" y="12029"/>
                  <a:pt x="14131" y="12131"/>
                  <a:pt x="14188" y="12105"/>
                </a:cubicBezTo>
                <a:cubicBezTo>
                  <a:pt x="14222" y="12090"/>
                  <a:pt x="14230" y="12080"/>
                  <a:pt x="14238" y="12055"/>
                </a:cubicBezTo>
              </a:path>
              <a:path w="2730" h="622">
                <a:moveTo>
                  <a:pt x="14263" y="12105"/>
                </a:moveTo>
                <a:cubicBezTo>
                  <a:pt x="14263" y="12113"/>
                  <a:pt x="14263" y="12121"/>
                  <a:pt x="14263" y="12129"/>
                </a:cubicBezTo>
                <a:cubicBezTo>
                  <a:pt x="14263" y="12071"/>
                  <a:pt x="14239" y="11950"/>
                  <a:pt x="14288" y="11906"/>
                </a:cubicBezTo>
                <a:cubicBezTo>
                  <a:pt x="14305" y="11890"/>
                  <a:pt x="14416" y="11906"/>
                  <a:pt x="14436" y="11906"/>
                </a:cubicBezTo>
              </a:path>
              <a:path w="2730" h="622">
                <a:moveTo>
                  <a:pt x="14833" y="11956"/>
                </a:moveTo>
                <a:cubicBezTo>
                  <a:pt x="14841" y="11948"/>
                  <a:pt x="14850" y="11939"/>
                  <a:pt x="14858" y="11931"/>
                </a:cubicBezTo>
                <a:cubicBezTo>
                  <a:pt x="14817" y="11931"/>
                  <a:pt x="14775" y="11931"/>
                  <a:pt x="14734" y="11931"/>
                </a:cubicBezTo>
              </a:path>
              <a:path w="2730" h="622">
                <a:moveTo>
                  <a:pt x="14883" y="12030"/>
                </a:moveTo>
                <a:cubicBezTo>
                  <a:pt x="14951" y="12030"/>
                  <a:pt x="14853" y="12055"/>
                  <a:pt x="14833" y="12055"/>
                </a:cubicBezTo>
              </a:path>
              <a:path w="2730" h="622">
                <a:moveTo>
                  <a:pt x="15304" y="11981"/>
                </a:moveTo>
                <a:cubicBezTo>
                  <a:pt x="15304" y="11956"/>
                  <a:pt x="15304" y="11948"/>
                  <a:pt x="15304" y="11931"/>
                </a:cubicBezTo>
                <a:cubicBezTo>
                  <a:pt x="15265" y="11941"/>
                  <a:pt x="15233" y="11960"/>
                  <a:pt x="15230" y="12005"/>
                </a:cubicBezTo>
                <a:cubicBezTo>
                  <a:pt x="15224" y="12093"/>
                  <a:pt x="15219" y="12117"/>
                  <a:pt x="15304" y="12129"/>
                </a:cubicBezTo>
                <a:cubicBezTo>
                  <a:pt x="15344" y="12103"/>
                  <a:pt x="15352" y="12021"/>
                  <a:pt x="15354" y="11956"/>
                </a:cubicBezTo>
                <a:cubicBezTo>
                  <a:pt x="15357" y="11852"/>
                  <a:pt x="15379" y="11762"/>
                  <a:pt x="15379" y="11658"/>
                </a:cubicBezTo>
                <a:cubicBezTo>
                  <a:pt x="15379" y="11650"/>
                  <a:pt x="15379" y="11641"/>
                  <a:pt x="15379" y="11633"/>
                </a:cubicBezTo>
                <a:cubicBezTo>
                  <a:pt x="15379" y="11722"/>
                  <a:pt x="15378" y="11795"/>
                  <a:pt x="15404" y="11881"/>
                </a:cubicBezTo>
                <a:cubicBezTo>
                  <a:pt x="15433" y="11979"/>
                  <a:pt x="15457" y="12034"/>
                  <a:pt x="15528" y="121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071720" y="5089680"/>
            <a:ext cx="142560" cy="80640"/>
          </a:xfrm>
          <a:custGeom>
            <a:avLst/>
            <a:gdLst/>
            <a:ahLst/>
            <a:rect l="l" t="t" r="r" b="b"/>
            <a:pathLst>
              <a:path w="397" h="224">
                <a:moveTo>
                  <a:pt x="2977" y="14163"/>
                </a:moveTo>
                <a:cubicBezTo>
                  <a:pt x="2977" y="14155"/>
                  <a:pt x="2977" y="14147"/>
                  <a:pt x="2977" y="14139"/>
                </a:cubicBezTo>
                <a:cubicBezTo>
                  <a:pt x="3024" y="14155"/>
                  <a:pt x="2985" y="14169"/>
                  <a:pt x="3001" y="14213"/>
                </a:cubicBezTo>
                <a:cubicBezTo>
                  <a:pt x="3021" y="14268"/>
                  <a:pt x="3018" y="14318"/>
                  <a:pt x="3051" y="14362"/>
                </a:cubicBezTo>
              </a:path>
              <a:path w="397" h="224">
                <a:moveTo>
                  <a:pt x="3125" y="14188"/>
                </a:moveTo>
                <a:cubicBezTo>
                  <a:pt x="3125" y="14180"/>
                  <a:pt x="3125" y="14171"/>
                  <a:pt x="3125" y="14163"/>
                </a:cubicBezTo>
                <a:cubicBezTo>
                  <a:pt x="3175" y="14176"/>
                  <a:pt x="3186" y="14217"/>
                  <a:pt x="3200" y="14263"/>
                </a:cubicBezTo>
                <a:cubicBezTo>
                  <a:pt x="3200" y="14288"/>
                  <a:pt x="3200" y="14296"/>
                  <a:pt x="3200" y="14312"/>
                </a:cubicBezTo>
              </a:path>
              <a:path w="397" h="224">
                <a:moveTo>
                  <a:pt x="3249" y="14163"/>
                </a:moveTo>
                <a:cubicBezTo>
                  <a:pt x="3282" y="14139"/>
                  <a:pt x="3332" y="14128"/>
                  <a:pt x="3349" y="14188"/>
                </a:cubicBezTo>
                <a:cubicBezTo>
                  <a:pt x="3364" y="14241"/>
                  <a:pt x="3353" y="14282"/>
                  <a:pt x="3373" y="143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724040" y="4616280"/>
            <a:ext cx="1892160" cy="393840"/>
          </a:xfrm>
          <a:custGeom>
            <a:avLst/>
            <a:gdLst/>
            <a:ahLst/>
            <a:rect l="l" t="t" r="r" b="b"/>
            <a:pathLst>
              <a:path w="5260" h="1092">
                <a:moveTo>
                  <a:pt x="4911" y="13419"/>
                </a:moveTo>
                <a:cubicBezTo>
                  <a:pt x="4911" y="13375"/>
                  <a:pt x="4926" y="13359"/>
                  <a:pt x="4936" y="13320"/>
                </a:cubicBezTo>
                <a:cubicBezTo>
                  <a:pt x="4879" y="13334"/>
                  <a:pt x="4843" y="13366"/>
                  <a:pt x="4812" y="13419"/>
                </a:cubicBezTo>
                <a:cubicBezTo>
                  <a:pt x="4785" y="13464"/>
                  <a:pt x="4767" y="13504"/>
                  <a:pt x="4812" y="13519"/>
                </a:cubicBezTo>
                <a:cubicBezTo>
                  <a:pt x="4846" y="13496"/>
                  <a:pt x="4840" y="13432"/>
                  <a:pt x="4887" y="13395"/>
                </a:cubicBezTo>
                <a:cubicBezTo>
                  <a:pt x="4930" y="13361"/>
                  <a:pt x="4987" y="13445"/>
                  <a:pt x="5011" y="13469"/>
                </a:cubicBezTo>
                <a:cubicBezTo>
                  <a:pt x="5035" y="13494"/>
                  <a:pt x="5043" y="13503"/>
                  <a:pt x="5060" y="13519"/>
                </a:cubicBezTo>
              </a:path>
              <a:path w="5260" h="1092">
                <a:moveTo>
                  <a:pt x="5333" y="13345"/>
                </a:moveTo>
                <a:cubicBezTo>
                  <a:pt x="5355" y="13295"/>
                  <a:pt x="5358" y="13294"/>
                  <a:pt x="5358" y="13246"/>
                </a:cubicBezTo>
                <a:cubicBezTo>
                  <a:pt x="5310" y="13246"/>
                  <a:pt x="5272" y="13269"/>
                  <a:pt x="5259" y="13320"/>
                </a:cubicBezTo>
                <a:cubicBezTo>
                  <a:pt x="5250" y="13356"/>
                  <a:pt x="5259" y="13407"/>
                  <a:pt x="5259" y="13444"/>
                </a:cubicBezTo>
                <a:cubicBezTo>
                  <a:pt x="5302" y="13433"/>
                  <a:pt x="5325" y="13403"/>
                  <a:pt x="5358" y="13370"/>
                </a:cubicBezTo>
                <a:cubicBezTo>
                  <a:pt x="5397" y="13435"/>
                  <a:pt x="5383" y="13513"/>
                  <a:pt x="5383" y="13593"/>
                </a:cubicBezTo>
                <a:cubicBezTo>
                  <a:pt x="5383" y="13641"/>
                  <a:pt x="5351" y="13813"/>
                  <a:pt x="5407" y="13841"/>
                </a:cubicBezTo>
                <a:cubicBezTo>
                  <a:pt x="5471" y="13873"/>
                  <a:pt x="5519" y="13804"/>
                  <a:pt x="5556" y="13767"/>
                </a:cubicBezTo>
                <a:cubicBezTo>
                  <a:pt x="5604" y="13719"/>
                  <a:pt x="5641" y="13717"/>
                  <a:pt x="5705" y="13717"/>
                </a:cubicBezTo>
              </a:path>
              <a:path w="5260" h="1092">
                <a:moveTo>
                  <a:pt x="6176" y="13271"/>
                </a:moveTo>
                <a:cubicBezTo>
                  <a:pt x="6184" y="13271"/>
                  <a:pt x="6193" y="13271"/>
                  <a:pt x="6201" y="13271"/>
                </a:cubicBezTo>
                <a:cubicBezTo>
                  <a:pt x="6160" y="13281"/>
                  <a:pt x="6115" y="13312"/>
                  <a:pt x="6077" y="13320"/>
                </a:cubicBezTo>
                <a:cubicBezTo>
                  <a:pt x="6041" y="13327"/>
                  <a:pt x="5991" y="13320"/>
                  <a:pt x="5953" y="13320"/>
                </a:cubicBezTo>
              </a:path>
              <a:path w="5260" h="1092">
                <a:moveTo>
                  <a:pt x="6052" y="13221"/>
                </a:moveTo>
                <a:cubicBezTo>
                  <a:pt x="6072" y="13180"/>
                  <a:pt x="6070" y="13164"/>
                  <a:pt x="6102" y="13171"/>
                </a:cubicBezTo>
                <a:cubicBezTo>
                  <a:pt x="6102" y="13254"/>
                  <a:pt x="6102" y="13336"/>
                  <a:pt x="6102" y="13419"/>
                </a:cubicBezTo>
              </a:path>
              <a:path w="5260" h="1092">
                <a:moveTo>
                  <a:pt x="6449" y="12948"/>
                </a:moveTo>
                <a:cubicBezTo>
                  <a:pt x="6449" y="12931"/>
                  <a:pt x="6449" y="12915"/>
                  <a:pt x="6449" y="12898"/>
                </a:cubicBezTo>
                <a:cubicBezTo>
                  <a:pt x="6449" y="13022"/>
                  <a:pt x="6449" y="13147"/>
                  <a:pt x="6449" y="13271"/>
                </a:cubicBezTo>
                <a:cubicBezTo>
                  <a:pt x="6476" y="13238"/>
                  <a:pt x="6497" y="13204"/>
                  <a:pt x="6524" y="13171"/>
                </a:cubicBezTo>
                <a:cubicBezTo>
                  <a:pt x="6588" y="13187"/>
                  <a:pt x="6593" y="13231"/>
                  <a:pt x="6598" y="13295"/>
                </a:cubicBezTo>
                <a:cubicBezTo>
                  <a:pt x="6603" y="13355"/>
                  <a:pt x="6543" y="13366"/>
                  <a:pt x="6499" y="13370"/>
                </a:cubicBezTo>
                <a:cubicBezTo>
                  <a:pt x="6474" y="13370"/>
                  <a:pt x="6466" y="13370"/>
                  <a:pt x="6449" y="13370"/>
                </a:cubicBezTo>
              </a:path>
              <a:path w="5260" h="1092">
                <a:moveTo>
                  <a:pt x="6772" y="13072"/>
                </a:moveTo>
                <a:cubicBezTo>
                  <a:pt x="6832" y="13020"/>
                  <a:pt x="6808" y="13022"/>
                  <a:pt x="6871" y="13022"/>
                </a:cubicBezTo>
                <a:cubicBezTo>
                  <a:pt x="6843" y="13050"/>
                  <a:pt x="6804" y="13076"/>
                  <a:pt x="6821" y="13122"/>
                </a:cubicBezTo>
                <a:cubicBezTo>
                  <a:pt x="6847" y="13193"/>
                  <a:pt x="6891" y="13205"/>
                  <a:pt x="6945" y="13246"/>
                </a:cubicBezTo>
                <a:cubicBezTo>
                  <a:pt x="6991" y="13281"/>
                  <a:pt x="6969" y="13315"/>
                  <a:pt x="6921" y="13320"/>
                </a:cubicBezTo>
                <a:cubicBezTo>
                  <a:pt x="6896" y="13320"/>
                  <a:pt x="6888" y="13320"/>
                  <a:pt x="6871" y="13320"/>
                </a:cubicBezTo>
              </a:path>
              <a:path w="5260" h="1092">
                <a:moveTo>
                  <a:pt x="7590" y="13022"/>
                </a:moveTo>
                <a:cubicBezTo>
                  <a:pt x="7647" y="13013"/>
                  <a:pt x="7666" y="13016"/>
                  <a:pt x="7615" y="13022"/>
                </a:cubicBezTo>
                <a:cubicBezTo>
                  <a:pt x="7576" y="13027"/>
                  <a:pt x="7547" y="13048"/>
                  <a:pt x="7516" y="13072"/>
                </a:cubicBezTo>
              </a:path>
              <a:path w="5260" h="1092">
                <a:moveTo>
                  <a:pt x="7640" y="13122"/>
                </a:moveTo>
                <a:cubicBezTo>
                  <a:pt x="7665" y="13122"/>
                  <a:pt x="7673" y="13122"/>
                  <a:pt x="7689" y="13122"/>
                </a:cubicBezTo>
                <a:cubicBezTo>
                  <a:pt x="7677" y="13157"/>
                  <a:pt x="7653" y="13155"/>
                  <a:pt x="7615" y="13171"/>
                </a:cubicBezTo>
                <a:cubicBezTo>
                  <a:pt x="7598" y="13179"/>
                  <a:pt x="7582" y="13188"/>
                  <a:pt x="7565" y="13196"/>
                </a:cubicBezTo>
              </a:path>
              <a:path w="5260" h="1092">
                <a:moveTo>
                  <a:pt x="7938" y="13097"/>
                </a:moveTo>
                <a:cubicBezTo>
                  <a:pt x="7938" y="13031"/>
                  <a:pt x="7923" y="12956"/>
                  <a:pt x="7962" y="12898"/>
                </a:cubicBezTo>
                <a:cubicBezTo>
                  <a:pt x="7995" y="12848"/>
                  <a:pt x="8015" y="12803"/>
                  <a:pt x="8086" y="12824"/>
                </a:cubicBezTo>
                <a:cubicBezTo>
                  <a:pt x="8191" y="12855"/>
                  <a:pt x="8183" y="12986"/>
                  <a:pt x="8186" y="13072"/>
                </a:cubicBezTo>
                <a:cubicBezTo>
                  <a:pt x="8188" y="13139"/>
                  <a:pt x="8158" y="13271"/>
                  <a:pt x="8062" y="13271"/>
                </a:cubicBezTo>
                <a:cubicBezTo>
                  <a:pt x="7956" y="13271"/>
                  <a:pt x="7945" y="13171"/>
                  <a:pt x="7938" y="13097"/>
                </a:cubicBezTo>
              </a:path>
              <a:path w="5260" h="1092">
                <a:moveTo>
                  <a:pt x="8706" y="13146"/>
                </a:moveTo>
                <a:cubicBezTo>
                  <a:pt x="8804" y="13146"/>
                  <a:pt x="8893" y="13138"/>
                  <a:pt x="8979" y="13122"/>
                </a:cubicBezTo>
                <a:cubicBezTo>
                  <a:pt x="9043" y="13110"/>
                  <a:pt x="9116" y="13107"/>
                  <a:pt x="9178" y="13097"/>
                </a:cubicBezTo>
                <a:cubicBezTo>
                  <a:pt x="9238" y="13087"/>
                  <a:pt x="9288" y="13075"/>
                  <a:pt x="9351" y="13072"/>
                </a:cubicBezTo>
                <a:cubicBezTo>
                  <a:pt x="9425" y="13068"/>
                  <a:pt x="9482" y="13059"/>
                  <a:pt x="9550" y="13047"/>
                </a:cubicBezTo>
                <a:cubicBezTo>
                  <a:pt x="9645" y="13031"/>
                  <a:pt x="9763" y="13035"/>
                  <a:pt x="9847" y="13022"/>
                </a:cubicBezTo>
                <a:cubicBezTo>
                  <a:pt x="9910" y="13013"/>
                  <a:pt x="9982" y="13022"/>
                  <a:pt x="10046" y="13022"/>
                </a:cubicBezTo>
                <a:cubicBezTo>
                  <a:pt x="10039" y="13073"/>
                  <a:pt x="10008" y="13080"/>
                  <a:pt x="9996" y="13122"/>
                </a:cubicBezTo>
                <a:cubicBezTo>
                  <a:pt x="9979" y="13181"/>
                  <a:pt x="9969" y="13219"/>
                  <a:pt x="9922" y="13271"/>
                </a:cubicBezTo>
                <a:cubicBezTo>
                  <a:pt x="9884" y="13313"/>
                  <a:pt x="9874" y="13313"/>
                  <a:pt x="9823" y="13320"/>
                </a:cubicBezTo>
                <a:cubicBezTo>
                  <a:pt x="9830" y="13268"/>
                  <a:pt x="9831" y="13262"/>
                  <a:pt x="9872" y="13221"/>
                </a:cubicBezTo>
                <a:cubicBezTo>
                  <a:pt x="9911" y="13182"/>
                  <a:pt x="10024" y="13103"/>
                  <a:pt x="10021" y="13047"/>
                </a:cubicBezTo>
                <a:cubicBezTo>
                  <a:pt x="10020" y="13022"/>
                  <a:pt x="9977" y="12954"/>
                  <a:pt x="9947" y="12948"/>
                </a:cubicBezTo>
                <a:cubicBezTo>
                  <a:pt x="9896" y="12937"/>
                  <a:pt x="9848" y="12937"/>
                  <a:pt x="9798" y="12923"/>
                </a:cubicBezTo>
              </a:path>
              <a:path w="5260" h="1092">
                <a:moveTo>
                  <a:pt x="8582" y="13915"/>
                </a:moveTo>
                <a:cubicBezTo>
                  <a:pt x="8632" y="13915"/>
                  <a:pt x="8668" y="13924"/>
                  <a:pt x="8706" y="13891"/>
                </a:cubicBezTo>
                <a:cubicBezTo>
                  <a:pt x="8742" y="13859"/>
                  <a:pt x="8786" y="13859"/>
                  <a:pt x="8830" y="13841"/>
                </a:cubicBezTo>
                <a:cubicBezTo>
                  <a:pt x="8910" y="13809"/>
                  <a:pt x="8972" y="13836"/>
                  <a:pt x="9054" y="13816"/>
                </a:cubicBezTo>
                <a:cubicBezTo>
                  <a:pt x="9116" y="13801"/>
                  <a:pt x="9193" y="13787"/>
                  <a:pt x="9252" y="13767"/>
                </a:cubicBezTo>
                <a:cubicBezTo>
                  <a:pt x="9327" y="13742"/>
                  <a:pt x="9401" y="13738"/>
                  <a:pt x="9475" y="13717"/>
                </a:cubicBezTo>
                <a:cubicBezTo>
                  <a:pt x="9547" y="13696"/>
                  <a:pt x="9595" y="13692"/>
                  <a:pt x="9674" y="13692"/>
                </a:cubicBezTo>
                <a:cubicBezTo>
                  <a:pt x="9732" y="13692"/>
                  <a:pt x="9760" y="13667"/>
                  <a:pt x="9823" y="13667"/>
                </a:cubicBezTo>
                <a:cubicBezTo>
                  <a:pt x="9848" y="13667"/>
                  <a:pt x="9872" y="13667"/>
                  <a:pt x="9897" y="13667"/>
                </a:cubicBezTo>
                <a:cubicBezTo>
                  <a:pt x="9897" y="13718"/>
                  <a:pt x="9906" y="13753"/>
                  <a:pt x="9872" y="13791"/>
                </a:cubicBezTo>
                <a:cubicBezTo>
                  <a:pt x="9833" y="13834"/>
                  <a:pt x="9790" y="13874"/>
                  <a:pt x="9748" y="13915"/>
                </a:cubicBezTo>
                <a:cubicBezTo>
                  <a:pt x="9790" y="13874"/>
                  <a:pt x="9813" y="13837"/>
                  <a:pt x="9847" y="13791"/>
                </a:cubicBezTo>
                <a:cubicBezTo>
                  <a:pt x="9873" y="13757"/>
                  <a:pt x="9915" y="13717"/>
                  <a:pt x="9897" y="13667"/>
                </a:cubicBezTo>
                <a:cubicBezTo>
                  <a:pt x="9875" y="13605"/>
                  <a:pt x="9806" y="13597"/>
                  <a:pt x="9748" y="135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010040" y="4803840"/>
            <a:ext cx="1554120" cy="331560"/>
          </a:xfrm>
          <a:custGeom>
            <a:avLst/>
            <a:gdLst/>
            <a:ahLst/>
            <a:rect l="l" t="t" r="r" b="b"/>
            <a:pathLst>
              <a:path w="4317" h="919">
                <a:moveTo>
                  <a:pt x="11137" y="13568"/>
                </a:moveTo>
                <a:cubicBezTo>
                  <a:pt x="11137" y="13543"/>
                  <a:pt x="11137" y="13535"/>
                  <a:pt x="11137" y="13519"/>
                </a:cubicBezTo>
                <a:cubicBezTo>
                  <a:pt x="11137" y="13599"/>
                  <a:pt x="11153" y="13666"/>
                  <a:pt x="11162" y="13742"/>
                </a:cubicBezTo>
                <a:cubicBezTo>
                  <a:pt x="11170" y="13814"/>
                  <a:pt x="11162" y="13892"/>
                  <a:pt x="11162" y="13965"/>
                </a:cubicBezTo>
                <a:cubicBezTo>
                  <a:pt x="11177" y="13889"/>
                  <a:pt x="11184" y="13885"/>
                  <a:pt x="11237" y="13841"/>
                </a:cubicBezTo>
                <a:cubicBezTo>
                  <a:pt x="11312" y="13779"/>
                  <a:pt x="11347" y="13847"/>
                  <a:pt x="11385" y="13915"/>
                </a:cubicBezTo>
                <a:cubicBezTo>
                  <a:pt x="11411" y="13963"/>
                  <a:pt x="11424" y="14011"/>
                  <a:pt x="11361" y="14039"/>
                </a:cubicBezTo>
                <a:cubicBezTo>
                  <a:pt x="11310" y="14061"/>
                  <a:pt x="11256" y="14026"/>
                  <a:pt x="11212" y="14015"/>
                </a:cubicBezTo>
                <a:cubicBezTo>
                  <a:pt x="11204" y="14015"/>
                  <a:pt x="11195" y="14015"/>
                  <a:pt x="11187" y="14015"/>
                </a:cubicBezTo>
              </a:path>
              <a:path w="4317" h="919">
                <a:moveTo>
                  <a:pt x="11584" y="13841"/>
                </a:moveTo>
                <a:cubicBezTo>
                  <a:pt x="11616" y="13792"/>
                  <a:pt x="11618" y="13780"/>
                  <a:pt x="11658" y="13767"/>
                </a:cubicBezTo>
                <a:cubicBezTo>
                  <a:pt x="11630" y="13774"/>
                  <a:pt x="11569" y="13806"/>
                  <a:pt x="11559" y="13841"/>
                </a:cubicBezTo>
                <a:cubicBezTo>
                  <a:pt x="11540" y="13906"/>
                  <a:pt x="11569" y="13958"/>
                  <a:pt x="11584" y="14015"/>
                </a:cubicBezTo>
                <a:cubicBezTo>
                  <a:pt x="11604" y="14094"/>
                  <a:pt x="11662" y="14015"/>
                  <a:pt x="11683" y="13990"/>
                </a:cubicBezTo>
                <a:cubicBezTo>
                  <a:pt x="11691" y="13982"/>
                  <a:pt x="11700" y="13973"/>
                  <a:pt x="11708" y="13965"/>
                </a:cubicBezTo>
              </a:path>
              <a:path w="4317" h="919">
                <a:moveTo>
                  <a:pt x="11857" y="13866"/>
                </a:moveTo>
                <a:cubicBezTo>
                  <a:pt x="11857" y="13858"/>
                  <a:pt x="11857" y="13849"/>
                  <a:pt x="11857" y="13841"/>
                </a:cubicBezTo>
                <a:cubicBezTo>
                  <a:pt x="11912" y="13869"/>
                  <a:pt x="11906" y="13902"/>
                  <a:pt x="11906" y="13965"/>
                </a:cubicBezTo>
                <a:cubicBezTo>
                  <a:pt x="11906" y="14049"/>
                  <a:pt x="11925" y="14109"/>
                  <a:pt x="11931" y="14188"/>
                </a:cubicBezTo>
                <a:cubicBezTo>
                  <a:pt x="11933" y="14213"/>
                  <a:pt x="11931" y="14238"/>
                  <a:pt x="11931" y="14263"/>
                </a:cubicBezTo>
              </a:path>
              <a:path w="4317" h="919">
                <a:moveTo>
                  <a:pt x="11881" y="13965"/>
                </a:moveTo>
                <a:cubicBezTo>
                  <a:pt x="11881" y="13879"/>
                  <a:pt x="11874" y="13860"/>
                  <a:pt x="11931" y="13816"/>
                </a:cubicBezTo>
                <a:cubicBezTo>
                  <a:pt x="11972" y="13784"/>
                  <a:pt x="11989" y="13779"/>
                  <a:pt x="12030" y="13816"/>
                </a:cubicBezTo>
                <a:cubicBezTo>
                  <a:pt x="12063" y="13845"/>
                  <a:pt x="12114" y="13945"/>
                  <a:pt x="12080" y="13990"/>
                </a:cubicBezTo>
                <a:cubicBezTo>
                  <a:pt x="12064" y="14011"/>
                  <a:pt x="12005" y="14033"/>
                  <a:pt x="11981" y="14039"/>
                </a:cubicBezTo>
              </a:path>
              <a:path w="4317" h="919">
                <a:moveTo>
                  <a:pt x="12576" y="13791"/>
                </a:moveTo>
                <a:cubicBezTo>
                  <a:pt x="12601" y="13791"/>
                  <a:pt x="12609" y="13791"/>
                  <a:pt x="12626" y="13791"/>
                </a:cubicBezTo>
                <a:cubicBezTo>
                  <a:pt x="12551" y="13791"/>
                  <a:pt x="12477" y="13791"/>
                  <a:pt x="12402" y="13791"/>
                </a:cubicBezTo>
              </a:path>
              <a:path w="4317" h="919">
                <a:moveTo>
                  <a:pt x="12477" y="13667"/>
                </a:moveTo>
                <a:cubicBezTo>
                  <a:pt x="12509" y="13606"/>
                  <a:pt x="12502" y="13738"/>
                  <a:pt x="12502" y="13767"/>
                </a:cubicBezTo>
                <a:cubicBezTo>
                  <a:pt x="12502" y="13821"/>
                  <a:pt x="12520" y="13862"/>
                  <a:pt x="12526" y="13915"/>
                </a:cubicBezTo>
              </a:path>
              <a:path w="4317" h="919">
                <a:moveTo>
                  <a:pt x="13072" y="13494"/>
                </a:moveTo>
                <a:cubicBezTo>
                  <a:pt x="13072" y="13452"/>
                  <a:pt x="13072" y="13444"/>
                  <a:pt x="13072" y="13419"/>
                </a:cubicBezTo>
                <a:cubicBezTo>
                  <a:pt x="13072" y="13568"/>
                  <a:pt x="13072" y="13965"/>
                  <a:pt x="13072" y="13816"/>
                </a:cubicBezTo>
                <a:cubicBezTo>
                  <a:pt x="13102" y="13766"/>
                  <a:pt x="13102" y="13716"/>
                  <a:pt x="13146" y="13667"/>
                </a:cubicBezTo>
                <a:cubicBezTo>
                  <a:pt x="13189" y="13620"/>
                  <a:pt x="13240" y="13644"/>
                  <a:pt x="13271" y="13692"/>
                </a:cubicBezTo>
                <a:cubicBezTo>
                  <a:pt x="13287" y="13717"/>
                  <a:pt x="13322" y="13839"/>
                  <a:pt x="13295" y="13866"/>
                </a:cubicBezTo>
                <a:cubicBezTo>
                  <a:pt x="13266" y="13895"/>
                  <a:pt x="13183" y="13903"/>
                  <a:pt x="13146" y="13891"/>
                </a:cubicBezTo>
                <a:cubicBezTo>
                  <a:pt x="13130" y="13883"/>
                  <a:pt x="13113" y="13874"/>
                  <a:pt x="13097" y="13866"/>
                </a:cubicBezTo>
              </a:path>
              <a:path w="4317" h="919">
                <a:moveTo>
                  <a:pt x="13519" y="13717"/>
                </a:moveTo>
                <a:cubicBezTo>
                  <a:pt x="13532" y="13677"/>
                  <a:pt x="13530" y="13707"/>
                  <a:pt x="13543" y="13667"/>
                </a:cubicBezTo>
                <a:cubicBezTo>
                  <a:pt x="13503" y="13677"/>
                  <a:pt x="13472" y="13696"/>
                  <a:pt x="13469" y="13742"/>
                </a:cubicBezTo>
                <a:cubicBezTo>
                  <a:pt x="13465" y="13798"/>
                  <a:pt x="13464" y="13801"/>
                  <a:pt x="13494" y="13841"/>
                </a:cubicBezTo>
                <a:cubicBezTo>
                  <a:pt x="13569" y="13822"/>
                  <a:pt x="13565" y="13764"/>
                  <a:pt x="13568" y="13692"/>
                </a:cubicBezTo>
                <a:cubicBezTo>
                  <a:pt x="13571" y="13610"/>
                  <a:pt x="13568" y="13526"/>
                  <a:pt x="13568" y="13444"/>
                </a:cubicBezTo>
                <a:cubicBezTo>
                  <a:pt x="13568" y="13402"/>
                  <a:pt x="13556" y="13479"/>
                  <a:pt x="13568" y="13519"/>
                </a:cubicBezTo>
                <a:cubicBezTo>
                  <a:pt x="13592" y="13600"/>
                  <a:pt x="13630" y="13690"/>
                  <a:pt x="13667" y="13767"/>
                </a:cubicBezTo>
                <a:cubicBezTo>
                  <a:pt x="13697" y="13831"/>
                  <a:pt x="13710" y="13858"/>
                  <a:pt x="13767" y="13816"/>
                </a:cubicBezTo>
              </a:path>
              <a:path w="4317" h="919">
                <a:moveTo>
                  <a:pt x="13915" y="13742"/>
                </a:moveTo>
                <a:cubicBezTo>
                  <a:pt x="13915" y="13767"/>
                  <a:pt x="13915" y="13775"/>
                  <a:pt x="13940" y="13767"/>
                </a:cubicBezTo>
                <a:cubicBezTo>
                  <a:pt x="13931" y="13729"/>
                  <a:pt x="13895" y="13691"/>
                  <a:pt x="13915" y="13643"/>
                </a:cubicBezTo>
                <a:cubicBezTo>
                  <a:pt x="13941" y="13580"/>
                  <a:pt x="14010" y="13593"/>
                  <a:pt x="14064" y="13593"/>
                </a:cubicBezTo>
                <a:cubicBezTo>
                  <a:pt x="14081" y="13593"/>
                  <a:pt x="14097" y="13593"/>
                  <a:pt x="14114" y="13593"/>
                </a:cubicBezTo>
              </a:path>
              <a:path w="4317" h="919">
                <a:moveTo>
                  <a:pt x="14808" y="13593"/>
                </a:moveTo>
                <a:cubicBezTo>
                  <a:pt x="14816" y="13593"/>
                  <a:pt x="14825" y="13593"/>
                  <a:pt x="14833" y="13593"/>
                </a:cubicBezTo>
                <a:cubicBezTo>
                  <a:pt x="14765" y="13593"/>
                  <a:pt x="14716" y="13599"/>
                  <a:pt x="14660" y="13618"/>
                </a:cubicBezTo>
                <a:cubicBezTo>
                  <a:pt x="14652" y="13618"/>
                  <a:pt x="14643" y="13618"/>
                  <a:pt x="14635" y="13618"/>
                </a:cubicBezTo>
              </a:path>
              <a:path w="4317" h="919">
                <a:moveTo>
                  <a:pt x="14808" y="13692"/>
                </a:moveTo>
                <a:cubicBezTo>
                  <a:pt x="14831" y="13715"/>
                  <a:pt x="14839" y="13719"/>
                  <a:pt x="14833" y="13742"/>
                </a:cubicBezTo>
                <a:cubicBezTo>
                  <a:pt x="14800" y="13742"/>
                  <a:pt x="14767" y="13742"/>
                  <a:pt x="14734" y="13742"/>
                </a:cubicBezTo>
              </a:path>
              <a:path w="4317" h="919">
                <a:moveTo>
                  <a:pt x="15230" y="13618"/>
                </a:moveTo>
                <a:cubicBezTo>
                  <a:pt x="15219" y="13592"/>
                  <a:pt x="15186" y="13528"/>
                  <a:pt x="15205" y="13494"/>
                </a:cubicBezTo>
                <a:cubicBezTo>
                  <a:pt x="15233" y="13444"/>
                  <a:pt x="15236" y="13415"/>
                  <a:pt x="15280" y="13370"/>
                </a:cubicBezTo>
                <a:cubicBezTo>
                  <a:pt x="15320" y="13329"/>
                  <a:pt x="15365" y="13335"/>
                  <a:pt x="15404" y="13370"/>
                </a:cubicBezTo>
                <a:cubicBezTo>
                  <a:pt x="15463" y="13422"/>
                  <a:pt x="15469" y="13519"/>
                  <a:pt x="15453" y="13593"/>
                </a:cubicBezTo>
                <a:cubicBezTo>
                  <a:pt x="15437" y="13667"/>
                  <a:pt x="15377" y="13726"/>
                  <a:pt x="15304" y="13742"/>
                </a:cubicBezTo>
                <a:cubicBezTo>
                  <a:pt x="15265" y="13751"/>
                  <a:pt x="15163" y="13724"/>
                  <a:pt x="15180" y="13667"/>
                </a:cubicBezTo>
                <a:cubicBezTo>
                  <a:pt x="15196" y="13611"/>
                  <a:pt x="15235" y="13550"/>
                  <a:pt x="15255" y="13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081840" y="5027760"/>
            <a:ext cx="241200" cy="115920"/>
          </a:xfrm>
          <a:custGeom>
            <a:avLst/>
            <a:gdLst/>
            <a:ahLst/>
            <a:rect l="l" t="t" r="r" b="b"/>
            <a:pathLst>
              <a:path w="671" h="324">
                <a:moveTo>
                  <a:pt x="17016" y="14015"/>
                </a:moveTo>
                <a:cubicBezTo>
                  <a:pt x="17024" y="14007"/>
                  <a:pt x="17033" y="13998"/>
                  <a:pt x="17041" y="13990"/>
                </a:cubicBezTo>
                <a:cubicBezTo>
                  <a:pt x="16989" y="13990"/>
                  <a:pt x="16923" y="13984"/>
                  <a:pt x="16892" y="14039"/>
                </a:cubicBezTo>
                <a:cubicBezTo>
                  <a:pt x="16869" y="14080"/>
                  <a:pt x="16916" y="14099"/>
                  <a:pt x="16942" y="14114"/>
                </a:cubicBezTo>
                <a:cubicBezTo>
                  <a:pt x="16991" y="14142"/>
                  <a:pt x="17063" y="14127"/>
                  <a:pt x="17090" y="14188"/>
                </a:cubicBezTo>
                <a:cubicBezTo>
                  <a:pt x="17105" y="14224"/>
                  <a:pt x="17073" y="14274"/>
                  <a:pt x="17041" y="14288"/>
                </a:cubicBezTo>
                <a:cubicBezTo>
                  <a:pt x="17025" y="14295"/>
                  <a:pt x="16984" y="14288"/>
                  <a:pt x="16966" y="14288"/>
                </a:cubicBezTo>
              </a:path>
              <a:path w="671" h="324">
                <a:moveTo>
                  <a:pt x="17512" y="14015"/>
                </a:moveTo>
                <a:cubicBezTo>
                  <a:pt x="17535" y="13992"/>
                  <a:pt x="17543" y="13988"/>
                  <a:pt x="17537" y="13965"/>
                </a:cubicBezTo>
                <a:cubicBezTo>
                  <a:pt x="17490" y="13965"/>
                  <a:pt x="17458" y="13985"/>
                  <a:pt x="17413" y="13990"/>
                </a:cubicBezTo>
                <a:cubicBezTo>
                  <a:pt x="17405" y="13990"/>
                  <a:pt x="17396" y="13990"/>
                  <a:pt x="17388" y="13990"/>
                </a:cubicBezTo>
              </a:path>
              <a:path w="671" h="324">
                <a:moveTo>
                  <a:pt x="17512" y="14039"/>
                </a:moveTo>
                <a:cubicBezTo>
                  <a:pt x="17554" y="14039"/>
                  <a:pt x="17570" y="14031"/>
                  <a:pt x="17562" y="14064"/>
                </a:cubicBezTo>
                <a:cubicBezTo>
                  <a:pt x="17548" y="14106"/>
                  <a:pt x="17513" y="14089"/>
                  <a:pt x="17462" y="140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589800" y="4848120"/>
            <a:ext cx="625320" cy="366840"/>
          </a:xfrm>
          <a:custGeom>
            <a:avLst/>
            <a:gdLst/>
            <a:ahLst/>
            <a:rect l="l" t="t" r="r" b="b"/>
            <a:pathLst>
              <a:path w="1737" h="1018">
                <a:moveTo>
                  <a:pt x="18976" y="13568"/>
                </a:moveTo>
                <a:cubicBezTo>
                  <a:pt x="19011" y="13516"/>
                  <a:pt x="19025" y="13527"/>
                  <a:pt x="19025" y="13469"/>
                </a:cubicBezTo>
                <a:cubicBezTo>
                  <a:pt x="18944" y="13485"/>
                  <a:pt x="18930" y="13512"/>
                  <a:pt x="18926" y="13593"/>
                </a:cubicBezTo>
                <a:cubicBezTo>
                  <a:pt x="18923" y="13653"/>
                  <a:pt x="18917" y="13697"/>
                  <a:pt x="18951" y="13742"/>
                </a:cubicBezTo>
                <a:cubicBezTo>
                  <a:pt x="18982" y="13703"/>
                  <a:pt x="18991" y="13623"/>
                  <a:pt x="19025" y="13593"/>
                </a:cubicBezTo>
                <a:cubicBezTo>
                  <a:pt x="19033" y="13593"/>
                  <a:pt x="19042" y="13593"/>
                  <a:pt x="19050" y="13593"/>
                </a:cubicBezTo>
                <a:cubicBezTo>
                  <a:pt x="19098" y="13617"/>
                  <a:pt x="19121" y="13679"/>
                  <a:pt x="19174" y="13717"/>
                </a:cubicBezTo>
              </a:path>
              <a:path w="1737" h="1018">
                <a:moveTo>
                  <a:pt x="19968" y="13816"/>
                </a:moveTo>
                <a:cubicBezTo>
                  <a:pt x="20051" y="13816"/>
                  <a:pt x="20051" y="13816"/>
                  <a:pt x="19968" y="13816"/>
                </a:cubicBezTo>
                <a:cubicBezTo>
                  <a:pt x="19860" y="13816"/>
                  <a:pt x="19756" y="13841"/>
                  <a:pt x="19645" y="13841"/>
                </a:cubicBezTo>
                <a:cubicBezTo>
                  <a:pt x="19462" y="13841"/>
                  <a:pt x="19278" y="13826"/>
                  <a:pt x="19100" y="13866"/>
                </a:cubicBezTo>
                <a:cubicBezTo>
                  <a:pt x="18979" y="13893"/>
                  <a:pt x="18871" y="13900"/>
                  <a:pt x="18752" y="13940"/>
                </a:cubicBezTo>
                <a:cubicBezTo>
                  <a:pt x="18676" y="13965"/>
                  <a:pt x="18580" y="13980"/>
                  <a:pt x="18504" y="13990"/>
                </a:cubicBezTo>
                <a:cubicBezTo>
                  <a:pt x="18427" y="14000"/>
                  <a:pt x="18369" y="13977"/>
                  <a:pt x="18306" y="14015"/>
                </a:cubicBezTo>
              </a:path>
              <a:path w="1737" h="1018">
                <a:moveTo>
                  <a:pt x="18479" y="14288"/>
                </a:moveTo>
                <a:cubicBezTo>
                  <a:pt x="18487" y="14280"/>
                  <a:pt x="18496" y="14271"/>
                  <a:pt x="18504" y="14263"/>
                </a:cubicBezTo>
                <a:cubicBezTo>
                  <a:pt x="18490" y="14316"/>
                  <a:pt x="18460" y="14324"/>
                  <a:pt x="18455" y="14387"/>
                </a:cubicBezTo>
                <a:cubicBezTo>
                  <a:pt x="18453" y="14411"/>
                  <a:pt x="18455" y="14437"/>
                  <a:pt x="18455" y="14461"/>
                </a:cubicBezTo>
                <a:cubicBezTo>
                  <a:pt x="18493" y="14448"/>
                  <a:pt x="18481" y="14421"/>
                  <a:pt x="18504" y="14387"/>
                </a:cubicBezTo>
                <a:cubicBezTo>
                  <a:pt x="18527" y="14364"/>
                  <a:pt x="18531" y="14356"/>
                  <a:pt x="18554" y="14362"/>
                </a:cubicBezTo>
                <a:cubicBezTo>
                  <a:pt x="18565" y="14419"/>
                  <a:pt x="18588" y="14445"/>
                  <a:pt x="18628" y="14486"/>
                </a:cubicBezTo>
              </a:path>
              <a:path w="1737" h="1018">
                <a:moveTo>
                  <a:pt x="18777" y="14337"/>
                </a:moveTo>
                <a:cubicBezTo>
                  <a:pt x="18777" y="14278"/>
                  <a:pt x="18755" y="14399"/>
                  <a:pt x="18752" y="14412"/>
                </a:cubicBezTo>
                <a:cubicBezTo>
                  <a:pt x="18743" y="14449"/>
                  <a:pt x="18757" y="14459"/>
                  <a:pt x="18777" y="14486"/>
                </a:cubicBezTo>
                <a:cubicBezTo>
                  <a:pt x="18831" y="14432"/>
                  <a:pt x="18849" y="14391"/>
                  <a:pt x="18852" y="14312"/>
                </a:cubicBezTo>
                <a:cubicBezTo>
                  <a:pt x="18854" y="14255"/>
                  <a:pt x="18852" y="14197"/>
                  <a:pt x="18852" y="14139"/>
                </a:cubicBezTo>
                <a:cubicBezTo>
                  <a:pt x="18865" y="14203"/>
                  <a:pt x="18877" y="14274"/>
                  <a:pt x="18901" y="14337"/>
                </a:cubicBezTo>
                <a:cubicBezTo>
                  <a:pt x="18919" y="14384"/>
                  <a:pt x="18945" y="14423"/>
                  <a:pt x="18976" y="14461"/>
                </a:cubicBezTo>
              </a:path>
              <a:path w="1737" h="1018">
                <a:moveTo>
                  <a:pt x="19149" y="14337"/>
                </a:moveTo>
                <a:cubicBezTo>
                  <a:pt x="19182" y="14337"/>
                  <a:pt x="19215" y="14337"/>
                  <a:pt x="19248" y="14337"/>
                </a:cubicBezTo>
              </a:path>
              <a:path w="1737" h="1018">
                <a:moveTo>
                  <a:pt x="19496" y="14089"/>
                </a:moveTo>
                <a:cubicBezTo>
                  <a:pt x="19496" y="14072"/>
                  <a:pt x="19496" y="14056"/>
                  <a:pt x="19496" y="14039"/>
                </a:cubicBezTo>
                <a:cubicBezTo>
                  <a:pt x="19537" y="14107"/>
                  <a:pt x="19499" y="14156"/>
                  <a:pt x="19496" y="14238"/>
                </a:cubicBezTo>
                <a:cubicBezTo>
                  <a:pt x="19494" y="14287"/>
                  <a:pt x="19496" y="14337"/>
                  <a:pt x="19496" y="14387"/>
                </a:cubicBezTo>
                <a:cubicBezTo>
                  <a:pt x="19537" y="14373"/>
                  <a:pt x="19517" y="14324"/>
                  <a:pt x="19571" y="14312"/>
                </a:cubicBezTo>
                <a:cubicBezTo>
                  <a:pt x="19624" y="14300"/>
                  <a:pt x="19621" y="14353"/>
                  <a:pt x="19621" y="14387"/>
                </a:cubicBezTo>
                <a:cubicBezTo>
                  <a:pt x="19621" y="14440"/>
                  <a:pt x="19567" y="14449"/>
                  <a:pt x="19521" y="14436"/>
                </a:cubicBezTo>
                <a:cubicBezTo>
                  <a:pt x="19505" y="14428"/>
                  <a:pt x="19488" y="14420"/>
                  <a:pt x="19472" y="14412"/>
                </a:cubicBezTo>
              </a:path>
              <a:path w="1737" h="1018">
                <a:moveTo>
                  <a:pt x="19695" y="14288"/>
                </a:moveTo>
                <a:cubicBezTo>
                  <a:pt x="19703" y="14280"/>
                  <a:pt x="19712" y="14271"/>
                  <a:pt x="19720" y="14263"/>
                </a:cubicBezTo>
                <a:cubicBezTo>
                  <a:pt x="19720" y="14319"/>
                  <a:pt x="19710" y="14368"/>
                  <a:pt x="19745" y="14412"/>
                </a:cubicBezTo>
                <a:cubicBezTo>
                  <a:pt x="19795" y="14474"/>
                  <a:pt x="19824" y="14466"/>
                  <a:pt x="19893" y="14436"/>
                </a:cubicBezTo>
                <a:cubicBezTo>
                  <a:pt x="19910" y="14428"/>
                  <a:pt x="19926" y="14420"/>
                  <a:pt x="19943" y="144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82800" y="5045040"/>
            <a:ext cx="276120" cy="241200"/>
          </a:xfrm>
          <a:custGeom>
            <a:avLst/>
            <a:gdLst/>
            <a:ahLst/>
            <a:rect l="l" t="t" r="r" b="b"/>
            <a:pathLst>
              <a:path w="769" h="670">
                <a:moveTo>
                  <a:pt x="3200" y="14610"/>
                </a:moveTo>
                <a:cubicBezTo>
                  <a:pt x="3200" y="14635"/>
                  <a:pt x="3200" y="14643"/>
                  <a:pt x="3200" y="14660"/>
                </a:cubicBezTo>
                <a:cubicBezTo>
                  <a:pt x="3144" y="14660"/>
                  <a:pt x="3122" y="14669"/>
                  <a:pt x="3076" y="14684"/>
                </a:cubicBezTo>
                <a:cubicBezTo>
                  <a:pt x="3034" y="14697"/>
                  <a:pt x="2983" y="14684"/>
                  <a:pt x="2952" y="14660"/>
                </a:cubicBezTo>
                <a:cubicBezTo>
                  <a:pt x="2913" y="14629"/>
                  <a:pt x="2870" y="14587"/>
                  <a:pt x="2828" y="14560"/>
                </a:cubicBezTo>
                <a:cubicBezTo>
                  <a:pt x="2777" y="14528"/>
                  <a:pt x="2758" y="14506"/>
                  <a:pt x="2753" y="14436"/>
                </a:cubicBezTo>
                <a:cubicBezTo>
                  <a:pt x="2749" y="14378"/>
                  <a:pt x="2729" y="14350"/>
                  <a:pt x="2729" y="14288"/>
                </a:cubicBezTo>
                <a:cubicBezTo>
                  <a:pt x="2729" y="14234"/>
                  <a:pt x="2740" y="14204"/>
                  <a:pt x="2778" y="14163"/>
                </a:cubicBezTo>
                <a:cubicBezTo>
                  <a:pt x="2819" y="14118"/>
                  <a:pt x="2869" y="14058"/>
                  <a:pt x="2927" y="14039"/>
                </a:cubicBezTo>
                <a:cubicBezTo>
                  <a:pt x="2969" y="14025"/>
                  <a:pt x="3032" y="14017"/>
                  <a:pt x="3076" y="14015"/>
                </a:cubicBezTo>
                <a:cubicBezTo>
                  <a:pt x="3132" y="14012"/>
                  <a:pt x="3197" y="14041"/>
                  <a:pt x="3249" y="14064"/>
                </a:cubicBezTo>
                <a:cubicBezTo>
                  <a:pt x="3323" y="14097"/>
                  <a:pt x="3366" y="14131"/>
                  <a:pt x="3423" y="14188"/>
                </a:cubicBezTo>
                <a:cubicBezTo>
                  <a:pt x="3467" y="14232"/>
                  <a:pt x="3494" y="14278"/>
                  <a:pt x="3497" y="14337"/>
                </a:cubicBezTo>
                <a:cubicBezTo>
                  <a:pt x="3501" y="14401"/>
                  <a:pt x="3450" y="14471"/>
                  <a:pt x="3398" y="14511"/>
                </a:cubicBezTo>
                <a:cubicBezTo>
                  <a:pt x="3358" y="14531"/>
                  <a:pt x="3352" y="14540"/>
                  <a:pt x="3324" y="145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724040" y="5045040"/>
            <a:ext cx="231840" cy="196920"/>
          </a:xfrm>
          <a:custGeom>
            <a:avLst/>
            <a:gdLst/>
            <a:ahLst/>
            <a:rect l="l" t="t" r="r" b="b"/>
            <a:pathLst>
              <a:path w="646" h="546">
                <a:moveTo>
                  <a:pt x="4862" y="14064"/>
                </a:moveTo>
                <a:cubicBezTo>
                  <a:pt x="4870" y="14056"/>
                  <a:pt x="4879" y="14047"/>
                  <a:pt x="4887" y="14039"/>
                </a:cubicBezTo>
                <a:cubicBezTo>
                  <a:pt x="4847" y="14071"/>
                  <a:pt x="4791" y="14085"/>
                  <a:pt x="4787" y="14139"/>
                </a:cubicBezTo>
                <a:cubicBezTo>
                  <a:pt x="4784" y="14185"/>
                  <a:pt x="4776" y="14270"/>
                  <a:pt x="4837" y="14288"/>
                </a:cubicBezTo>
                <a:cubicBezTo>
                  <a:pt x="4889" y="14288"/>
                  <a:pt x="4907" y="14287"/>
                  <a:pt x="4936" y="14263"/>
                </a:cubicBezTo>
              </a:path>
              <a:path w="646" h="546">
                <a:moveTo>
                  <a:pt x="5159" y="14163"/>
                </a:moveTo>
                <a:cubicBezTo>
                  <a:pt x="5159" y="14122"/>
                  <a:pt x="5151" y="14106"/>
                  <a:pt x="5184" y="14114"/>
                </a:cubicBezTo>
                <a:cubicBezTo>
                  <a:pt x="5224" y="14127"/>
                  <a:pt x="5209" y="14162"/>
                  <a:pt x="5209" y="14213"/>
                </a:cubicBezTo>
                <a:cubicBezTo>
                  <a:pt x="5209" y="14301"/>
                  <a:pt x="5229" y="14376"/>
                  <a:pt x="5234" y="14461"/>
                </a:cubicBezTo>
                <a:cubicBezTo>
                  <a:pt x="5237" y="14523"/>
                  <a:pt x="5225" y="14516"/>
                  <a:pt x="5259" y="14560"/>
                </a:cubicBezTo>
              </a:path>
              <a:path w="646" h="546">
                <a:moveTo>
                  <a:pt x="5259" y="14188"/>
                </a:moveTo>
                <a:cubicBezTo>
                  <a:pt x="5274" y="14135"/>
                  <a:pt x="5286" y="13983"/>
                  <a:pt x="5383" y="14015"/>
                </a:cubicBezTo>
                <a:cubicBezTo>
                  <a:pt x="5437" y="14033"/>
                  <a:pt x="5444" y="14145"/>
                  <a:pt x="5432" y="14188"/>
                </a:cubicBezTo>
                <a:cubicBezTo>
                  <a:pt x="5410" y="14232"/>
                  <a:pt x="5407" y="14243"/>
                  <a:pt x="5383" y="142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43080" y="4946760"/>
            <a:ext cx="384120" cy="152280"/>
          </a:xfrm>
          <a:custGeom>
            <a:avLst/>
            <a:gdLst/>
            <a:ahLst/>
            <a:rect l="l" t="t" r="r" b="b"/>
            <a:pathLst>
              <a:path w="1068" h="422">
                <a:moveTo>
                  <a:pt x="6176" y="13990"/>
                </a:moveTo>
                <a:cubicBezTo>
                  <a:pt x="6176" y="14015"/>
                  <a:pt x="6176" y="14023"/>
                  <a:pt x="6201" y="14015"/>
                </a:cubicBezTo>
                <a:cubicBezTo>
                  <a:pt x="6144" y="14015"/>
                  <a:pt x="6098" y="14030"/>
                  <a:pt x="6052" y="14039"/>
                </a:cubicBezTo>
                <a:cubicBezTo>
                  <a:pt x="6024" y="14044"/>
                  <a:pt x="5983" y="14039"/>
                  <a:pt x="5953" y="14039"/>
                </a:cubicBezTo>
              </a:path>
              <a:path w="1068" h="422">
                <a:moveTo>
                  <a:pt x="6003" y="13965"/>
                </a:moveTo>
                <a:cubicBezTo>
                  <a:pt x="6011" y="13948"/>
                  <a:pt x="6020" y="13932"/>
                  <a:pt x="6028" y="13915"/>
                </a:cubicBezTo>
                <a:cubicBezTo>
                  <a:pt x="6060" y="13960"/>
                  <a:pt x="6074" y="14005"/>
                  <a:pt x="6077" y="14064"/>
                </a:cubicBezTo>
                <a:cubicBezTo>
                  <a:pt x="6077" y="14116"/>
                  <a:pt x="6078" y="14134"/>
                  <a:pt x="6102" y="14163"/>
                </a:cubicBezTo>
              </a:path>
              <a:path w="1068" h="422">
                <a:moveTo>
                  <a:pt x="6524" y="13990"/>
                </a:moveTo>
                <a:cubicBezTo>
                  <a:pt x="6499" y="13939"/>
                  <a:pt x="6477" y="14028"/>
                  <a:pt x="6474" y="14064"/>
                </a:cubicBezTo>
                <a:cubicBezTo>
                  <a:pt x="6469" y="14126"/>
                  <a:pt x="6497" y="14139"/>
                  <a:pt x="6548" y="14139"/>
                </a:cubicBezTo>
                <a:cubicBezTo>
                  <a:pt x="6578" y="14048"/>
                  <a:pt x="6573" y="13964"/>
                  <a:pt x="6573" y="13866"/>
                </a:cubicBezTo>
                <a:cubicBezTo>
                  <a:pt x="6573" y="13816"/>
                  <a:pt x="6573" y="13800"/>
                  <a:pt x="6573" y="13767"/>
                </a:cubicBezTo>
                <a:cubicBezTo>
                  <a:pt x="6573" y="13716"/>
                  <a:pt x="6590" y="13816"/>
                  <a:pt x="6598" y="13866"/>
                </a:cubicBezTo>
                <a:cubicBezTo>
                  <a:pt x="6610" y="13944"/>
                  <a:pt x="6625" y="14021"/>
                  <a:pt x="6672" y="14089"/>
                </a:cubicBezTo>
                <a:cubicBezTo>
                  <a:pt x="6694" y="14121"/>
                  <a:pt x="6715" y="14131"/>
                  <a:pt x="6747" y="14139"/>
                </a:cubicBezTo>
              </a:path>
              <a:path w="1068" h="422">
                <a:moveTo>
                  <a:pt x="6896" y="14015"/>
                </a:moveTo>
                <a:cubicBezTo>
                  <a:pt x="6896" y="14039"/>
                  <a:pt x="6896" y="14048"/>
                  <a:pt x="6896" y="14064"/>
                </a:cubicBezTo>
                <a:cubicBezTo>
                  <a:pt x="6885" y="14008"/>
                  <a:pt x="6871" y="13974"/>
                  <a:pt x="6871" y="13915"/>
                </a:cubicBezTo>
                <a:cubicBezTo>
                  <a:pt x="6871" y="13875"/>
                  <a:pt x="6935" y="13825"/>
                  <a:pt x="6970" y="13816"/>
                </a:cubicBezTo>
                <a:cubicBezTo>
                  <a:pt x="6987" y="13816"/>
                  <a:pt x="7003" y="13816"/>
                  <a:pt x="7020" y="138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652840" y="4973760"/>
            <a:ext cx="79200" cy="63360"/>
          </a:xfrm>
          <a:custGeom>
            <a:avLst/>
            <a:gdLst/>
            <a:ahLst/>
            <a:rect l="l" t="t" r="r" b="b"/>
            <a:pathLst>
              <a:path w="224" h="175">
                <a:moveTo>
                  <a:pt x="7516" y="13841"/>
                </a:moveTo>
                <a:cubicBezTo>
                  <a:pt x="7560" y="13808"/>
                  <a:pt x="7567" y="13784"/>
                  <a:pt x="7491" y="13816"/>
                </a:cubicBezTo>
                <a:cubicBezTo>
                  <a:pt x="7444" y="13835"/>
                  <a:pt x="7427" y="13841"/>
                  <a:pt x="7367" y="13841"/>
                </a:cubicBezTo>
              </a:path>
              <a:path w="224" h="175">
                <a:moveTo>
                  <a:pt x="7541" y="13965"/>
                </a:moveTo>
                <a:cubicBezTo>
                  <a:pt x="7565" y="13965"/>
                  <a:pt x="7574" y="13965"/>
                  <a:pt x="7590" y="13965"/>
                </a:cubicBezTo>
                <a:cubicBezTo>
                  <a:pt x="7542" y="13965"/>
                  <a:pt x="7529" y="13961"/>
                  <a:pt x="7491" y="139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867040" y="4875120"/>
            <a:ext cx="98280" cy="142920"/>
          </a:xfrm>
          <a:custGeom>
            <a:avLst/>
            <a:gdLst/>
            <a:ahLst/>
            <a:rect l="l" t="t" r="r" b="b"/>
            <a:pathLst>
              <a:path w="274" h="398">
                <a:moveTo>
                  <a:pt x="7987" y="13742"/>
                </a:moveTo>
                <a:cubicBezTo>
                  <a:pt x="7987" y="13696"/>
                  <a:pt x="7967" y="13683"/>
                  <a:pt x="7962" y="13643"/>
                </a:cubicBezTo>
                <a:cubicBezTo>
                  <a:pt x="7955" y="13583"/>
                  <a:pt x="7976" y="13592"/>
                  <a:pt x="8012" y="13568"/>
                </a:cubicBezTo>
                <a:cubicBezTo>
                  <a:pt x="8049" y="13543"/>
                  <a:pt x="8092" y="13521"/>
                  <a:pt x="8136" y="13568"/>
                </a:cubicBezTo>
                <a:cubicBezTo>
                  <a:pt x="8199" y="13636"/>
                  <a:pt x="8231" y="13699"/>
                  <a:pt x="8235" y="13791"/>
                </a:cubicBezTo>
                <a:cubicBezTo>
                  <a:pt x="8239" y="13882"/>
                  <a:pt x="8258" y="13932"/>
                  <a:pt x="8161" y="13940"/>
                </a:cubicBezTo>
                <a:cubicBezTo>
                  <a:pt x="8113" y="13944"/>
                  <a:pt x="8026" y="13893"/>
                  <a:pt x="7987" y="13866"/>
                </a:cubicBezTo>
                <a:cubicBezTo>
                  <a:pt x="7954" y="13843"/>
                  <a:pt x="7962" y="13826"/>
                  <a:pt x="7962" y="137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062000" y="5303880"/>
            <a:ext cx="162000" cy="162000"/>
          </a:xfrm>
          <a:custGeom>
            <a:avLst/>
            <a:gdLst/>
            <a:ahLst/>
            <a:rect l="l" t="t" r="r" b="b"/>
            <a:pathLst>
              <a:path w="447" h="447">
                <a:moveTo>
                  <a:pt x="3076" y="14982"/>
                </a:moveTo>
                <a:cubicBezTo>
                  <a:pt x="3076" y="14974"/>
                  <a:pt x="3076" y="14965"/>
                  <a:pt x="3076" y="14957"/>
                </a:cubicBezTo>
                <a:cubicBezTo>
                  <a:pt x="3076" y="15031"/>
                  <a:pt x="3076" y="15106"/>
                  <a:pt x="3076" y="15180"/>
                </a:cubicBezTo>
              </a:path>
              <a:path w="447" h="447">
                <a:moveTo>
                  <a:pt x="3125" y="14932"/>
                </a:moveTo>
                <a:cubicBezTo>
                  <a:pt x="3155" y="14984"/>
                  <a:pt x="3183" y="15014"/>
                  <a:pt x="3225" y="15056"/>
                </a:cubicBezTo>
                <a:cubicBezTo>
                  <a:pt x="3233" y="15064"/>
                  <a:pt x="3241" y="15073"/>
                  <a:pt x="3249" y="15081"/>
                </a:cubicBezTo>
                <a:cubicBezTo>
                  <a:pt x="3287" y="15018"/>
                  <a:pt x="3277" y="14979"/>
                  <a:pt x="3299" y="14908"/>
                </a:cubicBezTo>
                <a:cubicBezTo>
                  <a:pt x="3319" y="14867"/>
                  <a:pt x="3328" y="14861"/>
                  <a:pt x="3324" y="14833"/>
                </a:cubicBezTo>
              </a:path>
              <a:path w="447" h="447">
                <a:moveTo>
                  <a:pt x="3076" y="15081"/>
                </a:moveTo>
                <a:cubicBezTo>
                  <a:pt x="3029" y="15081"/>
                  <a:pt x="3012" y="15087"/>
                  <a:pt x="2977" y="15056"/>
                </a:cubicBezTo>
                <a:cubicBezTo>
                  <a:pt x="2943" y="15026"/>
                  <a:pt x="2952" y="15000"/>
                  <a:pt x="2952" y="14957"/>
                </a:cubicBezTo>
                <a:cubicBezTo>
                  <a:pt x="2952" y="14921"/>
                  <a:pt x="2959" y="14885"/>
                  <a:pt x="2977" y="14858"/>
                </a:cubicBezTo>
                <a:cubicBezTo>
                  <a:pt x="3016" y="14798"/>
                  <a:pt x="3085" y="14739"/>
                  <a:pt x="3150" y="14734"/>
                </a:cubicBezTo>
                <a:cubicBezTo>
                  <a:pt x="3213" y="14729"/>
                  <a:pt x="3248" y="14747"/>
                  <a:pt x="3299" y="14784"/>
                </a:cubicBezTo>
                <a:cubicBezTo>
                  <a:pt x="3343" y="14816"/>
                  <a:pt x="3386" y="14880"/>
                  <a:pt x="3398" y="14932"/>
                </a:cubicBezTo>
                <a:cubicBezTo>
                  <a:pt x="3413" y="15000"/>
                  <a:pt x="3387" y="15075"/>
                  <a:pt x="3349" y="15131"/>
                </a:cubicBezTo>
                <a:cubicBezTo>
                  <a:pt x="3308" y="15191"/>
                  <a:pt x="3237" y="15180"/>
                  <a:pt x="3175" y="15180"/>
                </a:cubicBezTo>
                <a:cubicBezTo>
                  <a:pt x="3111" y="15180"/>
                  <a:pt x="3023" y="15190"/>
                  <a:pt x="2977" y="15131"/>
                </a:cubicBezTo>
                <a:cubicBezTo>
                  <a:pt x="2977" y="15123"/>
                  <a:pt x="2977" y="15114"/>
                  <a:pt x="2977" y="151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670040" y="5313240"/>
            <a:ext cx="312840" cy="169920"/>
          </a:xfrm>
          <a:custGeom>
            <a:avLst/>
            <a:gdLst/>
            <a:ahLst/>
            <a:rect l="l" t="t" r="r" b="b"/>
            <a:pathLst>
              <a:path w="870" h="472">
                <a:moveTo>
                  <a:pt x="4738" y="14784"/>
                </a:moveTo>
                <a:cubicBezTo>
                  <a:pt x="4723" y="14754"/>
                  <a:pt x="4681" y="14785"/>
                  <a:pt x="4663" y="14833"/>
                </a:cubicBezTo>
                <a:cubicBezTo>
                  <a:pt x="4650" y="14867"/>
                  <a:pt x="4621" y="14941"/>
                  <a:pt x="4638" y="14982"/>
                </a:cubicBezTo>
                <a:cubicBezTo>
                  <a:pt x="4657" y="15027"/>
                  <a:pt x="4719" y="15047"/>
                  <a:pt x="4762" y="15032"/>
                </a:cubicBezTo>
                <a:cubicBezTo>
                  <a:pt x="4779" y="15024"/>
                  <a:pt x="4795" y="15015"/>
                  <a:pt x="4812" y="15007"/>
                </a:cubicBezTo>
              </a:path>
              <a:path w="870" h="472">
                <a:moveTo>
                  <a:pt x="5135" y="14883"/>
                </a:moveTo>
                <a:cubicBezTo>
                  <a:pt x="5162" y="14845"/>
                  <a:pt x="5159" y="14831"/>
                  <a:pt x="5159" y="14784"/>
                </a:cubicBezTo>
                <a:cubicBezTo>
                  <a:pt x="5104" y="14784"/>
                  <a:pt x="5104" y="14788"/>
                  <a:pt x="5085" y="14833"/>
                </a:cubicBezTo>
                <a:cubicBezTo>
                  <a:pt x="5066" y="14877"/>
                  <a:pt x="5040" y="14969"/>
                  <a:pt x="5085" y="15007"/>
                </a:cubicBezTo>
                <a:cubicBezTo>
                  <a:pt x="5093" y="15007"/>
                  <a:pt x="5102" y="15007"/>
                  <a:pt x="5110" y="15007"/>
                </a:cubicBezTo>
                <a:cubicBezTo>
                  <a:pt x="5136" y="14974"/>
                  <a:pt x="5157" y="14941"/>
                  <a:pt x="5184" y="14908"/>
                </a:cubicBezTo>
                <a:cubicBezTo>
                  <a:pt x="5210" y="14925"/>
                  <a:pt x="5227" y="15029"/>
                  <a:pt x="5234" y="15081"/>
                </a:cubicBezTo>
                <a:cubicBezTo>
                  <a:pt x="5241" y="15129"/>
                  <a:pt x="5234" y="15182"/>
                  <a:pt x="5234" y="15230"/>
                </a:cubicBezTo>
                <a:cubicBezTo>
                  <a:pt x="5293" y="15230"/>
                  <a:pt x="5330" y="15206"/>
                  <a:pt x="5383" y="15180"/>
                </a:cubicBezTo>
                <a:cubicBezTo>
                  <a:pt x="5443" y="15150"/>
                  <a:pt x="5443" y="15140"/>
                  <a:pt x="5507" y="151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98800" y="5322960"/>
            <a:ext cx="81000" cy="7920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6003" y="14858"/>
                </a:moveTo>
                <a:cubicBezTo>
                  <a:pt x="6057" y="14858"/>
                  <a:pt x="6057" y="14858"/>
                  <a:pt x="6003" y="14858"/>
                </a:cubicBezTo>
                <a:cubicBezTo>
                  <a:pt x="5935" y="14858"/>
                  <a:pt x="5884" y="14850"/>
                  <a:pt x="5829" y="14883"/>
                </a:cubicBezTo>
              </a:path>
              <a:path w="224" h="224">
                <a:moveTo>
                  <a:pt x="5904" y="14784"/>
                </a:moveTo>
                <a:cubicBezTo>
                  <a:pt x="5935" y="14826"/>
                  <a:pt x="5950" y="14852"/>
                  <a:pt x="5953" y="14908"/>
                </a:cubicBezTo>
                <a:cubicBezTo>
                  <a:pt x="5953" y="14959"/>
                  <a:pt x="5954" y="14978"/>
                  <a:pt x="5978" y="15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303640" y="5214960"/>
            <a:ext cx="80640" cy="179280"/>
          </a:xfrm>
          <a:custGeom>
            <a:avLst/>
            <a:gdLst/>
            <a:ahLst/>
            <a:rect l="l" t="t" r="r" b="b"/>
            <a:pathLst>
              <a:path w="224" h="497">
                <a:moveTo>
                  <a:pt x="6424" y="14833"/>
                </a:moveTo>
                <a:cubicBezTo>
                  <a:pt x="6446" y="14811"/>
                  <a:pt x="6455" y="14806"/>
                  <a:pt x="6449" y="14784"/>
                </a:cubicBezTo>
                <a:cubicBezTo>
                  <a:pt x="6423" y="14792"/>
                  <a:pt x="6388" y="14838"/>
                  <a:pt x="6400" y="14883"/>
                </a:cubicBezTo>
                <a:cubicBezTo>
                  <a:pt x="6408" y="14899"/>
                  <a:pt x="6416" y="14916"/>
                  <a:pt x="6424" y="14932"/>
                </a:cubicBezTo>
                <a:cubicBezTo>
                  <a:pt x="6498" y="14914"/>
                  <a:pt x="6474" y="14854"/>
                  <a:pt x="6474" y="14784"/>
                </a:cubicBezTo>
                <a:cubicBezTo>
                  <a:pt x="6474" y="14693"/>
                  <a:pt x="6474" y="14602"/>
                  <a:pt x="6474" y="14511"/>
                </a:cubicBezTo>
                <a:cubicBezTo>
                  <a:pt x="6474" y="14456"/>
                  <a:pt x="6493" y="14655"/>
                  <a:pt x="6499" y="14684"/>
                </a:cubicBezTo>
                <a:cubicBezTo>
                  <a:pt x="6516" y="14772"/>
                  <a:pt x="6541" y="14888"/>
                  <a:pt x="6598" y="14957"/>
                </a:cubicBezTo>
                <a:cubicBezTo>
                  <a:pt x="6606" y="14965"/>
                  <a:pt x="6615" y="14974"/>
                  <a:pt x="6623" y="149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90840" y="5276880"/>
            <a:ext cx="54000" cy="98280"/>
          </a:xfrm>
          <a:custGeom>
            <a:avLst/>
            <a:gdLst/>
            <a:ahLst/>
            <a:rect l="l" t="t" r="r" b="b"/>
            <a:pathLst>
              <a:path w="149" h="273">
                <a:moveTo>
                  <a:pt x="6970" y="14709"/>
                </a:moveTo>
                <a:cubicBezTo>
                  <a:pt x="6970" y="14693"/>
                  <a:pt x="6970" y="14676"/>
                  <a:pt x="6970" y="14660"/>
                </a:cubicBezTo>
                <a:cubicBezTo>
                  <a:pt x="6935" y="14703"/>
                  <a:pt x="6921" y="14729"/>
                  <a:pt x="6921" y="14784"/>
                </a:cubicBezTo>
                <a:cubicBezTo>
                  <a:pt x="6921" y="14832"/>
                  <a:pt x="6979" y="14848"/>
                  <a:pt x="7020" y="14858"/>
                </a:cubicBezTo>
                <a:cubicBezTo>
                  <a:pt x="7045" y="14858"/>
                  <a:pt x="7053" y="14858"/>
                  <a:pt x="7069" y="14858"/>
                </a:cubicBezTo>
                <a:cubicBezTo>
                  <a:pt x="7069" y="14939"/>
                  <a:pt x="7058" y="14883"/>
                  <a:pt x="6995" y="14908"/>
                </a:cubicBezTo>
                <a:cubicBezTo>
                  <a:pt x="6987" y="14916"/>
                  <a:pt x="6978" y="14924"/>
                  <a:pt x="6970" y="149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678040" y="5268960"/>
            <a:ext cx="73080" cy="61920"/>
          </a:xfrm>
          <a:custGeom>
            <a:avLst/>
            <a:gdLst/>
            <a:ahLst/>
            <a:rect l="l" t="t" r="r" b="b"/>
            <a:pathLst>
              <a:path w="200" h="174">
                <a:moveTo>
                  <a:pt x="7590" y="14684"/>
                </a:moveTo>
                <a:cubicBezTo>
                  <a:pt x="7590" y="14643"/>
                  <a:pt x="7582" y="14627"/>
                  <a:pt x="7615" y="14635"/>
                </a:cubicBezTo>
                <a:cubicBezTo>
                  <a:pt x="7555" y="14635"/>
                  <a:pt x="7516" y="14645"/>
                  <a:pt x="7466" y="14660"/>
                </a:cubicBezTo>
                <a:cubicBezTo>
                  <a:pt x="7458" y="14660"/>
                  <a:pt x="7449" y="14660"/>
                  <a:pt x="7441" y="14660"/>
                </a:cubicBezTo>
              </a:path>
              <a:path w="200" h="174">
                <a:moveTo>
                  <a:pt x="7615" y="14784"/>
                </a:moveTo>
                <a:cubicBezTo>
                  <a:pt x="7623" y="14792"/>
                  <a:pt x="7632" y="14800"/>
                  <a:pt x="7640" y="14808"/>
                </a:cubicBezTo>
                <a:cubicBezTo>
                  <a:pt x="7627" y="14772"/>
                  <a:pt x="7609" y="14784"/>
                  <a:pt x="7565" y="14784"/>
                </a:cubicBezTo>
                <a:cubicBezTo>
                  <a:pt x="7557" y="14784"/>
                  <a:pt x="7549" y="14784"/>
                  <a:pt x="7541" y="147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894040" y="5180040"/>
            <a:ext cx="44280" cy="123840"/>
          </a:xfrm>
          <a:custGeom>
            <a:avLst/>
            <a:gdLst/>
            <a:ahLst/>
            <a:rect l="l" t="t" r="r" b="b"/>
            <a:pathLst>
              <a:path w="125" h="348">
                <a:moveTo>
                  <a:pt x="8037" y="14412"/>
                </a:moveTo>
                <a:cubicBezTo>
                  <a:pt x="8059" y="14390"/>
                  <a:pt x="8064" y="14381"/>
                  <a:pt x="8086" y="14387"/>
                </a:cubicBezTo>
                <a:cubicBezTo>
                  <a:pt x="8086" y="14474"/>
                  <a:pt x="8123" y="14530"/>
                  <a:pt x="8136" y="14610"/>
                </a:cubicBezTo>
                <a:cubicBezTo>
                  <a:pt x="8136" y="14678"/>
                  <a:pt x="8133" y="14697"/>
                  <a:pt x="8161" y="147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973680" y="5224320"/>
            <a:ext cx="1670040" cy="204840"/>
          </a:xfrm>
          <a:custGeom>
            <a:avLst/>
            <a:gdLst/>
            <a:ahLst/>
            <a:rect l="l" t="t" r="r" b="b"/>
            <a:pathLst>
              <a:path w="4640" h="571">
                <a:moveTo>
                  <a:pt x="15627" y="14536"/>
                </a:moveTo>
                <a:cubicBezTo>
                  <a:pt x="15627" y="14533"/>
                  <a:pt x="15711" y="14501"/>
                  <a:pt x="15652" y="14511"/>
                </a:cubicBezTo>
                <a:cubicBezTo>
                  <a:pt x="15607" y="14518"/>
                  <a:pt x="15560" y="14534"/>
                  <a:pt x="15503" y="14536"/>
                </a:cubicBezTo>
                <a:cubicBezTo>
                  <a:pt x="15345" y="14540"/>
                  <a:pt x="15186" y="14551"/>
                  <a:pt x="15032" y="14560"/>
                </a:cubicBezTo>
                <a:cubicBezTo>
                  <a:pt x="14842" y="14571"/>
                  <a:pt x="14644" y="14532"/>
                  <a:pt x="14461" y="14585"/>
                </a:cubicBezTo>
                <a:cubicBezTo>
                  <a:pt x="14367" y="14612"/>
                  <a:pt x="14280" y="14653"/>
                  <a:pt x="14188" y="14684"/>
                </a:cubicBezTo>
                <a:cubicBezTo>
                  <a:pt x="14056" y="14729"/>
                  <a:pt x="13926" y="14758"/>
                  <a:pt x="13791" y="14784"/>
                </a:cubicBezTo>
                <a:cubicBezTo>
                  <a:pt x="13692" y="14803"/>
                  <a:pt x="13593" y="14810"/>
                  <a:pt x="13494" y="14833"/>
                </a:cubicBezTo>
                <a:cubicBezTo>
                  <a:pt x="13394" y="14856"/>
                  <a:pt x="13297" y="14866"/>
                  <a:pt x="13196" y="14883"/>
                </a:cubicBezTo>
                <a:cubicBezTo>
                  <a:pt x="13088" y="14901"/>
                  <a:pt x="12985" y="14923"/>
                  <a:pt x="12874" y="14932"/>
                </a:cubicBezTo>
                <a:cubicBezTo>
                  <a:pt x="12748" y="14942"/>
                  <a:pt x="12629" y="14954"/>
                  <a:pt x="12502" y="14957"/>
                </a:cubicBezTo>
                <a:cubicBezTo>
                  <a:pt x="12380" y="14960"/>
                  <a:pt x="12273" y="14960"/>
                  <a:pt x="12154" y="14982"/>
                </a:cubicBezTo>
                <a:cubicBezTo>
                  <a:pt x="12057" y="15000"/>
                  <a:pt x="11955" y="14991"/>
                  <a:pt x="11857" y="15007"/>
                </a:cubicBezTo>
                <a:cubicBezTo>
                  <a:pt x="11762" y="15023"/>
                  <a:pt x="11682" y="15030"/>
                  <a:pt x="11584" y="15032"/>
                </a:cubicBezTo>
                <a:cubicBezTo>
                  <a:pt x="11497" y="15034"/>
                  <a:pt x="11420" y="15051"/>
                  <a:pt x="11336" y="15056"/>
                </a:cubicBezTo>
                <a:cubicBezTo>
                  <a:pt x="11232" y="15062"/>
                  <a:pt x="11127" y="15065"/>
                  <a:pt x="11038" y="15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017960" y="5545080"/>
            <a:ext cx="331920" cy="268200"/>
          </a:xfrm>
          <a:custGeom>
            <a:avLst/>
            <a:gdLst/>
            <a:ahLst/>
            <a:rect l="l" t="t" r="r" b="b"/>
            <a:pathLst>
              <a:path w="919" h="745">
                <a:moveTo>
                  <a:pt x="11261" y="15751"/>
                </a:moveTo>
                <a:cubicBezTo>
                  <a:pt x="11283" y="15713"/>
                  <a:pt x="11302" y="15689"/>
                  <a:pt x="11311" y="15652"/>
                </a:cubicBezTo>
                <a:cubicBezTo>
                  <a:pt x="11277" y="15652"/>
                  <a:pt x="11204" y="15668"/>
                  <a:pt x="11187" y="15701"/>
                </a:cubicBezTo>
                <a:cubicBezTo>
                  <a:pt x="11154" y="15767"/>
                  <a:pt x="11170" y="15839"/>
                  <a:pt x="11212" y="15900"/>
                </a:cubicBezTo>
                <a:cubicBezTo>
                  <a:pt x="11220" y="15908"/>
                  <a:pt x="11229" y="15917"/>
                  <a:pt x="11237" y="15925"/>
                </a:cubicBezTo>
                <a:cubicBezTo>
                  <a:pt x="11281" y="15902"/>
                  <a:pt x="11302" y="15833"/>
                  <a:pt x="11311" y="15776"/>
                </a:cubicBezTo>
                <a:cubicBezTo>
                  <a:pt x="11311" y="15731"/>
                  <a:pt x="11308" y="15718"/>
                  <a:pt x="11336" y="15701"/>
                </a:cubicBezTo>
                <a:cubicBezTo>
                  <a:pt x="11368" y="15758"/>
                  <a:pt x="11386" y="15777"/>
                  <a:pt x="11435" y="15825"/>
                </a:cubicBezTo>
              </a:path>
              <a:path w="919" h="745">
                <a:moveTo>
                  <a:pt x="11658" y="15701"/>
                </a:moveTo>
                <a:cubicBezTo>
                  <a:pt x="11638" y="15661"/>
                  <a:pt x="11629" y="15655"/>
                  <a:pt x="11633" y="15627"/>
                </a:cubicBezTo>
                <a:cubicBezTo>
                  <a:pt x="11602" y="15670"/>
                  <a:pt x="11587" y="15695"/>
                  <a:pt x="11584" y="15751"/>
                </a:cubicBezTo>
                <a:cubicBezTo>
                  <a:pt x="11581" y="15810"/>
                  <a:pt x="11595" y="15812"/>
                  <a:pt x="11633" y="15850"/>
                </a:cubicBezTo>
                <a:cubicBezTo>
                  <a:pt x="11648" y="15773"/>
                  <a:pt x="11658" y="15710"/>
                  <a:pt x="11658" y="15627"/>
                </a:cubicBezTo>
                <a:cubicBezTo>
                  <a:pt x="11658" y="15547"/>
                  <a:pt x="11672" y="15469"/>
                  <a:pt x="11633" y="15404"/>
                </a:cubicBezTo>
                <a:cubicBezTo>
                  <a:pt x="11642" y="15475"/>
                  <a:pt x="11659" y="15535"/>
                  <a:pt x="11683" y="15602"/>
                </a:cubicBezTo>
                <a:cubicBezTo>
                  <a:pt x="11705" y="15664"/>
                  <a:pt x="11728" y="15717"/>
                  <a:pt x="11757" y="15776"/>
                </a:cubicBezTo>
              </a:path>
              <a:path w="919" h="745">
                <a:moveTo>
                  <a:pt x="11906" y="15701"/>
                </a:moveTo>
                <a:cubicBezTo>
                  <a:pt x="11906" y="15685"/>
                  <a:pt x="11906" y="15668"/>
                  <a:pt x="11906" y="15652"/>
                </a:cubicBezTo>
                <a:cubicBezTo>
                  <a:pt x="11942" y="15723"/>
                  <a:pt x="11972" y="15796"/>
                  <a:pt x="11981" y="15875"/>
                </a:cubicBezTo>
                <a:cubicBezTo>
                  <a:pt x="11992" y="15966"/>
                  <a:pt x="11995" y="16057"/>
                  <a:pt x="12005" y="16148"/>
                </a:cubicBezTo>
              </a:path>
              <a:path w="919" h="745">
                <a:moveTo>
                  <a:pt x="11931" y="15776"/>
                </a:moveTo>
                <a:cubicBezTo>
                  <a:pt x="11931" y="15691"/>
                  <a:pt x="11922" y="15642"/>
                  <a:pt x="11981" y="15577"/>
                </a:cubicBezTo>
                <a:cubicBezTo>
                  <a:pt x="12012" y="15543"/>
                  <a:pt x="12037" y="15553"/>
                  <a:pt x="12080" y="15553"/>
                </a:cubicBezTo>
                <a:cubicBezTo>
                  <a:pt x="12080" y="15626"/>
                  <a:pt x="12111" y="15769"/>
                  <a:pt x="12055" y="15825"/>
                </a:cubicBezTo>
                <a:cubicBezTo>
                  <a:pt x="12011" y="15847"/>
                  <a:pt x="12000" y="15850"/>
                  <a:pt x="11981" y="15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473720" y="5634000"/>
            <a:ext cx="117360" cy="36720"/>
          </a:xfrm>
          <a:custGeom>
            <a:avLst/>
            <a:gdLst/>
            <a:ahLst/>
            <a:rect l="l" t="t" r="r" b="b"/>
            <a:pathLst>
              <a:path w="324" h="100">
                <a:moveTo>
                  <a:pt x="12427" y="15751"/>
                </a:moveTo>
                <a:cubicBezTo>
                  <a:pt x="12438" y="15705"/>
                  <a:pt x="12462" y="15700"/>
                  <a:pt x="12502" y="15677"/>
                </a:cubicBezTo>
                <a:cubicBezTo>
                  <a:pt x="12565" y="15641"/>
                  <a:pt x="12629" y="15652"/>
                  <a:pt x="12700" y="15652"/>
                </a:cubicBezTo>
                <a:cubicBezTo>
                  <a:pt x="12725" y="15652"/>
                  <a:pt x="12733" y="15652"/>
                  <a:pt x="12750" y="1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670280" y="5411880"/>
            <a:ext cx="347760" cy="303120"/>
          </a:xfrm>
          <a:custGeom>
            <a:avLst/>
            <a:gdLst/>
            <a:ahLst/>
            <a:rect l="l" t="t" r="r" b="b"/>
            <a:pathLst>
              <a:path w="968" h="844">
                <a:moveTo>
                  <a:pt x="12973" y="15156"/>
                </a:moveTo>
                <a:cubicBezTo>
                  <a:pt x="12973" y="15098"/>
                  <a:pt x="12973" y="15023"/>
                  <a:pt x="12973" y="15081"/>
                </a:cubicBezTo>
                <a:cubicBezTo>
                  <a:pt x="12973" y="15222"/>
                  <a:pt x="12973" y="15594"/>
                  <a:pt x="12973" y="15453"/>
                </a:cubicBezTo>
                <a:cubicBezTo>
                  <a:pt x="12973" y="15410"/>
                  <a:pt x="13005" y="15327"/>
                  <a:pt x="13072" y="15354"/>
                </a:cubicBezTo>
                <a:cubicBezTo>
                  <a:pt x="13140" y="15381"/>
                  <a:pt x="13146" y="15442"/>
                  <a:pt x="13146" y="15503"/>
                </a:cubicBezTo>
                <a:cubicBezTo>
                  <a:pt x="13146" y="15545"/>
                  <a:pt x="13112" y="15574"/>
                  <a:pt x="13072" y="15577"/>
                </a:cubicBezTo>
                <a:cubicBezTo>
                  <a:pt x="13031" y="15577"/>
                  <a:pt x="13023" y="15577"/>
                  <a:pt x="12998" y="15577"/>
                </a:cubicBezTo>
              </a:path>
              <a:path w="968" h="844">
                <a:moveTo>
                  <a:pt x="13395" y="15379"/>
                </a:moveTo>
                <a:cubicBezTo>
                  <a:pt x="13415" y="15338"/>
                  <a:pt x="13423" y="15332"/>
                  <a:pt x="13419" y="15304"/>
                </a:cubicBezTo>
                <a:cubicBezTo>
                  <a:pt x="13374" y="15350"/>
                  <a:pt x="13370" y="15363"/>
                  <a:pt x="13370" y="15429"/>
                </a:cubicBezTo>
                <a:cubicBezTo>
                  <a:pt x="13370" y="15487"/>
                  <a:pt x="13413" y="15522"/>
                  <a:pt x="13469" y="15528"/>
                </a:cubicBezTo>
                <a:cubicBezTo>
                  <a:pt x="13497" y="15528"/>
                  <a:pt x="13508" y="15526"/>
                  <a:pt x="13519" y="15503"/>
                </a:cubicBezTo>
              </a:path>
              <a:path w="968" h="844">
                <a:moveTo>
                  <a:pt x="13667" y="15453"/>
                </a:moveTo>
                <a:cubicBezTo>
                  <a:pt x="13667" y="15412"/>
                  <a:pt x="13659" y="15396"/>
                  <a:pt x="13692" y="15404"/>
                </a:cubicBezTo>
                <a:cubicBezTo>
                  <a:pt x="13717" y="15421"/>
                  <a:pt x="13736" y="15526"/>
                  <a:pt x="13742" y="15577"/>
                </a:cubicBezTo>
                <a:cubicBezTo>
                  <a:pt x="13752" y="15663"/>
                  <a:pt x="13753" y="15744"/>
                  <a:pt x="13767" y="15825"/>
                </a:cubicBezTo>
                <a:cubicBezTo>
                  <a:pt x="13767" y="15842"/>
                  <a:pt x="13767" y="15858"/>
                  <a:pt x="13767" y="15875"/>
                </a:cubicBezTo>
              </a:path>
              <a:path w="968" h="844">
                <a:moveTo>
                  <a:pt x="13667" y="15553"/>
                </a:moveTo>
                <a:cubicBezTo>
                  <a:pt x="13676" y="15401"/>
                  <a:pt x="13663" y="15393"/>
                  <a:pt x="13791" y="15329"/>
                </a:cubicBezTo>
                <a:cubicBezTo>
                  <a:pt x="13835" y="15307"/>
                  <a:pt x="13915" y="15283"/>
                  <a:pt x="13940" y="15354"/>
                </a:cubicBezTo>
                <a:cubicBezTo>
                  <a:pt x="13963" y="15419"/>
                  <a:pt x="13923" y="15479"/>
                  <a:pt x="13866" y="15503"/>
                </a:cubicBezTo>
                <a:cubicBezTo>
                  <a:pt x="13833" y="15503"/>
                  <a:pt x="13816" y="15503"/>
                  <a:pt x="13791" y="155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160960" y="5518080"/>
            <a:ext cx="63360" cy="36720"/>
          </a:xfrm>
          <a:custGeom>
            <a:avLst/>
            <a:gdLst/>
            <a:ahLst/>
            <a:rect l="l" t="t" r="r" b="b"/>
            <a:pathLst>
              <a:path w="175" h="101">
                <a:moveTo>
                  <a:pt x="14436" y="15329"/>
                </a:moveTo>
                <a:cubicBezTo>
                  <a:pt x="14461" y="15329"/>
                  <a:pt x="14469" y="15329"/>
                  <a:pt x="14486" y="15329"/>
                </a:cubicBezTo>
                <a:cubicBezTo>
                  <a:pt x="14436" y="15329"/>
                  <a:pt x="14387" y="15329"/>
                  <a:pt x="14337" y="15329"/>
                </a:cubicBezTo>
              </a:path>
              <a:path w="175" h="101">
                <a:moveTo>
                  <a:pt x="14486" y="15429"/>
                </a:moveTo>
                <a:cubicBezTo>
                  <a:pt x="14553" y="15429"/>
                  <a:pt x="14469" y="15429"/>
                  <a:pt x="14461" y="154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527800" y="5392800"/>
            <a:ext cx="108000" cy="189000"/>
          </a:xfrm>
          <a:custGeom>
            <a:avLst/>
            <a:gdLst/>
            <a:ahLst/>
            <a:rect l="l" t="t" r="r" b="b"/>
            <a:pathLst>
              <a:path w="299" h="522">
                <a:moveTo>
                  <a:pt x="15404" y="15329"/>
                </a:moveTo>
                <a:cubicBezTo>
                  <a:pt x="15439" y="15302"/>
                  <a:pt x="15442" y="15312"/>
                  <a:pt x="15453" y="15280"/>
                </a:cubicBezTo>
                <a:cubicBezTo>
                  <a:pt x="15425" y="15287"/>
                  <a:pt x="15364" y="15319"/>
                  <a:pt x="15354" y="15354"/>
                </a:cubicBezTo>
                <a:cubicBezTo>
                  <a:pt x="15335" y="15422"/>
                  <a:pt x="15360" y="15459"/>
                  <a:pt x="15404" y="15503"/>
                </a:cubicBezTo>
                <a:cubicBezTo>
                  <a:pt x="15475" y="15452"/>
                  <a:pt x="15516" y="15374"/>
                  <a:pt x="15528" y="15280"/>
                </a:cubicBezTo>
                <a:cubicBezTo>
                  <a:pt x="15539" y="15192"/>
                  <a:pt x="15528" y="15096"/>
                  <a:pt x="15528" y="15007"/>
                </a:cubicBezTo>
                <a:cubicBezTo>
                  <a:pt x="15528" y="14968"/>
                  <a:pt x="15534" y="15159"/>
                  <a:pt x="15553" y="15205"/>
                </a:cubicBezTo>
                <a:cubicBezTo>
                  <a:pt x="15587" y="15289"/>
                  <a:pt x="15618" y="15370"/>
                  <a:pt x="15652" y="154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919680" y="5776920"/>
            <a:ext cx="1331640" cy="376200"/>
          </a:xfrm>
          <a:custGeom>
            <a:avLst/>
            <a:gdLst/>
            <a:ahLst/>
            <a:rect l="l" t="t" r="r" b="b"/>
            <a:pathLst>
              <a:path w="3697" h="1042">
                <a:moveTo>
                  <a:pt x="10964" y="16619"/>
                </a:moveTo>
                <a:cubicBezTo>
                  <a:pt x="10964" y="16594"/>
                  <a:pt x="10964" y="16586"/>
                  <a:pt x="10964" y="16570"/>
                </a:cubicBezTo>
                <a:cubicBezTo>
                  <a:pt x="10964" y="16665"/>
                  <a:pt x="10978" y="16750"/>
                  <a:pt x="10988" y="16842"/>
                </a:cubicBezTo>
                <a:cubicBezTo>
                  <a:pt x="10997" y="16923"/>
                  <a:pt x="10988" y="17008"/>
                  <a:pt x="10988" y="17090"/>
                </a:cubicBezTo>
              </a:path>
              <a:path w="3697" h="1042">
                <a:moveTo>
                  <a:pt x="10889" y="16644"/>
                </a:moveTo>
                <a:cubicBezTo>
                  <a:pt x="10895" y="16567"/>
                  <a:pt x="10890" y="16474"/>
                  <a:pt x="10964" y="16421"/>
                </a:cubicBezTo>
                <a:cubicBezTo>
                  <a:pt x="11021" y="16380"/>
                  <a:pt x="11073" y="16384"/>
                  <a:pt x="11112" y="16446"/>
                </a:cubicBezTo>
                <a:cubicBezTo>
                  <a:pt x="11137" y="16486"/>
                  <a:pt x="11112" y="16605"/>
                  <a:pt x="11088" y="16644"/>
                </a:cubicBezTo>
                <a:cubicBezTo>
                  <a:pt x="11065" y="16681"/>
                  <a:pt x="11025" y="16687"/>
                  <a:pt x="10988" y="16694"/>
                </a:cubicBezTo>
              </a:path>
              <a:path w="3697" h="1042">
                <a:moveTo>
                  <a:pt x="11559" y="16297"/>
                </a:moveTo>
                <a:cubicBezTo>
                  <a:pt x="11587" y="16232"/>
                  <a:pt x="11589" y="16201"/>
                  <a:pt x="11559" y="16272"/>
                </a:cubicBezTo>
                <a:cubicBezTo>
                  <a:pt x="11524" y="16355"/>
                  <a:pt x="11520" y="16480"/>
                  <a:pt x="11534" y="16570"/>
                </a:cubicBezTo>
                <a:cubicBezTo>
                  <a:pt x="11546" y="16643"/>
                  <a:pt x="11573" y="16737"/>
                  <a:pt x="11633" y="16768"/>
                </a:cubicBezTo>
              </a:path>
              <a:path w="3697" h="1042">
                <a:moveTo>
                  <a:pt x="12055" y="16669"/>
                </a:moveTo>
                <a:cubicBezTo>
                  <a:pt x="12055" y="16652"/>
                  <a:pt x="12055" y="16636"/>
                  <a:pt x="12055" y="16619"/>
                </a:cubicBezTo>
                <a:cubicBezTo>
                  <a:pt x="12044" y="16662"/>
                  <a:pt x="12013" y="16696"/>
                  <a:pt x="12005" y="16743"/>
                </a:cubicBezTo>
                <a:cubicBezTo>
                  <a:pt x="12000" y="16772"/>
                  <a:pt x="12005" y="16812"/>
                  <a:pt x="12005" y="16842"/>
                </a:cubicBezTo>
                <a:cubicBezTo>
                  <a:pt x="12040" y="16796"/>
                  <a:pt x="12032" y="16743"/>
                  <a:pt x="12055" y="16694"/>
                </a:cubicBezTo>
                <a:cubicBezTo>
                  <a:pt x="12075" y="16651"/>
                  <a:pt x="12132" y="16663"/>
                  <a:pt x="12154" y="16694"/>
                </a:cubicBezTo>
                <a:cubicBezTo>
                  <a:pt x="12182" y="16734"/>
                  <a:pt x="12195" y="16759"/>
                  <a:pt x="12229" y="16793"/>
                </a:cubicBezTo>
              </a:path>
              <a:path w="3697" h="1042">
                <a:moveTo>
                  <a:pt x="12378" y="16594"/>
                </a:moveTo>
                <a:cubicBezTo>
                  <a:pt x="12354" y="16548"/>
                  <a:pt x="12334" y="16657"/>
                  <a:pt x="12328" y="16694"/>
                </a:cubicBezTo>
                <a:cubicBezTo>
                  <a:pt x="12328" y="16710"/>
                  <a:pt x="12328" y="16727"/>
                  <a:pt x="12328" y="16743"/>
                </a:cubicBezTo>
                <a:cubicBezTo>
                  <a:pt x="12415" y="16808"/>
                  <a:pt x="12400" y="16684"/>
                  <a:pt x="12402" y="16619"/>
                </a:cubicBezTo>
                <a:cubicBezTo>
                  <a:pt x="12405" y="16537"/>
                  <a:pt x="12402" y="16453"/>
                  <a:pt x="12402" y="16371"/>
                </a:cubicBezTo>
                <a:cubicBezTo>
                  <a:pt x="12402" y="16309"/>
                  <a:pt x="12424" y="16461"/>
                  <a:pt x="12427" y="16470"/>
                </a:cubicBezTo>
                <a:cubicBezTo>
                  <a:pt x="12449" y="16540"/>
                  <a:pt x="12499" y="16691"/>
                  <a:pt x="12551" y="16743"/>
                </a:cubicBezTo>
                <a:cubicBezTo>
                  <a:pt x="12568" y="16751"/>
                  <a:pt x="12584" y="16760"/>
                  <a:pt x="12601" y="16768"/>
                </a:cubicBezTo>
              </a:path>
              <a:path w="3697" h="1042">
                <a:moveTo>
                  <a:pt x="12948" y="16594"/>
                </a:moveTo>
                <a:cubicBezTo>
                  <a:pt x="12925" y="16572"/>
                  <a:pt x="12917" y="16567"/>
                  <a:pt x="12923" y="16545"/>
                </a:cubicBezTo>
                <a:cubicBezTo>
                  <a:pt x="12968" y="16534"/>
                  <a:pt x="12993" y="16520"/>
                  <a:pt x="13047" y="16520"/>
                </a:cubicBezTo>
                <a:cubicBezTo>
                  <a:pt x="13089" y="16520"/>
                  <a:pt x="13097" y="16520"/>
                  <a:pt x="13122" y="16520"/>
                </a:cubicBezTo>
              </a:path>
              <a:path w="3697" h="1042">
                <a:moveTo>
                  <a:pt x="13419" y="16272"/>
                </a:moveTo>
                <a:cubicBezTo>
                  <a:pt x="13419" y="16194"/>
                  <a:pt x="13404" y="16176"/>
                  <a:pt x="13444" y="16148"/>
                </a:cubicBezTo>
                <a:cubicBezTo>
                  <a:pt x="13444" y="16084"/>
                  <a:pt x="13422" y="16282"/>
                  <a:pt x="13419" y="16297"/>
                </a:cubicBezTo>
                <a:cubicBezTo>
                  <a:pt x="13400" y="16382"/>
                  <a:pt x="13395" y="16457"/>
                  <a:pt x="13395" y="16545"/>
                </a:cubicBezTo>
                <a:cubicBezTo>
                  <a:pt x="13426" y="16514"/>
                  <a:pt x="13450" y="16473"/>
                  <a:pt x="13494" y="16470"/>
                </a:cubicBezTo>
                <a:cubicBezTo>
                  <a:pt x="13563" y="16465"/>
                  <a:pt x="13568" y="16487"/>
                  <a:pt x="13568" y="16545"/>
                </a:cubicBezTo>
                <a:cubicBezTo>
                  <a:pt x="13568" y="16586"/>
                  <a:pt x="13533" y="16616"/>
                  <a:pt x="13494" y="16619"/>
                </a:cubicBezTo>
                <a:cubicBezTo>
                  <a:pt x="13477" y="16619"/>
                  <a:pt x="13461" y="16619"/>
                  <a:pt x="13444" y="16619"/>
                </a:cubicBezTo>
              </a:path>
              <a:path w="3697" h="1042">
                <a:moveTo>
                  <a:pt x="13618" y="16520"/>
                </a:moveTo>
                <a:cubicBezTo>
                  <a:pt x="13676" y="16462"/>
                  <a:pt x="13684" y="16454"/>
                  <a:pt x="13717" y="16421"/>
                </a:cubicBezTo>
                <a:cubicBezTo>
                  <a:pt x="13683" y="16466"/>
                  <a:pt x="13679" y="16497"/>
                  <a:pt x="13717" y="16545"/>
                </a:cubicBezTo>
                <a:cubicBezTo>
                  <a:pt x="13746" y="16582"/>
                  <a:pt x="13774" y="16570"/>
                  <a:pt x="13816" y="16570"/>
                </a:cubicBezTo>
              </a:path>
              <a:path w="3697" h="1042">
                <a:moveTo>
                  <a:pt x="13742" y="16148"/>
                </a:moveTo>
                <a:cubicBezTo>
                  <a:pt x="13841" y="16065"/>
                  <a:pt x="13904" y="16006"/>
                  <a:pt x="14015" y="16123"/>
                </a:cubicBezTo>
                <a:cubicBezTo>
                  <a:pt x="14109" y="16222"/>
                  <a:pt x="14098" y="16352"/>
                  <a:pt x="14064" y="16470"/>
                </a:cubicBezTo>
                <a:cubicBezTo>
                  <a:pt x="14036" y="16553"/>
                  <a:pt x="14022" y="16584"/>
                  <a:pt x="13965" y="16619"/>
                </a:cubicBezTo>
              </a:path>
              <a:path w="3697" h="1042">
                <a:moveTo>
                  <a:pt x="14560" y="16272"/>
                </a:moveTo>
                <a:cubicBezTo>
                  <a:pt x="14534" y="16272"/>
                  <a:pt x="14473" y="16280"/>
                  <a:pt x="14461" y="16297"/>
                </a:cubicBezTo>
                <a:cubicBezTo>
                  <a:pt x="14461" y="16305"/>
                  <a:pt x="14461" y="16313"/>
                  <a:pt x="14461" y="16321"/>
                </a:cubicBezTo>
              </a:path>
              <a:path w="3697" h="1042">
                <a:moveTo>
                  <a:pt x="14560" y="16396"/>
                </a:moveTo>
                <a:cubicBezTo>
                  <a:pt x="14627" y="16396"/>
                  <a:pt x="14522" y="16396"/>
                  <a:pt x="14511" y="163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62720" y="5705640"/>
            <a:ext cx="134640" cy="215640"/>
          </a:xfrm>
          <a:custGeom>
            <a:avLst/>
            <a:gdLst/>
            <a:ahLst/>
            <a:rect l="l" t="t" r="r" b="b"/>
            <a:pathLst>
              <a:path w="373" h="597">
                <a:moveTo>
                  <a:pt x="15503" y="16247"/>
                </a:moveTo>
                <a:cubicBezTo>
                  <a:pt x="15528" y="16247"/>
                  <a:pt x="15536" y="16247"/>
                  <a:pt x="15553" y="16247"/>
                </a:cubicBezTo>
                <a:cubicBezTo>
                  <a:pt x="15553" y="16200"/>
                  <a:pt x="15535" y="16161"/>
                  <a:pt x="15478" y="16222"/>
                </a:cubicBezTo>
                <a:cubicBezTo>
                  <a:pt x="15454" y="16248"/>
                  <a:pt x="15431" y="16367"/>
                  <a:pt x="15453" y="16396"/>
                </a:cubicBezTo>
                <a:cubicBezTo>
                  <a:pt x="15470" y="16404"/>
                  <a:pt x="15486" y="16413"/>
                  <a:pt x="15503" y="16421"/>
                </a:cubicBezTo>
                <a:cubicBezTo>
                  <a:pt x="15593" y="16330"/>
                  <a:pt x="15597" y="16275"/>
                  <a:pt x="15627" y="16148"/>
                </a:cubicBezTo>
                <a:cubicBezTo>
                  <a:pt x="15652" y="16045"/>
                  <a:pt x="15652" y="15955"/>
                  <a:pt x="15652" y="15850"/>
                </a:cubicBezTo>
                <a:cubicBezTo>
                  <a:pt x="15652" y="15959"/>
                  <a:pt x="15661" y="16069"/>
                  <a:pt x="15701" y="16173"/>
                </a:cubicBezTo>
                <a:cubicBezTo>
                  <a:pt x="15737" y="16266"/>
                  <a:pt x="15790" y="16352"/>
                  <a:pt x="15825" y="16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830840" y="6081840"/>
            <a:ext cx="1241280" cy="490320"/>
          </a:xfrm>
          <a:custGeom>
            <a:avLst/>
            <a:gdLst/>
            <a:ahLst/>
            <a:rect l="l" t="t" r="r" b="b"/>
            <a:pathLst>
              <a:path w="3449" h="1365">
                <a:moveTo>
                  <a:pt x="13519" y="17884"/>
                </a:moveTo>
                <a:cubicBezTo>
                  <a:pt x="13519" y="17779"/>
                  <a:pt x="13519" y="17820"/>
                  <a:pt x="13519" y="17909"/>
                </a:cubicBezTo>
                <a:cubicBezTo>
                  <a:pt x="13519" y="18014"/>
                  <a:pt x="13499" y="18105"/>
                  <a:pt x="13494" y="18207"/>
                </a:cubicBezTo>
                <a:cubicBezTo>
                  <a:pt x="13494" y="18223"/>
                  <a:pt x="13494" y="18240"/>
                  <a:pt x="13494" y="18256"/>
                </a:cubicBezTo>
              </a:path>
              <a:path w="3449" h="1365">
                <a:moveTo>
                  <a:pt x="13419" y="17909"/>
                </a:moveTo>
                <a:cubicBezTo>
                  <a:pt x="13429" y="17780"/>
                  <a:pt x="13430" y="17778"/>
                  <a:pt x="13543" y="17735"/>
                </a:cubicBezTo>
                <a:cubicBezTo>
                  <a:pt x="13623" y="17705"/>
                  <a:pt x="13659" y="17690"/>
                  <a:pt x="13667" y="17785"/>
                </a:cubicBezTo>
                <a:cubicBezTo>
                  <a:pt x="13673" y="17854"/>
                  <a:pt x="13653" y="17894"/>
                  <a:pt x="13593" y="17934"/>
                </a:cubicBezTo>
                <a:cubicBezTo>
                  <a:pt x="13576" y="17942"/>
                  <a:pt x="13560" y="17951"/>
                  <a:pt x="13543" y="17959"/>
                </a:cubicBezTo>
              </a:path>
              <a:path w="3449" h="1365">
                <a:moveTo>
                  <a:pt x="14436" y="17686"/>
                </a:moveTo>
                <a:cubicBezTo>
                  <a:pt x="14444" y="17686"/>
                  <a:pt x="14453" y="17686"/>
                  <a:pt x="14461" y="17686"/>
                </a:cubicBezTo>
                <a:cubicBezTo>
                  <a:pt x="14403" y="17686"/>
                  <a:pt x="14346" y="17686"/>
                  <a:pt x="14288" y="17686"/>
                </a:cubicBezTo>
              </a:path>
              <a:path w="3449" h="1365">
                <a:moveTo>
                  <a:pt x="14412" y="17760"/>
                </a:moveTo>
                <a:cubicBezTo>
                  <a:pt x="14434" y="17783"/>
                  <a:pt x="14439" y="17791"/>
                  <a:pt x="14461" y="17785"/>
                </a:cubicBezTo>
                <a:cubicBezTo>
                  <a:pt x="14449" y="17820"/>
                  <a:pt x="14454" y="17810"/>
                  <a:pt x="14412" y="17810"/>
                </a:cubicBezTo>
              </a:path>
              <a:path w="3449" h="1365">
                <a:moveTo>
                  <a:pt x="15751" y="17239"/>
                </a:moveTo>
                <a:cubicBezTo>
                  <a:pt x="15757" y="17221"/>
                  <a:pt x="15806" y="17166"/>
                  <a:pt x="15751" y="17214"/>
                </a:cubicBezTo>
                <a:cubicBezTo>
                  <a:pt x="15715" y="17245"/>
                  <a:pt x="15666" y="17314"/>
                  <a:pt x="15677" y="17363"/>
                </a:cubicBezTo>
                <a:cubicBezTo>
                  <a:pt x="15685" y="17380"/>
                  <a:pt x="15693" y="17396"/>
                  <a:pt x="15701" y="17413"/>
                </a:cubicBezTo>
                <a:cubicBezTo>
                  <a:pt x="15772" y="17395"/>
                  <a:pt x="15805" y="17336"/>
                  <a:pt x="15825" y="17264"/>
                </a:cubicBezTo>
                <a:cubicBezTo>
                  <a:pt x="15857" y="17148"/>
                  <a:pt x="15850" y="17035"/>
                  <a:pt x="15850" y="16917"/>
                </a:cubicBezTo>
                <a:cubicBezTo>
                  <a:pt x="15850" y="16843"/>
                  <a:pt x="15850" y="17041"/>
                  <a:pt x="15850" y="17041"/>
                </a:cubicBezTo>
                <a:cubicBezTo>
                  <a:pt x="15871" y="17173"/>
                  <a:pt x="15927" y="17290"/>
                  <a:pt x="15974" y="17413"/>
                </a:cubicBezTo>
              </a:path>
              <a:path w="3449" h="1365">
                <a:moveTo>
                  <a:pt x="16694" y="17462"/>
                </a:moveTo>
                <a:cubicBezTo>
                  <a:pt x="16716" y="17440"/>
                  <a:pt x="16721" y="17432"/>
                  <a:pt x="16743" y="17438"/>
                </a:cubicBezTo>
                <a:cubicBezTo>
                  <a:pt x="16403" y="17438"/>
                  <a:pt x="16064" y="17437"/>
                  <a:pt x="15726" y="17462"/>
                </a:cubicBezTo>
                <a:cubicBezTo>
                  <a:pt x="15592" y="17472"/>
                  <a:pt x="15481" y="17494"/>
                  <a:pt x="15354" y="17537"/>
                </a:cubicBezTo>
                <a:cubicBezTo>
                  <a:pt x="15270" y="17565"/>
                  <a:pt x="15192" y="17646"/>
                  <a:pt x="15106" y="17661"/>
                </a:cubicBezTo>
                <a:cubicBezTo>
                  <a:pt x="15045" y="17672"/>
                  <a:pt x="15012" y="17671"/>
                  <a:pt x="14982" y="17686"/>
                </a:cubicBezTo>
              </a:path>
              <a:path w="3449" h="1365">
                <a:moveTo>
                  <a:pt x="15131" y="18008"/>
                </a:moveTo>
                <a:cubicBezTo>
                  <a:pt x="15139" y="17992"/>
                  <a:pt x="15148" y="17975"/>
                  <a:pt x="15156" y="17959"/>
                </a:cubicBezTo>
                <a:cubicBezTo>
                  <a:pt x="15121" y="18002"/>
                  <a:pt x="15106" y="18027"/>
                  <a:pt x="15106" y="18083"/>
                </a:cubicBezTo>
                <a:cubicBezTo>
                  <a:pt x="15106" y="18091"/>
                  <a:pt x="15106" y="18099"/>
                  <a:pt x="15106" y="18107"/>
                </a:cubicBezTo>
                <a:cubicBezTo>
                  <a:pt x="15159" y="18107"/>
                  <a:pt x="15167" y="18096"/>
                  <a:pt x="15205" y="18058"/>
                </a:cubicBezTo>
                <a:cubicBezTo>
                  <a:pt x="15241" y="18022"/>
                  <a:pt x="15281" y="18031"/>
                  <a:pt x="15304" y="18083"/>
                </a:cubicBezTo>
                <a:cubicBezTo>
                  <a:pt x="15304" y="18107"/>
                  <a:pt x="15304" y="18115"/>
                  <a:pt x="15329" y="18107"/>
                </a:cubicBezTo>
              </a:path>
              <a:path w="3449" h="1365">
                <a:moveTo>
                  <a:pt x="15404" y="18008"/>
                </a:moveTo>
                <a:cubicBezTo>
                  <a:pt x="15412" y="18000"/>
                  <a:pt x="15421" y="17991"/>
                  <a:pt x="15429" y="17983"/>
                </a:cubicBezTo>
                <a:cubicBezTo>
                  <a:pt x="15429" y="18041"/>
                  <a:pt x="15420" y="18086"/>
                  <a:pt x="15453" y="18132"/>
                </a:cubicBezTo>
                <a:cubicBezTo>
                  <a:pt x="15503" y="18108"/>
                  <a:pt x="15543" y="18024"/>
                  <a:pt x="15553" y="17959"/>
                </a:cubicBezTo>
                <a:cubicBezTo>
                  <a:pt x="15565" y="17881"/>
                  <a:pt x="15539" y="17826"/>
                  <a:pt x="15577" y="17760"/>
                </a:cubicBezTo>
                <a:cubicBezTo>
                  <a:pt x="15577" y="17825"/>
                  <a:pt x="15587" y="17897"/>
                  <a:pt x="15602" y="17959"/>
                </a:cubicBezTo>
                <a:cubicBezTo>
                  <a:pt x="15617" y="18024"/>
                  <a:pt x="15637" y="18091"/>
                  <a:pt x="15701" y="18107"/>
                </a:cubicBezTo>
              </a:path>
              <a:path w="3449" h="1365">
                <a:moveTo>
                  <a:pt x="15949" y="18033"/>
                </a:moveTo>
                <a:cubicBezTo>
                  <a:pt x="15949" y="17988"/>
                  <a:pt x="15947" y="17963"/>
                  <a:pt x="15999" y="17959"/>
                </a:cubicBezTo>
                <a:cubicBezTo>
                  <a:pt x="16040" y="17956"/>
                  <a:pt x="16082" y="17959"/>
                  <a:pt x="16123" y="17959"/>
                </a:cubicBezTo>
              </a:path>
              <a:path w="3449" h="1365">
                <a:moveTo>
                  <a:pt x="16371" y="17636"/>
                </a:moveTo>
                <a:cubicBezTo>
                  <a:pt x="16371" y="17578"/>
                  <a:pt x="16355" y="17554"/>
                  <a:pt x="16396" y="17562"/>
                </a:cubicBezTo>
                <a:cubicBezTo>
                  <a:pt x="16396" y="17645"/>
                  <a:pt x="16358" y="17705"/>
                  <a:pt x="16346" y="17785"/>
                </a:cubicBezTo>
                <a:cubicBezTo>
                  <a:pt x="16335" y="17859"/>
                  <a:pt x="16321" y="17933"/>
                  <a:pt x="16321" y="18008"/>
                </a:cubicBezTo>
                <a:cubicBezTo>
                  <a:pt x="16348" y="17988"/>
                  <a:pt x="16389" y="17948"/>
                  <a:pt x="16421" y="17934"/>
                </a:cubicBezTo>
                <a:cubicBezTo>
                  <a:pt x="16429" y="17934"/>
                  <a:pt x="16438" y="17934"/>
                  <a:pt x="16446" y="17934"/>
                </a:cubicBezTo>
                <a:cubicBezTo>
                  <a:pt x="16463" y="17957"/>
                  <a:pt x="16488" y="18000"/>
                  <a:pt x="16470" y="18033"/>
                </a:cubicBezTo>
                <a:cubicBezTo>
                  <a:pt x="16450" y="18071"/>
                  <a:pt x="16406" y="18058"/>
                  <a:pt x="16371" y="18058"/>
                </a:cubicBezTo>
              </a:path>
              <a:path w="3449" h="1365">
                <a:moveTo>
                  <a:pt x="16619" y="17909"/>
                </a:moveTo>
                <a:cubicBezTo>
                  <a:pt x="16636" y="17901"/>
                  <a:pt x="16652" y="17892"/>
                  <a:pt x="16669" y="17884"/>
                </a:cubicBezTo>
                <a:cubicBezTo>
                  <a:pt x="16627" y="17894"/>
                  <a:pt x="16574" y="17925"/>
                  <a:pt x="16594" y="17983"/>
                </a:cubicBezTo>
                <a:cubicBezTo>
                  <a:pt x="16611" y="18034"/>
                  <a:pt x="16697" y="18066"/>
                  <a:pt x="16743" y="18058"/>
                </a:cubicBezTo>
                <a:cubicBezTo>
                  <a:pt x="16810" y="18036"/>
                  <a:pt x="16828" y="18031"/>
                  <a:pt x="16867" y="180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126120" y="3741840"/>
            <a:ext cx="1125720" cy="822240"/>
          </a:xfrm>
          <a:custGeom>
            <a:avLst/>
            <a:gdLst/>
            <a:ahLst/>
            <a:rect l="l" t="t" r="r" b="b"/>
            <a:pathLst>
              <a:path w="3126" h="2283">
                <a:moveTo>
                  <a:pt x="17314" y="10691"/>
                </a:moveTo>
                <a:cubicBezTo>
                  <a:pt x="17342" y="10662"/>
                  <a:pt x="17354" y="10652"/>
                  <a:pt x="17363" y="10616"/>
                </a:cubicBezTo>
                <a:cubicBezTo>
                  <a:pt x="17329" y="10591"/>
                  <a:pt x="17286" y="10579"/>
                  <a:pt x="17239" y="10592"/>
                </a:cubicBezTo>
                <a:cubicBezTo>
                  <a:pt x="17172" y="10611"/>
                  <a:pt x="17144" y="10680"/>
                  <a:pt x="17140" y="10740"/>
                </a:cubicBezTo>
                <a:cubicBezTo>
                  <a:pt x="17136" y="10812"/>
                  <a:pt x="17190" y="10840"/>
                  <a:pt x="17239" y="10889"/>
                </a:cubicBezTo>
                <a:cubicBezTo>
                  <a:pt x="17262" y="10912"/>
                  <a:pt x="17341" y="10965"/>
                  <a:pt x="17314" y="11013"/>
                </a:cubicBezTo>
                <a:cubicBezTo>
                  <a:pt x="17284" y="11066"/>
                  <a:pt x="17278" y="11063"/>
                  <a:pt x="17214" y="11063"/>
                </a:cubicBezTo>
                <a:cubicBezTo>
                  <a:pt x="17189" y="11063"/>
                  <a:pt x="17165" y="11063"/>
                  <a:pt x="17140" y="11063"/>
                </a:cubicBezTo>
              </a:path>
              <a:path w="3126" h="2283">
                <a:moveTo>
                  <a:pt x="17413" y="10964"/>
                </a:moveTo>
                <a:cubicBezTo>
                  <a:pt x="17462" y="10942"/>
                  <a:pt x="17464" y="10939"/>
                  <a:pt x="17512" y="10939"/>
                </a:cubicBezTo>
                <a:cubicBezTo>
                  <a:pt x="17523" y="10981"/>
                  <a:pt x="17530" y="10989"/>
                  <a:pt x="17537" y="11038"/>
                </a:cubicBezTo>
              </a:path>
              <a:path w="3126" h="2283">
                <a:moveTo>
                  <a:pt x="17438" y="10765"/>
                </a:moveTo>
                <a:cubicBezTo>
                  <a:pt x="17477" y="10677"/>
                  <a:pt x="17455" y="10691"/>
                  <a:pt x="17537" y="10691"/>
                </a:cubicBezTo>
              </a:path>
              <a:path w="3126" h="2283">
                <a:moveTo>
                  <a:pt x="17611" y="10889"/>
                </a:moveTo>
                <a:cubicBezTo>
                  <a:pt x="17624" y="10942"/>
                  <a:pt x="17636" y="10974"/>
                  <a:pt x="17636" y="11038"/>
                </a:cubicBezTo>
                <a:cubicBezTo>
                  <a:pt x="17636" y="11088"/>
                  <a:pt x="17638" y="10993"/>
                  <a:pt x="17661" y="10964"/>
                </a:cubicBezTo>
                <a:cubicBezTo>
                  <a:pt x="17703" y="10913"/>
                  <a:pt x="17725" y="10953"/>
                  <a:pt x="17760" y="10988"/>
                </a:cubicBezTo>
                <a:cubicBezTo>
                  <a:pt x="17797" y="11024"/>
                  <a:pt x="17770" y="11025"/>
                  <a:pt x="17810" y="11038"/>
                </a:cubicBezTo>
                <a:cubicBezTo>
                  <a:pt x="17819" y="11002"/>
                  <a:pt x="17836" y="10948"/>
                  <a:pt x="17859" y="10914"/>
                </a:cubicBezTo>
                <a:cubicBezTo>
                  <a:pt x="17867" y="10906"/>
                  <a:pt x="17876" y="10897"/>
                  <a:pt x="17884" y="10889"/>
                </a:cubicBezTo>
                <a:cubicBezTo>
                  <a:pt x="17929" y="10900"/>
                  <a:pt x="17949" y="10930"/>
                  <a:pt x="17983" y="10964"/>
                </a:cubicBezTo>
                <a:cubicBezTo>
                  <a:pt x="18006" y="10986"/>
                  <a:pt x="18014" y="10991"/>
                  <a:pt x="18008" y="11013"/>
                </a:cubicBezTo>
              </a:path>
              <a:path w="3126" h="2283">
                <a:moveTo>
                  <a:pt x="18058" y="10914"/>
                </a:moveTo>
                <a:cubicBezTo>
                  <a:pt x="18078" y="10874"/>
                  <a:pt x="18076" y="10857"/>
                  <a:pt x="18107" y="10864"/>
                </a:cubicBezTo>
                <a:cubicBezTo>
                  <a:pt x="18120" y="10918"/>
                  <a:pt x="18152" y="10926"/>
                  <a:pt x="18157" y="10988"/>
                </a:cubicBezTo>
                <a:cubicBezTo>
                  <a:pt x="18157" y="10996"/>
                  <a:pt x="18157" y="11005"/>
                  <a:pt x="18157" y="11013"/>
                </a:cubicBezTo>
              </a:path>
              <a:path w="3126" h="2283">
                <a:moveTo>
                  <a:pt x="18132" y="10840"/>
                </a:moveTo>
                <a:cubicBezTo>
                  <a:pt x="18132" y="10747"/>
                  <a:pt x="18115" y="10746"/>
                  <a:pt x="18157" y="10691"/>
                </a:cubicBezTo>
              </a:path>
              <a:path w="3126" h="2283">
                <a:moveTo>
                  <a:pt x="18256" y="10542"/>
                </a:moveTo>
                <a:cubicBezTo>
                  <a:pt x="18264" y="10534"/>
                  <a:pt x="18273" y="10525"/>
                  <a:pt x="18281" y="10517"/>
                </a:cubicBezTo>
                <a:cubicBezTo>
                  <a:pt x="18281" y="10589"/>
                  <a:pt x="18291" y="10671"/>
                  <a:pt x="18306" y="10740"/>
                </a:cubicBezTo>
                <a:cubicBezTo>
                  <a:pt x="18323" y="10817"/>
                  <a:pt x="18337" y="10887"/>
                  <a:pt x="18355" y="10964"/>
                </a:cubicBezTo>
              </a:path>
              <a:path w="3126" h="2283">
                <a:moveTo>
                  <a:pt x="18579" y="10765"/>
                </a:moveTo>
                <a:cubicBezTo>
                  <a:pt x="18579" y="10740"/>
                  <a:pt x="18579" y="10732"/>
                  <a:pt x="18579" y="10716"/>
                </a:cubicBezTo>
                <a:cubicBezTo>
                  <a:pt x="18528" y="10728"/>
                  <a:pt x="18508" y="10758"/>
                  <a:pt x="18504" y="10815"/>
                </a:cubicBezTo>
                <a:cubicBezTo>
                  <a:pt x="18502" y="10847"/>
                  <a:pt x="18504" y="10881"/>
                  <a:pt x="18504" y="10914"/>
                </a:cubicBezTo>
                <a:cubicBezTo>
                  <a:pt x="18579" y="10914"/>
                  <a:pt x="18653" y="10914"/>
                  <a:pt x="18728" y="10914"/>
                </a:cubicBezTo>
              </a:path>
              <a:path w="3126" h="2283">
                <a:moveTo>
                  <a:pt x="18802" y="10939"/>
                </a:moveTo>
                <a:cubicBezTo>
                  <a:pt x="18802" y="11006"/>
                  <a:pt x="18802" y="10855"/>
                  <a:pt x="18802" y="10840"/>
                </a:cubicBezTo>
                <a:cubicBezTo>
                  <a:pt x="18802" y="10807"/>
                  <a:pt x="18802" y="10773"/>
                  <a:pt x="18802" y="10740"/>
                </a:cubicBezTo>
                <a:cubicBezTo>
                  <a:pt x="18858" y="10740"/>
                  <a:pt x="18884" y="10733"/>
                  <a:pt x="18926" y="10765"/>
                </a:cubicBezTo>
              </a:path>
              <a:path w="3126" h="2283">
                <a:moveTo>
                  <a:pt x="19075" y="10492"/>
                </a:moveTo>
                <a:cubicBezTo>
                  <a:pt x="19075" y="10434"/>
                  <a:pt x="19075" y="10426"/>
                  <a:pt x="19075" y="10393"/>
                </a:cubicBezTo>
                <a:cubicBezTo>
                  <a:pt x="19035" y="10406"/>
                  <a:pt x="19050" y="10441"/>
                  <a:pt x="19050" y="10492"/>
                </a:cubicBezTo>
                <a:cubicBezTo>
                  <a:pt x="19050" y="10633"/>
                  <a:pt x="19050" y="10773"/>
                  <a:pt x="19050" y="10914"/>
                </a:cubicBezTo>
              </a:path>
              <a:path w="3126" h="2283">
                <a:moveTo>
                  <a:pt x="19100" y="10790"/>
                </a:moveTo>
                <a:cubicBezTo>
                  <a:pt x="19144" y="10759"/>
                  <a:pt x="19134" y="10812"/>
                  <a:pt x="19174" y="10864"/>
                </a:cubicBezTo>
                <a:cubicBezTo>
                  <a:pt x="19197" y="10895"/>
                  <a:pt x="19215" y="10906"/>
                  <a:pt x="19248" y="10914"/>
                </a:cubicBezTo>
                <a:cubicBezTo>
                  <a:pt x="19260" y="10894"/>
                  <a:pt x="19307" y="10773"/>
                  <a:pt x="19348" y="10790"/>
                </a:cubicBezTo>
                <a:cubicBezTo>
                  <a:pt x="19443" y="10829"/>
                  <a:pt x="19468" y="11032"/>
                  <a:pt x="19472" y="11112"/>
                </a:cubicBezTo>
                <a:cubicBezTo>
                  <a:pt x="19481" y="11279"/>
                  <a:pt x="19393" y="11320"/>
                  <a:pt x="19248" y="11361"/>
                </a:cubicBezTo>
                <a:cubicBezTo>
                  <a:pt x="19215" y="11369"/>
                  <a:pt x="19182" y="11377"/>
                  <a:pt x="19149" y="11385"/>
                </a:cubicBezTo>
              </a:path>
              <a:path w="3126" h="2283">
                <a:moveTo>
                  <a:pt x="17165" y="12030"/>
                </a:moveTo>
                <a:cubicBezTo>
                  <a:pt x="17194" y="12001"/>
                  <a:pt x="17205" y="11993"/>
                  <a:pt x="17214" y="11956"/>
                </a:cubicBezTo>
                <a:cubicBezTo>
                  <a:pt x="17183" y="11948"/>
                  <a:pt x="17153" y="11917"/>
                  <a:pt x="17115" y="11931"/>
                </a:cubicBezTo>
                <a:cubicBezTo>
                  <a:pt x="17028" y="11962"/>
                  <a:pt x="17020" y="12050"/>
                  <a:pt x="17016" y="12129"/>
                </a:cubicBezTo>
                <a:cubicBezTo>
                  <a:pt x="17016" y="12174"/>
                  <a:pt x="17013" y="12187"/>
                  <a:pt x="17041" y="12204"/>
                </a:cubicBezTo>
                <a:cubicBezTo>
                  <a:pt x="17094" y="12191"/>
                  <a:pt x="17123" y="12136"/>
                  <a:pt x="17140" y="12080"/>
                </a:cubicBezTo>
                <a:cubicBezTo>
                  <a:pt x="17140" y="12055"/>
                  <a:pt x="17140" y="12047"/>
                  <a:pt x="17165" y="12055"/>
                </a:cubicBezTo>
                <a:cubicBezTo>
                  <a:pt x="17165" y="12140"/>
                  <a:pt x="17202" y="12219"/>
                  <a:pt x="17190" y="12303"/>
                </a:cubicBezTo>
                <a:cubicBezTo>
                  <a:pt x="17186" y="12331"/>
                  <a:pt x="17133" y="12470"/>
                  <a:pt x="17165" y="12502"/>
                </a:cubicBezTo>
                <a:cubicBezTo>
                  <a:pt x="17223" y="12560"/>
                  <a:pt x="17266" y="12506"/>
                  <a:pt x="17314" y="12477"/>
                </a:cubicBezTo>
                <a:cubicBezTo>
                  <a:pt x="17370" y="12443"/>
                  <a:pt x="17414" y="12464"/>
                  <a:pt x="17462" y="12427"/>
                </a:cubicBezTo>
              </a:path>
              <a:path w="3126" h="2283">
                <a:moveTo>
                  <a:pt x="17711" y="11956"/>
                </a:moveTo>
                <a:cubicBezTo>
                  <a:pt x="17719" y="11956"/>
                  <a:pt x="17727" y="11956"/>
                  <a:pt x="17735" y="11956"/>
                </a:cubicBezTo>
                <a:cubicBezTo>
                  <a:pt x="17683" y="11956"/>
                  <a:pt x="17653" y="11968"/>
                  <a:pt x="17611" y="11981"/>
                </a:cubicBezTo>
                <a:cubicBezTo>
                  <a:pt x="17587" y="11981"/>
                  <a:pt x="17578" y="11981"/>
                  <a:pt x="17562" y="11981"/>
                </a:cubicBezTo>
              </a:path>
              <a:path w="3126" h="2283">
                <a:moveTo>
                  <a:pt x="17735" y="12080"/>
                </a:moveTo>
                <a:cubicBezTo>
                  <a:pt x="17775" y="12093"/>
                  <a:pt x="17745" y="12092"/>
                  <a:pt x="17785" y="12105"/>
                </a:cubicBezTo>
                <a:cubicBezTo>
                  <a:pt x="17744" y="12105"/>
                  <a:pt x="17702" y="12105"/>
                  <a:pt x="17661" y="12105"/>
                </a:cubicBezTo>
              </a:path>
              <a:path w="3126" h="2283">
                <a:moveTo>
                  <a:pt x="18653" y="11832"/>
                </a:moveTo>
                <a:cubicBezTo>
                  <a:pt x="18653" y="11840"/>
                  <a:pt x="18653" y="11849"/>
                  <a:pt x="18653" y="11857"/>
                </a:cubicBezTo>
                <a:cubicBezTo>
                  <a:pt x="18699" y="11857"/>
                  <a:pt x="18712" y="11837"/>
                  <a:pt x="18752" y="11832"/>
                </a:cubicBezTo>
                <a:cubicBezTo>
                  <a:pt x="18776" y="11829"/>
                  <a:pt x="18803" y="11832"/>
                  <a:pt x="18827" y="11832"/>
                </a:cubicBezTo>
              </a:path>
              <a:path w="3126" h="2283">
                <a:moveTo>
                  <a:pt x="19199" y="11410"/>
                </a:moveTo>
                <a:cubicBezTo>
                  <a:pt x="19221" y="11388"/>
                  <a:pt x="19226" y="11379"/>
                  <a:pt x="19248" y="11385"/>
                </a:cubicBezTo>
                <a:cubicBezTo>
                  <a:pt x="19248" y="11497"/>
                  <a:pt x="19238" y="11599"/>
                  <a:pt x="19224" y="11708"/>
                </a:cubicBezTo>
                <a:cubicBezTo>
                  <a:pt x="19224" y="11757"/>
                  <a:pt x="19224" y="11774"/>
                  <a:pt x="19224" y="11807"/>
                </a:cubicBezTo>
                <a:cubicBezTo>
                  <a:pt x="19280" y="11778"/>
                  <a:pt x="19260" y="11723"/>
                  <a:pt x="19323" y="11683"/>
                </a:cubicBezTo>
                <a:cubicBezTo>
                  <a:pt x="19381" y="11646"/>
                  <a:pt x="19424" y="11718"/>
                  <a:pt x="19447" y="11757"/>
                </a:cubicBezTo>
                <a:cubicBezTo>
                  <a:pt x="19476" y="11805"/>
                  <a:pt x="19485" y="11854"/>
                  <a:pt x="19422" y="11881"/>
                </a:cubicBezTo>
                <a:cubicBezTo>
                  <a:pt x="19392" y="11894"/>
                  <a:pt x="19330" y="11881"/>
                  <a:pt x="19298" y="11881"/>
                </a:cubicBezTo>
              </a:path>
              <a:path w="3126" h="2283">
                <a:moveTo>
                  <a:pt x="20092" y="11981"/>
                </a:moveTo>
                <a:cubicBezTo>
                  <a:pt x="20108" y="11981"/>
                  <a:pt x="20125" y="11981"/>
                  <a:pt x="20141" y="11981"/>
                </a:cubicBezTo>
                <a:cubicBezTo>
                  <a:pt x="19915" y="11981"/>
                  <a:pt x="19695" y="11973"/>
                  <a:pt x="19472" y="11956"/>
                </a:cubicBezTo>
                <a:cubicBezTo>
                  <a:pt x="19312" y="11944"/>
                  <a:pt x="19155" y="11964"/>
                  <a:pt x="19000" y="11981"/>
                </a:cubicBezTo>
                <a:cubicBezTo>
                  <a:pt x="18913" y="11990"/>
                  <a:pt x="18834" y="12016"/>
                  <a:pt x="18752" y="12030"/>
                </a:cubicBezTo>
                <a:cubicBezTo>
                  <a:pt x="18705" y="12038"/>
                  <a:pt x="18669" y="12050"/>
                  <a:pt x="18628" y="12055"/>
                </a:cubicBezTo>
                <a:cubicBezTo>
                  <a:pt x="18620" y="12055"/>
                  <a:pt x="18612" y="12055"/>
                  <a:pt x="18604" y="12055"/>
                </a:cubicBezTo>
              </a:path>
              <a:path w="3126" h="2283">
                <a:moveTo>
                  <a:pt x="18504" y="12526"/>
                </a:moveTo>
                <a:cubicBezTo>
                  <a:pt x="18464" y="12536"/>
                  <a:pt x="18433" y="12555"/>
                  <a:pt x="18430" y="12601"/>
                </a:cubicBezTo>
                <a:cubicBezTo>
                  <a:pt x="18430" y="12617"/>
                  <a:pt x="18430" y="12634"/>
                  <a:pt x="18430" y="12650"/>
                </a:cubicBezTo>
                <a:cubicBezTo>
                  <a:pt x="18475" y="12650"/>
                  <a:pt x="18494" y="12656"/>
                  <a:pt x="18529" y="12626"/>
                </a:cubicBezTo>
                <a:cubicBezTo>
                  <a:pt x="18572" y="12588"/>
                  <a:pt x="18546" y="12557"/>
                  <a:pt x="18579" y="12601"/>
                </a:cubicBezTo>
                <a:cubicBezTo>
                  <a:pt x="18587" y="12609"/>
                  <a:pt x="18596" y="12618"/>
                  <a:pt x="18604" y="12626"/>
                </a:cubicBezTo>
              </a:path>
              <a:path w="3126" h="2283">
                <a:moveTo>
                  <a:pt x="18752" y="12576"/>
                </a:moveTo>
                <a:cubicBezTo>
                  <a:pt x="18765" y="12536"/>
                  <a:pt x="18764" y="12566"/>
                  <a:pt x="18777" y="12526"/>
                </a:cubicBezTo>
                <a:cubicBezTo>
                  <a:pt x="18745" y="12559"/>
                  <a:pt x="18702" y="12597"/>
                  <a:pt x="18728" y="12650"/>
                </a:cubicBezTo>
                <a:cubicBezTo>
                  <a:pt x="18750" y="12673"/>
                  <a:pt x="18755" y="12681"/>
                  <a:pt x="18777" y="12675"/>
                </a:cubicBezTo>
                <a:cubicBezTo>
                  <a:pt x="18808" y="12594"/>
                  <a:pt x="18824" y="12515"/>
                  <a:pt x="18827" y="12427"/>
                </a:cubicBezTo>
                <a:cubicBezTo>
                  <a:pt x="18830" y="12358"/>
                  <a:pt x="18833" y="12330"/>
                  <a:pt x="18802" y="12278"/>
                </a:cubicBezTo>
                <a:cubicBezTo>
                  <a:pt x="18802" y="12359"/>
                  <a:pt x="18799" y="12425"/>
                  <a:pt x="18827" y="12502"/>
                </a:cubicBezTo>
                <a:cubicBezTo>
                  <a:pt x="18846" y="12555"/>
                  <a:pt x="18871" y="12605"/>
                  <a:pt x="18901" y="12650"/>
                </a:cubicBezTo>
              </a:path>
              <a:path w="3126" h="2283">
                <a:moveTo>
                  <a:pt x="19124" y="12576"/>
                </a:moveTo>
                <a:cubicBezTo>
                  <a:pt x="19124" y="12568"/>
                  <a:pt x="19124" y="12559"/>
                  <a:pt x="19124" y="12551"/>
                </a:cubicBezTo>
                <a:cubicBezTo>
                  <a:pt x="19163" y="12541"/>
                  <a:pt x="19179" y="12526"/>
                  <a:pt x="19224" y="12526"/>
                </a:cubicBezTo>
                <a:cubicBezTo>
                  <a:pt x="19232" y="12526"/>
                  <a:pt x="19240" y="12526"/>
                  <a:pt x="19248" y="12526"/>
                </a:cubicBezTo>
              </a:path>
              <a:path w="3126" h="2283">
                <a:moveTo>
                  <a:pt x="19496" y="12303"/>
                </a:moveTo>
                <a:cubicBezTo>
                  <a:pt x="19498" y="12296"/>
                  <a:pt x="19521" y="12141"/>
                  <a:pt x="19521" y="12204"/>
                </a:cubicBezTo>
                <a:cubicBezTo>
                  <a:pt x="19521" y="12269"/>
                  <a:pt x="19510" y="12387"/>
                  <a:pt x="19496" y="12452"/>
                </a:cubicBezTo>
                <a:cubicBezTo>
                  <a:pt x="19483" y="12512"/>
                  <a:pt x="19449" y="12519"/>
                  <a:pt x="19496" y="12551"/>
                </a:cubicBezTo>
                <a:cubicBezTo>
                  <a:pt x="19532" y="12542"/>
                  <a:pt x="19577" y="12478"/>
                  <a:pt x="19621" y="12502"/>
                </a:cubicBezTo>
                <a:cubicBezTo>
                  <a:pt x="19671" y="12529"/>
                  <a:pt x="19648" y="12596"/>
                  <a:pt x="19621" y="12626"/>
                </a:cubicBezTo>
                <a:cubicBezTo>
                  <a:pt x="19582" y="12669"/>
                  <a:pt x="19516" y="12655"/>
                  <a:pt x="19472" y="12626"/>
                </a:cubicBezTo>
                <a:cubicBezTo>
                  <a:pt x="19464" y="12618"/>
                  <a:pt x="19455" y="12609"/>
                  <a:pt x="19447" y="12601"/>
                </a:cubicBezTo>
              </a:path>
              <a:path w="3126" h="2283">
                <a:moveTo>
                  <a:pt x="19819" y="12502"/>
                </a:moveTo>
                <a:cubicBezTo>
                  <a:pt x="19827" y="12494"/>
                  <a:pt x="19836" y="12485"/>
                  <a:pt x="19844" y="12477"/>
                </a:cubicBezTo>
                <a:cubicBezTo>
                  <a:pt x="19833" y="12522"/>
                  <a:pt x="19819" y="12547"/>
                  <a:pt x="19819" y="12601"/>
                </a:cubicBezTo>
                <a:cubicBezTo>
                  <a:pt x="19819" y="12664"/>
                  <a:pt x="19899" y="12650"/>
                  <a:pt x="19943" y="126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643880" y="4089240"/>
            <a:ext cx="1143000" cy="492120"/>
          </a:xfrm>
          <a:custGeom>
            <a:avLst/>
            <a:gdLst/>
            <a:ahLst/>
            <a:rect l="l" t="t" r="r" b="b"/>
            <a:pathLst>
              <a:path w="3176" h="1365">
                <a:moveTo>
                  <a:pt x="21307" y="11981"/>
                </a:moveTo>
                <a:cubicBezTo>
                  <a:pt x="21307" y="12017"/>
                  <a:pt x="21323" y="12084"/>
                  <a:pt x="21282" y="12105"/>
                </a:cubicBezTo>
                <a:cubicBezTo>
                  <a:pt x="21274" y="12105"/>
                  <a:pt x="21266" y="12105"/>
                  <a:pt x="21258" y="12105"/>
                </a:cubicBezTo>
                <a:cubicBezTo>
                  <a:pt x="21258" y="12045"/>
                  <a:pt x="21210" y="11960"/>
                  <a:pt x="21233" y="11906"/>
                </a:cubicBezTo>
                <a:cubicBezTo>
                  <a:pt x="21254" y="11857"/>
                  <a:pt x="21333" y="11810"/>
                  <a:pt x="21382" y="11807"/>
                </a:cubicBezTo>
                <a:cubicBezTo>
                  <a:pt x="21426" y="11807"/>
                  <a:pt x="21440" y="11804"/>
                  <a:pt x="21456" y="11832"/>
                </a:cubicBezTo>
              </a:path>
              <a:path w="3176" h="1365">
                <a:moveTo>
                  <a:pt x="21927" y="11832"/>
                </a:moveTo>
                <a:cubicBezTo>
                  <a:pt x="21882" y="11832"/>
                  <a:pt x="21868" y="11853"/>
                  <a:pt x="21828" y="11857"/>
                </a:cubicBezTo>
                <a:cubicBezTo>
                  <a:pt x="21820" y="11857"/>
                  <a:pt x="21811" y="11857"/>
                  <a:pt x="21803" y="11857"/>
                </a:cubicBezTo>
              </a:path>
              <a:path w="3176" h="1365">
                <a:moveTo>
                  <a:pt x="21927" y="11931"/>
                </a:moveTo>
                <a:cubicBezTo>
                  <a:pt x="21935" y="11931"/>
                  <a:pt x="21944" y="11931"/>
                  <a:pt x="21952" y="11931"/>
                </a:cubicBezTo>
                <a:cubicBezTo>
                  <a:pt x="21940" y="11980"/>
                  <a:pt x="21928" y="11981"/>
                  <a:pt x="21878" y="11981"/>
                </a:cubicBezTo>
                <a:cubicBezTo>
                  <a:pt x="21853" y="11981"/>
                  <a:pt x="21845" y="11981"/>
                  <a:pt x="21828" y="11981"/>
                </a:cubicBezTo>
              </a:path>
              <a:path w="3176" h="1365">
                <a:moveTo>
                  <a:pt x="23068" y="11584"/>
                </a:moveTo>
                <a:cubicBezTo>
                  <a:pt x="23052" y="11584"/>
                  <a:pt x="23035" y="11584"/>
                  <a:pt x="23019" y="11584"/>
                </a:cubicBezTo>
                <a:cubicBezTo>
                  <a:pt x="23032" y="11544"/>
                  <a:pt x="23066" y="11537"/>
                  <a:pt x="23118" y="11534"/>
                </a:cubicBezTo>
                <a:cubicBezTo>
                  <a:pt x="23175" y="11531"/>
                  <a:pt x="23234" y="11534"/>
                  <a:pt x="23292" y="11534"/>
                </a:cubicBezTo>
              </a:path>
              <a:path w="3176" h="1365">
                <a:moveTo>
                  <a:pt x="23564" y="11410"/>
                </a:moveTo>
                <a:cubicBezTo>
                  <a:pt x="23581" y="11394"/>
                  <a:pt x="23597" y="11377"/>
                  <a:pt x="23614" y="11361"/>
                </a:cubicBezTo>
                <a:cubicBezTo>
                  <a:pt x="23563" y="11401"/>
                  <a:pt x="23524" y="11429"/>
                  <a:pt x="23490" y="11485"/>
                </a:cubicBezTo>
                <a:cubicBezTo>
                  <a:pt x="23435" y="11576"/>
                  <a:pt x="23475" y="11603"/>
                  <a:pt x="23540" y="11658"/>
                </a:cubicBezTo>
                <a:cubicBezTo>
                  <a:pt x="23581" y="11693"/>
                  <a:pt x="23610" y="11683"/>
                  <a:pt x="23664" y="11683"/>
                </a:cubicBezTo>
              </a:path>
              <a:path w="3176" h="1365">
                <a:moveTo>
                  <a:pt x="24383" y="12030"/>
                </a:moveTo>
                <a:cubicBezTo>
                  <a:pt x="24403" y="12004"/>
                  <a:pt x="24400" y="12031"/>
                  <a:pt x="24408" y="11981"/>
                </a:cubicBezTo>
                <a:cubicBezTo>
                  <a:pt x="24390" y="11969"/>
                  <a:pt x="24358" y="11939"/>
                  <a:pt x="24309" y="11931"/>
                </a:cubicBezTo>
                <a:cubicBezTo>
                  <a:pt x="23929" y="11867"/>
                  <a:pt x="23471" y="11929"/>
                  <a:pt x="23093" y="11956"/>
                </a:cubicBezTo>
                <a:cubicBezTo>
                  <a:pt x="22960" y="11966"/>
                  <a:pt x="22826" y="11969"/>
                  <a:pt x="22696" y="11981"/>
                </a:cubicBezTo>
                <a:cubicBezTo>
                  <a:pt x="22605" y="11989"/>
                  <a:pt x="22526" y="11967"/>
                  <a:pt x="22448" y="12005"/>
                </a:cubicBezTo>
              </a:path>
              <a:path w="3176" h="1365">
                <a:moveTo>
                  <a:pt x="22523" y="12502"/>
                </a:moveTo>
                <a:cubicBezTo>
                  <a:pt x="22550" y="12464"/>
                  <a:pt x="22547" y="12450"/>
                  <a:pt x="22547" y="12402"/>
                </a:cubicBezTo>
                <a:cubicBezTo>
                  <a:pt x="22500" y="12414"/>
                  <a:pt x="22467" y="12425"/>
                  <a:pt x="22448" y="12477"/>
                </a:cubicBezTo>
                <a:cubicBezTo>
                  <a:pt x="22431" y="12523"/>
                  <a:pt x="22448" y="12568"/>
                  <a:pt x="22473" y="12601"/>
                </a:cubicBezTo>
                <a:cubicBezTo>
                  <a:pt x="22526" y="12575"/>
                  <a:pt x="22539" y="12537"/>
                  <a:pt x="22547" y="12477"/>
                </a:cubicBezTo>
                <a:cubicBezTo>
                  <a:pt x="22613" y="12477"/>
                  <a:pt x="22613" y="12493"/>
                  <a:pt x="22647" y="12551"/>
                </a:cubicBezTo>
              </a:path>
              <a:path w="3176" h="1365">
                <a:moveTo>
                  <a:pt x="22895" y="12551"/>
                </a:moveTo>
                <a:cubicBezTo>
                  <a:pt x="22848" y="12516"/>
                  <a:pt x="22845" y="12519"/>
                  <a:pt x="22845" y="12576"/>
                </a:cubicBezTo>
                <a:cubicBezTo>
                  <a:pt x="22845" y="12601"/>
                  <a:pt x="22845" y="12625"/>
                  <a:pt x="22845" y="12650"/>
                </a:cubicBezTo>
                <a:cubicBezTo>
                  <a:pt x="22929" y="12650"/>
                  <a:pt x="22916" y="12603"/>
                  <a:pt x="22920" y="12526"/>
                </a:cubicBezTo>
                <a:cubicBezTo>
                  <a:pt x="22922" y="12491"/>
                  <a:pt x="22920" y="12229"/>
                  <a:pt x="22920" y="12353"/>
                </a:cubicBezTo>
                <a:cubicBezTo>
                  <a:pt x="22920" y="12442"/>
                  <a:pt x="22924" y="12520"/>
                  <a:pt x="22969" y="12601"/>
                </a:cubicBezTo>
                <a:cubicBezTo>
                  <a:pt x="22977" y="12609"/>
                  <a:pt x="22986" y="12618"/>
                  <a:pt x="22994" y="12626"/>
                </a:cubicBezTo>
              </a:path>
              <a:path w="3176" h="1365">
                <a:moveTo>
                  <a:pt x="23242" y="12601"/>
                </a:moveTo>
                <a:cubicBezTo>
                  <a:pt x="23242" y="12593"/>
                  <a:pt x="23242" y="12584"/>
                  <a:pt x="23242" y="12576"/>
                </a:cubicBezTo>
                <a:cubicBezTo>
                  <a:pt x="23280" y="12563"/>
                  <a:pt x="23263" y="12551"/>
                  <a:pt x="23316" y="12551"/>
                </a:cubicBezTo>
                <a:cubicBezTo>
                  <a:pt x="23341" y="12551"/>
                  <a:pt x="23366" y="12551"/>
                  <a:pt x="23391" y="12551"/>
                </a:cubicBezTo>
              </a:path>
              <a:path w="3176" h="1365">
                <a:moveTo>
                  <a:pt x="23614" y="12328"/>
                </a:moveTo>
                <a:cubicBezTo>
                  <a:pt x="23614" y="12270"/>
                  <a:pt x="23614" y="12262"/>
                  <a:pt x="23614" y="12229"/>
                </a:cubicBezTo>
                <a:cubicBezTo>
                  <a:pt x="23583" y="12310"/>
                  <a:pt x="23567" y="12389"/>
                  <a:pt x="23564" y="12477"/>
                </a:cubicBezTo>
                <a:cubicBezTo>
                  <a:pt x="23562" y="12526"/>
                  <a:pt x="23564" y="12576"/>
                  <a:pt x="23564" y="12626"/>
                </a:cubicBezTo>
                <a:cubicBezTo>
                  <a:pt x="23584" y="12606"/>
                  <a:pt x="23631" y="12536"/>
                  <a:pt x="23664" y="12551"/>
                </a:cubicBezTo>
                <a:cubicBezTo>
                  <a:pt x="23704" y="12569"/>
                  <a:pt x="23733" y="12635"/>
                  <a:pt x="23713" y="12675"/>
                </a:cubicBezTo>
                <a:cubicBezTo>
                  <a:pt x="23683" y="12734"/>
                  <a:pt x="23639" y="12733"/>
                  <a:pt x="23589" y="12700"/>
                </a:cubicBezTo>
                <a:cubicBezTo>
                  <a:pt x="23581" y="12692"/>
                  <a:pt x="23572" y="12683"/>
                  <a:pt x="23564" y="12675"/>
                </a:cubicBezTo>
              </a:path>
              <a:path w="3176" h="1365">
                <a:moveTo>
                  <a:pt x="23912" y="12526"/>
                </a:moveTo>
                <a:cubicBezTo>
                  <a:pt x="23912" y="12518"/>
                  <a:pt x="23912" y="12510"/>
                  <a:pt x="23912" y="12502"/>
                </a:cubicBezTo>
                <a:cubicBezTo>
                  <a:pt x="23886" y="12510"/>
                  <a:pt x="23852" y="12564"/>
                  <a:pt x="23837" y="12601"/>
                </a:cubicBezTo>
                <a:cubicBezTo>
                  <a:pt x="23837" y="12609"/>
                  <a:pt x="23837" y="12618"/>
                  <a:pt x="23837" y="12626"/>
                </a:cubicBezTo>
                <a:cubicBezTo>
                  <a:pt x="23904" y="12663"/>
                  <a:pt x="23953" y="12693"/>
                  <a:pt x="24036" y="12675"/>
                </a:cubicBezTo>
                <a:cubicBezTo>
                  <a:pt x="24103" y="12652"/>
                  <a:pt x="24121" y="12647"/>
                  <a:pt x="24160" y="12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37200" y="5589720"/>
            <a:ext cx="1463760" cy="519120"/>
          </a:xfrm>
          <a:custGeom>
            <a:avLst/>
            <a:gdLst/>
            <a:ahLst/>
            <a:rect l="l" t="t" r="r" b="b"/>
            <a:pathLst>
              <a:path w="4069" h="1439">
                <a:moveTo>
                  <a:pt x="16768" y="16644"/>
                </a:moveTo>
                <a:cubicBezTo>
                  <a:pt x="16775" y="16673"/>
                  <a:pt x="16785" y="16689"/>
                  <a:pt x="16793" y="16718"/>
                </a:cubicBezTo>
                <a:cubicBezTo>
                  <a:pt x="16825" y="16667"/>
                  <a:pt x="16821" y="16607"/>
                  <a:pt x="16842" y="16545"/>
                </a:cubicBezTo>
                <a:cubicBezTo>
                  <a:pt x="16876" y="16445"/>
                  <a:pt x="16917" y="16365"/>
                  <a:pt x="16966" y="16272"/>
                </a:cubicBezTo>
                <a:cubicBezTo>
                  <a:pt x="16994" y="16219"/>
                  <a:pt x="16977" y="16210"/>
                  <a:pt x="17016" y="16197"/>
                </a:cubicBezTo>
                <a:cubicBezTo>
                  <a:pt x="17062" y="16273"/>
                  <a:pt x="17049" y="16357"/>
                  <a:pt x="17066" y="16446"/>
                </a:cubicBezTo>
                <a:cubicBezTo>
                  <a:pt x="17080" y="16518"/>
                  <a:pt x="17090" y="16570"/>
                  <a:pt x="17090" y="16644"/>
                </a:cubicBezTo>
              </a:path>
              <a:path w="4069" h="1439">
                <a:moveTo>
                  <a:pt x="17090" y="16594"/>
                </a:moveTo>
                <a:cubicBezTo>
                  <a:pt x="17055" y="16514"/>
                  <a:pt x="17055" y="16503"/>
                  <a:pt x="16966" y="16495"/>
                </a:cubicBezTo>
                <a:cubicBezTo>
                  <a:pt x="16933" y="16495"/>
                  <a:pt x="16917" y="16495"/>
                  <a:pt x="16892" y="16495"/>
                </a:cubicBezTo>
              </a:path>
              <a:path w="4069" h="1439">
                <a:moveTo>
                  <a:pt x="17239" y="16272"/>
                </a:moveTo>
                <a:cubicBezTo>
                  <a:pt x="17231" y="16272"/>
                  <a:pt x="17222" y="16272"/>
                  <a:pt x="17214" y="16272"/>
                </a:cubicBezTo>
                <a:cubicBezTo>
                  <a:pt x="17260" y="16272"/>
                  <a:pt x="17273" y="16252"/>
                  <a:pt x="17314" y="16247"/>
                </a:cubicBezTo>
                <a:cubicBezTo>
                  <a:pt x="17322" y="16247"/>
                  <a:pt x="17330" y="16247"/>
                  <a:pt x="17338" y="16247"/>
                </a:cubicBezTo>
              </a:path>
              <a:path w="4069" h="1439">
                <a:moveTo>
                  <a:pt x="17462" y="16049"/>
                </a:moveTo>
                <a:cubicBezTo>
                  <a:pt x="17485" y="16026"/>
                  <a:pt x="17489" y="16018"/>
                  <a:pt x="17512" y="16024"/>
                </a:cubicBezTo>
                <a:cubicBezTo>
                  <a:pt x="17522" y="16103"/>
                  <a:pt x="17537" y="16163"/>
                  <a:pt x="17537" y="16247"/>
                </a:cubicBezTo>
              </a:path>
              <a:path w="4069" h="1439">
                <a:moveTo>
                  <a:pt x="17835" y="16396"/>
                </a:moveTo>
                <a:cubicBezTo>
                  <a:pt x="17843" y="16388"/>
                  <a:pt x="17851" y="16379"/>
                  <a:pt x="17859" y="16371"/>
                </a:cubicBezTo>
                <a:cubicBezTo>
                  <a:pt x="17805" y="16371"/>
                  <a:pt x="17780" y="16391"/>
                  <a:pt x="17735" y="16396"/>
                </a:cubicBezTo>
                <a:cubicBezTo>
                  <a:pt x="17711" y="16396"/>
                  <a:pt x="17702" y="16396"/>
                  <a:pt x="17686" y="16396"/>
                </a:cubicBezTo>
              </a:path>
              <a:path w="4069" h="1439">
                <a:moveTo>
                  <a:pt x="17835" y="16470"/>
                </a:moveTo>
                <a:cubicBezTo>
                  <a:pt x="17859" y="16495"/>
                  <a:pt x="17867" y="16504"/>
                  <a:pt x="17884" y="16520"/>
                </a:cubicBezTo>
                <a:cubicBezTo>
                  <a:pt x="17851" y="16520"/>
                  <a:pt x="17818" y="16520"/>
                  <a:pt x="17785" y="16520"/>
                </a:cubicBezTo>
              </a:path>
              <a:path w="4069" h="1439">
                <a:moveTo>
                  <a:pt x="18852" y="15776"/>
                </a:moveTo>
                <a:cubicBezTo>
                  <a:pt x="18852" y="15713"/>
                  <a:pt x="18875" y="15854"/>
                  <a:pt x="18876" y="15875"/>
                </a:cubicBezTo>
                <a:cubicBezTo>
                  <a:pt x="18878" y="15933"/>
                  <a:pt x="18876" y="15991"/>
                  <a:pt x="18876" y="16049"/>
                </a:cubicBezTo>
              </a:path>
              <a:path w="4069" h="1439">
                <a:moveTo>
                  <a:pt x="19546" y="16247"/>
                </a:moveTo>
                <a:cubicBezTo>
                  <a:pt x="19571" y="16247"/>
                  <a:pt x="19579" y="16247"/>
                  <a:pt x="19596" y="16247"/>
                </a:cubicBezTo>
                <a:cubicBezTo>
                  <a:pt x="19539" y="16247"/>
                  <a:pt x="19499" y="16263"/>
                  <a:pt x="19447" y="16272"/>
                </a:cubicBezTo>
                <a:cubicBezTo>
                  <a:pt x="19376" y="16284"/>
                  <a:pt x="19295" y="16294"/>
                  <a:pt x="19224" y="16297"/>
                </a:cubicBezTo>
                <a:cubicBezTo>
                  <a:pt x="19151" y="16300"/>
                  <a:pt x="19047" y="16302"/>
                  <a:pt x="18976" y="16321"/>
                </a:cubicBezTo>
                <a:cubicBezTo>
                  <a:pt x="18892" y="16343"/>
                  <a:pt x="18815" y="16383"/>
                  <a:pt x="18728" y="16396"/>
                </a:cubicBezTo>
                <a:cubicBezTo>
                  <a:pt x="18654" y="16407"/>
                  <a:pt x="18577" y="16417"/>
                  <a:pt x="18504" y="16421"/>
                </a:cubicBezTo>
                <a:cubicBezTo>
                  <a:pt x="18427" y="16425"/>
                  <a:pt x="18342" y="16400"/>
                  <a:pt x="18281" y="16446"/>
                </a:cubicBezTo>
              </a:path>
              <a:path w="4069" h="1439">
                <a:moveTo>
                  <a:pt x="18331" y="16818"/>
                </a:moveTo>
                <a:cubicBezTo>
                  <a:pt x="18375" y="16818"/>
                  <a:pt x="18306" y="16820"/>
                  <a:pt x="18281" y="16842"/>
                </a:cubicBezTo>
                <a:cubicBezTo>
                  <a:pt x="18233" y="16884"/>
                  <a:pt x="18231" y="16903"/>
                  <a:pt x="18231" y="16966"/>
                </a:cubicBezTo>
                <a:cubicBezTo>
                  <a:pt x="18283" y="16966"/>
                  <a:pt x="18294" y="16955"/>
                  <a:pt x="18331" y="16917"/>
                </a:cubicBezTo>
                <a:cubicBezTo>
                  <a:pt x="18355" y="16892"/>
                  <a:pt x="18363" y="16883"/>
                  <a:pt x="18380" y="16867"/>
                </a:cubicBezTo>
                <a:cubicBezTo>
                  <a:pt x="18390" y="16908"/>
                  <a:pt x="18398" y="16931"/>
                  <a:pt x="18430" y="16942"/>
                </a:cubicBezTo>
              </a:path>
              <a:path w="4069" h="1439">
                <a:moveTo>
                  <a:pt x="18554" y="16842"/>
                </a:moveTo>
                <a:cubicBezTo>
                  <a:pt x="18554" y="16803"/>
                  <a:pt x="18517" y="16863"/>
                  <a:pt x="18504" y="16892"/>
                </a:cubicBezTo>
                <a:cubicBezTo>
                  <a:pt x="18504" y="16917"/>
                  <a:pt x="18504" y="16925"/>
                  <a:pt x="18529" y="16917"/>
                </a:cubicBezTo>
                <a:cubicBezTo>
                  <a:pt x="18566" y="16868"/>
                  <a:pt x="18576" y="16808"/>
                  <a:pt x="18579" y="16743"/>
                </a:cubicBezTo>
                <a:cubicBezTo>
                  <a:pt x="18581" y="16685"/>
                  <a:pt x="18579" y="16611"/>
                  <a:pt x="18579" y="16669"/>
                </a:cubicBezTo>
                <a:cubicBezTo>
                  <a:pt x="18579" y="16745"/>
                  <a:pt x="18574" y="16798"/>
                  <a:pt x="18604" y="16867"/>
                </a:cubicBezTo>
                <a:cubicBezTo>
                  <a:pt x="18612" y="16884"/>
                  <a:pt x="18620" y="16900"/>
                  <a:pt x="18628" y="16917"/>
                </a:cubicBezTo>
              </a:path>
              <a:path w="4069" h="1439">
                <a:moveTo>
                  <a:pt x="18827" y="16818"/>
                </a:moveTo>
                <a:cubicBezTo>
                  <a:pt x="18872" y="16807"/>
                  <a:pt x="18897" y="16793"/>
                  <a:pt x="18951" y="16793"/>
                </a:cubicBezTo>
              </a:path>
              <a:path w="4069" h="1439">
                <a:moveTo>
                  <a:pt x="19124" y="16545"/>
                </a:moveTo>
                <a:cubicBezTo>
                  <a:pt x="19132" y="16520"/>
                  <a:pt x="19141" y="16495"/>
                  <a:pt x="19149" y="16470"/>
                </a:cubicBezTo>
                <a:cubicBezTo>
                  <a:pt x="19149" y="16557"/>
                  <a:pt x="19128" y="16632"/>
                  <a:pt x="19124" y="16718"/>
                </a:cubicBezTo>
                <a:cubicBezTo>
                  <a:pt x="19124" y="16770"/>
                  <a:pt x="19123" y="16788"/>
                  <a:pt x="19100" y="16818"/>
                </a:cubicBezTo>
                <a:cubicBezTo>
                  <a:pt x="19120" y="16798"/>
                  <a:pt x="19165" y="16728"/>
                  <a:pt x="19199" y="16743"/>
                </a:cubicBezTo>
                <a:cubicBezTo>
                  <a:pt x="19225" y="16754"/>
                  <a:pt x="19238" y="16817"/>
                  <a:pt x="19224" y="16842"/>
                </a:cubicBezTo>
                <a:cubicBezTo>
                  <a:pt x="19199" y="16886"/>
                  <a:pt x="19168" y="16892"/>
                  <a:pt x="19124" y="16892"/>
                </a:cubicBezTo>
              </a:path>
              <a:path w="4069" h="1439">
                <a:moveTo>
                  <a:pt x="19348" y="16718"/>
                </a:moveTo>
                <a:cubicBezTo>
                  <a:pt x="19348" y="16662"/>
                  <a:pt x="19325" y="16768"/>
                  <a:pt x="19323" y="16793"/>
                </a:cubicBezTo>
                <a:cubicBezTo>
                  <a:pt x="19317" y="16857"/>
                  <a:pt x="19337" y="16862"/>
                  <a:pt x="19397" y="16867"/>
                </a:cubicBezTo>
                <a:cubicBezTo>
                  <a:pt x="19430" y="16867"/>
                  <a:pt x="19447" y="16867"/>
                  <a:pt x="19472" y="16867"/>
                </a:cubicBezTo>
              </a:path>
              <a:path w="4069" h="1439">
                <a:moveTo>
                  <a:pt x="20613" y="15801"/>
                </a:moveTo>
                <a:cubicBezTo>
                  <a:pt x="20655" y="15821"/>
                  <a:pt x="20594" y="15823"/>
                  <a:pt x="20563" y="15850"/>
                </a:cubicBezTo>
                <a:cubicBezTo>
                  <a:pt x="20522" y="15886"/>
                  <a:pt x="20538" y="15948"/>
                  <a:pt x="20538" y="15999"/>
                </a:cubicBezTo>
                <a:cubicBezTo>
                  <a:pt x="20589" y="15973"/>
                  <a:pt x="20651" y="15895"/>
                  <a:pt x="20662" y="15825"/>
                </a:cubicBezTo>
                <a:cubicBezTo>
                  <a:pt x="20676" y="15738"/>
                  <a:pt x="20704" y="15640"/>
                  <a:pt x="20712" y="15553"/>
                </a:cubicBezTo>
                <a:cubicBezTo>
                  <a:pt x="20718" y="15486"/>
                  <a:pt x="20710" y="15689"/>
                  <a:pt x="20712" y="15701"/>
                </a:cubicBezTo>
                <a:cubicBezTo>
                  <a:pt x="20725" y="15781"/>
                  <a:pt x="20754" y="15852"/>
                  <a:pt x="20786" y="15925"/>
                </a:cubicBezTo>
              </a:path>
              <a:path w="4069" h="1439">
                <a:moveTo>
                  <a:pt x="20389" y="16694"/>
                </a:moveTo>
                <a:cubicBezTo>
                  <a:pt x="20397" y="16686"/>
                  <a:pt x="20406" y="16677"/>
                  <a:pt x="20414" y="16669"/>
                </a:cubicBezTo>
                <a:cubicBezTo>
                  <a:pt x="20367" y="16669"/>
                  <a:pt x="20335" y="16689"/>
                  <a:pt x="20290" y="16694"/>
                </a:cubicBezTo>
                <a:cubicBezTo>
                  <a:pt x="20265" y="16694"/>
                  <a:pt x="20257" y="16694"/>
                  <a:pt x="20241" y="16694"/>
                </a:cubicBezTo>
              </a:path>
              <a:path w="4069" h="1439">
                <a:moveTo>
                  <a:pt x="20662" y="16619"/>
                </a:moveTo>
                <a:cubicBezTo>
                  <a:pt x="20750" y="16580"/>
                  <a:pt x="20713" y="16586"/>
                  <a:pt x="20762" y="16570"/>
                </a:cubicBezTo>
                <a:cubicBezTo>
                  <a:pt x="20722" y="16609"/>
                  <a:pt x="20669" y="16648"/>
                  <a:pt x="20638" y="16694"/>
                </a:cubicBezTo>
                <a:cubicBezTo>
                  <a:pt x="20595" y="16758"/>
                  <a:pt x="20604" y="16823"/>
                  <a:pt x="20687" y="16842"/>
                </a:cubicBezTo>
                <a:cubicBezTo>
                  <a:pt x="20743" y="16855"/>
                  <a:pt x="20786" y="16836"/>
                  <a:pt x="20836" y="16818"/>
                </a:cubicBezTo>
              </a:path>
              <a:path w="4069" h="1439">
                <a:moveTo>
                  <a:pt x="20141" y="15553"/>
                </a:moveTo>
                <a:cubicBezTo>
                  <a:pt x="20151" y="15523"/>
                  <a:pt x="20173" y="15510"/>
                  <a:pt x="20166" y="15528"/>
                </a:cubicBezTo>
                <a:cubicBezTo>
                  <a:pt x="20151" y="15565"/>
                  <a:pt x="20137" y="15591"/>
                  <a:pt x="20117" y="15627"/>
                </a:cubicBezTo>
                <a:cubicBezTo>
                  <a:pt x="20086" y="15683"/>
                  <a:pt x="20081" y="15746"/>
                  <a:pt x="20042" y="15801"/>
                </a:cubicBezTo>
                <a:cubicBezTo>
                  <a:pt x="20008" y="15849"/>
                  <a:pt x="19996" y="15936"/>
                  <a:pt x="19993" y="15999"/>
                </a:cubicBezTo>
                <a:cubicBezTo>
                  <a:pt x="19989" y="16096"/>
                  <a:pt x="19957" y="16178"/>
                  <a:pt x="19943" y="16272"/>
                </a:cubicBezTo>
                <a:cubicBezTo>
                  <a:pt x="19931" y="16354"/>
                  <a:pt x="19921" y="16438"/>
                  <a:pt x="19918" y="16520"/>
                </a:cubicBezTo>
                <a:cubicBezTo>
                  <a:pt x="19915" y="16600"/>
                  <a:pt x="19902" y="16697"/>
                  <a:pt x="19943" y="16768"/>
                </a:cubicBezTo>
                <a:cubicBezTo>
                  <a:pt x="19971" y="16817"/>
                  <a:pt x="20004" y="16842"/>
                  <a:pt x="20042" y="16867"/>
                </a:cubicBezTo>
                <a:cubicBezTo>
                  <a:pt x="20065" y="16890"/>
                  <a:pt x="20069" y="16898"/>
                  <a:pt x="20092" y="1689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705800" y="5562720"/>
            <a:ext cx="339480" cy="474480"/>
          </a:xfrm>
          <a:custGeom>
            <a:avLst/>
            <a:gdLst/>
            <a:ahLst/>
            <a:rect l="l" t="t" r="r" b="b"/>
            <a:pathLst>
              <a:path w="944" h="1316">
                <a:moveTo>
                  <a:pt x="21406" y="15825"/>
                </a:moveTo>
                <a:cubicBezTo>
                  <a:pt x="21406" y="15833"/>
                  <a:pt x="21406" y="15842"/>
                  <a:pt x="21406" y="15850"/>
                </a:cubicBezTo>
                <a:cubicBezTo>
                  <a:pt x="21452" y="15850"/>
                  <a:pt x="21465" y="15830"/>
                  <a:pt x="21506" y="15825"/>
                </a:cubicBezTo>
                <a:cubicBezTo>
                  <a:pt x="21556" y="15819"/>
                  <a:pt x="21617" y="15810"/>
                  <a:pt x="21630" y="15850"/>
                </a:cubicBezTo>
              </a:path>
              <a:path w="944" h="1316">
                <a:moveTo>
                  <a:pt x="21779" y="15627"/>
                </a:moveTo>
                <a:cubicBezTo>
                  <a:pt x="21786" y="15611"/>
                  <a:pt x="21803" y="15521"/>
                  <a:pt x="21803" y="15577"/>
                </a:cubicBezTo>
                <a:cubicBezTo>
                  <a:pt x="21791" y="15642"/>
                  <a:pt x="21762" y="15712"/>
                  <a:pt x="21754" y="15776"/>
                </a:cubicBezTo>
                <a:cubicBezTo>
                  <a:pt x="21748" y="15823"/>
                  <a:pt x="21754" y="15877"/>
                  <a:pt x="21754" y="15925"/>
                </a:cubicBezTo>
                <a:cubicBezTo>
                  <a:pt x="21795" y="15873"/>
                  <a:pt x="21805" y="15832"/>
                  <a:pt x="21878" y="15825"/>
                </a:cubicBezTo>
                <a:cubicBezTo>
                  <a:pt x="21925" y="15820"/>
                  <a:pt x="21967" y="15880"/>
                  <a:pt x="21952" y="15925"/>
                </a:cubicBezTo>
                <a:cubicBezTo>
                  <a:pt x="21934" y="15978"/>
                  <a:pt x="21884" y="16020"/>
                  <a:pt x="21828" y="16024"/>
                </a:cubicBezTo>
                <a:cubicBezTo>
                  <a:pt x="21777" y="16024"/>
                  <a:pt x="21758" y="16023"/>
                  <a:pt x="21729" y="15999"/>
                </a:cubicBezTo>
              </a:path>
              <a:path w="944" h="1316">
                <a:moveTo>
                  <a:pt x="21779" y="16594"/>
                </a:moveTo>
                <a:cubicBezTo>
                  <a:pt x="21779" y="16586"/>
                  <a:pt x="21779" y="16578"/>
                  <a:pt x="21779" y="16570"/>
                </a:cubicBezTo>
                <a:cubicBezTo>
                  <a:pt x="21718" y="16585"/>
                  <a:pt x="21716" y="16620"/>
                  <a:pt x="21679" y="16669"/>
                </a:cubicBezTo>
                <a:cubicBezTo>
                  <a:pt x="21641" y="16719"/>
                  <a:pt x="21634" y="16716"/>
                  <a:pt x="21654" y="16768"/>
                </a:cubicBezTo>
                <a:cubicBezTo>
                  <a:pt x="21709" y="16754"/>
                  <a:pt x="21716" y="16711"/>
                  <a:pt x="21754" y="16669"/>
                </a:cubicBezTo>
                <a:cubicBezTo>
                  <a:pt x="21807" y="16610"/>
                  <a:pt x="21848" y="16667"/>
                  <a:pt x="21878" y="16718"/>
                </a:cubicBezTo>
                <a:cubicBezTo>
                  <a:pt x="21886" y="16735"/>
                  <a:pt x="21895" y="16751"/>
                  <a:pt x="21903" y="16768"/>
                </a:cubicBezTo>
              </a:path>
              <a:path w="944" h="1316">
                <a:moveTo>
                  <a:pt x="22051" y="15453"/>
                </a:moveTo>
                <a:cubicBezTo>
                  <a:pt x="22097" y="15453"/>
                  <a:pt x="22116" y="15446"/>
                  <a:pt x="22151" y="15478"/>
                </a:cubicBezTo>
                <a:cubicBezTo>
                  <a:pt x="22200" y="15523"/>
                  <a:pt x="22245" y="15568"/>
                  <a:pt x="22275" y="15627"/>
                </a:cubicBezTo>
                <a:cubicBezTo>
                  <a:pt x="22315" y="15704"/>
                  <a:pt x="22341" y="15789"/>
                  <a:pt x="22349" y="15875"/>
                </a:cubicBezTo>
                <a:cubicBezTo>
                  <a:pt x="22361" y="15997"/>
                  <a:pt x="22356" y="16129"/>
                  <a:pt x="22324" y="16247"/>
                </a:cubicBezTo>
                <a:cubicBezTo>
                  <a:pt x="22299" y="16341"/>
                  <a:pt x="22257" y="16429"/>
                  <a:pt x="22225" y="16520"/>
                </a:cubicBezTo>
                <a:cubicBezTo>
                  <a:pt x="22200" y="16591"/>
                  <a:pt x="22152" y="16654"/>
                  <a:pt x="22126" y="16718"/>
                </a:cubicBezTo>
                <a:cubicBezTo>
                  <a:pt x="22126" y="16726"/>
                  <a:pt x="22126" y="16735"/>
                  <a:pt x="22126" y="1674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inverse and determinants of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the inverse of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x A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6037200" y="5562720"/>
            <a:ext cx="2008080" cy="546120"/>
            <a:chOff x="6037200" y="5562720"/>
            <a:chExt cx="2008080" cy="546120"/>
          </a:xfrm>
        </p:grpSpPr>
        <p:sp>
          <p:nvSpPr>
            <p:cNvPr id="357" name=""/>
            <p:cNvSpPr/>
            <p:nvPr/>
          </p:nvSpPr>
          <p:spPr>
            <a:xfrm>
              <a:off x="6037200" y="5589720"/>
              <a:ext cx="1463760" cy="519120"/>
            </a:xfrm>
            <a:custGeom>
              <a:avLst/>
              <a:gdLst/>
              <a:ahLst/>
              <a:rect l="l" t="t" r="r" b="b"/>
              <a:pathLst>
                <a:path w="4069" h="1439">
                  <a:moveTo>
                    <a:pt x="16768" y="16644"/>
                  </a:moveTo>
                  <a:cubicBezTo>
                    <a:pt x="16775" y="16673"/>
                    <a:pt x="16785" y="16689"/>
                    <a:pt x="16793" y="16718"/>
                  </a:cubicBezTo>
                  <a:cubicBezTo>
                    <a:pt x="16825" y="16667"/>
                    <a:pt x="16821" y="16607"/>
                    <a:pt x="16842" y="16545"/>
                  </a:cubicBezTo>
                  <a:cubicBezTo>
                    <a:pt x="16876" y="16445"/>
                    <a:pt x="16917" y="16365"/>
                    <a:pt x="16966" y="16272"/>
                  </a:cubicBezTo>
                  <a:cubicBezTo>
                    <a:pt x="16994" y="16219"/>
                    <a:pt x="16977" y="16210"/>
                    <a:pt x="17016" y="16197"/>
                  </a:cubicBezTo>
                  <a:cubicBezTo>
                    <a:pt x="17062" y="16273"/>
                    <a:pt x="17049" y="16357"/>
                    <a:pt x="17066" y="16446"/>
                  </a:cubicBezTo>
                  <a:cubicBezTo>
                    <a:pt x="17080" y="16518"/>
                    <a:pt x="17090" y="16570"/>
                    <a:pt x="17090" y="16644"/>
                  </a:cubicBezTo>
                </a:path>
                <a:path w="4069" h="1439">
                  <a:moveTo>
                    <a:pt x="17090" y="16594"/>
                  </a:moveTo>
                  <a:cubicBezTo>
                    <a:pt x="17055" y="16514"/>
                    <a:pt x="17055" y="16503"/>
                    <a:pt x="16966" y="16495"/>
                  </a:cubicBezTo>
                  <a:cubicBezTo>
                    <a:pt x="16933" y="16495"/>
                    <a:pt x="16917" y="16495"/>
                    <a:pt x="16892" y="16495"/>
                  </a:cubicBezTo>
                </a:path>
                <a:path w="4069" h="1439">
                  <a:moveTo>
                    <a:pt x="17239" y="16272"/>
                  </a:moveTo>
                  <a:cubicBezTo>
                    <a:pt x="17231" y="16272"/>
                    <a:pt x="17222" y="16272"/>
                    <a:pt x="17214" y="16272"/>
                  </a:cubicBezTo>
                  <a:cubicBezTo>
                    <a:pt x="17260" y="16272"/>
                    <a:pt x="17273" y="16252"/>
                    <a:pt x="17314" y="16247"/>
                  </a:cubicBezTo>
                  <a:cubicBezTo>
                    <a:pt x="17322" y="16247"/>
                    <a:pt x="17330" y="16247"/>
                    <a:pt x="17338" y="16247"/>
                  </a:cubicBezTo>
                </a:path>
                <a:path w="4069" h="1439">
                  <a:moveTo>
                    <a:pt x="17462" y="16049"/>
                  </a:moveTo>
                  <a:cubicBezTo>
                    <a:pt x="17485" y="16026"/>
                    <a:pt x="17489" y="16018"/>
                    <a:pt x="17512" y="16024"/>
                  </a:cubicBezTo>
                  <a:cubicBezTo>
                    <a:pt x="17522" y="16103"/>
                    <a:pt x="17537" y="16163"/>
                    <a:pt x="17537" y="16247"/>
                  </a:cubicBezTo>
                </a:path>
                <a:path w="4069" h="1439">
                  <a:moveTo>
                    <a:pt x="17835" y="16396"/>
                  </a:moveTo>
                  <a:cubicBezTo>
                    <a:pt x="17843" y="16388"/>
                    <a:pt x="17851" y="16379"/>
                    <a:pt x="17859" y="16371"/>
                  </a:cubicBezTo>
                  <a:cubicBezTo>
                    <a:pt x="17805" y="16371"/>
                    <a:pt x="17780" y="16391"/>
                    <a:pt x="17735" y="16396"/>
                  </a:cubicBezTo>
                  <a:cubicBezTo>
                    <a:pt x="17711" y="16396"/>
                    <a:pt x="17702" y="16396"/>
                    <a:pt x="17686" y="16396"/>
                  </a:cubicBezTo>
                </a:path>
                <a:path w="4069" h="1439">
                  <a:moveTo>
                    <a:pt x="17835" y="16470"/>
                  </a:moveTo>
                  <a:cubicBezTo>
                    <a:pt x="17859" y="16495"/>
                    <a:pt x="17867" y="16504"/>
                    <a:pt x="17884" y="16520"/>
                  </a:cubicBezTo>
                  <a:cubicBezTo>
                    <a:pt x="17851" y="16520"/>
                    <a:pt x="17818" y="16520"/>
                    <a:pt x="17785" y="16520"/>
                  </a:cubicBezTo>
                </a:path>
                <a:path w="4069" h="1439">
                  <a:moveTo>
                    <a:pt x="18852" y="15776"/>
                  </a:moveTo>
                  <a:cubicBezTo>
                    <a:pt x="18852" y="15713"/>
                    <a:pt x="18875" y="15854"/>
                    <a:pt x="18876" y="15875"/>
                  </a:cubicBezTo>
                  <a:cubicBezTo>
                    <a:pt x="18878" y="15933"/>
                    <a:pt x="18876" y="15991"/>
                    <a:pt x="18876" y="16049"/>
                  </a:cubicBezTo>
                </a:path>
                <a:path w="4069" h="1439">
                  <a:moveTo>
                    <a:pt x="19546" y="16247"/>
                  </a:moveTo>
                  <a:cubicBezTo>
                    <a:pt x="19571" y="16247"/>
                    <a:pt x="19579" y="16247"/>
                    <a:pt x="19596" y="16247"/>
                  </a:cubicBezTo>
                  <a:cubicBezTo>
                    <a:pt x="19539" y="16247"/>
                    <a:pt x="19499" y="16263"/>
                    <a:pt x="19447" y="16272"/>
                  </a:cubicBezTo>
                  <a:cubicBezTo>
                    <a:pt x="19376" y="16284"/>
                    <a:pt x="19295" y="16294"/>
                    <a:pt x="19224" y="16297"/>
                  </a:cubicBezTo>
                  <a:cubicBezTo>
                    <a:pt x="19151" y="16300"/>
                    <a:pt x="19047" y="16302"/>
                    <a:pt x="18976" y="16321"/>
                  </a:cubicBezTo>
                  <a:cubicBezTo>
                    <a:pt x="18892" y="16343"/>
                    <a:pt x="18815" y="16383"/>
                    <a:pt x="18728" y="16396"/>
                  </a:cubicBezTo>
                  <a:cubicBezTo>
                    <a:pt x="18654" y="16407"/>
                    <a:pt x="18577" y="16417"/>
                    <a:pt x="18504" y="16421"/>
                  </a:cubicBezTo>
                  <a:cubicBezTo>
                    <a:pt x="18427" y="16425"/>
                    <a:pt x="18342" y="16400"/>
                    <a:pt x="18281" y="16446"/>
                  </a:cubicBezTo>
                </a:path>
                <a:path w="4069" h="1439">
                  <a:moveTo>
                    <a:pt x="18331" y="16818"/>
                  </a:moveTo>
                  <a:cubicBezTo>
                    <a:pt x="18375" y="16818"/>
                    <a:pt x="18306" y="16820"/>
                    <a:pt x="18281" y="16842"/>
                  </a:cubicBezTo>
                  <a:cubicBezTo>
                    <a:pt x="18233" y="16884"/>
                    <a:pt x="18231" y="16903"/>
                    <a:pt x="18231" y="16966"/>
                  </a:cubicBezTo>
                  <a:cubicBezTo>
                    <a:pt x="18283" y="16966"/>
                    <a:pt x="18294" y="16955"/>
                    <a:pt x="18331" y="16917"/>
                  </a:cubicBezTo>
                  <a:cubicBezTo>
                    <a:pt x="18355" y="16892"/>
                    <a:pt x="18363" y="16883"/>
                    <a:pt x="18380" y="16867"/>
                  </a:cubicBezTo>
                  <a:cubicBezTo>
                    <a:pt x="18390" y="16908"/>
                    <a:pt x="18398" y="16931"/>
                    <a:pt x="18430" y="16942"/>
                  </a:cubicBezTo>
                </a:path>
                <a:path w="4069" h="1439">
                  <a:moveTo>
                    <a:pt x="18554" y="16842"/>
                  </a:moveTo>
                  <a:cubicBezTo>
                    <a:pt x="18554" y="16803"/>
                    <a:pt x="18517" y="16863"/>
                    <a:pt x="18504" y="16892"/>
                  </a:cubicBezTo>
                  <a:cubicBezTo>
                    <a:pt x="18504" y="16917"/>
                    <a:pt x="18504" y="16925"/>
                    <a:pt x="18529" y="16917"/>
                  </a:cubicBezTo>
                  <a:cubicBezTo>
                    <a:pt x="18566" y="16868"/>
                    <a:pt x="18576" y="16808"/>
                    <a:pt x="18579" y="16743"/>
                  </a:cubicBezTo>
                  <a:cubicBezTo>
                    <a:pt x="18581" y="16685"/>
                    <a:pt x="18579" y="16611"/>
                    <a:pt x="18579" y="16669"/>
                  </a:cubicBezTo>
                  <a:cubicBezTo>
                    <a:pt x="18579" y="16745"/>
                    <a:pt x="18574" y="16798"/>
                    <a:pt x="18604" y="16867"/>
                  </a:cubicBezTo>
                  <a:cubicBezTo>
                    <a:pt x="18612" y="16884"/>
                    <a:pt x="18620" y="16900"/>
                    <a:pt x="18628" y="16917"/>
                  </a:cubicBezTo>
                </a:path>
                <a:path w="4069" h="1439">
                  <a:moveTo>
                    <a:pt x="18827" y="16818"/>
                  </a:moveTo>
                  <a:cubicBezTo>
                    <a:pt x="18872" y="16807"/>
                    <a:pt x="18897" y="16793"/>
                    <a:pt x="18951" y="16793"/>
                  </a:cubicBezTo>
                </a:path>
                <a:path w="4069" h="1439">
                  <a:moveTo>
                    <a:pt x="19124" y="16545"/>
                  </a:moveTo>
                  <a:cubicBezTo>
                    <a:pt x="19132" y="16520"/>
                    <a:pt x="19141" y="16495"/>
                    <a:pt x="19149" y="16470"/>
                  </a:cubicBezTo>
                  <a:cubicBezTo>
                    <a:pt x="19149" y="16557"/>
                    <a:pt x="19128" y="16632"/>
                    <a:pt x="19124" y="16718"/>
                  </a:cubicBezTo>
                  <a:cubicBezTo>
                    <a:pt x="19124" y="16770"/>
                    <a:pt x="19123" y="16788"/>
                    <a:pt x="19100" y="16818"/>
                  </a:cubicBezTo>
                  <a:cubicBezTo>
                    <a:pt x="19120" y="16798"/>
                    <a:pt x="19165" y="16728"/>
                    <a:pt x="19199" y="16743"/>
                  </a:cubicBezTo>
                  <a:cubicBezTo>
                    <a:pt x="19225" y="16754"/>
                    <a:pt x="19238" y="16817"/>
                    <a:pt x="19224" y="16842"/>
                  </a:cubicBezTo>
                  <a:cubicBezTo>
                    <a:pt x="19199" y="16886"/>
                    <a:pt x="19168" y="16892"/>
                    <a:pt x="19124" y="16892"/>
                  </a:cubicBezTo>
                </a:path>
                <a:path w="4069" h="1439">
                  <a:moveTo>
                    <a:pt x="19348" y="16718"/>
                  </a:moveTo>
                  <a:cubicBezTo>
                    <a:pt x="19348" y="16662"/>
                    <a:pt x="19325" y="16768"/>
                    <a:pt x="19323" y="16793"/>
                  </a:cubicBezTo>
                  <a:cubicBezTo>
                    <a:pt x="19317" y="16857"/>
                    <a:pt x="19337" y="16862"/>
                    <a:pt x="19397" y="16867"/>
                  </a:cubicBezTo>
                  <a:cubicBezTo>
                    <a:pt x="19430" y="16867"/>
                    <a:pt x="19447" y="16867"/>
                    <a:pt x="19472" y="16867"/>
                  </a:cubicBezTo>
                </a:path>
                <a:path w="4069" h="1439">
                  <a:moveTo>
                    <a:pt x="20613" y="15801"/>
                  </a:moveTo>
                  <a:cubicBezTo>
                    <a:pt x="20655" y="15821"/>
                    <a:pt x="20594" y="15823"/>
                    <a:pt x="20563" y="15850"/>
                  </a:cubicBezTo>
                  <a:cubicBezTo>
                    <a:pt x="20522" y="15886"/>
                    <a:pt x="20538" y="15948"/>
                    <a:pt x="20538" y="15999"/>
                  </a:cubicBezTo>
                  <a:cubicBezTo>
                    <a:pt x="20589" y="15973"/>
                    <a:pt x="20651" y="15895"/>
                    <a:pt x="20662" y="15825"/>
                  </a:cubicBezTo>
                  <a:cubicBezTo>
                    <a:pt x="20676" y="15738"/>
                    <a:pt x="20704" y="15640"/>
                    <a:pt x="20712" y="15553"/>
                  </a:cubicBezTo>
                  <a:cubicBezTo>
                    <a:pt x="20718" y="15486"/>
                    <a:pt x="20710" y="15689"/>
                    <a:pt x="20712" y="15701"/>
                  </a:cubicBezTo>
                  <a:cubicBezTo>
                    <a:pt x="20725" y="15781"/>
                    <a:pt x="20754" y="15852"/>
                    <a:pt x="20786" y="15925"/>
                  </a:cubicBezTo>
                </a:path>
                <a:path w="4069" h="1439">
                  <a:moveTo>
                    <a:pt x="20389" y="16694"/>
                  </a:moveTo>
                  <a:cubicBezTo>
                    <a:pt x="20397" y="16686"/>
                    <a:pt x="20406" y="16677"/>
                    <a:pt x="20414" y="16669"/>
                  </a:cubicBezTo>
                  <a:cubicBezTo>
                    <a:pt x="20367" y="16669"/>
                    <a:pt x="20335" y="16689"/>
                    <a:pt x="20290" y="16694"/>
                  </a:cubicBezTo>
                  <a:cubicBezTo>
                    <a:pt x="20265" y="16694"/>
                    <a:pt x="20257" y="16694"/>
                    <a:pt x="20241" y="16694"/>
                  </a:cubicBezTo>
                </a:path>
                <a:path w="4069" h="1439">
                  <a:moveTo>
                    <a:pt x="20662" y="16619"/>
                  </a:moveTo>
                  <a:cubicBezTo>
                    <a:pt x="20750" y="16580"/>
                    <a:pt x="20713" y="16586"/>
                    <a:pt x="20762" y="16570"/>
                  </a:cubicBezTo>
                  <a:cubicBezTo>
                    <a:pt x="20722" y="16609"/>
                    <a:pt x="20669" y="16648"/>
                    <a:pt x="20638" y="16694"/>
                  </a:cubicBezTo>
                  <a:cubicBezTo>
                    <a:pt x="20595" y="16758"/>
                    <a:pt x="20604" y="16823"/>
                    <a:pt x="20687" y="16842"/>
                  </a:cubicBezTo>
                  <a:cubicBezTo>
                    <a:pt x="20743" y="16855"/>
                    <a:pt x="20786" y="16836"/>
                    <a:pt x="20836" y="16818"/>
                  </a:cubicBezTo>
                </a:path>
                <a:path w="4069" h="1439">
                  <a:moveTo>
                    <a:pt x="20141" y="15553"/>
                  </a:moveTo>
                  <a:cubicBezTo>
                    <a:pt x="20151" y="15523"/>
                    <a:pt x="20173" y="15510"/>
                    <a:pt x="20166" y="15528"/>
                  </a:cubicBezTo>
                  <a:cubicBezTo>
                    <a:pt x="20151" y="15565"/>
                    <a:pt x="20137" y="15591"/>
                    <a:pt x="20117" y="15627"/>
                  </a:cubicBezTo>
                  <a:cubicBezTo>
                    <a:pt x="20086" y="15683"/>
                    <a:pt x="20081" y="15746"/>
                    <a:pt x="20042" y="15801"/>
                  </a:cubicBezTo>
                  <a:cubicBezTo>
                    <a:pt x="20008" y="15849"/>
                    <a:pt x="19996" y="15936"/>
                    <a:pt x="19993" y="15999"/>
                  </a:cubicBezTo>
                  <a:cubicBezTo>
                    <a:pt x="19989" y="16096"/>
                    <a:pt x="19957" y="16178"/>
                    <a:pt x="19943" y="16272"/>
                  </a:cubicBezTo>
                  <a:cubicBezTo>
                    <a:pt x="19931" y="16354"/>
                    <a:pt x="19921" y="16438"/>
                    <a:pt x="19918" y="16520"/>
                  </a:cubicBezTo>
                  <a:cubicBezTo>
                    <a:pt x="19915" y="16600"/>
                    <a:pt x="19902" y="16697"/>
                    <a:pt x="19943" y="16768"/>
                  </a:cubicBezTo>
                  <a:cubicBezTo>
                    <a:pt x="19971" y="16817"/>
                    <a:pt x="20004" y="16842"/>
                    <a:pt x="20042" y="16867"/>
                  </a:cubicBezTo>
                  <a:cubicBezTo>
                    <a:pt x="20065" y="16890"/>
                    <a:pt x="20069" y="16898"/>
                    <a:pt x="20092" y="16892"/>
                  </a:cubicBezTo>
                </a:path>
              </a:pathLst>
            </a:custGeom>
            <a:noFill/>
            <a:ln cap="rnd"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705800" y="5562720"/>
              <a:ext cx="339480" cy="474480"/>
            </a:xfrm>
            <a:custGeom>
              <a:avLst/>
              <a:gdLst/>
              <a:ahLst/>
              <a:rect l="l" t="t" r="r" b="b"/>
              <a:pathLst>
                <a:path w="944" h="1316">
                  <a:moveTo>
                    <a:pt x="21406" y="15825"/>
                  </a:moveTo>
                  <a:cubicBezTo>
                    <a:pt x="21406" y="15833"/>
                    <a:pt x="21406" y="15842"/>
                    <a:pt x="21406" y="15850"/>
                  </a:cubicBezTo>
                  <a:cubicBezTo>
                    <a:pt x="21452" y="15850"/>
                    <a:pt x="21465" y="15830"/>
                    <a:pt x="21506" y="15825"/>
                  </a:cubicBezTo>
                  <a:cubicBezTo>
                    <a:pt x="21556" y="15819"/>
                    <a:pt x="21617" y="15810"/>
                    <a:pt x="21630" y="15850"/>
                  </a:cubicBezTo>
                </a:path>
                <a:path w="944" h="1316">
                  <a:moveTo>
                    <a:pt x="21779" y="15627"/>
                  </a:moveTo>
                  <a:cubicBezTo>
                    <a:pt x="21786" y="15611"/>
                    <a:pt x="21803" y="15521"/>
                    <a:pt x="21803" y="15577"/>
                  </a:cubicBezTo>
                  <a:cubicBezTo>
                    <a:pt x="21791" y="15642"/>
                    <a:pt x="21762" y="15712"/>
                    <a:pt x="21754" y="15776"/>
                  </a:cubicBezTo>
                  <a:cubicBezTo>
                    <a:pt x="21748" y="15823"/>
                    <a:pt x="21754" y="15877"/>
                    <a:pt x="21754" y="15925"/>
                  </a:cubicBezTo>
                  <a:cubicBezTo>
                    <a:pt x="21795" y="15873"/>
                    <a:pt x="21805" y="15832"/>
                    <a:pt x="21878" y="15825"/>
                  </a:cubicBezTo>
                  <a:cubicBezTo>
                    <a:pt x="21925" y="15820"/>
                    <a:pt x="21967" y="15880"/>
                    <a:pt x="21952" y="15925"/>
                  </a:cubicBezTo>
                  <a:cubicBezTo>
                    <a:pt x="21934" y="15978"/>
                    <a:pt x="21884" y="16020"/>
                    <a:pt x="21828" y="16024"/>
                  </a:cubicBezTo>
                  <a:cubicBezTo>
                    <a:pt x="21777" y="16024"/>
                    <a:pt x="21758" y="16023"/>
                    <a:pt x="21729" y="15999"/>
                  </a:cubicBezTo>
                </a:path>
                <a:path w="944" h="1316">
                  <a:moveTo>
                    <a:pt x="21779" y="16594"/>
                  </a:moveTo>
                  <a:cubicBezTo>
                    <a:pt x="21779" y="16586"/>
                    <a:pt x="21779" y="16578"/>
                    <a:pt x="21779" y="16570"/>
                  </a:cubicBezTo>
                  <a:cubicBezTo>
                    <a:pt x="21718" y="16585"/>
                    <a:pt x="21716" y="16620"/>
                    <a:pt x="21679" y="16669"/>
                  </a:cubicBezTo>
                  <a:cubicBezTo>
                    <a:pt x="21641" y="16719"/>
                    <a:pt x="21634" y="16716"/>
                    <a:pt x="21654" y="16768"/>
                  </a:cubicBezTo>
                  <a:cubicBezTo>
                    <a:pt x="21709" y="16754"/>
                    <a:pt x="21716" y="16711"/>
                    <a:pt x="21754" y="16669"/>
                  </a:cubicBezTo>
                  <a:cubicBezTo>
                    <a:pt x="21807" y="16610"/>
                    <a:pt x="21848" y="16667"/>
                    <a:pt x="21878" y="16718"/>
                  </a:cubicBezTo>
                  <a:cubicBezTo>
                    <a:pt x="21886" y="16735"/>
                    <a:pt x="21895" y="16751"/>
                    <a:pt x="21903" y="16768"/>
                  </a:cubicBezTo>
                </a:path>
                <a:path w="944" h="1316">
                  <a:moveTo>
                    <a:pt x="22051" y="15453"/>
                  </a:moveTo>
                  <a:cubicBezTo>
                    <a:pt x="22097" y="15453"/>
                    <a:pt x="22116" y="15446"/>
                    <a:pt x="22151" y="15478"/>
                  </a:cubicBezTo>
                  <a:cubicBezTo>
                    <a:pt x="22200" y="15523"/>
                    <a:pt x="22245" y="15568"/>
                    <a:pt x="22275" y="15627"/>
                  </a:cubicBezTo>
                  <a:cubicBezTo>
                    <a:pt x="22315" y="15704"/>
                    <a:pt x="22341" y="15789"/>
                    <a:pt x="22349" y="15875"/>
                  </a:cubicBezTo>
                  <a:cubicBezTo>
                    <a:pt x="22361" y="15997"/>
                    <a:pt x="22356" y="16129"/>
                    <a:pt x="22324" y="16247"/>
                  </a:cubicBezTo>
                  <a:cubicBezTo>
                    <a:pt x="22299" y="16341"/>
                    <a:pt x="22257" y="16429"/>
                    <a:pt x="22225" y="16520"/>
                  </a:cubicBezTo>
                  <a:cubicBezTo>
                    <a:pt x="22200" y="16591"/>
                    <a:pt x="22152" y="16654"/>
                    <a:pt x="22126" y="16718"/>
                  </a:cubicBezTo>
                  <a:cubicBezTo>
                    <a:pt x="22126" y="16726"/>
                    <a:pt x="22126" y="16735"/>
                    <a:pt x="22126" y="16743"/>
                  </a:cubicBezTo>
                </a:path>
              </a:pathLst>
            </a:custGeom>
            <a:noFill/>
            <a:ln cap="rnd"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1:27:49Z</dcterms:created>
  <dc:creator>N Holden</dc:creator>
  <dc:description/>
  <dc:language>en-US</dc:language>
  <cp:lastModifiedBy>N Holden</cp:lastModifiedBy>
  <dcterms:modified xsi:type="dcterms:W3CDTF">2008-12-17T11:40:57Z</dcterms:modified>
  <cp:revision>3</cp:revision>
  <dc:subject/>
  <dc:title>Find inverse and determinants of matrices</dc:title>
</cp:coreProperties>
</file>